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4D4D-0363-4C7D-AF0D-48638B5A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ACB-0180-43D1-94B5-F203B265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EABD-3A92-4C9B-AC33-E8DC88DD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86CF-B547-4D76-8BEC-EF20614D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23C-04DB-4AE6-9B7C-28CA9562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F1EB-842A-4097-BEAD-9FB4471A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1398-B5F1-4056-BAD4-F4580F24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C458-A790-4904-81C2-6BF49C0D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FFC-C06A-4357-8C63-802692AB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2B07-4F1F-4F8D-BA21-81E97691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072D-A62D-4580-A805-A8F24625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D24-DA0D-4154-90D6-3DDE09A7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7EC-2CDA-4814-888A-12D84BC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AD3-014B-4C7F-819F-E373195D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231-F33D-4C31-8FFC-90B89576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C90-1EE2-4C72-946C-0C009EFB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E15-98BF-447A-93F8-2B549AD1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AB9-4F3D-41FC-844C-091925B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5DB-EDFE-476B-BE67-0AF24311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A31-CE73-4848-957E-1CDE4A8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8DB-1F89-45C9-8A3B-5B32482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65F-A4E9-49B3-AF71-3D9CDA3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4F3-933B-46E9-8432-3065FF31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976A-B143-45CC-9B66-A5CB10331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01b Review (Warm U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 of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905120" y="2514600"/>
            <a:ext cx="49528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16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638680" y="2514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733920" y="3352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33720" y="4800600"/>
            <a:ext cx="48006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048120" y="4343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8380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x -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rmula used to find the volume of a cyl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v if r = 3 and h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h if V = 312 and r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219320" y="457200"/>
                <a:ext cx="2222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=Õ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Ink 4"/>
          <p:cNvSpPr/>
          <p:nvPr/>
        </p:nvSpPr>
        <p:spPr>
          <a:xfrm>
            <a:off x="1531800" y="2778120"/>
            <a:ext cx="2057400" cy="1211400"/>
          </a:xfrm>
          <a:custGeom>
            <a:avLst/>
            <a:gdLst/>
            <a:ahLst/>
            <a:rect l="l" t="t" r="r" b="b"/>
            <a:pathLst>
              <a:path w="5717" h="3367">
                <a:moveTo>
                  <a:pt x="7144" y="7715"/>
                </a:moveTo>
                <a:cubicBezTo>
                  <a:pt x="7191" y="7733"/>
                  <a:pt x="7217" y="7744"/>
                  <a:pt x="7271" y="7747"/>
                </a:cubicBezTo>
                <a:cubicBezTo>
                  <a:pt x="7355" y="7752"/>
                  <a:pt x="7416" y="7728"/>
                  <a:pt x="7493" y="7715"/>
                </a:cubicBezTo>
                <a:cubicBezTo>
                  <a:pt x="7688" y="7682"/>
                  <a:pt x="7907" y="7726"/>
                  <a:pt x="8096" y="7747"/>
                </a:cubicBezTo>
                <a:cubicBezTo>
                  <a:pt x="8223" y="7761"/>
                  <a:pt x="8353" y="7765"/>
                  <a:pt x="8477" y="7779"/>
                </a:cubicBezTo>
                <a:cubicBezTo>
                  <a:pt x="8593" y="7792"/>
                  <a:pt x="8716" y="7797"/>
                  <a:pt x="8826" y="7810"/>
                </a:cubicBezTo>
                <a:cubicBezTo>
                  <a:pt x="8930" y="7823"/>
                  <a:pt x="9041" y="7838"/>
                  <a:pt x="9144" y="7842"/>
                </a:cubicBezTo>
                <a:cubicBezTo>
                  <a:pt x="9238" y="7846"/>
                  <a:pt x="9321" y="7860"/>
                  <a:pt x="9398" y="7874"/>
                </a:cubicBezTo>
                <a:cubicBezTo>
                  <a:pt x="9459" y="7885"/>
                  <a:pt x="9478" y="7847"/>
                  <a:pt x="9493" y="7842"/>
                </a:cubicBezTo>
                <a:cubicBezTo>
                  <a:pt x="9504" y="7842"/>
                  <a:pt x="9514" y="7842"/>
                  <a:pt x="9525" y="7842"/>
                </a:cubicBezTo>
              </a:path>
              <a:path w="5717" h="3367">
                <a:moveTo>
                  <a:pt x="7366" y="9716"/>
                </a:moveTo>
                <a:cubicBezTo>
                  <a:pt x="7366" y="9684"/>
                  <a:pt x="7366" y="9673"/>
                  <a:pt x="7366" y="9652"/>
                </a:cubicBezTo>
                <a:cubicBezTo>
                  <a:pt x="7425" y="9652"/>
                  <a:pt x="7441" y="9624"/>
                  <a:pt x="7493" y="9620"/>
                </a:cubicBezTo>
                <a:cubicBezTo>
                  <a:pt x="7573" y="9614"/>
                  <a:pt x="7619" y="9632"/>
                  <a:pt x="7684" y="9652"/>
                </a:cubicBezTo>
                <a:cubicBezTo>
                  <a:pt x="7746" y="9671"/>
                  <a:pt x="7747" y="9681"/>
                  <a:pt x="7747" y="9747"/>
                </a:cubicBezTo>
                <a:cubicBezTo>
                  <a:pt x="7747" y="9808"/>
                  <a:pt x="7688" y="9890"/>
                  <a:pt x="7652" y="9938"/>
                </a:cubicBezTo>
                <a:cubicBezTo>
                  <a:pt x="7622" y="9978"/>
                  <a:pt x="7535" y="10019"/>
                  <a:pt x="7493" y="10033"/>
                </a:cubicBezTo>
                <a:cubicBezTo>
                  <a:pt x="7469" y="10041"/>
                  <a:pt x="7423" y="10033"/>
                  <a:pt x="7398" y="10033"/>
                </a:cubicBezTo>
                <a:cubicBezTo>
                  <a:pt x="7440" y="9991"/>
                  <a:pt x="7488" y="9937"/>
                  <a:pt x="7556" y="9970"/>
                </a:cubicBezTo>
                <a:cubicBezTo>
                  <a:pt x="7644" y="10013"/>
                  <a:pt x="7673" y="10075"/>
                  <a:pt x="7715" y="10160"/>
                </a:cubicBezTo>
                <a:cubicBezTo>
                  <a:pt x="7761" y="10253"/>
                  <a:pt x="7747" y="10343"/>
                  <a:pt x="7747" y="10446"/>
                </a:cubicBezTo>
                <a:cubicBezTo>
                  <a:pt x="7747" y="10533"/>
                  <a:pt x="7710" y="10604"/>
                  <a:pt x="7652" y="10668"/>
                </a:cubicBezTo>
                <a:cubicBezTo>
                  <a:pt x="7601" y="10725"/>
                  <a:pt x="7502" y="10700"/>
                  <a:pt x="7430" y="10700"/>
                </a:cubicBezTo>
                <a:cubicBezTo>
                  <a:pt x="7337" y="10700"/>
                  <a:pt x="7301" y="10666"/>
                  <a:pt x="7239" y="10604"/>
                </a:cubicBezTo>
                <a:cubicBezTo>
                  <a:pt x="7169" y="10535"/>
                  <a:pt x="7168" y="10539"/>
                  <a:pt x="7207" y="10446"/>
                </a:cubicBezTo>
              </a:path>
              <a:path w="5717" h="3367">
                <a:moveTo>
                  <a:pt x="7938" y="9462"/>
                </a:moveTo>
                <a:cubicBezTo>
                  <a:pt x="7950" y="9377"/>
                  <a:pt x="7946" y="9366"/>
                  <a:pt x="8033" y="9366"/>
                </a:cubicBezTo>
                <a:cubicBezTo>
                  <a:pt x="8065" y="9366"/>
                  <a:pt x="8096" y="9366"/>
                  <a:pt x="8128" y="9366"/>
                </a:cubicBezTo>
                <a:cubicBezTo>
                  <a:pt x="8128" y="9457"/>
                  <a:pt x="8121" y="9515"/>
                  <a:pt x="8096" y="9588"/>
                </a:cubicBezTo>
                <a:cubicBezTo>
                  <a:pt x="8080" y="9635"/>
                  <a:pt x="8068" y="9676"/>
                  <a:pt x="8033" y="9716"/>
                </a:cubicBezTo>
                <a:cubicBezTo>
                  <a:pt x="7992" y="9762"/>
                  <a:pt x="8016" y="9763"/>
                  <a:pt x="7969" y="9779"/>
                </a:cubicBezTo>
                <a:cubicBezTo>
                  <a:pt x="7984" y="9768"/>
                  <a:pt x="8070" y="9714"/>
                  <a:pt x="8096" y="9747"/>
                </a:cubicBezTo>
                <a:cubicBezTo>
                  <a:pt x="8117" y="9773"/>
                  <a:pt x="8154" y="9806"/>
                  <a:pt x="8192" y="9811"/>
                </a:cubicBezTo>
                <a:cubicBezTo>
                  <a:pt x="8247" y="9818"/>
                  <a:pt x="8278" y="9815"/>
                  <a:pt x="8318" y="9779"/>
                </a:cubicBezTo>
                <a:cubicBezTo>
                  <a:pt x="8329" y="9768"/>
                  <a:pt x="8339" y="9758"/>
                  <a:pt x="8350" y="9747"/>
                </a:cubicBezTo>
              </a:path>
              <a:path w="5717" h="3367">
                <a:moveTo>
                  <a:pt x="8477" y="10096"/>
                </a:moveTo>
                <a:lnTo>
                  <a:pt x="8477" y="10096"/>
                </a:lnTo>
              </a:path>
              <a:path w="5717" h="3367">
                <a:moveTo>
                  <a:pt x="8858" y="9620"/>
                </a:moveTo>
                <a:cubicBezTo>
                  <a:pt x="8926" y="9620"/>
                  <a:pt x="8952" y="9600"/>
                  <a:pt x="9017" y="9588"/>
                </a:cubicBezTo>
                <a:cubicBezTo>
                  <a:pt x="9083" y="9576"/>
                  <a:pt x="9427" y="9549"/>
                  <a:pt x="9462" y="9620"/>
                </a:cubicBezTo>
                <a:cubicBezTo>
                  <a:pt x="9488" y="9671"/>
                  <a:pt x="9450" y="9742"/>
                  <a:pt x="9430" y="9779"/>
                </a:cubicBezTo>
                <a:cubicBezTo>
                  <a:pt x="9395" y="9843"/>
                  <a:pt x="9350" y="9961"/>
                  <a:pt x="9334" y="10033"/>
                </a:cubicBezTo>
                <a:cubicBezTo>
                  <a:pt x="9318" y="10106"/>
                  <a:pt x="9329" y="10219"/>
                  <a:pt x="9303" y="10287"/>
                </a:cubicBezTo>
                <a:cubicBezTo>
                  <a:pt x="9278" y="10353"/>
                  <a:pt x="9271" y="10398"/>
                  <a:pt x="9271" y="10478"/>
                </a:cubicBezTo>
                <a:cubicBezTo>
                  <a:pt x="9271" y="10510"/>
                  <a:pt x="9271" y="10541"/>
                  <a:pt x="9271" y="10573"/>
                </a:cubicBezTo>
              </a:path>
              <a:path w="5717" h="3367">
                <a:moveTo>
                  <a:pt x="7176" y="9334"/>
                </a:moveTo>
                <a:cubicBezTo>
                  <a:pt x="7137" y="9385"/>
                  <a:pt x="7078" y="9468"/>
                  <a:pt x="7048" y="9525"/>
                </a:cubicBezTo>
                <a:cubicBezTo>
                  <a:pt x="6989" y="9637"/>
                  <a:pt x="6908" y="9815"/>
                  <a:pt x="6890" y="9938"/>
                </a:cubicBezTo>
                <a:cubicBezTo>
                  <a:pt x="6868" y="10089"/>
                  <a:pt x="6868" y="10304"/>
                  <a:pt x="6922" y="10446"/>
                </a:cubicBezTo>
                <a:cubicBezTo>
                  <a:pt x="6972" y="10578"/>
                  <a:pt x="7032" y="10735"/>
                  <a:pt x="7144" y="10827"/>
                </a:cubicBezTo>
                <a:cubicBezTo>
                  <a:pt x="7241" y="10907"/>
                  <a:pt x="7282" y="10911"/>
                  <a:pt x="7398" y="10922"/>
                </a:cubicBezTo>
              </a:path>
              <a:path w="5717" h="3367">
                <a:moveTo>
                  <a:pt x="7684" y="9398"/>
                </a:moveTo>
                <a:cubicBezTo>
                  <a:pt x="7696" y="9471"/>
                  <a:pt x="7708" y="9485"/>
                  <a:pt x="7747" y="9557"/>
                </a:cubicBezTo>
                <a:cubicBezTo>
                  <a:pt x="7802" y="9659"/>
                  <a:pt x="7831" y="9793"/>
                  <a:pt x="7842" y="9906"/>
                </a:cubicBezTo>
                <a:cubicBezTo>
                  <a:pt x="7860" y="10101"/>
                  <a:pt x="7827" y="10291"/>
                  <a:pt x="7810" y="10478"/>
                </a:cubicBezTo>
                <a:cubicBezTo>
                  <a:pt x="7797" y="10615"/>
                  <a:pt x="7775" y="10700"/>
                  <a:pt x="7715" y="10827"/>
                </a:cubicBezTo>
                <a:cubicBezTo>
                  <a:pt x="7686" y="10888"/>
                  <a:pt x="7688" y="10906"/>
                  <a:pt x="7652" y="10954"/>
                </a:cubicBezTo>
              </a:path>
              <a:path w="5717" h="3367">
                <a:moveTo>
                  <a:pt x="8763" y="9303"/>
                </a:moveTo>
                <a:cubicBezTo>
                  <a:pt x="8701" y="9364"/>
                  <a:pt x="8661" y="9426"/>
                  <a:pt x="8604" y="9493"/>
                </a:cubicBezTo>
                <a:cubicBezTo>
                  <a:pt x="8510" y="9605"/>
                  <a:pt x="8455" y="9732"/>
                  <a:pt x="8414" y="9874"/>
                </a:cubicBezTo>
                <a:cubicBezTo>
                  <a:pt x="8366" y="10043"/>
                  <a:pt x="8378" y="10188"/>
                  <a:pt x="8446" y="10350"/>
                </a:cubicBezTo>
                <a:cubicBezTo>
                  <a:pt x="8523" y="10534"/>
                  <a:pt x="8591" y="10589"/>
                  <a:pt x="8763" y="10668"/>
                </a:cubicBezTo>
                <a:cubicBezTo>
                  <a:pt x="8834" y="10704"/>
                  <a:pt x="8863" y="10714"/>
                  <a:pt x="8922" y="10700"/>
                </a:cubicBezTo>
              </a:path>
              <a:path w="5717" h="3367">
                <a:moveTo>
                  <a:pt x="9620" y="9398"/>
                </a:moveTo>
                <a:cubicBezTo>
                  <a:pt x="9634" y="9508"/>
                  <a:pt x="9687" y="9560"/>
                  <a:pt x="9747" y="9652"/>
                </a:cubicBezTo>
                <a:cubicBezTo>
                  <a:pt x="9849" y="9808"/>
                  <a:pt x="9893" y="9949"/>
                  <a:pt x="9938" y="10128"/>
                </a:cubicBezTo>
                <a:cubicBezTo>
                  <a:pt x="9978" y="10285"/>
                  <a:pt x="9984" y="10419"/>
                  <a:pt x="9938" y="10573"/>
                </a:cubicBezTo>
                <a:cubicBezTo>
                  <a:pt x="9900" y="10699"/>
                  <a:pt x="9868" y="10795"/>
                  <a:pt x="9779" y="10890"/>
                </a:cubicBezTo>
                <a:cubicBezTo>
                  <a:pt x="9685" y="10990"/>
                  <a:pt x="9621" y="11034"/>
                  <a:pt x="9493" y="11081"/>
                </a:cubicBezTo>
              </a:path>
              <a:path w="5717" h="3367">
                <a:moveTo>
                  <a:pt x="6223" y="9747"/>
                </a:moveTo>
                <a:cubicBezTo>
                  <a:pt x="6223" y="9933"/>
                  <a:pt x="6211" y="10107"/>
                  <a:pt x="6191" y="10287"/>
                </a:cubicBezTo>
                <a:cubicBezTo>
                  <a:pt x="6177" y="10409"/>
                  <a:pt x="6153" y="10520"/>
                  <a:pt x="6128" y="10636"/>
                </a:cubicBezTo>
                <a:cubicBezTo>
                  <a:pt x="6128" y="10668"/>
                  <a:pt x="6128" y="10679"/>
                  <a:pt x="6128" y="10700"/>
                </a:cubicBezTo>
              </a:path>
              <a:path w="5717" h="3367">
                <a:moveTo>
                  <a:pt x="6509" y="9811"/>
                </a:moveTo>
                <a:cubicBezTo>
                  <a:pt x="6509" y="9907"/>
                  <a:pt x="6506" y="9971"/>
                  <a:pt x="6477" y="10065"/>
                </a:cubicBezTo>
                <a:cubicBezTo>
                  <a:pt x="6444" y="10171"/>
                  <a:pt x="6400" y="10307"/>
                  <a:pt x="6382" y="10414"/>
                </a:cubicBezTo>
                <a:cubicBezTo>
                  <a:pt x="6371" y="10479"/>
                  <a:pt x="6360" y="10618"/>
                  <a:pt x="6414" y="10636"/>
                </a:cubicBezTo>
              </a:path>
              <a:path w="5717" h="3367">
                <a:moveTo>
                  <a:pt x="5874" y="9811"/>
                </a:moveTo>
                <a:cubicBezTo>
                  <a:pt x="5892" y="9757"/>
                  <a:pt x="5963" y="9751"/>
                  <a:pt x="6032" y="9747"/>
                </a:cubicBezTo>
                <a:cubicBezTo>
                  <a:pt x="6216" y="9737"/>
                  <a:pt x="6399" y="9751"/>
                  <a:pt x="6572" y="9779"/>
                </a:cubicBezTo>
                <a:cubicBezTo>
                  <a:pt x="6637" y="9789"/>
                  <a:pt x="6666" y="9811"/>
                  <a:pt x="6731" y="9811"/>
                </a:cubicBezTo>
              </a:path>
              <a:path w="5717" h="3367">
                <a:moveTo>
                  <a:pt x="5398" y="10128"/>
                </a:moveTo>
                <a:cubicBezTo>
                  <a:pt x="5447" y="10141"/>
                  <a:pt x="5467" y="10160"/>
                  <a:pt x="5524" y="10160"/>
                </a:cubicBezTo>
                <a:cubicBezTo>
                  <a:pt x="5630" y="10160"/>
                  <a:pt x="5736" y="10160"/>
                  <a:pt x="5842" y="10160"/>
                </a:cubicBezTo>
              </a:path>
              <a:path w="5717" h="3367">
                <a:moveTo>
                  <a:pt x="5366" y="10478"/>
                </a:moveTo>
                <a:cubicBezTo>
                  <a:pt x="5481" y="10478"/>
                  <a:pt x="5576" y="10485"/>
                  <a:pt x="5683" y="10509"/>
                </a:cubicBezTo>
                <a:cubicBezTo>
                  <a:pt x="5694" y="10509"/>
                  <a:pt x="5704" y="10509"/>
                  <a:pt x="5715" y="10509"/>
                </a:cubicBezTo>
              </a:path>
              <a:path w="5717" h="3367">
                <a:moveTo>
                  <a:pt x="4254" y="9525"/>
                </a:moveTo>
                <a:cubicBezTo>
                  <a:pt x="4254" y="9730"/>
                  <a:pt x="4267" y="9929"/>
                  <a:pt x="4286" y="10128"/>
                </a:cubicBezTo>
                <a:cubicBezTo>
                  <a:pt x="4299" y="10269"/>
                  <a:pt x="4334" y="10402"/>
                  <a:pt x="4350" y="10541"/>
                </a:cubicBezTo>
                <a:cubicBezTo>
                  <a:pt x="4358" y="10615"/>
                  <a:pt x="4356" y="10725"/>
                  <a:pt x="4382" y="10795"/>
                </a:cubicBezTo>
                <a:cubicBezTo>
                  <a:pt x="4392" y="10806"/>
                  <a:pt x="4403" y="10816"/>
                  <a:pt x="4413" y="10827"/>
                </a:cubicBezTo>
                <a:cubicBezTo>
                  <a:pt x="4413" y="10743"/>
                  <a:pt x="4435" y="10680"/>
                  <a:pt x="4445" y="10604"/>
                </a:cubicBezTo>
                <a:cubicBezTo>
                  <a:pt x="4461" y="10484"/>
                  <a:pt x="4480" y="10366"/>
                  <a:pt x="4540" y="10255"/>
                </a:cubicBezTo>
                <a:cubicBezTo>
                  <a:pt x="4614" y="10118"/>
                  <a:pt x="4647" y="9976"/>
                  <a:pt x="4731" y="9842"/>
                </a:cubicBezTo>
                <a:cubicBezTo>
                  <a:pt x="4802" y="9728"/>
                  <a:pt x="4874" y="9616"/>
                  <a:pt x="4921" y="9493"/>
                </a:cubicBezTo>
                <a:cubicBezTo>
                  <a:pt x="4947" y="9415"/>
                  <a:pt x="4945" y="9397"/>
                  <a:pt x="4985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5"/>
          <p:cNvSpPr/>
          <p:nvPr/>
        </p:nvSpPr>
        <p:spPr>
          <a:xfrm>
            <a:off x="4308480" y="2778120"/>
            <a:ext cx="2595600" cy="1074600"/>
          </a:xfrm>
          <a:custGeom>
            <a:avLst/>
            <a:gdLst/>
            <a:ahLst/>
            <a:rect l="l" t="t" r="r" b="b"/>
            <a:pathLst>
              <a:path w="7208" h="2986">
                <a:moveTo>
                  <a:pt x="11970" y="7779"/>
                </a:moveTo>
                <a:cubicBezTo>
                  <a:pt x="12034" y="7770"/>
                  <a:pt x="12062" y="7751"/>
                  <a:pt x="12128" y="7747"/>
                </a:cubicBezTo>
                <a:cubicBezTo>
                  <a:pt x="12364" y="7733"/>
                  <a:pt x="12598" y="7753"/>
                  <a:pt x="12827" y="7779"/>
                </a:cubicBezTo>
                <a:cubicBezTo>
                  <a:pt x="12950" y="7793"/>
                  <a:pt x="13080" y="7747"/>
                  <a:pt x="13208" y="7747"/>
                </a:cubicBezTo>
                <a:cubicBezTo>
                  <a:pt x="13344" y="7747"/>
                  <a:pt x="13459" y="7733"/>
                  <a:pt x="13589" y="7715"/>
                </a:cubicBezTo>
                <a:cubicBezTo>
                  <a:pt x="13780" y="7689"/>
                  <a:pt x="14182" y="7677"/>
                  <a:pt x="14319" y="7747"/>
                </a:cubicBezTo>
              </a:path>
              <a:path w="7208" h="2986">
                <a:moveTo>
                  <a:pt x="12636" y="8858"/>
                </a:moveTo>
                <a:cubicBezTo>
                  <a:pt x="12636" y="8934"/>
                  <a:pt x="12647" y="8978"/>
                  <a:pt x="12668" y="9049"/>
                </a:cubicBezTo>
                <a:cubicBezTo>
                  <a:pt x="12693" y="9137"/>
                  <a:pt x="12718" y="9246"/>
                  <a:pt x="12732" y="9334"/>
                </a:cubicBezTo>
                <a:cubicBezTo>
                  <a:pt x="12755" y="9480"/>
                  <a:pt x="12741" y="9635"/>
                  <a:pt x="12764" y="9779"/>
                </a:cubicBezTo>
                <a:cubicBezTo>
                  <a:pt x="12788" y="9928"/>
                  <a:pt x="12844" y="10072"/>
                  <a:pt x="12859" y="10224"/>
                </a:cubicBezTo>
                <a:cubicBezTo>
                  <a:pt x="12870" y="10336"/>
                  <a:pt x="12904" y="10436"/>
                  <a:pt x="12922" y="10541"/>
                </a:cubicBezTo>
                <a:cubicBezTo>
                  <a:pt x="12935" y="10619"/>
                  <a:pt x="12930" y="10612"/>
                  <a:pt x="12986" y="10668"/>
                </a:cubicBezTo>
                <a:cubicBezTo>
                  <a:pt x="12986" y="10576"/>
                  <a:pt x="13008" y="10503"/>
                  <a:pt x="13018" y="10414"/>
                </a:cubicBezTo>
                <a:cubicBezTo>
                  <a:pt x="13036" y="10259"/>
                  <a:pt x="13036" y="10092"/>
                  <a:pt x="13049" y="9938"/>
                </a:cubicBezTo>
                <a:cubicBezTo>
                  <a:pt x="13065" y="9736"/>
                  <a:pt x="13099" y="9532"/>
                  <a:pt x="13144" y="9334"/>
                </a:cubicBezTo>
                <a:cubicBezTo>
                  <a:pt x="13176" y="9192"/>
                  <a:pt x="13215" y="9055"/>
                  <a:pt x="13272" y="8922"/>
                </a:cubicBezTo>
                <a:cubicBezTo>
                  <a:pt x="13304" y="8845"/>
                  <a:pt x="13334" y="8774"/>
                  <a:pt x="13367" y="8700"/>
                </a:cubicBezTo>
              </a:path>
              <a:path w="7208" h="2986">
                <a:moveTo>
                  <a:pt x="13335" y="9684"/>
                </a:moveTo>
                <a:cubicBezTo>
                  <a:pt x="13335" y="9695"/>
                  <a:pt x="13335" y="9705"/>
                  <a:pt x="13335" y="9716"/>
                </a:cubicBezTo>
                <a:cubicBezTo>
                  <a:pt x="13400" y="9700"/>
                  <a:pt x="13416" y="9684"/>
                  <a:pt x="13494" y="9684"/>
                </a:cubicBezTo>
                <a:cubicBezTo>
                  <a:pt x="13575" y="9684"/>
                  <a:pt x="13626" y="9652"/>
                  <a:pt x="13716" y="9652"/>
                </a:cubicBezTo>
                <a:cubicBezTo>
                  <a:pt x="13809" y="9652"/>
                  <a:pt x="13895" y="9639"/>
                  <a:pt x="13970" y="9684"/>
                </a:cubicBezTo>
              </a:path>
              <a:path w="7208" h="2986">
                <a:moveTo>
                  <a:pt x="13526" y="10096"/>
                </a:moveTo>
                <a:cubicBezTo>
                  <a:pt x="13515" y="10107"/>
                  <a:pt x="13505" y="10117"/>
                  <a:pt x="13494" y="10128"/>
                </a:cubicBezTo>
                <a:cubicBezTo>
                  <a:pt x="13543" y="10091"/>
                  <a:pt x="13559" y="10096"/>
                  <a:pt x="13621" y="10096"/>
                </a:cubicBezTo>
                <a:cubicBezTo>
                  <a:pt x="13705" y="10096"/>
                  <a:pt x="13762" y="10069"/>
                  <a:pt x="13843" y="10065"/>
                </a:cubicBezTo>
                <a:cubicBezTo>
                  <a:pt x="13917" y="10061"/>
                  <a:pt x="13991" y="10065"/>
                  <a:pt x="14065" y="10065"/>
                </a:cubicBezTo>
              </a:path>
              <a:path w="7208" h="2986">
                <a:moveTo>
                  <a:pt x="15018" y="8858"/>
                </a:moveTo>
                <a:cubicBezTo>
                  <a:pt x="15034" y="8937"/>
                  <a:pt x="15050" y="8995"/>
                  <a:pt x="15050" y="9080"/>
                </a:cubicBezTo>
                <a:cubicBezTo>
                  <a:pt x="15050" y="9215"/>
                  <a:pt x="15063" y="9390"/>
                  <a:pt x="15081" y="9525"/>
                </a:cubicBezTo>
                <a:cubicBezTo>
                  <a:pt x="15106" y="9708"/>
                  <a:pt x="15113" y="9878"/>
                  <a:pt x="15113" y="10065"/>
                </a:cubicBezTo>
                <a:cubicBezTo>
                  <a:pt x="15113" y="10230"/>
                  <a:pt x="15054" y="10534"/>
                  <a:pt x="15081" y="10668"/>
                </a:cubicBezTo>
                <a:cubicBezTo>
                  <a:pt x="15092" y="10679"/>
                  <a:pt x="15102" y="10689"/>
                  <a:pt x="15113" y="10700"/>
                </a:cubicBezTo>
              </a:path>
              <a:path w="7208" h="2986">
                <a:moveTo>
                  <a:pt x="15907" y="9080"/>
                </a:moveTo>
                <a:cubicBezTo>
                  <a:pt x="15907" y="9003"/>
                  <a:pt x="15887" y="8951"/>
                  <a:pt x="15875" y="8890"/>
                </a:cubicBezTo>
                <a:cubicBezTo>
                  <a:pt x="15861" y="8821"/>
                  <a:pt x="15847" y="8730"/>
                  <a:pt x="15812" y="8668"/>
                </a:cubicBezTo>
                <a:cubicBezTo>
                  <a:pt x="15780" y="8636"/>
                  <a:pt x="15769" y="8625"/>
                  <a:pt x="15748" y="8604"/>
                </a:cubicBezTo>
                <a:cubicBezTo>
                  <a:pt x="15686" y="8639"/>
                  <a:pt x="15594" y="8697"/>
                  <a:pt x="15558" y="8763"/>
                </a:cubicBezTo>
                <a:cubicBezTo>
                  <a:pt x="15500" y="8870"/>
                  <a:pt x="15444" y="9057"/>
                  <a:pt x="15430" y="9176"/>
                </a:cubicBezTo>
                <a:cubicBezTo>
                  <a:pt x="15415" y="9298"/>
                  <a:pt x="15397" y="9514"/>
                  <a:pt x="15462" y="9620"/>
                </a:cubicBezTo>
                <a:cubicBezTo>
                  <a:pt x="15495" y="9673"/>
                  <a:pt x="15573" y="9696"/>
                  <a:pt x="15621" y="9652"/>
                </a:cubicBezTo>
                <a:cubicBezTo>
                  <a:pt x="15685" y="9593"/>
                  <a:pt x="15775" y="9447"/>
                  <a:pt x="15812" y="9366"/>
                </a:cubicBezTo>
                <a:cubicBezTo>
                  <a:pt x="15863" y="9255"/>
                  <a:pt x="15872" y="9128"/>
                  <a:pt x="15907" y="9017"/>
                </a:cubicBezTo>
                <a:cubicBezTo>
                  <a:pt x="15926" y="8956"/>
                  <a:pt x="15924" y="8916"/>
                  <a:pt x="15938" y="8858"/>
                </a:cubicBezTo>
                <a:cubicBezTo>
                  <a:pt x="15938" y="8869"/>
                  <a:pt x="15938" y="8879"/>
                  <a:pt x="15938" y="8890"/>
                </a:cubicBezTo>
                <a:cubicBezTo>
                  <a:pt x="15938" y="9232"/>
                  <a:pt x="15944" y="9568"/>
                  <a:pt x="15970" y="9906"/>
                </a:cubicBezTo>
                <a:cubicBezTo>
                  <a:pt x="15987" y="10128"/>
                  <a:pt x="15970" y="10731"/>
                  <a:pt x="15970" y="10509"/>
                </a:cubicBezTo>
                <a:cubicBezTo>
                  <a:pt x="15970" y="10499"/>
                  <a:pt x="15970" y="10488"/>
                  <a:pt x="15970" y="10478"/>
                </a:cubicBezTo>
              </a:path>
              <a:path w="7208" h="2986">
                <a:moveTo>
                  <a:pt x="16161" y="9017"/>
                </a:moveTo>
                <a:cubicBezTo>
                  <a:pt x="16214" y="8997"/>
                  <a:pt x="16263" y="9002"/>
                  <a:pt x="16320" y="8985"/>
                </a:cubicBezTo>
                <a:cubicBezTo>
                  <a:pt x="16397" y="8962"/>
                  <a:pt x="16469" y="8927"/>
                  <a:pt x="16542" y="8890"/>
                </a:cubicBezTo>
                <a:cubicBezTo>
                  <a:pt x="16615" y="8853"/>
                  <a:pt x="16685" y="8810"/>
                  <a:pt x="16764" y="8795"/>
                </a:cubicBezTo>
                <a:cubicBezTo>
                  <a:pt x="16793" y="8790"/>
                  <a:pt x="16830" y="8795"/>
                  <a:pt x="16859" y="8795"/>
                </a:cubicBezTo>
                <a:cubicBezTo>
                  <a:pt x="16859" y="8918"/>
                  <a:pt x="16863" y="9025"/>
                  <a:pt x="16828" y="9144"/>
                </a:cubicBezTo>
                <a:cubicBezTo>
                  <a:pt x="16773" y="9329"/>
                  <a:pt x="16797" y="9527"/>
                  <a:pt x="16764" y="9716"/>
                </a:cubicBezTo>
                <a:cubicBezTo>
                  <a:pt x="16738" y="9863"/>
                  <a:pt x="16726" y="10016"/>
                  <a:pt x="16700" y="10160"/>
                </a:cubicBezTo>
                <a:cubicBezTo>
                  <a:pt x="16685" y="10242"/>
                  <a:pt x="16676" y="10349"/>
                  <a:pt x="16637" y="10414"/>
                </a:cubicBezTo>
                <a:cubicBezTo>
                  <a:pt x="16637" y="10446"/>
                  <a:pt x="16637" y="10457"/>
                  <a:pt x="16637" y="10414"/>
                </a:cubicBezTo>
              </a:path>
              <a:path w="7208" h="2986">
                <a:moveTo>
                  <a:pt x="17018" y="10478"/>
                </a:moveTo>
                <a:cubicBezTo>
                  <a:pt x="16977" y="10559"/>
                  <a:pt x="16931" y="10595"/>
                  <a:pt x="16986" y="10668"/>
                </a:cubicBezTo>
              </a:path>
              <a:path w="7208" h="2986">
                <a:moveTo>
                  <a:pt x="17939" y="9080"/>
                </a:moveTo>
                <a:cubicBezTo>
                  <a:pt x="17939" y="8998"/>
                  <a:pt x="17986" y="8901"/>
                  <a:pt x="17970" y="8826"/>
                </a:cubicBezTo>
                <a:cubicBezTo>
                  <a:pt x="17958" y="8771"/>
                  <a:pt x="17927" y="8686"/>
                  <a:pt x="17907" y="8636"/>
                </a:cubicBezTo>
                <a:cubicBezTo>
                  <a:pt x="17880" y="8570"/>
                  <a:pt x="17824" y="8541"/>
                  <a:pt x="17748" y="8541"/>
                </a:cubicBezTo>
                <a:cubicBezTo>
                  <a:pt x="17670" y="8541"/>
                  <a:pt x="17560" y="8707"/>
                  <a:pt x="17526" y="8763"/>
                </a:cubicBezTo>
                <a:cubicBezTo>
                  <a:pt x="17461" y="8869"/>
                  <a:pt x="17383" y="9050"/>
                  <a:pt x="17367" y="9176"/>
                </a:cubicBezTo>
                <a:cubicBezTo>
                  <a:pt x="17351" y="9302"/>
                  <a:pt x="17330" y="9433"/>
                  <a:pt x="17367" y="9557"/>
                </a:cubicBezTo>
                <a:cubicBezTo>
                  <a:pt x="17386" y="9619"/>
                  <a:pt x="17451" y="9709"/>
                  <a:pt x="17526" y="9684"/>
                </a:cubicBezTo>
                <a:cubicBezTo>
                  <a:pt x="17608" y="9657"/>
                  <a:pt x="17677" y="9566"/>
                  <a:pt x="17716" y="9493"/>
                </a:cubicBezTo>
                <a:cubicBezTo>
                  <a:pt x="17796" y="9343"/>
                  <a:pt x="17828" y="9211"/>
                  <a:pt x="17875" y="9049"/>
                </a:cubicBezTo>
                <a:cubicBezTo>
                  <a:pt x="17901" y="8959"/>
                  <a:pt x="17910" y="8846"/>
                  <a:pt x="17939" y="8763"/>
                </a:cubicBezTo>
                <a:cubicBezTo>
                  <a:pt x="17949" y="8752"/>
                  <a:pt x="17960" y="8742"/>
                  <a:pt x="17970" y="8731"/>
                </a:cubicBezTo>
                <a:cubicBezTo>
                  <a:pt x="17952" y="8769"/>
                  <a:pt x="17939" y="8774"/>
                  <a:pt x="17939" y="8858"/>
                </a:cubicBezTo>
                <a:cubicBezTo>
                  <a:pt x="17939" y="9008"/>
                  <a:pt x="17970" y="9148"/>
                  <a:pt x="17970" y="9303"/>
                </a:cubicBezTo>
                <a:cubicBezTo>
                  <a:pt x="17970" y="9473"/>
                  <a:pt x="17979" y="9673"/>
                  <a:pt x="18002" y="9842"/>
                </a:cubicBezTo>
                <a:cubicBezTo>
                  <a:pt x="18024" y="10004"/>
                  <a:pt x="18034" y="10153"/>
                  <a:pt x="18034" y="10319"/>
                </a:cubicBezTo>
                <a:cubicBezTo>
                  <a:pt x="18034" y="10337"/>
                  <a:pt x="18034" y="10548"/>
                  <a:pt x="18034" y="10382"/>
                </a:cubicBezTo>
              </a:path>
              <a:path w="7208" h="2986">
                <a:moveTo>
                  <a:pt x="18193" y="9208"/>
                </a:moveTo>
                <a:cubicBezTo>
                  <a:pt x="18199" y="9121"/>
                  <a:pt x="18219" y="9064"/>
                  <a:pt x="18224" y="8985"/>
                </a:cubicBezTo>
                <a:cubicBezTo>
                  <a:pt x="18232" y="8850"/>
                  <a:pt x="18287" y="8782"/>
                  <a:pt x="18352" y="8668"/>
                </a:cubicBezTo>
                <a:cubicBezTo>
                  <a:pt x="18376" y="8626"/>
                  <a:pt x="18476" y="8503"/>
                  <a:pt x="18542" y="8509"/>
                </a:cubicBezTo>
                <a:cubicBezTo>
                  <a:pt x="18592" y="8513"/>
                  <a:pt x="18629" y="8589"/>
                  <a:pt x="18637" y="8636"/>
                </a:cubicBezTo>
                <a:cubicBezTo>
                  <a:pt x="18664" y="8787"/>
                  <a:pt x="18606" y="8935"/>
                  <a:pt x="18574" y="9080"/>
                </a:cubicBezTo>
                <a:cubicBezTo>
                  <a:pt x="18528" y="9287"/>
                  <a:pt x="18475" y="9482"/>
                  <a:pt x="18415" y="9684"/>
                </a:cubicBezTo>
                <a:cubicBezTo>
                  <a:pt x="18371" y="9832"/>
                  <a:pt x="18337" y="9981"/>
                  <a:pt x="18288" y="10128"/>
                </a:cubicBezTo>
                <a:cubicBezTo>
                  <a:pt x="18259" y="10214"/>
                  <a:pt x="18234" y="10311"/>
                  <a:pt x="18193" y="10382"/>
                </a:cubicBezTo>
                <a:cubicBezTo>
                  <a:pt x="18193" y="10297"/>
                  <a:pt x="18189" y="10239"/>
                  <a:pt x="18224" y="10160"/>
                </a:cubicBezTo>
                <a:cubicBezTo>
                  <a:pt x="18243" y="10117"/>
                  <a:pt x="18267" y="10079"/>
                  <a:pt x="18320" y="10065"/>
                </a:cubicBezTo>
                <a:cubicBezTo>
                  <a:pt x="18388" y="10047"/>
                  <a:pt x="18399" y="10097"/>
                  <a:pt x="18447" y="10128"/>
                </a:cubicBezTo>
                <a:cubicBezTo>
                  <a:pt x="18521" y="10176"/>
                  <a:pt x="18540" y="10239"/>
                  <a:pt x="18606" y="10287"/>
                </a:cubicBezTo>
                <a:cubicBezTo>
                  <a:pt x="18664" y="10329"/>
                  <a:pt x="18728" y="10368"/>
                  <a:pt x="18796" y="10382"/>
                </a:cubicBezTo>
                <a:cubicBezTo>
                  <a:pt x="18863" y="10395"/>
                  <a:pt x="18945" y="10377"/>
                  <a:pt x="18986" y="10319"/>
                </a:cubicBezTo>
                <a:cubicBezTo>
                  <a:pt x="19061" y="10214"/>
                  <a:pt x="19103" y="10127"/>
                  <a:pt x="19145" y="10001"/>
                </a:cubicBezTo>
                <a:cubicBezTo>
                  <a:pt x="19187" y="9874"/>
                  <a:pt x="19177" y="9753"/>
                  <a:pt x="19177" y="9620"/>
                </a:cubicBezTo>
                <a:cubicBezTo>
                  <a:pt x="19177" y="9599"/>
                  <a:pt x="19177" y="9578"/>
                  <a:pt x="19177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6"/>
          <p:cNvSpPr/>
          <p:nvPr/>
        </p:nvSpPr>
        <p:spPr>
          <a:xfrm>
            <a:off x="1725480" y="2835360"/>
            <a:ext cx="1898640" cy="490320"/>
          </a:xfrm>
          <a:custGeom>
            <a:avLst/>
            <a:gdLst/>
            <a:ahLst/>
            <a:rect l="l" t="t" r="r" b="b"/>
            <a:pathLst>
              <a:path w="5272" h="1366">
                <a:moveTo>
                  <a:pt x="4794" y="8160"/>
                </a:moveTo>
                <a:cubicBezTo>
                  <a:pt x="4807" y="8210"/>
                  <a:pt x="4826" y="8230"/>
                  <a:pt x="4826" y="8287"/>
                </a:cubicBezTo>
                <a:cubicBezTo>
                  <a:pt x="4826" y="8443"/>
                  <a:pt x="4836" y="8581"/>
                  <a:pt x="4858" y="8731"/>
                </a:cubicBezTo>
                <a:cubicBezTo>
                  <a:pt x="4872" y="8829"/>
                  <a:pt x="4907" y="8917"/>
                  <a:pt x="4921" y="9017"/>
                </a:cubicBezTo>
                <a:cubicBezTo>
                  <a:pt x="4925" y="9049"/>
                  <a:pt x="4933" y="9184"/>
                  <a:pt x="4953" y="9208"/>
                </a:cubicBezTo>
                <a:cubicBezTo>
                  <a:pt x="4989" y="9208"/>
                  <a:pt x="5002" y="9211"/>
                  <a:pt x="5016" y="9239"/>
                </a:cubicBezTo>
                <a:cubicBezTo>
                  <a:pt x="5016" y="9184"/>
                  <a:pt x="5031" y="9129"/>
                  <a:pt x="5048" y="9080"/>
                </a:cubicBezTo>
                <a:cubicBezTo>
                  <a:pt x="5079" y="8992"/>
                  <a:pt x="5109" y="8915"/>
                  <a:pt x="5144" y="8826"/>
                </a:cubicBezTo>
                <a:cubicBezTo>
                  <a:pt x="5184" y="8722"/>
                  <a:pt x="5199" y="8615"/>
                  <a:pt x="5239" y="8509"/>
                </a:cubicBezTo>
                <a:cubicBezTo>
                  <a:pt x="5275" y="8412"/>
                  <a:pt x="5293" y="8305"/>
                  <a:pt x="5334" y="8223"/>
                </a:cubicBezTo>
                <a:cubicBezTo>
                  <a:pt x="5367" y="8158"/>
                  <a:pt x="5357" y="8123"/>
                  <a:pt x="5398" y="8096"/>
                </a:cubicBezTo>
              </a:path>
              <a:path w="5272" h="1366">
                <a:moveTo>
                  <a:pt x="5588" y="8636"/>
                </a:moveTo>
                <a:lnTo>
                  <a:pt x="5588" y="8636"/>
                </a:lnTo>
              </a:path>
              <a:path w="5272" h="1366">
                <a:moveTo>
                  <a:pt x="5588" y="8636"/>
                </a:moveTo>
                <a:lnTo>
                  <a:pt x="5588" y="8636"/>
                </a:lnTo>
              </a:path>
              <a:path w="5272" h="1366">
                <a:moveTo>
                  <a:pt x="5620" y="8636"/>
                </a:moveTo>
                <a:cubicBezTo>
                  <a:pt x="5757" y="8636"/>
                  <a:pt x="5895" y="8636"/>
                  <a:pt x="6032" y="8636"/>
                </a:cubicBezTo>
              </a:path>
              <a:path w="5272" h="1366">
                <a:moveTo>
                  <a:pt x="5620" y="8954"/>
                </a:moveTo>
                <a:cubicBezTo>
                  <a:pt x="5736" y="8954"/>
                  <a:pt x="5853" y="8954"/>
                  <a:pt x="5969" y="8954"/>
                </a:cubicBezTo>
              </a:path>
              <a:path w="5272" h="1366">
                <a:moveTo>
                  <a:pt x="6540" y="8318"/>
                </a:moveTo>
                <a:cubicBezTo>
                  <a:pt x="6540" y="8582"/>
                  <a:pt x="6540" y="9313"/>
                  <a:pt x="6540" y="9049"/>
                </a:cubicBezTo>
              </a:path>
              <a:path w="5272" h="1366">
                <a:moveTo>
                  <a:pt x="6858" y="8350"/>
                </a:moveTo>
                <a:cubicBezTo>
                  <a:pt x="6858" y="8269"/>
                  <a:pt x="6858" y="8420"/>
                  <a:pt x="6858" y="8446"/>
                </a:cubicBezTo>
                <a:cubicBezTo>
                  <a:pt x="6858" y="8566"/>
                  <a:pt x="6826" y="8669"/>
                  <a:pt x="6826" y="8795"/>
                </a:cubicBezTo>
                <a:cubicBezTo>
                  <a:pt x="6826" y="8867"/>
                  <a:pt x="6857" y="9060"/>
                  <a:pt x="6794" y="9080"/>
                </a:cubicBezTo>
              </a:path>
              <a:path w="5272" h="1366">
                <a:moveTo>
                  <a:pt x="6223" y="8414"/>
                </a:moveTo>
                <a:cubicBezTo>
                  <a:pt x="6212" y="8414"/>
                  <a:pt x="6202" y="8414"/>
                  <a:pt x="6191" y="8414"/>
                </a:cubicBezTo>
                <a:cubicBezTo>
                  <a:pt x="6201" y="8384"/>
                  <a:pt x="6232" y="8353"/>
                  <a:pt x="6255" y="8318"/>
                </a:cubicBezTo>
                <a:cubicBezTo>
                  <a:pt x="6305" y="8243"/>
                  <a:pt x="6350" y="8254"/>
                  <a:pt x="6414" y="8223"/>
                </a:cubicBezTo>
                <a:cubicBezTo>
                  <a:pt x="6459" y="8201"/>
                  <a:pt x="6544" y="8168"/>
                  <a:pt x="6604" y="8192"/>
                </a:cubicBezTo>
                <a:cubicBezTo>
                  <a:pt x="6660" y="8215"/>
                  <a:pt x="6719" y="8274"/>
                  <a:pt x="6763" y="8318"/>
                </a:cubicBezTo>
                <a:cubicBezTo>
                  <a:pt x="6807" y="8363"/>
                  <a:pt x="6828" y="8450"/>
                  <a:pt x="6890" y="8477"/>
                </a:cubicBezTo>
                <a:cubicBezTo>
                  <a:pt x="6979" y="8515"/>
                  <a:pt x="7067" y="8469"/>
                  <a:pt x="7112" y="8414"/>
                </a:cubicBezTo>
                <a:cubicBezTo>
                  <a:pt x="7152" y="8366"/>
                  <a:pt x="7175" y="8344"/>
                  <a:pt x="7207" y="8287"/>
                </a:cubicBezTo>
              </a:path>
              <a:path w="5272" h="1366">
                <a:moveTo>
                  <a:pt x="7493" y="8255"/>
                </a:moveTo>
                <a:cubicBezTo>
                  <a:pt x="7555" y="8276"/>
                  <a:pt x="7525" y="8408"/>
                  <a:pt x="7525" y="8477"/>
                </a:cubicBezTo>
                <a:cubicBezTo>
                  <a:pt x="7525" y="8574"/>
                  <a:pt x="7493" y="8660"/>
                  <a:pt x="7493" y="8763"/>
                </a:cubicBezTo>
                <a:cubicBezTo>
                  <a:pt x="7493" y="8852"/>
                  <a:pt x="7503" y="8912"/>
                  <a:pt x="7525" y="8985"/>
                </a:cubicBezTo>
                <a:cubicBezTo>
                  <a:pt x="7525" y="9017"/>
                  <a:pt x="7525" y="9028"/>
                  <a:pt x="7525" y="9049"/>
                </a:cubicBezTo>
                <a:cubicBezTo>
                  <a:pt x="7475" y="9016"/>
                  <a:pt x="7493" y="8936"/>
                  <a:pt x="7493" y="8858"/>
                </a:cubicBezTo>
                <a:cubicBezTo>
                  <a:pt x="7493" y="8742"/>
                  <a:pt x="7507" y="8648"/>
                  <a:pt x="7525" y="8541"/>
                </a:cubicBezTo>
                <a:cubicBezTo>
                  <a:pt x="7540" y="8453"/>
                  <a:pt x="7564" y="8392"/>
                  <a:pt x="7620" y="8318"/>
                </a:cubicBezTo>
                <a:cubicBezTo>
                  <a:pt x="7653" y="8275"/>
                  <a:pt x="7730" y="8229"/>
                  <a:pt x="7779" y="8223"/>
                </a:cubicBezTo>
                <a:cubicBezTo>
                  <a:pt x="7789" y="8223"/>
                  <a:pt x="7800" y="8223"/>
                  <a:pt x="7810" y="8223"/>
                </a:cubicBezTo>
              </a:path>
              <a:path w="5272" h="1366">
                <a:moveTo>
                  <a:pt x="8160" y="8192"/>
                </a:moveTo>
                <a:cubicBezTo>
                  <a:pt x="8170" y="8151"/>
                  <a:pt x="8209" y="8085"/>
                  <a:pt x="8255" y="8064"/>
                </a:cubicBezTo>
                <a:cubicBezTo>
                  <a:pt x="8302" y="8043"/>
                  <a:pt x="8359" y="8033"/>
                  <a:pt x="8414" y="8033"/>
                </a:cubicBezTo>
                <a:cubicBezTo>
                  <a:pt x="8425" y="8033"/>
                  <a:pt x="8435" y="8033"/>
                  <a:pt x="8446" y="8033"/>
                </a:cubicBezTo>
                <a:cubicBezTo>
                  <a:pt x="8446" y="8101"/>
                  <a:pt x="8445" y="8126"/>
                  <a:pt x="8414" y="8192"/>
                </a:cubicBezTo>
                <a:cubicBezTo>
                  <a:pt x="8382" y="8259"/>
                  <a:pt x="8339" y="8298"/>
                  <a:pt x="8287" y="8350"/>
                </a:cubicBezTo>
                <a:cubicBezTo>
                  <a:pt x="8252" y="8386"/>
                  <a:pt x="8235" y="8431"/>
                  <a:pt x="8223" y="8477"/>
                </a:cubicBezTo>
                <a:cubicBezTo>
                  <a:pt x="8235" y="8431"/>
                  <a:pt x="8271" y="8398"/>
                  <a:pt x="8318" y="8382"/>
                </a:cubicBezTo>
                <a:cubicBezTo>
                  <a:pt x="8367" y="8365"/>
                  <a:pt x="8442" y="8390"/>
                  <a:pt x="8477" y="8414"/>
                </a:cubicBezTo>
                <a:cubicBezTo>
                  <a:pt x="8536" y="8454"/>
                  <a:pt x="8559" y="8446"/>
                  <a:pt x="8636" y="8446"/>
                </a:cubicBezTo>
                <a:cubicBezTo>
                  <a:pt x="8647" y="8446"/>
                  <a:pt x="8657" y="8446"/>
                  <a:pt x="8668" y="8446"/>
                </a:cubicBezTo>
              </a:path>
              <a:path w="5272" h="1366">
                <a:moveTo>
                  <a:pt x="9080" y="7874"/>
                </a:moveTo>
                <a:cubicBezTo>
                  <a:pt x="9080" y="7967"/>
                  <a:pt x="9059" y="8038"/>
                  <a:pt x="9049" y="8128"/>
                </a:cubicBezTo>
                <a:cubicBezTo>
                  <a:pt x="9036" y="8242"/>
                  <a:pt x="9022" y="8364"/>
                  <a:pt x="9017" y="8477"/>
                </a:cubicBezTo>
                <a:cubicBezTo>
                  <a:pt x="9010" y="8644"/>
                  <a:pt x="9070" y="8909"/>
                  <a:pt x="8985" y="9049"/>
                </a:cubicBezTo>
                <a:cubicBezTo>
                  <a:pt x="8992" y="8974"/>
                  <a:pt x="8994" y="8895"/>
                  <a:pt x="9017" y="8826"/>
                </a:cubicBezTo>
                <a:cubicBezTo>
                  <a:pt x="9044" y="8744"/>
                  <a:pt x="9101" y="8674"/>
                  <a:pt x="9144" y="8604"/>
                </a:cubicBezTo>
                <a:cubicBezTo>
                  <a:pt x="9183" y="8539"/>
                  <a:pt x="9212" y="8472"/>
                  <a:pt x="9303" y="8477"/>
                </a:cubicBezTo>
                <a:cubicBezTo>
                  <a:pt x="9347" y="8479"/>
                  <a:pt x="9387" y="8532"/>
                  <a:pt x="9398" y="8572"/>
                </a:cubicBezTo>
                <a:cubicBezTo>
                  <a:pt x="9426" y="8675"/>
                  <a:pt x="9380" y="8765"/>
                  <a:pt x="9430" y="8858"/>
                </a:cubicBezTo>
                <a:cubicBezTo>
                  <a:pt x="9474" y="8940"/>
                  <a:pt x="9505" y="8973"/>
                  <a:pt x="9588" y="9017"/>
                </a:cubicBezTo>
                <a:cubicBezTo>
                  <a:pt x="9673" y="9062"/>
                  <a:pt x="9756" y="9046"/>
                  <a:pt x="9842" y="9017"/>
                </a:cubicBezTo>
                <a:cubicBezTo>
                  <a:pt x="9945" y="8982"/>
                  <a:pt x="9975" y="8902"/>
                  <a:pt x="10033" y="8826"/>
                </a:cubicBezTo>
                <a:cubicBezTo>
                  <a:pt x="10044" y="8816"/>
                  <a:pt x="10054" y="8805"/>
                  <a:pt x="1006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7"/>
          <p:cNvSpPr/>
          <p:nvPr/>
        </p:nvSpPr>
        <p:spPr>
          <a:xfrm>
            <a:off x="1805040" y="4332240"/>
            <a:ext cx="5808600" cy="1521000"/>
          </a:xfrm>
          <a:custGeom>
            <a:avLst/>
            <a:gdLst/>
            <a:ahLst/>
            <a:rect l="l" t="t" r="r" b="b"/>
            <a:pathLst>
              <a:path w="16131" h="4224">
                <a:moveTo>
                  <a:pt x="5016" y="14700"/>
                </a:moveTo>
                <a:cubicBezTo>
                  <a:pt x="5016" y="14660"/>
                  <a:pt x="5027" y="14616"/>
                  <a:pt x="5048" y="14605"/>
                </a:cubicBezTo>
                <a:cubicBezTo>
                  <a:pt x="5082" y="14588"/>
                  <a:pt x="5139" y="14554"/>
                  <a:pt x="5175" y="14542"/>
                </a:cubicBezTo>
                <a:cubicBezTo>
                  <a:pt x="5208" y="14531"/>
                  <a:pt x="5335" y="14500"/>
                  <a:pt x="5366" y="14510"/>
                </a:cubicBezTo>
                <a:cubicBezTo>
                  <a:pt x="5416" y="14527"/>
                  <a:pt x="5469" y="14573"/>
                  <a:pt x="5493" y="14605"/>
                </a:cubicBezTo>
                <a:cubicBezTo>
                  <a:pt x="5531" y="14655"/>
                  <a:pt x="5586" y="14724"/>
                  <a:pt x="5556" y="14796"/>
                </a:cubicBezTo>
                <a:cubicBezTo>
                  <a:pt x="5542" y="14829"/>
                  <a:pt x="5500" y="14905"/>
                  <a:pt x="5461" y="14922"/>
                </a:cubicBezTo>
                <a:cubicBezTo>
                  <a:pt x="5404" y="14947"/>
                  <a:pt x="5374" y="14954"/>
                  <a:pt x="5302" y="14954"/>
                </a:cubicBezTo>
                <a:cubicBezTo>
                  <a:pt x="5270" y="14954"/>
                  <a:pt x="5260" y="14954"/>
                  <a:pt x="5239" y="14954"/>
                </a:cubicBezTo>
                <a:cubicBezTo>
                  <a:pt x="5308" y="14954"/>
                  <a:pt x="5346" y="14970"/>
                  <a:pt x="5398" y="15018"/>
                </a:cubicBezTo>
                <a:cubicBezTo>
                  <a:pt x="5472" y="15086"/>
                  <a:pt x="5485" y="15148"/>
                  <a:pt x="5524" y="15240"/>
                </a:cubicBezTo>
                <a:cubicBezTo>
                  <a:pt x="5570" y="15349"/>
                  <a:pt x="5588" y="15325"/>
                  <a:pt x="5556" y="15430"/>
                </a:cubicBezTo>
                <a:cubicBezTo>
                  <a:pt x="5542" y="15476"/>
                  <a:pt x="5511" y="15509"/>
                  <a:pt x="5461" y="15526"/>
                </a:cubicBezTo>
                <a:cubicBezTo>
                  <a:pt x="5382" y="15552"/>
                  <a:pt x="5328" y="15507"/>
                  <a:pt x="5270" y="15494"/>
                </a:cubicBezTo>
                <a:cubicBezTo>
                  <a:pt x="5195" y="15478"/>
                  <a:pt x="5171" y="15513"/>
                  <a:pt x="5144" y="15430"/>
                </a:cubicBezTo>
                <a:cubicBezTo>
                  <a:pt x="5129" y="15385"/>
                  <a:pt x="5152" y="15367"/>
                  <a:pt x="5175" y="15335"/>
                </a:cubicBezTo>
              </a:path>
              <a:path w="16131" h="4224">
                <a:moveTo>
                  <a:pt x="5874" y="14827"/>
                </a:moveTo>
                <a:cubicBezTo>
                  <a:pt x="5874" y="14929"/>
                  <a:pt x="5854" y="15019"/>
                  <a:pt x="5842" y="15113"/>
                </a:cubicBezTo>
                <a:cubicBezTo>
                  <a:pt x="5828" y="15219"/>
                  <a:pt x="5811" y="15330"/>
                  <a:pt x="5778" y="15430"/>
                </a:cubicBezTo>
                <a:cubicBezTo>
                  <a:pt x="5755" y="15501"/>
                  <a:pt x="5747" y="15546"/>
                  <a:pt x="5747" y="15621"/>
                </a:cubicBezTo>
              </a:path>
              <a:path w="16131" h="4224">
                <a:moveTo>
                  <a:pt x="6032" y="14859"/>
                </a:moveTo>
                <a:cubicBezTo>
                  <a:pt x="6040" y="14836"/>
                  <a:pt x="6088" y="14781"/>
                  <a:pt x="6128" y="14764"/>
                </a:cubicBezTo>
                <a:cubicBezTo>
                  <a:pt x="6171" y="14745"/>
                  <a:pt x="6202" y="14732"/>
                  <a:pt x="6255" y="14732"/>
                </a:cubicBezTo>
                <a:cubicBezTo>
                  <a:pt x="6314" y="14732"/>
                  <a:pt x="6343" y="14730"/>
                  <a:pt x="6350" y="14796"/>
                </a:cubicBezTo>
                <a:cubicBezTo>
                  <a:pt x="6356" y="14850"/>
                  <a:pt x="6337" y="14908"/>
                  <a:pt x="6318" y="14954"/>
                </a:cubicBezTo>
                <a:cubicBezTo>
                  <a:pt x="6287" y="15032"/>
                  <a:pt x="6231" y="15136"/>
                  <a:pt x="6191" y="15208"/>
                </a:cubicBezTo>
                <a:cubicBezTo>
                  <a:pt x="6157" y="15268"/>
                  <a:pt x="6106" y="15344"/>
                  <a:pt x="6064" y="15399"/>
                </a:cubicBezTo>
                <a:cubicBezTo>
                  <a:pt x="6026" y="15449"/>
                  <a:pt x="5984" y="15466"/>
                  <a:pt x="5969" y="15526"/>
                </a:cubicBezTo>
                <a:cubicBezTo>
                  <a:pt x="6003" y="15518"/>
                  <a:pt x="6055" y="15471"/>
                  <a:pt x="6096" y="15494"/>
                </a:cubicBezTo>
                <a:cubicBezTo>
                  <a:pt x="6157" y="15528"/>
                  <a:pt x="6200" y="15533"/>
                  <a:pt x="6255" y="15589"/>
                </a:cubicBezTo>
                <a:cubicBezTo>
                  <a:pt x="6293" y="15628"/>
                  <a:pt x="6344" y="15643"/>
                  <a:pt x="6382" y="15589"/>
                </a:cubicBezTo>
                <a:cubicBezTo>
                  <a:pt x="6419" y="15517"/>
                  <a:pt x="6432" y="15486"/>
                  <a:pt x="6445" y="15430"/>
                </a:cubicBezTo>
              </a:path>
              <a:path w="16131" h="4224">
                <a:moveTo>
                  <a:pt x="6636" y="14954"/>
                </a:moveTo>
                <a:cubicBezTo>
                  <a:pt x="6647" y="14954"/>
                  <a:pt x="6657" y="14954"/>
                  <a:pt x="6668" y="14954"/>
                </a:cubicBezTo>
                <a:cubicBezTo>
                  <a:pt x="6684" y="14905"/>
                  <a:pt x="6720" y="14925"/>
                  <a:pt x="6763" y="14954"/>
                </a:cubicBezTo>
                <a:cubicBezTo>
                  <a:pt x="6816" y="14990"/>
                  <a:pt x="6864" y="14979"/>
                  <a:pt x="6890" y="15018"/>
                </a:cubicBezTo>
              </a:path>
              <a:path w="16131" h="4224">
                <a:moveTo>
                  <a:pt x="6636" y="15240"/>
                </a:moveTo>
                <a:cubicBezTo>
                  <a:pt x="6721" y="15240"/>
                  <a:pt x="6805" y="15240"/>
                  <a:pt x="6890" y="15240"/>
                </a:cubicBezTo>
              </a:path>
              <a:path w="16131" h="4224">
                <a:moveTo>
                  <a:pt x="7398" y="14732"/>
                </a:moveTo>
                <a:cubicBezTo>
                  <a:pt x="7355" y="14761"/>
                  <a:pt x="7366" y="14794"/>
                  <a:pt x="7366" y="14859"/>
                </a:cubicBezTo>
                <a:cubicBezTo>
                  <a:pt x="7366" y="14951"/>
                  <a:pt x="7334" y="15016"/>
                  <a:pt x="7334" y="15113"/>
                </a:cubicBezTo>
                <a:cubicBezTo>
                  <a:pt x="7334" y="15216"/>
                  <a:pt x="7302" y="15294"/>
                  <a:pt x="7302" y="15399"/>
                </a:cubicBezTo>
                <a:cubicBezTo>
                  <a:pt x="7302" y="15452"/>
                  <a:pt x="7302" y="15505"/>
                  <a:pt x="7302" y="15558"/>
                </a:cubicBezTo>
              </a:path>
              <a:path w="16131" h="4224">
                <a:moveTo>
                  <a:pt x="7652" y="14796"/>
                </a:moveTo>
                <a:cubicBezTo>
                  <a:pt x="7635" y="14863"/>
                  <a:pt x="7620" y="14905"/>
                  <a:pt x="7620" y="14986"/>
                </a:cubicBezTo>
                <a:cubicBezTo>
                  <a:pt x="7620" y="15092"/>
                  <a:pt x="7588" y="15191"/>
                  <a:pt x="7588" y="15304"/>
                </a:cubicBezTo>
                <a:cubicBezTo>
                  <a:pt x="7588" y="15407"/>
                  <a:pt x="7556" y="15484"/>
                  <a:pt x="7556" y="15589"/>
                </a:cubicBezTo>
                <a:cubicBezTo>
                  <a:pt x="7556" y="15600"/>
                  <a:pt x="7556" y="15610"/>
                  <a:pt x="7556" y="15621"/>
                </a:cubicBezTo>
              </a:path>
              <a:path w="16131" h="4224">
                <a:moveTo>
                  <a:pt x="7048" y="14668"/>
                </a:moveTo>
                <a:cubicBezTo>
                  <a:pt x="7000" y="14644"/>
                  <a:pt x="7052" y="14626"/>
                  <a:pt x="7080" y="14605"/>
                </a:cubicBezTo>
                <a:cubicBezTo>
                  <a:pt x="7125" y="14571"/>
                  <a:pt x="7188" y="14557"/>
                  <a:pt x="7239" y="14542"/>
                </a:cubicBezTo>
                <a:cubicBezTo>
                  <a:pt x="7283" y="14529"/>
                  <a:pt x="7408" y="14529"/>
                  <a:pt x="7430" y="14573"/>
                </a:cubicBezTo>
                <a:cubicBezTo>
                  <a:pt x="7452" y="14617"/>
                  <a:pt x="7461" y="14679"/>
                  <a:pt x="7461" y="14732"/>
                </a:cubicBezTo>
                <a:cubicBezTo>
                  <a:pt x="7461" y="14830"/>
                  <a:pt x="7466" y="14874"/>
                  <a:pt x="7525" y="14954"/>
                </a:cubicBezTo>
                <a:cubicBezTo>
                  <a:pt x="7561" y="15002"/>
                  <a:pt x="7629" y="15013"/>
                  <a:pt x="7684" y="15018"/>
                </a:cubicBezTo>
                <a:cubicBezTo>
                  <a:pt x="7752" y="15024"/>
                  <a:pt x="7755" y="14958"/>
                  <a:pt x="7779" y="14922"/>
                </a:cubicBezTo>
                <a:cubicBezTo>
                  <a:pt x="7812" y="14872"/>
                  <a:pt x="7810" y="14858"/>
                  <a:pt x="7810" y="14796"/>
                </a:cubicBezTo>
                <a:cubicBezTo>
                  <a:pt x="7810" y="14785"/>
                  <a:pt x="7810" y="14775"/>
                  <a:pt x="7810" y="14764"/>
                </a:cubicBezTo>
              </a:path>
              <a:path w="16131" h="4224">
                <a:moveTo>
                  <a:pt x="8446" y="14542"/>
                </a:moveTo>
                <a:cubicBezTo>
                  <a:pt x="8430" y="14603"/>
                  <a:pt x="8384" y="14615"/>
                  <a:pt x="8350" y="14668"/>
                </a:cubicBezTo>
                <a:cubicBezTo>
                  <a:pt x="8286" y="14767"/>
                  <a:pt x="8214" y="14847"/>
                  <a:pt x="8160" y="14954"/>
                </a:cubicBezTo>
                <a:cubicBezTo>
                  <a:pt x="8099" y="15075"/>
                  <a:pt x="8096" y="15170"/>
                  <a:pt x="8096" y="15304"/>
                </a:cubicBezTo>
                <a:cubicBezTo>
                  <a:pt x="8096" y="15429"/>
                  <a:pt x="8138" y="15512"/>
                  <a:pt x="8192" y="15621"/>
                </a:cubicBezTo>
                <a:cubicBezTo>
                  <a:pt x="8225" y="15687"/>
                  <a:pt x="8250" y="15731"/>
                  <a:pt x="8318" y="15748"/>
                </a:cubicBezTo>
              </a:path>
              <a:path w="16131" h="4224">
                <a:moveTo>
                  <a:pt x="8446" y="14986"/>
                </a:moveTo>
                <a:cubicBezTo>
                  <a:pt x="8430" y="15051"/>
                  <a:pt x="8414" y="15067"/>
                  <a:pt x="8414" y="15145"/>
                </a:cubicBezTo>
                <a:cubicBezTo>
                  <a:pt x="8414" y="15208"/>
                  <a:pt x="8414" y="15272"/>
                  <a:pt x="8414" y="15335"/>
                </a:cubicBezTo>
                <a:cubicBezTo>
                  <a:pt x="8464" y="15348"/>
                  <a:pt x="8484" y="15367"/>
                  <a:pt x="8541" y="15367"/>
                </a:cubicBezTo>
                <a:cubicBezTo>
                  <a:pt x="8562" y="15367"/>
                  <a:pt x="8647" y="15388"/>
                  <a:pt x="8668" y="15399"/>
                </a:cubicBezTo>
                <a:cubicBezTo>
                  <a:pt x="8717" y="15425"/>
                  <a:pt x="8712" y="15457"/>
                  <a:pt x="8731" y="15399"/>
                </a:cubicBezTo>
              </a:path>
              <a:path w="16131" h="4224">
                <a:moveTo>
                  <a:pt x="8700" y="14954"/>
                </a:moveTo>
                <a:cubicBezTo>
                  <a:pt x="8684" y="15017"/>
                  <a:pt x="8683" y="15075"/>
                  <a:pt x="8668" y="15145"/>
                </a:cubicBezTo>
                <a:cubicBezTo>
                  <a:pt x="8643" y="15258"/>
                  <a:pt x="8618" y="15383"/>
                  <a:pt x="8604" y="15494"/>
                </a:cubicBezTo>
                <a:cubicBezTo>
                  <a:pt x="8594" y="15575"/>
                  <a:pt x="8604" y="15666"/>
                  <a:pt x="8604" y="15748"/>
                </a:cubicBezTo>
              </a:path>
              <a:path w="16131" h="4224">
                <a:moveTo>
                  <a:pt x="8826" y="14764"/>
                </a:moveTo>
                <a:cubicBezTo>
                  <a:pt x="8838" y="14729"/>
                  <a:pt x="8850" y="14705"/>
                  <a:pt x="8890" y="14700"/>
                </a:cubicBezTo>
                <a:cubicBezTo>
                  <a:pt x="8931" y="14695"/>
                  <a:pt x="8995" y="14688"/>
                  <a:pt x="9017" y="14732"/>
                </a:cubicBezTo>
                <a:cubicBezTo>
                  <a:pt x="9040" y="14779"/>
                  <a:pt x="9013" y="14860"/>
                  <a:pt x="8985" y="14891"/>
                </a:cubicBezTo>
                <a:cubicBezTo>
                  <a:pt x="8963" y="14916"/>
                  <a:pt x="8939" y="15007"/>
                  <a:pt x="8922" y="15018"/>
                </a:cubicBezTo>
                <a:cubicBezTo>
                  <a:pt x="8890" y="15018"/>
                  <a:pt x="8879" y="15018"/>
                  <a:pt x="8890" y="15050"/>
                </a:cubicBezTo>
                <a:cubicBezTo>
                  <a:pt x="8954" y="15050"/>
                  <a:pt x="8965" y="15064"/>
                  <a:pt x="9017" y="15081"/>
                </a:cubicBezTo>
                <a:cubicBezTo>
                  <a:pt x="9066" y="15097"/>
                  <a:pt x="9043" y="15113"/>
                  <a:pt x="9112" y="15113"/>
                </a:cubicBezTo>
              </a:path>
              <a:path w="16131" h="4224">
                <a:moveTo>
                  <a:pt x="9208" y="14542"/>
                </a:moveTo>
                <a:cubicBezTo>
                  <a:pt x="9208" y="14617"/>
                  <a:pt x="9237" y="14664"/>
                  <a:pt x="9271" y="14732"/>
                </a:cubicBezTo>
                <a:cubicBezTo>
                  <a:pt x="9337" y="14865"/>
                  <a:pt x="9342" y="14973"/>
                  <a:pt x="9366" y="15113"/>
                </a:cubicBezTo>
                <a:cubicBezTo>
                  <a:pt x="9397" y="15291"/>
                  <a:pt x="9385" y="15415"/>
                  <a:pt x="9366" y="15589"/>
                </a:cubicBezTo>
                <a:cubicBezTo>
                  <a:pt x="9352" y="15717"/>
                  <a:pt x="9327" y="15819"/>
                  <a:pt x="9271" y="15938"/>
                </a:cubicBezTo>
                <a:cubicBezTo>
                  <a:pt x="9238" y="16007"/>
                  <a:pt x="9197" y="16045"/>
                  <a:pt x="9144" y="16097"/>
                </a:cubicBezTo>
                <a:cubicBezTo>
                  <a:pt x="9133" y="16108"/>
                  <a:pt x="9123" y="16118"/>
                  <a:pt x="9112" y="16129"/>
                </a:cubicBezTo>
              </a:path>
              <a:path w="16131" h="4224">
                <a:moveTo>
                  <a:pt x="9874" y="14573"/>
                </a:moveTo>
                <a:cubicBezTo>
                  <a:pt x="9858" y="14636"/>
                  <a:pt x="9840" y="14698"/>
                  <a:pt x="9811" y="14764"/>
                </a:cubicBezTo>
                <a:cubicBezTo>
                  <a:pt x="9771" y="14855"/>
                  <a:pt x="9752" y="14953"/>
                  <a:pt x="9716" y="15050"/>
                </a:cubicBezTo>
                <a:cubicBezTo>
                  <a:pt x="9666" y="15184"/>
                  <a:pt x="9682" y="15326"/>
                  <a:pt x="9652" y="15462"/>
                </a:cubicBezTo>
                <a:cubicBezTo>
                  <a:pt x="9633" y="15546"/>
                  <a:pt x="9620" y="15600"/>
                  <a:pt x="9620" y="15684"/>
                </a:cubicBezTo>
                <a:cubicBezTo>
                  <a:pt x="9561" y="15607"/>
                  <a:pt x="9605" y="15582"/>
                  <a:pt x="9620" y="15494"/>
                </a:cubicBezTo>
                <a:cubicBezTo>
                  <a:pt x="9636" y="15396"/>
                  <a:pt x="9654" y="15306"/>
                  <a:pt x="9684" y="15208"/>
                </a:cubicBezTo>
                <a:cubicBezTo>
                  <a:pt x="9721" y="15089"/>
                  <a:pt x="9770" y="15041"/>
                  <a:pt x="9842" y="14954"/>
                </a:cubicBezTo>
                <a:cubicBezTo>
                  <a:pt x="9871" y="14925"/>
                  <a:pt x="9877" y="14914"/>
                  <a:pt x="9906" y="14922"/>
                </a:cubicBezTo>
                <a:cubicBezTo>
                  <a:pt x="9985" y="14942"/>
                  <a:pt x="9949" y="14957"/>
                  <a:pt x="9970" y="15018"/>
                </a:cubicBezTo>
                <a:cubicBezTo>
                  <a:pt x="10007" y="15123"/>
                  <a:pt x="10019" y="15259"/>
                  <a:pt x="10033" y="15367"/>
                </a:cubicBezTo>
                <a:cubicBezTo>
                  <a:pt x="10041" y="15431"/>
                  <a:pt x="10055" y="15611"/>
                  <a:pt x="10128" y="15653"/>
                </a:cubicBezTo>
                <a:cubicBezTo>
                  <a:pt x="10206" y="15698"/>
                  <a:pt x="10301" y="15623"/>
                  <a:pt x="10350" y="15589"/>
                </a:cubicBezTo>
                <a:cubicBezTo>
                  <a:pt x="10445" y="15523"/>
                  <a:pt x="10528" y="15450"/>
                  <a:pt x="10541" y="15335"/>
                </a:cubicBezTo>
                <a:cubicBezTo>
                  <a:pt x="10548" y="15275"/>
                  <a:pt x="10541" y="15206"/>
                  <a:pt x="10541" y="15145"/>
                </a:cubicBezTo>
              </a:path>
              <a:path w="16131" h="4224">
                <a:moveTo>
                  <a:pt x="10255" y="16256"/>
                </a:moveTo>
                <a:cubicBezTo>
                  <a:pt x="10400" y="16256"/>
                  <a:pt x="10530" y="16238"/>
                  <a:pt x="10668" y="16224"/>
                </a:cubicBezTo>
                <a:cubicBezTo>
                  <a:pt x="10747" y="16216"/>
                  <a:pt x="10812" y="16200"/>
                  <a:pt x="10890" y="16192"/>
                </a:cubicBezTo>
                <a:cubicBezTo>
                  <a:pt x="10997" y="16181"/>
                  <a:pt x="11074" y="16154"/>
                  <a:pt x="11176" y="16129"/>
                </a:cubicBezTo>
                <a:cubicBezTo>
                  <a:pt x="11261" y="16108"/>
                  <a:pt x="11325" y="16092"/>
                  <a:pt x="11398" y="16034"/>
                </a:cubicBezTo>
                <a:cubicBezTo>
                  <a:pt x="11490" y="15961"/>
                  <a:pt x="11540" y="15874"/>
                  <a:pt x="11620" y="15780"/>
                </a:cubicBezTo>
                <a:cubicBezTo>
                  <a:pt x="11706" y="15679"/>
                  <a:pt x="11754" y="15566"/>
                  <a:pt x="11843" y="15462"/>
                </a:cubicBezTo>
                <a:cubicBezTo>
                  <a:pt x="11954" y="15332"/>
                  <a:pt x="12030" y="15186"/>
                  <a:pt x="12128" y="15050"/>
                </a:cubicBezTo>
                <a:cubicBezTo>
                  <a:pt x="12207" y="14940"/>
                  <a:pt x="12275" y="14839"/>
                  <a:pt x="12351" y="14732"/>
                </a:cubicBezTo>
                <a:cubicBezTo>
                  <a:pt x="12424" y="14628"/>
                  <a:pt x="12496" y="14513"/>
                  <a:pt x="12573" y="14414"/>
                </a:cubicBezTo>
                <a:cubicBezTo>
                  <a:pt x="12644" y="14322"/>
                  <a:pt x="12744" y="14264"/>
                  <a:pt x="12827" y="14192"/>
                </a:cubicBezTo>
                <a:cubicBezTo>
                  <a:pt x="12905" y="14124"/>
                  <a:pt x="12983" y="14072"/>
                  <a:pt x="13081" y="14034"/>
                </a:cubicBezTo>
                <a:cubicBezTo>
                  <a:pt x="13157" y="14005"/>
                  <a:pt x="13251" y="14004"/>
                  <a:pt x="13335" y="14002"/>
                </a:cubicBezTo>
                <a:cubicBezTo>
                  <a:pt x="13430" y="13999"/>
                  <a:pt x="13526" y="14002"/>
                  <a:pt x="13621" y="14002"/>
                </a:cubicBezTo>
              </a:path>
              <a:path w="16131" h="4224">
                <a:moveTo>
                  <a:pt x="13303" y="13811"/>
                </a:moveTo>
                <a:cubicBezTo>
                  <a:pt x="13353" y="13823"/>
                  <a:pt x="13373" y="13843"/>
                  <a:pt x="13430" y="13843"/>
                </a:cubicBezTo>
                <a:cubicBezTo>
                  <a:pt x="13473" y="13843"/>
                  <a:pt x="13494" y="13843"/>
                  <a:pt x="13526" y="13843"/>
                </a:cubicBezTo>
              </a:path>
              <a:path w="16131" h="4224">
                <a:moveTo>
                  <a:pt x="13303" y="13906"/>
                </a:moveTo>
                <a:cubicBezTo>
                  <a:pt x="13339" y="13906"/>
                  <a:pt x="13353" y="13909"/>
                  <a:pt x="13367" y="13938"/>
                </a:cubicBezTo>
              </a:path>
              <a:path w="16131" h="4224">
                <a:moveTo>
                  <a:pt x="13303" y="13906"/>
                </a:moveTo>
                <a:cubicBezTo>
                  <a:pt x="13345" y="13917"/>
                  <a:pt x="13388" y="13927"/>
                  <a:pt x="13430" y="13938"/>
                </a:cubicBezTo>
              </a:path>
              <a:path w="16131" h="4224">
                <a:moveTo>
                  <a:pt x="13430" y="13938"/>
                </a:moveTo>
                <a:cubicBezTo>
                  <a:pt x="13488" y="13938"/>
                  <a:pt x="13505" y="13964"/>
                  <a:pt x="13557" y="13970"/>
                </a:cubicBezTo>
                <a:cubicBezTo>
                  <a:pt x="13622" y="13977"/>
                  <a:pt x="13608" y="14019"/>
                  <a:pt x="13652" y="14034"/>
                </a:cubicBezTo>
                <a:cubicBezTo>
                  <a:pt x="13604" y="14046"/>
                  <a:pt x="13556" y="14082"/>
                  <a:pt x="13526" y="14129"/>
                </a:cubicBezTo>
                <a:cubicBezTo>
                  <a:pt x="13479" y="14202"/>
                  <a:pt x="13442" y="14237"/>
                  <a:pt x="13430" y="14319"/>
                </a:cubicBezTo>
              </a:path>
              <a:path w="16131" h="4224">
                <a:moveTo>
                  <a:pt x="15399" y="13081"/>
                </a:moveTo>
                <a:cubicBezTo>
                  <a:pt x="15399" y="13162"/>
                  <a:pt x="15427" y="13219"/>
                  <a:pt x="15430" y="13303"/>
                </a:cubicBezTo>
                <a:cubicBezTo>
                  <a:pt x="15436" y="13478"/>
                  <a:pt x="15443" y="13641"/>
                  <a:pt x="15462" y="13811"/>
                </a:cubicBezTo>
                <a:cubicBezTo>
                  <a:pt x="15478" y="13955"/>
                  <a:pt x="15452" y="14091"/>
                  <a:pt x="15430" y="14224"/>
                </a:cubicBezTo>
                <a:cubicBezTo>
                  <a:pt x="15430" y="14245"/>
                  <a:pt x="15430" y="14267"/>
                  <a:pt x="15430" y="14288"/>
                </a:cubicBezTo>
              </a:path>
              <a:path w="16131" h="4224">
                <a:moveTo>
                  <a:pt x="15589" y="13144"/>
                </a:moveTo>
                <a:cubicBezTo>
                  <a:pt x="15589" y="13057"/>
                  <a:pt x="15602" y="12997"/>
                  <a:pt x="15653" y="12922"/>
                </a:cubicBezTo>
                <a:cubicBezTo>
                  <a:pt x="15682" y="12879"/>
                  <a:pt x="15765" y="12830"/>
                  <a:pt x="15812" y="12827"/>
                </a:cubicBezTo>
                <a:cubicBezTo>
                  <a:pt x="15883" y="12822"/>
                  <a:pt x="15929" y="12826"/>
                  <a:pt x="15970" y="12890"/>
                </a:cubicBezTo>
                <a:cubicBezTo>
                  <a:pt x="16018" y="12964"/>
                  <a:pt x="16019" y="13121"/>
                  <a:pt x="16002" y="13208"/>
                </a:cubicBezTo>
                <a:cubicBezTo>
                  <a:pt x="15974" y="13350"/>
                  <a:pt x="15954" y="13481"/>
                  <a:pt x="15907" y="13621"/>
                </a:cubicBezTo>
                <a:cubicBezTo>
                  <a:pt x="15869" y="13737"/>
                  <a:pt x="15813" y="13854"/>
                  <a:pt x="15780" y="13970"/>
                </a:cubicBezTo>
                <a:cubicBezTo>
                  <a:pt x="15765" y="14021"/>
                  <a:pt x="15729" y="14046"/>
                  <a:pt x="15716" y="14097"/>
                </a:cubicBezTo>
                <a:cubicBezTo>
                  <a:pt x="15755" y="14084"/>
                  <a:pt x="15759" y="14045"/>
                  <a:pt x="15812" y="14034"/>
                </a:cubicBezTo>
                <a:cubicBezTo>
                  <a:pt x="15887" y="14018"/>
                  <a:pt x="15925" y="13989"/>
                  <a:pt x="16002" y="13970"/>
                </a:cubicBezTo>
                <a:cubicBezTo>
                  <a:pt x="16119" y="13941"/>
                  <a:pt x="16243" y="13974"/>
                  <a:pt x="16351" y="13938"/>
                </a:cubicBezTo>
                <a:cubicBezTo>
                  <a:pt x="16362" y="13938"/>
                  <a:pt x="16372" y="13938"/>
                  <a:pt x="16383" y="13938"/>
                </a:cubicBezTo>
              </a:path>
              <a:path w="16131" h="4224">
                <a:moveTo>
                  <a:pt x="16574" y="13144"/>
                </a:moveTo>
                <a:cubicBezTo>
                  <a:pt x="16648" y="13144"/>
                  <a:pt x="16695" y="13117"/>
                  <a:pt x="16764" y="13113"/>
                </a:cubicBezTo>
                <a:cubicBezTo>
                  <a:pt x="16785" y="13113"/>
                  <a:pt x="16807" y="13113"/>
                  <a:pt x="16828" y="13113"/>
                </a:cubicBezTo>
              </a:path>
              <a:path w="16131" h="4224">
                <a:moveTo>
                  <a:pt x="16859" y="13113"/>
                </a:moveTo>
                <a:cubicBezTo>
                  <a:pt x="16880" y="13102"/>
                  <a:pt x="16902" y="13092"/>
                  <a:pt x="16923" y="13081"/>
                </a:cubicBezTo>
              </a:path>
              <a:path w="16131" h="4224">
                <a:moveTo>
                  <a:pt x="16605" y="13589"/>
                </a:moveTo>
                <a:cubicBezTo>
                  <a:pt x="16605" y="13621"/>
                  <a:pt x="16605" y="13631"/>
                  <a:pt x="16574" y="13621"/>
                </a:cubicBezTo>
                <a:cubicBezTo>
                  <a:pt x="16646" y="13621"/>
                  <a:pt x="16673" y="13609"/>
                  <a:pt x="16732" y="13589"/>
                </a:cubicBezTo>
                <a:cubicBezTo>
                  <a:pt x="16796" y="13568"/>
                  <a:pt x="16859" y="13553"/>
                  <a:pt x="16923" y="13526"/>
                </a:cubicBezTo>
              </a:path>
              <a:path w="16131" h="4224">
                <a:moveTo>
                  <a:pt x="17812" y="12446"/>
                </a:moveTo>
                <a:cubicBezTo>
                  <a:pt x="17762" y="12504"/>
                  <a:pt x="17761" y="12488"/>
                  <a:pt x="17685" y="12541"/>
                </a:cubicBezTo>
                <a:cubicBezTo>
                  <a:pt x="17628" y="12581"/>
                  <a:pt x="17600" y="12569"/>
                  <a:pt x="17526" y="12573"/>
                </a:cubicBezTo>
                <a:cubicBezTo>
                  <a:pt x="17484" y="12575"/>
                  <a:pt x="17441" y="12573"/>
                  <a:pt x="17399" y="12573"/>
                </a:cubicBezTo>
                <a:cubicBezTo>
                  <a:pt x="17399" y="12706"/>
                  <a:pt x="17381" y="12826"/>
                  <a:pt x="17367" y="12954"/>
                </a:cubicBezTo>
                <a:cubicBezTo>
                  <a:pt x="17356" y="13055"/>
                  <a:pt x="17341" y="13137"/>
                  <a:pt x="17336" y="13240"/>
                </a:cubicBezTo>
                <a:cubicBezTo>
                  <a:pt x="17336" y="13251"/>
                  <a:pt x="17336" y="13261"/>
                  <a:pt x="17336" y="13272"/>
                </a:cubicBezTo>
                <a:cubicBezTo>
                  <a:pt x="17388" y="13205"/>
                  <a:pt x="17432" y="13143"/>
                  <a:pt x="17494" y="13081"/>
                </a:cubicBezTo>
                <a:cubicBezTo>
                  <a:pt x="17546" y="13029"/>
                  <a:pt x="17609" y="13002"/>
                  <a:pt x="17685" y="13018"/>
                </a:cubicBezTo>
                <a:cubicBezTo>
                  <a:pt x="17735" y="13028"/>
                  <a:pt x="17811" y="13067"/>
                  <a:pt x="17844" y="13113"/>
                </a:cubicBezTo>
                <a:cubicBezTo>
                  <a:pt x="17881" y="13165"/>
                  <a:pt x="17916" y="13305"/>
                  <a:pt x="17907" y="13367"/>
                </a:cubicBezTo>
                <a:cubicBezTo>
                  <a:pt x="17885" y="13522"/>
                  <a:pt x="17860" y="13564"/>
                  <a:pt x="17780" y="13684"/>
                </a:cubicBezTo>
                <a:cubicBezTo>
                  <a:pt x="17720" y="13774"/>
                  <a:pt x="17663" y="13861"/>
                  <a:pt x="17558" y="13906"/>
                </a:cubicBezTo>
                <a:cubicBezTo>
                  <a:pt x="17491" y="13935"/>
                  <a:pt x="17383" y="13993"/>
                  <a:pt x="17304" y="13970"/>
                </a:cubicBezTo>
                <a:cubicBezTo>
                  <a:pt x="17240" y="13952"/>
                  <a:pt x="17246" y="13857"/>
                  <a:pt x="17240" y="13811"/>
                </a:cubicBezTo>
              </a:path>
              <a:path w="16131" h="4224">
                <a:moveTo>
                  <a:pt x="18129" y="12605"/>
                </a:moveTo>
                <a:cubicBezTo>
                  <a:pt x="18072" y="12643"/>
                  <a:pt x="18082" y="12743"/>
                  <a:pt x="18066" y="12827"/>
                </a:cubicBezTo>
                <a:cubicBezTo>
                  <a:pt x="18038" y="12970"/>
                  <a:pt x="18034" y="13094"/>
                  <a:pt x="18034" y="13240"/>
                </a:cubicBezTo>
                <a:cubicBezTo>
                  <a:pt x="18034" y="13373"/>
                  <a:pt x="18053" y="13527"/>
                  <a:pt x="18098" y="13652"/>
                </a:cubicBezTo>
                <a:cubicBezTo>
                  <a:pt x="18128" y="13735"/>
                  <a:pt x="18167" y="13813"/>
                  <a:pt x="18256" y="13843"/>
                </a:cubicBezTo>
                <a:cubicBezTo>
                  <a:pt x="18296" y="13856"/>
                  <a:pt x="18363" y="13779"/>
                  <a:pt x="18383" y="13748"/>
                </a:cubicBezTo>
                <a:cubicBezTo>
                  <a:pt x="18465" y="13619"/>
                  <a:pt x="18447" y="13481"/>
                  <a:pt x="18447" y="13335"/>
                </a:cubicBezTo>
                <a:cubicBezTo>
                  <a:pt x="18447" y="13181"/>
                  <a:pt x="18442" y="13066"/>
                  <a:pt x="18383" y="12922"/>
                </a:cubicBezTo>
                <a:cubicBezTo>
                  <a:pt x="18343" y="12825"/>
                  <a:pt x="18327" y="12772"/>
                  <a:pt x="18224" y="12764"/>
                </a:cubicBezTo>
                <a:cubicBezTo>
                  <a:pt x="18145" y="12758"/>
                  <a:pt x="18097" y="12780"/>
                  <a:pt x="18034" y="12827"/>
                </a:cubicBezTo>
                <a:cubicBezTo>
                  <a:pt x="18023" y="12838"/>
                  <a:pt x="18013" y="12848"/>
                  <a:pt x="18002" y="12859"/>
                </a:cubicBezTo>
              </a:path>
              <a:path w="16131" h="4224">
                <a:moveTo>
                  <a:pt x="18669" y="13621"/>
                </a:moveTo>
                <a:cubicBezTo>
                  <a:pt x="18669" y="13675"/>
                  <a:pt x="18656" y="13669"/>
                  <a:pt x="18701" y="13684"/>
                </a:cubicBezTo>
                <a:cubicBezTo>
                  <a:pt x="18678" y="13614"/>
                  <a:pt x="18669" y="13667"/>
                  <a:pt x="18669" y="13716"/>
                </a:cubicBezTo>
                <a:cubicBezTo>
                  <a:pt x="18669" y="13777"/>
                  <a:pt x="18691" y="13747"/>
                  <a:pt x="18701" y="13716"/>
                </a:cubicBezTo>
              </a:path>
              <a:path w="16131" h="4224">
                <a:moveTo>
                  <a:pt x="18796" y="12605"/>
                </a:moveTo>
                <a:cubicBezTo>
                  <a:pt x="18844" y="12540"/>
                  <a:pt x="18851" y="12532"/>
                  <a:pt x="18923" y="12478"/>
                </a:cubicBezTo>
                <a:cubicBezTo>
                  <a:pt x="18989" y="12428"/>
                  <a:pt x="19037" y="12390"/>
                  <a:pt x="19114" y="12351"/>
                </a:cubicBezTo>
                <a:cubicBezTo>
                  <a:pt x="19171" y="12322"/>
                  <a:pt x="19258" y="12285"/>
                  <a:pt x="19304" y="12351"/>
                </a:cubicBezTo>
                <a:cubicBezTo>
                  <a:pt x="19361" y="12433"/>
                  <a:pt x="19368" y="12473"/>
                  <a:pt x="19368" y="12573"/>
                </a:cubicBezTo>
                <a:cubicBezTo>
                  <a:pt x="19368" y="12653"/>
                  <a:pt x="19365" y="12723"/>
                  <a:pt x="19336" y="12795"/>
                </a:cubicBezTo>
                <a:cubicBezTo>
                  <a:pt x="19311" y="12857"/>
                  <a:pt x="19282" y="12877"/>
                  <a:pt x="19240" y="12890"/>
                </a:cubicBezTo>
                <a:cubicBezTo>
                  <a:pt x="19279" y="12862"/>
                  <a:pt x="19319" y="12831"/>
                  <a:pt x="19368" y="12827"/>
                </a:cubicBezTo>
                <a:cubicBezTo>
                  <a:pt x="19444" y="12822"/>
                  <a:pt x="19533" y="12814"/>
                  <a:pt x="19590" y="12859"/>
                </a:cubicBezTo>
                <a:cubicBezTo>
                  <a:pt x="19649" y="12906"/>
                  <a:pt x="19681" y="12981"/>
                  <a:pt x="19685" y="13049"/>
                </a:cubicBezTo>
                <a:cubicBezTo>
                  <a:pt x="19690" y="13135"/>
                  <a:pt x="19709" y="13270"/>
                  <a:pt x="19653" y="13335"/>
                </a:cubicBezTo>
                <a:cubicBezTo>
                  <a:pt x="19619" y="13374"/>
                  <a:pt x="19582" y="13478"/>
                  <a:pt x="19526" y="13494"/>
                </a:cubicBezTo>
                <a:cubicBezTo>
                  <a:pt x="19445" y="13517"/>
                  <a:pt x="19325" y="13494"/>
                  <a:pt x="19240" y="13494"/>
                </a:cubicBezTo>
              </a:path>
              <a:path w="16131" h="4224">
                <a:moveTo>
                  <a:pt x="19780" y="12065"/>
                </a:moveTo>
                <a:cubicBezTo>
                  <a:pt x="19780" y="12131"/>
                  <a:pt x="19794" y="12128"/>
                  <a:pt x="19812" y="12192"/>
                </a:cubicBezTo>
                <a:cubicBezTo>
                  <a:pt x="19857" y="12349"/>
                  <a:pt x="19850" y="12509"/>
                  <a:pt x="19876" y="12668"/>
                </a:cubicBezTo>
                <a:cubicBezTo>
                  <a:pt x="19904" y="12838"/>
                  <a:pt x="19933" y="13003"/>
                  <a:pt x="19939" y="13176"/>
                </a:cubicBezTo>
                <a:cubicBezTo>
                  <a:pt x="19943" y="13299"/>
                  <a:pt x="19958" y="13407"/>
                  <a:pt x="19971" y="13526"/>
                </a:cubicBezTo>
                <a:cubicBezTo>
                  <a:pt x="19960" y="13519"/>
                  <a:pt x="19939" y="13488"/>
                  <a:pt x="19939" y="13367"/>
                </a:cubicBezTo>
                <a:cubicBezTo>
                  <a:pt x="19939" y="13247"/>
                  <a:pt x="19945" y="13132"/>
                  <a:pt x="19971" y="13018"/>
                </a:cubicBezTo>
                <a:cubicBezTo>
                  <a:pt x="19993" y="12921"/>
                  <a:pt x="20030" y="12862"/>
                  <a:pt x="20098" y="12795"/>
                </a:cubicBezTo>
                <a:cubicBezTo>
                  <a:pt x="20130" y="12764"/>
                  <a:pt x="20178" y="12750"/>
                  <a:pt x="20225" y="12764"/>
                </a:cubicBezTo>
                <a:cubicBezTo>
                  <a:pt x="20294" y="12785"/>
                  <a:pt x="20350" y="12940"/>
                  <a:pt x="20384" y="12986"/>
                </a:cubicBezTo>
                <a:cubicBezTo>
                  <a:pt x="20452" y="13077"/>
                  <a:pt x="20525" y="13159"/>
                  <a:pt x="20606" y="13240"/>
                </a:cubicBezTo>
                <a:cubicBezTo>
                  <a:pt x="20696" y="13330"/>
                  <a:pt x="20761" y="13418"/>
                  <a:pt x="20860" y="13462"/>
                </a:cubicBezTo>
                <a:cubicBezTo>
                  <a:pt x="20916" y="13487"/>
                  <a:pt x="20986" y="13512"/>
                  <a:pt x="21050" y="13494"/>
                </a:cubicBezTo>
                <a:cubicBezTo>
                  <a:pt x="21165" y="13462"/>
                  <a:pt x="21142" y="13402"/>
                  <a:pt x="21146" y="13303"/>
                </a:cubicBezTo>
                <a:cubicBezTo>
                  <a:pt x="21150" y="13208"/>
                  <a:pt x="21143" y="13105"/>
                  <a:pt x="21114" y="13018"/>
                </a:cubicBezTo>
                <a:cubicBezTo>
                  <a:pt x="21082" y="12954"/>
                  <a:pt x="21071" y="12933"/>
                  <a:pt x="21050" y="12890"/>
                </a:cubicBezTo>
              </a:path>
              <a:path w="16131" h="4224">
                <a:moveTo>
                  <a:pt x="14542" y="13589"/>
                </a:moveTo>
                <a:cubicBezTo>
                  <a:pt x="14477" y="13581"/>
                  <a:pt x="14470" y="13590"/>
                  <a:pt x="14414" y="13557"/>
                </a:cubicBezTo>
                <a:cubicBezTo>
                  <a:pt x="14434" y="13508"/>
                  <a:pt x="14446" y="13414"/>
                  <a:pt x="14478" y="13367"/>
                </a:cubicBezTo>
                <a:cubicBezTo>
                  <a:pt x="14540" y="13275"/>
                  <a:pt x="14637" y="13224"/>
                  <a:pt x="14732" y="13176"/>
                </a:cubicBezTo>
                <a:cubicBezTo>
                  <a:pt x="14821" y="13132"/>
                  <a:pt x="14861" y="13103"/>
                  <a:pt x="14954" y="13144"/>
                </a:cubicBezTo>
                <a:cubicBezTo>
                  <a:pt x="15003" y="13165"/>
                  <a:pt x="15001" y="13296"/>
                  <a:pt x="14986" y="13335"/>
                </a:cubicBezTo>
                <a:cubicBezTo>
                  <a:pt x="14955" y="13414"/>
                  <a:pt x="14900" y="13508"/>
                  <a:pt x="14859" y="13589"/>
                </a:cubicBezTo>
                <a:cubicBezTo>
                  <a:pt x="14831" y="13645"/>
                  <a:pt x="14791" y="13701"/>
                  <a:pt x="14764" y="13748"/>
                </a:cubicBezTo>
                <a:cubicBezTo>
                  <a:pt x="14806" y="13715"/>
                  <a:pt x="14862" y="13670"/>
                  <a:pt x="14922" y="13684"/>
                </a:cubicBezTo>
                <a:cubicBezTo>
                  <a:pt x="14969" y="13695"/>
                  <a:pt x="15049" y="13707"/>
                  <a:pt x="15081" y="13748"/>
                </a:cubicBezTo>
                <a:cubicBezTo>
                  <a:pt x="15134" y="13817"/>
                  <a:pt x="15171" y="13883"/>
                  <a:pt x="15176" y="13970"/>
                </a:cubicBezTo>
                <a:cubicBezTo>
                  <a:pt x="15183" y="14096"/>
                  <a:pt x="15161" y="14202"/>
                  <a:pt x="15113" y="14319"/>
                </a:cubicBezTo>
                <a:cubicBezTo>
                  <a:pt x="15085" y="14388"/>
                  <a:pt x="15018" y="14468"/>
                  <a:pt x="14954" y="14510"/>
                </a:cubicBezTo>
                <a:cubicBezTo>
                  <a:pt x="14887" y="14554"/>
                  <a:pt x="14790" y="14524"/>
                  <a:pt x="14732" y="14478"/>
                </a:cubicBezTo>
                <a:cubicBezTo>
                  <a:pt x="14671" y="14429"/>
                  <a:pt x="14681" y="14457"/>
                  <a:pt x="14668" y="14383"/>
                </a:cubicBezTo>
                <a:cubicBezTo>
                  <a:pt x="14668" y="14372"/>
                  <a:pt x="14668" y="14362"/>
                  <a:pt x="14668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8"/>
          <p:cNvSpPr/>
          <p:nvPr/>
        </p:nvSpPr>
        <p:spPr>
          <a:xfrm>
            <a:off x="1954080" y="4479840"/>
            <a:ext cx="2001960" cy="720720"/>
          </a:xfrm>
          <a:custGeom>
            <a:avLst/>
            <a:gdLst/>
            <a:ahLst/>
            <a:rect l="l" t="t" r="r" b="b"/>
            <a:pathLst>
              <a:path w="5558" h="2001">
                <a:moveTo>
                  <a:pt x="5493" y="12605"/>
                </a:moveTo>
                <a:cubicBezTo>
                  <a:pt x="5461" y="12605"/>
                  <a:pt x="5450" y="12605"/>
                  <a:pt x="5429" y="12605"/>
                </a:cubicBezTo>
                <a:cubicBezTo>
                  <a:pt x="5468" y="12633"/>
                  <a:pt x="5508" y="12665"/>
                  <a:pt x="5556" y="12668"/>
                </a:cubicBezTo>
                <a:cubicBezTo>
                  <a:pt x="5652" y="12675"/>
                  <a:pt x="5781" y="12633"/>
                  <a:pt x="5874" y="12605"/>
                </a:cubicBezTo>
                <a:cubicBezTo>
                  <a:pt x="5990" y="12571"/>
                  <a:pt x="6105" y="12501"/>
                  <a:pt x="6223" y="12478"/>
                </a:cubicBezTo>
                <a:cubicBezTo>
                  <a:pt x="6309" y="12461"/>
                  <a:pt x="6472" y="12458"/>
                  <a:pt x="6540" y="12510"/>
                </a:cubicBezTo>
              </a:path>
              <a:path w="5558" h="2001">
                <a:moveTo>
                  <a:pt x="9112" y="12446"/>
                </a:moveTo>
                <a:cubicBezTo>
                  <a:pt x="9128" y="12510"/>
                  <a:pt x="9143" y="12510"/>
                  <a:pt x="9208" y="12510"/>
                </a:cubicBezTo>
                <a:cubicBezTo>
                  <a:pt x="9281" y="12510"/>
                  <a:pt x="9341" y="12533"/>
                  <a:pt x="9398" y="12541"/>
                </a:cubicBezTo>
                <a:cubicBezTo>
                  <a:pt x="9521" y="12559"/>
                  <a:pt x="9661" y="12558"/>
                  <a:pt x="9779" y="12573"/>
                </a:cubicBezTo>
                <a:cubicBezTo>
                  <a:pt x="10116" y="12616"/>
                  <a:pt x="10597" y="12622"/>
                  <a:pt x="10922" y="12541"/>
                </a:cubicBezTo>
                <a:cubicBezTo>
                  <a:pt x="10954" y="12541"/>
                  <a:pt x="10965" y="12541"/>
                  <a:pt x="10986" y="12541"/>
                </a:cubicBezTo>
              </a:path>
              <a:path w="5558" h="2001">
                <a:moveTo>
                  <a:pt x="5747" y="13272"/>
                </a:moveTo>
                <a:cubicBezTo>
                  <a:pt x="5747" y="13355"/>
                  <a:pt x="5752" y="13416"/>
                  <a:pt x="5778" y="13494"/>
                </a:cubicBezTo>
                <a:cubicBezTo>
                  <a:pt x="5816" y="13610"/>
                  <a:pt x="5834" y="13725"/>
                  <a:pt x="5874" y="13843"/>
                </a:cubicBezTo>
                <a:cubicBezTo>
                  <a:pt x="5910" y="13950"/>
                  <a:pt x="5942" y="14056"/>
                  <a:pt x="5969" y="14160"/>
                </a:cubicBezTo>
                <a:cubicBezTo>
                  <a:pt x="5990" y="14240"/>
                  <a:pt x="6009" y="14314"/>
                  <a:pt x="6032" y="14383"/>
                </a:cubicBezTo>
                <a:cubicBezTo>
                  <a:pt x="6032" y="14393"/>
                  <a:pt x="6032" y="14404"/>
                  <a:pt x="6032" y="14414"/>
                </a:cubicBezTo>
                <a:cubicBezTo>
                  <a:pt x="6047" y="14354"/>
                  <a:pt x="6087" y="14291"/>
                  <a:pt x="6096" y="14224"/>
                </a:cubicBezTo>
                <a:cubicBezTo>
                  <a:pt x="6113" y="14093"/>
                  <a:pt x="6172" y="13973"/>
                  <a:pt x="6191" y="13843"/>
                </a:cubicBezTo>
                <a:cubicBezTo>
                  <a:pt x="6212" y="13699"/>
                  <a:pt x="6249" y="13624"/>
                  <a:pt x="6318" y="13494"/>
                </a:cubicBezTo>
                <a:cubicBezTo>
                  <a:pt x="6362" y="13410"/>
                  <a:pt x="6377" y="13340"/>
                  <a:pt x="6445" y="13272"/>
                </a:cubicBezTo>
                <a:cubicBezTo>
                  <a:pt x="6487" y="13230"/>
                  <a:pt x="6515" y="13240"/>
                  <a:pt x="6572" y="13240"/>
                </a:cubicBezTo>
              </a:path>
              <a:path w="5558" h="2001">
                <a:moveTo>
                  <a:pt x="6668" y="13462"/>
                </a:moveTo>
                <a:cubicBezTo>
                  <a:pt x="6805" y="13462"/>
                  <a:pt x="6943" y="13462"/>
                  <a:pt x="7080" y="13462"/>
                </a:cubicBezTo>
              </a:path>
              <a:path w="5558" h="2001">
                <a:moveTo>
                  <a:pt x="6699" y="13875"/>
                </a:moveTo>
                <a:cubicBezTo>
                  <a:pt x="6647" y="13875"/>
                  <a:pt x="6742" y="13875"/>
                  <a:pt x="6794" y="13875"/>
                </a:cubicBezTo>
                <a:cubicBezTo>
                  <a:pt x="6921" y="13875"/>
                  <a:pt x="7049" y="13875"/>
                  <a:pt x="7176" y="13875"/>
                </a:cubicBezTo>
              </a:path>
              <a:path w="5558" h="2001">
                <a:moveTo>
                  <a:pt x="7525" y="13272"/>
                </a:moveTo>
                <a:cubicBezTo>
                  <a:pt x="7525" y="13364"/>
                  <a:pt x="7503" y="13443"/>
                  <a:pt x="7493" y="13526"/>
                </a:cubicBezTo>
                <a:cubicBezTo>
                  <a:pt x="7478" y="13643"/>
                  <a:pt x="7444" y="13763"/>
                  <a:pt x="7430" y="13875"/>
                </a:cubicBezTo>
                <a:cubicBezTo>
                  <a:pt x="7421" y="13949"/>
                  <a:pt x="7398" y="14234"/>
                  <a:pt x="7461" y="14256"/>
                </a:cubicBezTo>
              </a:path>
              <a:path w="5558" h="2001">
                <a:moveTo>
                  <a:pt x="7810" y="13367"/>
                </a:moveTo>
                <a:cubicBezTo>
                  <a:pt x="7824" y="13465"/>
                  <a:pt x="7842" y="13541"/>
                  <a:pt x="7842" y="13652"/>
                </a:cubicBezTo>
                <a:cubicBezTo>
                  <a:pt x="7842" y="13796"/>
                  <a:pt x="7859" y="13927"/>
                  <a:pt x="7874" y="14065"/>
                </a:cubicBezTo>
                <a:cubicBezTo>
                  <a:pt x="7883" y="14151"/>
                  <a:pt x="7831" y="14421"/>
                  <a:pt x="7906" y="14446"/>
                </a:cubicBezTo>
              </a:path>
              <a:path w="5558" h="2001">
                <a:moveTo>
                  <a:pt x="7176" y="13303"/>
                </a:moveTo>
                <a:cubicBezTo>
                  <a:pt x="7129" y="13280"/>
                  <a:pt x="7194" y="13266"/>
                  <a:pt x="7239" y="13240"/>
                </a:cubicBezTo>
                <a:cubicBezTo>
                  <a:pt x="7302" y="13203"/>
                  <a:pt x="7338" y="13182"/>
                  <a:pt x="7398" y="13144"/>
                </a:cubicBezTo>
                <a:cubicBezTo>
                  <a:pt x="7443" y="13115"/>
                  <a:pt x="7506" y="13055"/>
                  <a:pt x="7556" y="13049"/>
                </a:cubicBezTo>
                <a:cubicBezTo>
                  <a:pt x="7643" y="13039"/>
                  <a:pt x="7629" y="13103"/>
                  <a:pt x="7652" y="13144"/>
                </a:cubicBezTo>
                <a:cubicBezTo>
                  <a:pt x="7701" y="13234"/>
                  <a:pt x="7686" y="13332"/>
                  <a:pt x="7715" y="13430"/>
                </a:cubicBezTo>
                <a:cubicBezTo>
                  <a:pt x="7734" y="13493"/>
                  <a:pt x="7797" y="13567"/>
                  <a:pt x="7842" y="13589"/>
                </a:cubicBezTo>
                <a:cubicBezTo>
                  <a:pt x="7899" y="13618"/>
                  <a:pt x="7977" y="13650"/>
                  <a:pt x="8033" y="13589"/>
                </a:cubicBezTo>
                <a:cubicBezTo>
                  <a:pt x="8081" y="13536"/>
                  <a:pt x="8117" y="13434"/>
                  <a:pt x="8128" y="13367"/>
                </a:cubicBezTo>
                <a:cubicBezTo>
                  <a:pt x="8128" y="13346"/>
                  <a:pt x="8128" y="13324"/>
                  <a:pt x="8128" y="13303"/>
                </a:cubicBezTo>
              </a:path>
              <a:path w="5558" h="2001">
                <a:moveTo>
                  <a:pt x="8350" y="13335"/>
                </a:moveTo>
                <a:cubicBezTo>
                  <a:pt x="8327" y="13418"/>
                  <a:pt x="8293" y="13532"/>
                  <a:pt x="8318" y="13621"/>
                </a:cubicBezTo>
                <a:cubicBezTo>
                  <a:pt x="8348" y="13730"/>
                  <a:pt x="8369" y="13856"/>
                  <a:pt x="8382" y="13970"/>
                </a:cubicBezTo>
                <a:cubicBezTo>
                  <a:pt x="8392" y="14063"/>
                  <a:pt x="8408" y="14165"/>
                  <a:pt x="8414" y="14256"/>
                </a:cubicBezTo>
                <a:cubicBezTo>
                  <a:pt x="8414" y="14308"/>
                  <a:pt x="8414" y="14340"/>
                  <a:pt x="8414" y="14288"/>
                </a:cubicBezTo>
                <a:cubicBezTo>
                  <a:pt x="8414" y="14196"/>
                  <a:pt x="8392" y="14117"/>
                  <a:pt x="8382" y="14034"/>
                </a:cubicBezTo>
                <a:cubicBezTo>
                  <a:pt x="8365" y="13901"/>
                  <a:pt x="8408" y="13782"/>
                  <a:pt x="8414" y="13652"/>
                </a:cubicBezTo>
                <a:cubicBezTo>
                  <a:pt x="8418" y="13571"/>
                  <a:pt x="8417" y="13504"/>
                  <a:pt x="8446" y="13430"/>
                </a:cubicBezTo>
                <a:cubicBezTo>
                  <a:pt x="8458" y="13399"/>
                  <a:pt x="8518" y="13279"/>
                  <a:pt x="8572" y="13303"/>
                </a:cubicBezTo>
                <a:cubicBezTo>
                  <a:pt x="8623" y="13326"/>
                  <a:pt x="8608" y="13335"/>
                  <a:pt x="8668" y="13335"/>
                </a:cubicBezTo>
              </a:path>
              <a:path w="5558" h="2001">
                <a:moveTo>
                  <a:pt x="8731" y="13018"/>
                </a:moveTo>
                <a:cubicBezTo>
                  <a:pt x="8745" y="12963"/>
                  <a:pt x="8783" y="12933"/>
                  <a:pt x="8826" y="12890"/>
                </a:cubicBezTo>
                <a:cubicBezTo>
                  <a:pt x="8858" y="12858"/>
                  <a:pt x="8910" y="12832"/>
                  <a:pt x="8954" y="12827"/>
                </a:cubicBezTo>
                <a:cubicBezTo>
                  <a:pt x="9012" y="12820"/>
                  <a:pt x="9042" y="12830"/>
                  <a:pt x="9049" y="12890"/>
                </a:cubicBezTo>
                <a:cubicBezTo>
                  <a:pt x="9058" y="12971"/>
                  <a:pt x="9051" y="13041"/>
                  <a:pt x="9017" y="13113"/>
                </a:cubicBezTo>
                <a:cubicBezTo>
                  <a:pt x="8990" y="13169"/>
                  <a:pt x="8951" y="13255"/>
                  <a:pt x="8922" y="13303"/>
                </a:cubicBezTo>
                <a:cubicBezTo>
                  <a:pt x="8878" y="13376"/>
                  <a:pt x="8872" y="13345"/>
                  <a:pt x="8858" y="13430"/>
                </a:cubicBezTo>
                <a:cubicBezTo>
                  <a:pt x="8915" y="13393"/>
                  <a:pt x="8877" y="13367"/>
                  <a:pt x="8985" y="13367"/>
                </a:cubicBezTo>
                <a:cubicBezTo>
                  <a:pt x="9078" y="13367"/>
                  <a:pt x="9234" y="13397"/>
                  <a:pt x="9303" y="13335"/>
                </a:cubicBezTo>
                <a:cubicBezTo>
                  <a:pt x="9313" y="13324"/>
                  <a:pt x="9324" y="13314"/>
                  <a:pt x="9334" y="13303"/>
                </a:cubicBezTo>
              </a:path>
              <a:path w="5558" h="2001">
                <a:moveTo>
                  <a:pt x="9462" y="12732"/>
                </a:moveTo>
                <a:cubicBezTo>
                  <a:pt x="9462" y="12806"/>
                  <a:pt x="9462" y="12816"/>
                  <a:pt x="9462" y="12890"/>
                </a:cubicBezTo>
                <a:cubicBezTo>
                  <a:pt x="9462" y="13043"/>
                  <a:pt x="9441" y="13186"/>
                  <a:pt x="9430" y="13335"/>
                </a:cubicBezTo>
                <a:cubicBezTo>
                  <a:pt x="9416" y="13526"/>
                  <a:pt x="9414" y="13718"/>
                  <a:pt x="9398" y="13906"/>
                </a:cubicBezTo>
                <a:cubicBezTo>
                  <a:pt x="9387" y="14034"/>
                  <a:pt x="9405" y="14166"/>
                  <a:pt x="9366" y="14288"/>
                </a:cubicBezTo>
                <a:cubicBezTo>
                  <a:pt x="9355" y="14309"/>
                  <a:pt x="9345" y="14330"/>
                  <a:pt x="9334" y="14351"/>
                </a:cubicBezTo>
                <a:cubicBezTo>
                  <a:pt x="9352" y="14298"/>
                  <a:pt x="9359" y="14311"/>
                  <a:pt x="9366" y="14256"/>
                </a:cubicBezTo>
                <a:cubicBezTo>
                  <a:pt x="9382" y="14130"/>
                  <a:pt x="9427" y="14031"/>
                  <a:pt x="9462" y="13906"/>
                </a:cubicBezTo>
                <a:cubicBezTo>
                  <a:pt x="9493" y="13795"/>
                  <a:pt x="9514" y="13652"/>
                  <a:pt x="9588" y="13557"/>
                </a:cubicBezTo>
                <a:cubicBezTo>
                  <a:pt x="9641" y="13488"/>
                  <a:pt x="9690" y="13476"/>
                  <a:pt x="9747" y="13430"/>
                </a:cubicBezTo>
                <a:cubicBezTo>
                  <a:pt x="9765" y="13471"/>
                  <a:pt x="9802" y="13540"/>
                  <a:pt x="9811" y="13589"/>
                </a:cubicBezTo>
                <a:cubicBezTo>
                  <a:pt x="9832" y="13707"/>
                  <a:pt x="9831" y="13821"/>
                  <a:pt x="9874" y="13938"/>
                </a:cubicBezTo>
                <a:cubicBezTo>
                  <a:pt x="9913" y="14044"/>
                  <a:pt x="9937" y="14135"/>
                  <a:pt x="10033" y="14192"/>
                </a:cubicBezTo>
                <a:cubicBezTo>
                  <a:pt x="10105" y="14235"/>
                  <a:pt x="10173" y="14274"/>
                  <a:pt x="10255" y="14224"/>
                </a:cubicBezTo>
                <a:cubicBezTo>
                  <a:pt x="10333" y="14176"/>
                  <a:pt x="10401" y="14025"/>
                  <a:pt x="10414" y="13938"/>
                </a:cubicBezTo>
                <a:cubicBezTo>
                  <a:pt x="10414" y="13843"/>
                  <a:pt x="10414" y="13811"/>
                  <a:pt x="10414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9"/>
          <p:cNvSpPr/>
          <p:nvPr/>
        </p:nvSpPr>
        <p:spPr>
          <a:xfrm>
            <a:off x="5154480" y="4435560"/>
            <a:ext cx="2503800" cy="1828800"/>
          </a:xfrm>
          <a:custGeom>
            <a:avLst/>
            <a:gdLst/>
            <a:ahLst/>
            <a:rect l="l" t="t" r="r" b="b"/>
            <a:pathLst>
              <a:path w="6954" h="5081">
                <a:moveTo>
                  <a:pt x="15176" y="12382"/>
                </a:moveTo>
                <a:cubicBezTo>
                  <a:pt x="15217" y="12352"/>
                  <a:pt x="15292" y="12328"/>
                  <a:pt x="15335" y="12319"/>
                </a:cubicBezTo>
                <a:cubicBezTo>
                  <a:pt x="15429" y="12300"/>
                  <a:pt x="15505" y="12336"/>
                  <a:pt x="15589" y="12351"/>
                </a:cubicBezTo>
                <a:cubicBezTo>
                  <a:pt x="15668" y="12365"/>
                  <a:pt x="15766" y="12360"/>
                  <a:pt x="15843" y="12382"/>
                </a:cubicBezTo>
                <a:cubicBezTo>
                  <a:pt x="15928" y="12406"/>
                  <a:pt x="15972" y="12414"/>
                  <a:pt x="16066" y="12414"/>
                </a:cubicBezTo>
              </a:path>
              <a:path w="6954" h="5081">
                <a:moveTo>
                  <a:pt x="17113" y="14224"/>
                </a:moveTo>
                <a:cubicBezTo>
                  <a:pt x="17103" y="14224"/>
                  <a:pt x="17092" y="14224"/>
                  <a:pt x="17082" y="14224"/>
                </a:cubicBezTo>
                <a:cubicBezTo>
                  <a:pt x="17121" y="14248"/>
                  <a:pt x="17116" y="14252"/>
                  <a:pt x="17177" y="14256"/>
                </a:cubicBezTo>
                <a:cubicBezTo>
                  <a:pt x="17263" y="14261"/>
                  <a:pt x="17323" y="14243"/>
                  <a:pt x="17399" y="14224"/>
                </a:cubicBezTo>
                <a:cubicBezTo>
                  <a:pt x="17509" y="14196"/>
                  <a:pt x="17602" y="14142"/>
                  <a:pt x="17716" y="14129"/>
                </a:cubicBezTo>
                <a:cubicBezTo>
                  <a:pt x="17846" y="14114"/>
                  <a:pt x="17965" y="14097"/>
                  <a:pt x="18098" y="14097"/>
                </a:cubicBezTo>
                <a:cubicBezTo>
                  <a:pt x="18251" y="14097"/>
                  <a:pt x="18392" y="14078"/>
                  <a:pt x="18542" y="14065"/>
                </a:cubicBezTo>
                <a:cubicBezTo>
                  <a:pt x="18753" y="14047"/>
                  <a:pt x="18970" y="14016"/>
                  <a:pt x="19177" y="13970"/>
                </a:cubicBezTo>
                <a:cubicBezTo>
                  <a:pt x="19388" y="13923"/>
                  <a:pt x="19628" y="13912"/>
                  <a:pt x="19844" y="13906"/>
                </a:cubicBezTo>
                <a:cubicBezTo>
                  <a:pt x="20021" y="13901"/>
                  <a:pt x="20182" y="13915"/>
                  <a:pt x="20352" y="13938"/>
                </a:cubicBezTo>
                <a:cubicBezTo>
                  <a:pt x="20418" y="13938"/>
                  <a:pt x="20441" y="13939"/>
                  <a:pt x="20479" y="13970"/>
                </a:cubicBezTo>
              </a:path>
              <a:path w="6954" h="5081">
                <a:moveTo>
                  <a:pt x="18383" y="14192"/>
                </a:moveTo>
                <a:cubicBezTo>
                  <a:pt x="18383" y="14250"/>
                  <a:pt x="18391" y="14275"/>
                  <a:pt x="18352" y="14319"/>
                </a:cubicBezTo>
                <a:cubicBezTo>
                  <a:pt x="18315" y="14360"/>
                  <a:pt x="18264" y="14357"/>
                  <a:pt x="18224" y="14383"/>
                </a:cubicBezTo>
                <a:cubicBezTo>
                  <a:pt x="18170" y="14419"/>
                  <a:pt x="18132" y="14414"/>
                  <a:pt x="18066" y="14414"/>
                </a:cubicBezTo>
                <a:cubicBezTo>
                  <a:pt x="18013" y="14414"/>
                  <a:pt x="17963" y="14336"/>
                  <a:pt x="17939" y="14383"/>
                </a:cubicBezTo>
                <a:cubicBezTo>
                  <a:pt x="17915" y="14432"/>
                  <a:pt x="17916" y="14583"/>
                  <a:pt x="17907" y="14637"/>
                </a:cubicBezTo>
                <a:cubicBezTo>
                  <a:pt x="17896" y="14702"/>
                  <a:pt x="17875" y="14893"/>
                  <a:pt x="17875" y="14827"/>
                </a:cubicBezTo>
                <a:cubicBezTo>
                  <a:pt x="17875" y="14782"/>
                  <a:pt x="17931" y="14696"/>
                  <a:pt x="17970" y="14668"/>
                </a:cubicBezTo>
                <a:cubicBezTo>
                  <a:pt x="18017" y="14634"/>
                  <a:pt x="18096" y="14578"/>
                  <a:pt x="18161" y="14605"/>
                </a:cubicBezTo>
                <a:cubicBezTo>
                  <a:pt x="18215" y="14628"/>
                  <a:pt x="18264" y="14718"/>
                  <a:pt x="18288" y="14764"/>
                </a:cubicBezTo>
                <a:cubicBezTo>
                  <a:pt x="18346" y="14872"/>
                  <a:pt x="18305" y="14942"/>
                  <a:pt x="18288" y="15050"/>
                </a:cubicBezTo>
                <a:cubicBezTo>
                  <a:pt x="18271" y="15155"/>
                  <a:pt x="18246" y="15215"/>
                  <a:pt x="18193" y="15304"/>
                </a:cubicBezTo>
                <a:cubicBezTo>
                  <a:pt x="18176" y="15332"/>
                  <a:pt x="18117" y="15422"/>
                  <a:pt x="18066" y="15399"/>
                </a:cubicBezTo>
                <a:cubicBezTo>
                  <a:pt x="18032" y="15384"/>
                  <a:pt x="17957" y="15344"/>
                  <a:pt x="17939" y="15304"/>
                </a:cubicBezTo>
                <a:cubicBezTo>
                  <a:pt x="17922" y="15266"/>
                  <a:pt x="17939" y="15148"/>
                  <a:pt x="17939" y="15113"/>
                </a:cubicBezTo>
              </a:path>
              <a:path w="6954" h="5081">
                <a:moveTo>
                  <a:pt x="18510" y="14573"/>
                </a:moveTo>
                <a:cubicBezTo>
                  <a:pt x="18448" y="14615"/>
                  <a:pt x="18494" y="14708"/>
                  <a:pt x="18478" y="14796"/>
                </a:cubicBezTo>
                <a:cubicBezTo>
                  <a:pt x="18455" y="14918"/>
                  <a:pt x="18447" y="15019"/>
                  <a:pt x="18447" y="15145"/>
                </a:cubicBezTo>
                <a:cubicBezTo>
                  <a:pt x="18447" y="15213"/>
                  <a:pt x="18477" y="15285"/>
                  <a:pt x="18510" y="15335"/>
                </a:cubicBezTo>
                <a:cubicBezTo>
                  <a:pt x="18550" y="15394"/>
                  <a:pt x="18603" y="15368"/>
                  <a:pt x="18606" y="15367"/>
                </a:cubicBezTo>
                <a:cubicBezTo>
                  <a:pt x="18675" y="15343"/>
                  <a:pt x="18708" y="15284"/>
                  <a:pt x="18732" y="15208"/>
                </a:cubicBezTo>
                <a:cubicBezTo>
                  <a:pt x="18773" y="15081"/>
                  <a:pt x="18791" y="14928"/>
                  <a:pt x="18796" y="14796"/>
                </a:cubicBezTo>
                <a:cubicBezTo>
                  <a:pt x="18801" y="14672"/>
                  <a:pt x="18796" y="14552"/>
                  <a:pt x="18764" y="14446"/>
                </a:cubicBezTo>
                <a:cubicBezTo>
                  <a:pt x="18764" y="14435"/>
                  <a:pt x="18764" y="14425"/>
                  <a:pt x="18764" y="14414"/>
                </a:cubicBezTo>
                <a:cubicBezTo>
                  <a:pt x="18687" y="14414"/>
                  <a:pt x="18699" y="14450"/>
                  <a:pt x="18637" y="14478"/>
                </a:cubicBezTo>
                <a:cubicBezTo>
                  <a:pt x="18601" y="14478"/>
                  <a:pt x="18588" y="14481"/>
                  <a:pt x="18574" y="14510"/>
                </a:cubicBezTo>
              </a:path>
              <a:path w="6954" h="5081">
                <a:moveTo>
                  <a:pt x="19050" y="15113"/>
                </a:moveTo>
                <a:cubicBezTo>
                  <a:pt x="19018" y="15113"/>
                  <a:pt x="19007" y="15113"/>
                  <a:pt x="19018" y="15145"/>
                </a:cubicBezTo>
              </a:path>
              <a:path w="6954" h="5081">
                <a:moveTo>
                  <a:pt x="19209" y="14414"/>
                </a:moveTo>
                <a:cubicBezTo>
                  <a:pt x="19209" y="14356"/>
                  <a:pt x="19213" y="14288"/>
                  <a:pt x="19272" y="14256"/>
                </a:cubicBezTo>
                <a:cubicBezTo>
                  <a:pt x="19309" y="14236"/>
                  <a:pt x="19358" y="14178"/>
                  <a:pt x="19399" y="14160"/>
                </a:cubicBezTo>
                <a:cubicBezTo>
                  <a:pt x="19445" y="14139"/>
                  <a:pt x="19508" y="14184"/>
                  <a:pt x="19526" y="14224"/>
                </a:cubicBezTo>
                <a:cubicBezTo>
                  <a:pt x="19554" y="14288"/>
                  <a:pt x="19518" y="14390"/>
                  <a:pt x="19494" y="14446"/>
                </a:cubicBezTo>
                <a:cubicBezTo>
                  <a:pt x="19457" y="14531"/>
                  <a:pt x="19408" y="14664"/>
                  <a:pt x="19336" y="14700"/>
                </a:cubicBezTo>
                <a:cubicBezTo>
                  <a:pt x="19350" y="14645"/>
                  <a:pt x="19388" y="14616"/>
                  <a:pt x="19431" y="14573"/>
                </a:cubicBezTo>
                <a:cubicBezTo>
                  <a:pt x="19473" y="14532"/>
                  <a:pt x="19502" y="14542"/>
                  <a:pt x="19558" y="14542"/>
                </a:cubicBezTo>
                <a:cubicBezTo>
                  <a:pt x="19594" y="14542"/>
                  <a:pt x="19674" y="14598"/>
                  <a:pt x="19685" y="14637"/>
                </a:cubicBezTo>
                <a:cubicBezTo>
                  <a:pt x="19704" y="14704"/>
                  <a:pt x="19738" y="14817"/>
                  <a:pt x="19717" y="14891"/>
                </a:cubicBezTo>
                <a:cubicBezTo>
                  <a:pt x="19686" y="15001"/>
                  <a:pt x="19653" y="15050"/>
                  <a:pt x="19590" y="15145"/>
                </a:cubicBezTo>
                <a:cubicBezTo>
                  <a:pt x="19537" y="15224"/>
                  <a:pt x="19482" y="15256"/>
                  <a:pt x="19399" y="15304"/>
                </a:cubicBezTo>
              </a:path>
              <a:path w="6954" h="5081">
                <a:moveTo>
                  <a:pt x="14319" y="14764"/>
                </a:moveTo>
                <a:cubicBezTo>
                  <a:pt x="14343" y="14776"/>
                  <a:pt x="14371" y="14825"/>
                  <a:pt x="14446" y="14796"/>
                </a:cubicBezTo>
                <a:cubicBezTo>
                  <a:pt x="14519" y="14768"/>
                  <a:pt x="14643" y="14712"/>
                  <a:pt x="14732" y="14700"/>
                </a:cubicBezTo>
                <a:cubicBezTo>
                  <a:pt x="14882" y="14681"/>
                  <a:pt x="14998" y="14647"/>
                  <a:pt x="15145" y="14605"/>
                </a:cubicBezTo>
                <a:cubicBezTo>
                  <a:pt x="15303" y="14560"/>
                  <a:pt x="15438" y="14507"/>
                  <a:pt x="15589" y="14446"/>
                </a:cubicBezTo>
                <a:cubicBezTo>
                  <a:pt x="15694" y="14404"/>
                  <a:pt x="15804" y="14384"/>
                  <a:pt x="15907" y="14351"/>
                </a:cubicBezTo>
                <a:cubicBezTo>
                  <a:pt x="16014" y="14317"/>
                  <a:pt x="16026" y="14316"/>
                  <a:pt x="16129" y="14351"/>
                </a:cubicBezTo>
              </a:path>
              <a:path w="6954" h="5081">
                <a:moveTo>
                  <a:pt x="14796" y="15018"/>
                </a:moveTo>
                <a:cubicBezTo>
                  <a:pt x="14746" y="15084"/>
                  <a:pt x="14723" y="15166"/>
                  <a:pt x="14668" y="15240"/>
                </a:cubicBezTo>
                <a:cubicBezTo>
                  <a:pt x="14636" y="15283"/>
                  <a:pt x="14593" y="15330"/>
                  <a:pt x="14542" y="15335"/>
                </a:cubicBezTo>
                <a:cubicBezTo>
                  <a:pt x="14490" y="15341"/>
                  <a:pt x="14435" y="15335"/>
                  <a:pt x="14383" y="15335"/>
                </a:cubicBezTo>
                <a:cubicBezTo>
                  <a:pt x="14383" y="15483"/>
                  <a:pt x="14383" y="15632"/>
                  <a:pt x="14383" y="15780"/>
                </a:cubicBezTo>
                <a:cubicBezTo>
                  <a:pt x="14431" y="15768"/>
                  <a:pt x="14471" y="15750"/>
                  <a:pt x="14510" y="15716"/>
                </a:cubicBezTo>
                <a:cubicBezTo>
                  <a:pt x="14535" y="15694"/>
                  <a:pt x="14650" y="15649"/>
                  <a:pt x="14668" y="15653"/>
                </a:cubicBezTo>
                <a:cubicBezTo>
                  <a:pt x="14710" y="15661"/>
                  <a:pt x="14764" y="15715"/>
                  <a:pt x="14796" y="15748"/>
                </a:cubicBezTo>
                <a:cubicBezTo>
                  <a:pt x="14873" y="15826"/>
                  <a:pt x="14859" y="15898"/>
                  <a:pt x="14859" y="16002"/>
                </a:cubicBezTo>
                <a:cubicBezTo>
                  <a:pt x="14859" y="16124"/>
                  <a:pt x="14829" y="16178"/>
                  <a:pt x="14796" y="16288"/>
                </a:cubicBezTo>
                <a:cubicBezTo>
                  <a:pt x="14777" y="16350"/>
                  <a:pt x="14766" y="16351"/>
                  <a:pt x="14700" y="16351"/>
                </a:cubicBezTo>
              </a:path>
              <a:path w="6954" h="5081">
                <a:moveTo>
                  <a:pt x="15018" y="15208"/>
                </a:moveTo>
                <a:cubicBezTo>
                  <a:pt x="15018" y="15467"/>
                  <a:pt x="14962" y="15790"/>
                  <a:pt x="15050" y="16034"/>
                </a:cubicBezTo>
                <a:cubicBezTo>
                  <a:pt x="15079" y="16116"/>
                  <a:pt x="15120" y="16124"/>
                  <a:pt x="15176" y="16161"/>
                </a:cubicBezTo>
                <a:cubicBezTo>
                  <a:pt x="15221" y="16191"/>
                  <a:pt x="15274" y="16160"/>
                  <a:pt x="15304" y="16097"/>
                </a:cubicBezTo>
                <a:cubicBezTo>
                  <a:pt x="15353" y="15993"/>
                  <a:pt x="15357" y="15825"/>
                  <a:pt x="15367" y="15716"/>
                </a:cubicBezTo>
                <a:cubicBezTo>
                  <a:pt x="15379" y="15582"/>
                  <a:pt x="15352" y="15393"/>
                  <a:pt x="15304" y="15272"/>
                </a:cubicBezTo>
                <a:cubicBezTo>
                  <a:pt x="15278" y="15206"/>
                  <a:pt x="15250" y="15121"/>
                  <a:pt x="15176" y="15113"/>
                </a:cubicBezTo>
                <a:cubicBezTo>
                  <a:pt x="15130" y="15108"/>
                  <a:pt x="15155" y="15131"/>
                  <a:pt x="15113" y="15145"/>
                </a:cubicBezTo>
              </a:path>
              <a:path w="6954" h="5081">
                <a:moveTo>
                  <a:pt x="15621" y="15748"/>
                </a:moveTo>
                <a:cubicBezTo>
                  <a:pt x="15621" y="15784"/>
                  <a:pt x="15618" y="15798"/>
                  <a:pt x="15589" y="15812"/>
                </a:cubicBezTo>
              </a:path>
              <a:path w="6954" h="5081">
                <a:moveTo>
                  <a:pt x="15748" y="14954"/>
                </a:moveTo>
                <a:cubicBezTo>
                  <a:pt x="15693" y="14936"/>
                  <a:pt x="15726" y="14909"/>
                  <a:pt x="15748" y="14859"/>
                </a:cubicBezTo>
                <a:cubicBezTo>
                  <a:pt x="15783" y="14779"/>
                  <a:pt x="15855" y="14705"/>
                  <a:pt x="15907" y="14637"/>
                </a:cubicBezTo>
                <a:cubicBezTo>
                  <a:pt x="15937" y="14598"/>
                  <a:pt x="16006" y="14582"/>
                  <a:pt x="16034" y="14637"/>
                </a:cubicBezTo>
                <a:cubicBezTo>
                  <a:pt x="16070" y="14707"/>
                  <a:pt x="16009" y="14827"/>
                  <a:pt x="16002" y="14891"/>
                </a:cubicBezTo>
                <a:cubicBezTo>
                  <a:pt x="15990" y="14998"/>
                  <a:pt x="15974" y="15141"/>
                  <a:pt x="15938" y="15240"/>
                </a:cubicBezTo>
                <a:cubicBezTo>
                  <a:pt x="15928" y="15251"/>
                  <a:pt x="15917" y="15261"/>
                  <a:pt x="15907" y="15272"/>
                </a:cubicBezTo>
                <a:cubicBezTo>
                  <a:pt x="15907" y="15203"/>
                  <a:pt x="15922" y="15166"/>
                  <a:pt x="15970" y="15113"/>
                </a:cubicBezTo>
                <a:cubicBezTo>
                  <a:pt x="15988" y="15092"/>
                  <a:pt x="16068" y="15038"/>
                  <a:pt x="16097" y="15050"/>
                </a:cubicBezTo>
                <a:cubicBezTo>
                  <a:pt x="16173" y="15083"/>
                  <a:pt x="16199" y="15115"/>
                  <a:pt x="16224" y="15208"/>
                </a:cubicBezTo>
                <a:cubicBezTo>
                  <a:pt x="16254" y="15323"/>
                  <a:pt x="16241" y="15343"/>
                  <a:pt x="16224" y="15462"/>
                </a:cubicBezTo>
                <a:cubicBezTo>
                  <a:pt x="16213" y="15536"/>
                  <a:pt x="16209" y="15628"/>
                  <a:pt x="16161" y="15684"/>
                </a:cubicBezTo>
                <a:cubicBezTo>
                  <a:pt x="16083" y="15774"/>
                  <a:pt x="16057" y="15770"/>
                  <a:pt x="15970" y="15812"/>
                </a:cubicBezTo>
                <a:cubicBezTo>
                  <a:pt x="15917" y="15838"/>
                  <a:pt x="15908" y="15843"/>
                  <a:pt x="15843" y="15843"/>
                </a:cubicBezTo>
              </a:path>
              <a:path w="6954" h="5081">
                <a:moveTo>
                  <a:pt x="16796" y="15716"/>
                </a:moveTo>
                <a:cubicBezTo>
                  <a:pt x="16818" y="15782"/>
                  <a:pt x="16850" y="15864"/>
                  <a:pt x="16859" y="15938"/>
                </a:cubicBezTo>
                <a:cubicBezTo>
                  <a:pt x="16878" y="16093"/>
                  <a:pt x="16887" y="16260"/>
                  <a:pt x="16891" y="16415"/>
                </a:cubicBezTo>
                <a:cubicBezTo>
                  <a:pt x="16896" y="16618"/>
                  <a:pt x="16918" y="16816"/>
                  <a:pt x="16923" y="17018"/>
                </a:cubicBezTo>
                <a:cubicBezTo>
                  <a:pt x="16926" y="17139"/>
                  <a:pt x="16899" y="17247"/>
                  <a:pt x="16891" y="17367"/>
                </a:cubicBezTo>
                <a:cubicBezTo>
                  <a:pt x="16909" y="17314"/>
                  <a:pt x="16916" y="17327"/>
                  <a:pt x="16923" y="17272"/>
                </a:cubicBezTo>
                <a:cubicBezTo>
                  <a:pt x="16939" y="17153"/>
                  <a:pt x="16949" y="16998"/>
                  <a:pt x="17018" y="16891"/>
                </a:cubicBezTo>
                <a:cubicBezTo>
                  <a:pt x="17072" y="16806"/>
                  <a:pt x="17136" y="16729"/>
                  <a:pt x="17208" y="16669"/>
                </a:cubicBezTo>
                <a:cubicBezTo>
                  <a:pt x="17246" y="16637"/>
                  <a:pt x="17282" y="16625"/>
                  <a:pt x="17336" y="16637"/>
                </a:cubicBezTo>
                <a:cubicBezTo>
                  <a:pt x="17445" y="16662"/>
                  <a:pt x="17454" y="16774"/>
                  <a:pt x="17494" y="16859"/>
                </a:cubicBezTo>
                <a:cubicBezTo>
                  <a:pt x="17538" y="16951"/>
                  <a:pt x="17602" y="17043"/>
                  <a:pt x="17621" y="17145"/>
                </a:cubicBezTo>
                <a:cubicBezTo>
                  <a:pt x="17635" y="17221"/>
                  <a:pt x="17654" y="17336"/>
                  <a:pt x="17748" y="17367"/>
                </a:cubicBezTo>
                <a:cubicBezTo>
                  <a:pt x="17802" y="17385"/>
                  <a:pt x="17835" y="17357"/>
                  <a:pt x="17875" y="17336"/>
                </a:cubicBezTo>
                <a:cubicBezTo>
                  <a:pt x="17982" y="17279"/>
                  <a:pt x="17992" y="17227"/>
                  <a:pt x="18034" y="17113"/>
                </a:cubicBezTo>
              </a:path>
              <a:path w="6954" h="5081">
                <a:moveTo>
                  <a:pt x="18066" y="16351"/>
                </a:moveTo>
                <a:cubicBezTo>
                  <a:pt x="18141" y="16351"/>
                  <a:pt x="18193" y="16338"/>
                  <a:pt x="18256" y="16320"/>
                </a:cubicBezTo>
                <a:cubicBezTo>
                  <a:pt x="18303" y="16306"/>
                  <a:pt x="18371" y="16291"/>
                  <a:pt x="18415" y="16288"/>
                </a:cubicBezTo>
                <a:cubicBezTo>
                  <a:pt x="18468" y="16288"/>
                  <a:pt x="18478" y="16288"/>
                  <a:pt x="18510" y="16288"/>
                </a:cubicBezTo>
              </a:path>
              <a:path w="6954" h="5081">
                <a:moveTo>
                  <a:pt x="18256" y="16859"/>
                </a:moveTo>
                <a:cubicBezTo>
                  <a:pt x="18245" y="16859"/>
                  <a:pt x="18235" y="16859"/>
                  <a:pt x="18224" y="16859"/>
                </a:cubicBezTo>
                <a:cubicBezTo>
                  <a:pt x="18339" y="16859"/>
                  <a:pt x="18434" y="16852"/>
                  <a:pt x="18542" y="16828"/>
                </a:cubicBezTo>
                <a:cubicBezTo>
                  <a:pt x="18587" y="16828"/>
                  <a:pt x="18609" y="16822"/>
                  <a:pt x="18637" y="16796"/>
                </a:cubicBezTo>
              </a:path>
              <a:path w="6954" h="5081">
                <a:moveTo>
                  <a:pt x="19209" y="15526"/>
                </a:moveTo>
                <a:cubicBezTo>
                  <a:pt x="19192" y="15578"/>
                  <a:pt x="19195" y="15630"/>
                  <a:pt x="19177" y="15684"/>
                </a:cubicBezTo>
                <a:cubicBezTo>
                  <a:pt x="19143" y="15787"/>
                  <a:pt x="19165" y="15864"/>
                  <a:pt x="19145" y="15970"/>
                </a:cubicBezTo>
                <a:cubicBezTo>
                  <a:pt x="19118" y="16112"/>
                  <a:pt x="19093" y="16267"/>
                  <a:pt x="19114" y="16415"/>
                </a:cubicBezTo>
                <a:cubicBezTo>
                  <a:pt x="19134" y="16559"/>
                  <a:pt x="19129" y="16723"/>
                  <a:pt x="19177" y="16859"/>
                </a:cubicBezTo>
                <a:cubicBezTo>
                  <a:pt x="19207" y="16944"/>
                  <a:pt x="19218" y="17035"/>
                  <a:pt x="19272" y="17113"/>
                </a:cubicBezTo>
                <a:cubicBezTo>
                  <a:pt x="19298" y="17150"/>
                  <a:pt x="19387" y="17180"/>
                  <a:pt x="19431" y="17177"/>
                </a:cubicBezTo>
                <a:cubicBezTo>
                  <a:pt x="19485" y="17174"/>
                  <a:pt x="19535" y="17093"/>
                  <a:pt x="19558" y="17050"/>
                </a:cubicBezTo>
                <a:cubicBezTo>
                  <a:pt x="19626" y="16923"/>
                  <a:pt x="19626" y="16837"/>
                  <a:pt x="19653" y="16700"/>
                </a:cubicBezTo>
                <a:cubicBezTo>
                  <a:pt x="19679" y="16569"/>
                  <a:pt x="19685" y="16456"/>
                  <a:pt x="19685" y="16320"/>
                </a:cubicBezTo>
                <a:cubicBezTo>
                  <a:pt x="19685" y="16277"/>
                  <a:pt x="19685" y="16256"/>
                  <a:pt x="19685" y="16224"/>
                </a:cubicBezTo>
                <a:cubicBezTo>
                  <a:pt x="19653" y="16264"/>
                  <a:pt x="19623" y="16339"/>
                  <a:pt x="19590" y="16415"/>
                </a:cubicBezTo>
                <a:cubicBezTo>
                  <a:pt x="19539" y="16532"/>
                  <a:pt x="19552" y="16641"/>
                  <a:pt x="19526" y="16764"/>
                </a:cubicBezTo>
                <a:cubicBezTo>
                  <a:pt x="19500" y="16888"/>
                  <a:pt x="19486" y="16989"/>
                  <a:pt x="19526" y="17113"/>
                </a:cubicBezTo>
                <a:cubicBezTo>
                  <a:pt x="19552" y="17165"/>
                  <a:pt x="19563" y="17173"/>
                  <a:pt x="19558" y="17208"/>
                </a:cubicBezTo>
              </a:path>
              <a:path w="6954" h="5081">
                <a:moveTo>
                  <a:pt x="20161" y="16828"/>
                </a:moveTo>
                <a:cubicBezTo>
                  <a:pt x="20121" y="16881"/>
                  <a:pt x="20130" y="16915"/>
                  <a:pt x="20130" y="16986"/>
                </a:cubicBezTo>
              </a:path>
              <a:path w="6954" h="5081">
                <a:moveTo>
                  <a:pt x="20288" y="15684"/>
                </a:moveTo>
                <a:cubicBezTo>
                  <a:pt x="20261" y="15591"/>
                  <a:pt x="20297" y="15569"/>
                  <a:pt x="20320" y="15462"/>
                </a:cubicBezTo>
                <a:cubicBezTo>
                  <a:pt x="20340" y="15368"/>
                  <a:pt x="20370" y="15297"/>
                  <a:pt x="20415" y="15208"/>
                </a:cubicBezTo>
                <a:cubicBezTo>
                  <a:pt x="20448" y="15141"/>
                  <a:pt x="20488" y="15077"/>
                  <a:pt x="20574" y="15081"/>
                </a:cubicBezTo>
                <a:cubicBezTo>
                  <a:pt x="20650" y="15085"/>
                  <a:pt x="20690" y="15205"/>
                  <a:pt x="20701" y="15272"/>
                </a:cubicBezTo>
                <a:cubicBezTo>
                  <a:pt x="20736" y="15480"/>
                  <a:pt x="20685" y="15703"/>
                  <a:pt x="20669" y="15907"/>
                </a:cubicBezTo>
                <a:cubicBezTo>
                  <a:pt x="20651" y="16136"/>
                  <a:pt x="20632" y="16383"/>
                  <a:pt x="20574" y="16605"/>
                </a:cubicBezTo>
                <a:cubicBezTo>
                  <a:pt x="20547" y="16711"/>
                  <a:pt x="20553" y="16826"/>
                  <a:pt x="20510" y="16923"/>
                </a:cubicBezTo>
                <a:cubicBezTo>
                  <a:pt x="20479" y="16923"/>
                  <a:pt x="20469" y="16923"/>
                  <a:pt x="20479" y="16954"/>
                </a:cubicBezTo>
                <a:cubicBezTo>
                  <a:pt x="20510" y="16900"/>
                  <a:pt x="20528" y="16893"/>
                  <a:pt x="20574" y="16859"/>
                </a:cubicBezTo>
                <a:cubicBezTo>
                  <a:pt x="20633" y="16816"/>
                  <a:pt x="20690" y="16828"/>
                  <a:pt x="20764" y="16828"/>
                </a:cubicBezTo>
                <a:cubicBezTo>
                  <a:pt x="20840" y="16828"/>
                  <a:pt x="20896" y="16808"/>
                  <a:pt x="20955" y="16796"/>
                </a:cubicBezTo>
                <a:cubicBezTo>
                  <a:pt x="21074" y="16772"/>
                  <a:pt x="21052" y="16775"/>
                  <a:pt x="21146" y="16700"/>
                </a:cubicBezTo>
                <a:cubicBezTo>
                  <a:pt x="21227" y="16635"/>
                  <a:pt x="21254" y="16624"/>
                  <a:pt x="21272" y="16510"/>
                </a:cubicBezTo>
                <a:cubicBezTo>
                  <a:pt x="21287" y="16420"/>
                  <a:pt x="21272" y="16315"/>
                  <a:pt x="21272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619280" y="1263600"/>
                <a:ext cx="1814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422360" y="3733920"/>
                <a:ext cx="271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Ink 5"/>
          <p:cNvSpPr/>
          <p:nvPr/>
        </p:nvSpPr>
        <p:spPr>
          <a:xfrm>
            <a:off x="2719440" y="1897200"/>
            <a:ext cx="527040" cy="412560"/>
          </a:xfrm>
          <a:custGeom>
            <a:avLst/>
            <a:gdLst/>
            <a:ahLst/>
            <a:rect l="l" t="t" r="r" b="b"/>
            <a:pathLst>
              <a:path w="1462" h="1145">
                <a:moveTo>
                  <a:pt x="7556" y="5366"/>
                </a:moveTo>
                <a:cubicBezTo>
                  <a:pt x="7690" y="5366"/>
                  <a:pt x="7812" y="5351"/>
                  <a:pt x="7938" y="5334"/>
                </a:cubicBezTo>
                <a:cubicBezTo>
                  <a:pt x="8045" y="5320"/>
                  <a:pt x="8150" y="5317"/>
                  <a:pt x="8255" y="5302"/>
                </a:cubicBezTo>
                <a:cubicBezTo>
                  <a:pt x="8343" y="5289"/>
                  <a:pt x="8529" y="5262"/>
                  <a:pt x="8604" y="5270"/>
                </a:cubicBezTo>
                <a:cubicBezTo>
                  <a:pt x="8691" y="5280"/>
                  <a:pt x="8758" y="5270"/>
                  <a:pt x="8858" y="5270"/>
                </a:cubicBezTo>
                <a:cubicBezTo>
                  <a:pt x="8911" y="5270"/>
                  <a:pt x="8964" y="5270"/>
                  <a:pt x="9017" y="5270"/>
                </a:cubicBezTo>
              </a:path>
              <a:path w="1462" h="1145">
                <a:moveTo>
                  <a:pt x="8192" y="5524"/>
                </a:moveTo>
                <a:cubicBezTo>
                  <a:pt x="8152" y="5524"/>
                  <a:pt x="8192" y="5521"/>
                  <a:pt x="8192" y="5588"/>
                </a:cubicBezTo>
                <a:cubicBezTo>
                  <a:pt x="8192" y="5647"/>
                  <a:pt x="8177" y="5752"/>
                  <a:pt x="8160" y="5810"/>
                </a:cubicBezTo>
                <a:cubicBezTo>
                  <a:pt x="8136" y="5893"/>
                  <a:pt x="8103" y="5949"/>
                  <a:pt x="8096" y="6032"/>
                </a:cubicBezTo>
                <a:cubicBezTo>
                  <a:pt x="8089" y="6119"/>
                  <a:pt x="8076" y="6253"/>
                  <a:pt x="8128" y="6318"/>
                </a:cubicBezTo>
                <a:cubicBezTo>
                  <a:pt x="8177" y="6380"/>
                  <a:pt x="8195" y="6360"/>
                  <a:pt x="8255" y="6382"/>
                </a:cubicBezTo>
                <a:cubicBezTo>
                  <a:pt x="8310" y="6402"/>
                  <a:pt x="8415" y="6445"/>
                  <a:pt x="8477" y="6414"/>
                </a:cubicBezTo>
                <a:cubicBezTo>
                  <a:pt x="8517" y="6394"/>
                  <a:pt x="8568" y="6386"/>
                  <a:pt x="8572" y="6350"/>
                </a:cubicBezTo>
                <a:cubicBezTo>
                  <a:pt x="8572" y="6339"/>
                  <a:pt x="8572" y="6329"/>
                  <a:pt x="8572" y="6318"/>
                </a:cubicBezTo>
              </a:path>
              <a:path w="1462" h="1145">
                <a:moveTo>
                  <a:pt x="8033" y="5874"/>
                </a:moveTo>
                <a:cubicBezTo>
                  <a:pt x="8033" y="5885"/>
                  <a:pt x="8033" y="5895"/>
                  <a:pt x="8033" y="5906"/>
                </a:cubicBezTo>
                <a:cubicBezTo>
                  <a:pt x="8160" y="5906"/>
                  <a:pt x="8287" y="5906"/>
                  <a:pt x="8414" y="5906"/>
                </a:cubicBezTo>
                <a:cubicBezTo>
                  <a:pt x="8414" y="5874"/>
                  <a:pt x="8414" y="5863"/>
                  <a:pt x="8446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6"/>
          <p:cNvSpPr/>
          <p:nvPr/>
        </p:nvSpPr>
        <p:spPr>
          <a:xfrm>
            <a:off x="1611360" y="1897200"/>
            <a:ext cx="515880" cy="446040"/>
          </a:xfrm>
          <a:custGeom>
            <a:avLst/>
            <a:gdLst/>
            <a:ahLst/>
            <a:rect l="l" t="t" r="r" b="b"/>
            <a:pathLst>
              <a:path w="1430" h="1240">
                <a:moveTo>
                  <a:pt x="4477" y="5366"/>
                </a:moveTo>
                <a:cubicBezTo>
                  <a:pt x="4662" y="5366"/>
                  <a:pt x="4836" y="5360"/>
                  <a:pt x="5016" y="5334"/>
                </a:cubicBezTo>
                <a:cubicBezTo>
                  <a:pt x="5130" y="5318"/>
                  <a:pt x="5251" y="5307"/>
                  <a:pt x="5366" y="5302"/>
                </a:cubicBezTo>
                <a:cubicBezTo>
                  <a:pt x="5475" y="5297"/>
                  <a:pt x="5571" y="5270"/>
                  <a:pt x="5683" y="5270"/>
                </a:cubicBezTo>
                <a:cubicBezTo>
                  <a:pt x="5755" y="5270"/>
                  <a:pt x="5886" y="5241"/>
                  <a:pt x="5906" y="5302"/>
                </a:cubicBezTo>
              </a:path>
              <a:path w="1430" h="1240">
                <a:moveTo>
                  <a:pt x="4953" y="5556"/>
                </a:moveTo>
                <a:cubicBezTo>
                  <a:pt x="5022" y="5579"/>
                  <a:pt x="4956" y="5671"/>
                  <a:pt x="4953" y="5747"/>
                </a:cubicBezTo>
                <a:cubicBezTo>
                  <a:pt x="4950" y="5841"/>
                  <a:pt x="4946" y="5972"/>
                  <a:pt x="4921" y="6064"/>
                </a:cubicBezTo>
                <a:cubicBezTo>
                  <a:pt x="4901" y="6137"/>
                  <a:pt x="4863" y="6210"/>
                  <a:pt x="4858" y="6286"/>
                </a:cubicBezTo>
                <a:cubicBezTo>
                  <a:pt x="4853" y="6356"/>
                  <a:pt x="4851" y="6417"/>
                  <a:pt x="4890" y="6477"/>
                </a:cubicBezTo>
                <a:cubicBezTo>
                  <a:pt x="4918" y="6520"/>
                  <a:pt x="5002" y="6525"/>
                  <a:pt x="5048" y="6509"/>
                </a:cubicBezTo>
                <a:cubicBezTo>
                  <a:pt x="5120" y="6485"/>
                  <a:pt x="5200" y="6472"/>
                  <a:pt x="5270" y="6445"/>
                </a:cubicBezTo>
                <a:cubicBezTo>
                  <a:pt x="5300" y="6433"/>
                  <a:pt x="5383" y="6380"/>
                  <a:pt x="5398" y="6350"/>
                </a:cubicBezTo>
                <a:cubicBezTo>
                  <a:pt x="5398" y="6318"/>
                  <a:pt x="5398" y="6308"/>
                  <a:pt x="5429" y="6318"/>
                </a:cubicBezTo>
              </a:path>
              <a:path w="1430" h="1240">
                <a:moveTo>
                  <a:pt x="4858" y="5842"/>
                </a:moveTo>
                <a:cubicBezTo>
                  <a:pt x="4924" y="5842"/>
                  <a:pt x="4963" y="5858"/>
                  <a:pt x="5016" y="5874"/>
                </a:cubicBezTo>
                <a:cubicBezTo>
                  <a:pt x="5143" y="5912"/>
                  <a:pt x="5406" y="5887"/>
                  <a:pt x="5524" y="5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7"/>
          <p:cNvSpPr/>
          <p:nvPr/>
        </p:nvSpPr>
        <p:spPr>
          <a:xfrm>
            <a:off x="4035600" y="1325520"/>
            <a:ext cx="582480" cy="1314360"/>
          </a:xfrm>
          <a:custGeom>
            <a:avLst/>
            <a:gdLst/>
            <a:ahLst/>
            <a:rect l="l" t="t" r="r" b="b"/>
            <a:pathLst>
              <a:path w="1620" h="3652">
                <a:moveTo>
                  <a:pt x="12446" y="3683"/>
                </a:moveTo>
                <a:cubicBezTo>
                  <a:pt x="12439" y="3700"/>
                  <a:pt x="12414" y="3752"/>
                  <a:pt x="12414" y="3810"/>
                </a:cubicBezTo>
                <a:cubicBezTo>
                  <a:pt x="12414" y="3942"/>
                  <a:pt x="12433" y="4069"/>
                  <a:pt x="12446" y="4191"/>
                </a:cubicBezTo>
                <a:cubicBezTo>
                  <a:pt x="12461" y="4338"/>
                  <a:pt x="12474" y="4490"/>
                  <a:pt x="12478" y="4636"/>
                </a:cubicBezTo>
                <a:cubicBezTo>
                  <a:pt x="12482" y="4766"/>
                  <a:pt x="12521" y="4865"/>
                  <a:pt x="12541" y="4985"/>
                </a:cubicBezTo>
                <a:cubicBezTo>
                  <a:pt x="12541" y="5016"/>
                  <a:pt x="12541" y="5027"/>
                  <a:pt x="12541" y="5048"/>
                </a:cubicBezTo>
                <a:cubicBezTo>
                  <a:pt x="12533" y="4991"/>
                  <a:pt x="12529" y="4943"/>
                  <a:pt x="12510" y="4890"/>
                </a:cubicBezTo>
                <a:cubicBezTo>
                  <a:pt x="12476" y="4793"/>
                  <a:pt x="12474" y="4700"/>
                  <a:pt x="12446" y="4604"/>
                </a:cubicBezTo>
                <a:cubicBezTo>
                  <a:pt x="12422" y="4520"/>
                  <a:pt x="12388" y="4420"/>
                  <a:pt x="12351" y="4350"/>
                </a:cubicBezTo>
                <a:cubicBezTo>
                  <a:pt x="12302" y="4258"/>
                  <a:pt x="12270" y="4276"/>
                  <a:pt x="12192" y="4286"/>
                </a:cubicBezTo>
                <a:cubicBezTo>
                  <a:pt x="12072" y="4302"/>
                  <a:pt x="12069" y="4388"/>
                  <a:pt x="12002" y="4477"/>
                </a:cubicBezTo>
                <a:cubicBezTo>
                  <a:pt x="11925" y="4579"/>
                  <a:pt x="11878" y="4674"/>
                  <a:pt x="11843" y="4794"/>
                </a:cubicBezTo>
                <a:cubicBezTo>
                  <a:pt x="11808" y="4913"/>
                  <a:pt x="11800" y="4949"/>
                  <a:pt x="11874" y="5048"/>
                </a:cubicBezTo>
                <a:cubicBezTo>
                  <a:pt x="11924" y="5115"/>
                  <a:pt x="11956" y="5108"/>
                  <a:pt x="12033" y="5112"/>
                </a:cubicBezTo>
                <a:cubicBezTo>
                  <a:pt x="12144" y="5118"/>
                  <a:pt x="12204" y="5067"/>
                  <a:pt x="12287" y="5016"/>
                </a:cubicBezTo>
                <a:cubicBezTo>
                  <a:pt x="12357" y="4973"/>
                  <a:pt x="12413" y="4956"/>
                  <a:pt x="12478" y="4921"/>
                </a:cubicBezTo>
                <a:cubicBezTo>
                  <a:pt x="12536" y="4891"/>
                  <a:pt x="12542" y="4883"/>
                  <a:pt x="12573" y="4858"/>
                </a:cubicBezTo>
              </a:path>
              <a:path w="1620" h="3652">
                <a:moveTo>
                  <a:pt x="11240" y="5588"/>
                </a:moveTo>
                <a:cubicBezTo>
                  <a:pt x="11193" y="5612"/>
                  <a:pt x="11252" y="5648"/>
                  <a:pt x="11303" y="5652"/>
                </a:cubicBezTo>
                <a:cubicBezTo>
                  <a:pt x="11458" y="5663"/>
                  <a:pt x="11600" y="5634"/>
                  <a:pt x="11748" y="5620"/>
                </a:cubicBezTo>
                <a:cubicBezTo>
                  <a:pt x="11928" y="5603"/>
                  <a:pt x="12111" y="5607"/>
                  <a:pt x="12287" y="5588"/>
                </a:cubicBezTo>
                <a:cubicBezTo>
                  <a:pt x="12406" y="5575"/>
                  <a:pt x="12515" y="5556"/>
                  <a:pt x="12636" y="5556"/>
                </a:cubicBezTo>
                <a:cubicBezTo>
                  <a:pt x="12687" y="5556"/>
                  <a:pt x="12798" y="5529"/>
                  <a:pt x="12827" y="5588"/>
                </a:cubicBezTo>
                <a:cubicBezTo>
                  <a:pt x="12827" y="5599"/>
                  <a:pt x="12827" y="5609"/>
                  <a:pt x="12827" y="5620"/>
                </a:cubicBezTo>
              </a:path>
              <a:path w="1620" h="3652">
                <a:moveTo>
                  <a:pt x="11874" y="5969"/>
                </a:moveTo>
                <a:cubicBezTo>
                  <a:pt x="11874" y="6058"/>
                  <a:pt x="11865" y="6140"/>
                  <a:pt x="11843" y="6223"/>
                </a:cubicBezTo>
                <a:cubicBezTo>
                  <a:pt x="11810" y="6350"/>
                  <a:pt x="11807" y="6478"/>
                  <a:pt x="11779" y="6604"/>
                </a:cubicBezTo>
                <a:cubicBezTo>
                  <a:pt x="11748" y="6744"/>
                  <a:pt x="11742" y="6880"/>
                  <a:pt x="11716" y="7017"/>
                </a:cubicBezTo>
                <a:cubicBezTo>
                  <a:pt x="11698" y="7111"/>
                  <a:pt x="11662" y="7182"/>
                  <a:pt x="11716" y="7271"/>
                </a:cubicBezTo>
                <a:cubicBezTo>
                  <a:pt x="11749" y="7325"/>
                  <a:pt x="11786" y="7334"/>
                  <a:pt x="11843" y="7334"/>
                </a:cubicBezTo>
                <a:cubicBezTo>
                  <a:pt x="11936" y="7334"/>
                  <a:pt x="11955" y="7317"/>
                  <a:pt x="12033" y="7271"/>
                </a:cubicBezTo>
                <a:cubicBezTo>
                  <a:pt x="12090" y="7237"/>
                  <a:pt x="12167" y="7169"/>
                  <a:pt x="12224" y="7144"/>
                </a:cubicBezTo>
                <a:cubicBezTo>
                  <a:pt x="12266" y="7126"/>
                  <a:pt x="12251" y="7129"/>
                  <a:pt x="12287" y="7080"/>
                </a:cubicBezTo>
              </a:path>
              <a:path w="1620" h="3652">
                <a:moveTo>
                  <a:pt x="11494" y="6826"/>
                </a:moveTo>
                <a:cubicBezTo>
                  <a:pt x="11514" y="6765"/>
                  <a:pt x="11555" y="6786"/>
                  <a:pt x="11620" y="6763"/>
                </a:cubicBezTo>
                <a:cubicBezTo>
                  <a:pt x="11727" y="6725"/>
                  <a:pt x="11856" y="6715"/>
                  <a:pt x="11970" y="6699"/>
                </a:cubicBezTo>
                <a:cubicBezTo>
                  <a:pt x="12051" y="6688"/>
                  <a:pt x="12142" y="6699"/>
                  <a:pt x="12224" y="6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8"/>
          <p:cNvSpPr/>
          <p:nvPr/>
        </p:nvSpPr>
        <p:spPr>
          <a:xfrm>
            <a:off x="6035760" y="3521160"/>
            <a:ext cx="1189080" cy="2136600"/>
          </a:xfrm>
          <a:custGeom>
            <a:avLst/>
            <a:gdLst/>
            <a:ahLst/>
            <a:rect l="l" t="t" r="r" b="b"/>
            <a:pathLst>
              <a:path w="3303" h="5938">
                <a:moveTo>
                  <a:pt x="16764" y="10858"/>
                </a:moveTo>
                <a:cubicBezTo>
                  <a:pt x="16823" y="10858"/>
                  <a:pt x="16839" y="10884"/>
                  <a:pt x="16891" y="10890"/>
                </a:cubicBezTo>
                <a:cubicBezTo>
                  <a:pt x="16964" y="10898"/>
                  <a:pt x="17078" y="10877"/>
                  <a:pt x="17145" y="10858"/>
                </a:cubicBezTo>
                <a:cubicBezTo>
                  <a:pt x="17236" y="10832"/>
                  <a:pt x="17301" y="10827"/>
                  <a:pt x="17399" y="10827"/>
                </a:cubicBezTo>
                <a:cubicBezTo>
                  <a:pt x="17437" y="10827"/>
                  <a:pt x="17537" y="10827"/>
                  <a:pt x="17558" y="10858"/>
                </a:cubicBezTo>
                <a:cubicBezTo>
                  <a:pt x="17558" y="10890"/>
                  <a:pt x="17558" y="10901"/>
                  <a:pt x="17558" y="10922"/>
                </a:cubicBezTo>
              </a:path>
              <a:path w="3303" h="5938">
                <a:moveTo>
                  <a:pt x="16954" y="11335"/>
                </a:moveTo>
                <a:cubicBezTo>
                  <a:pt x="16869" y="11335"/>
                  <a:pt x="17043" y="11307"/>
                  <a:pt x="17050" y="11303"/>
                </a:cubicBezTo>
                <a:cubicBezTo>
                  <a:pt x="17110" y="11273"/>
                  <a:pt x="17200" y="11252"/>
                  <a:pt x="17272" y="11240"/>
                </a:cubicBezTo>
                <a:cubicBezTo>
                  <a:pt x="17350" y="11227"/>
                  <a:pt x="17413" y="11208"/>
                  <a:pt x="17494" y="11208"/>
                </a:cubicBezTo>
                <a:cubicBezTo>
                  <a:pt x="17547" y="11208"/>
                  <a:pt x="17558" y="11208"/>
                  <a:pt x="17590" y="11208"/>
                </a:cubicBezTo>
              </a:path>
              <a:path w="3303" h="5938">
                <a:moveTo>
                  <a:pt x="18224" y="10065"/>
                </a:moveTo>
                <a:cubicBezTo>
                  <a:pt x="18224" y="10260"/>
                  <a:pt x="18209" y="10445"/>
                  <a:pt x="18193" y="10636"/>
                </a:cubicBezTo>
                <a:cubicBezTo>
                  <a:pt x="18167" y="10953"/>
                  <a:pt x="18193" y="11843"/>
                  <a:pt x="18193" y="11525"/>
                </a:cubicBezTo>
                <a:cubicBezTo>
                  <a:pt x="18193" y="11412"/>
                  <a:pt x="18214" y="11315"/>
                  <a:pt x="18224" y="11208"/>
                </a:cubicBezTo>
                <a:cubicBezTo>
                  <a:pt x="18240" y="11036"/>
                  <a:pt x="18269" y="10947"/>
                  <a:pt x="18352" y="10795"/>
                </a:cubicBezTo>
                <a:cubicBezTo>
                  <a:pt x="18387" y="10731"/>
                  <a:pt x="18432" y="10642"/>
                  <a:pt x="18510" y="10636"/>
                </a:cubicBezTo>
                <a:cubicBezTo>
                  <a:pt x="18531" y="10636"/>
                  <a:pt x="18553" y="10636"/>
                  <a:pt x="18574" y="10636"/>
                </a:cubicBezTo>
                <a:cubicBezTo>
                  <a:pt x="18609" y="10695"/>
                  <a:pt x="18659" y="10814"/>
                  <a:pt x="18669" y="10890"/>
                </a:cubicBezTo>
                <a:cubicBezTo>
                  <a:pt x="18688" y="11034"/>
                  <a:pt x="18676" y="11199"/>
                  <a:pt x="18637" y="11335"/>
                </a:cubicBezTo>
                <a:cubicBezTo>
                  <a:pt x="18599" y="11469"/>
                  <a:pt x="18585" y="11521"/>
                  <a:pt x="18510" y="11620"/>
                </a:cubicBezTo>
                <a:cubicBezTo>
                  <a:pt x="18446" y="11704"/>
                  <a:pt x="18443" y="11696"/>
                  <a:pt x="18352" y="11684"/>
                </a:cubicBezTo>
                <a:cubicBezTo>
                  <a:pt x="18280" y="11674"/>
                  <a:pt x="18213" y="11610"/>
                  <a:pt x="18193" y="11525"/>
                </a:cubicBezTo>
                <a:cubicBezTo>
                  <a:pt x="18193" y="11462"/>
                  <a:pt x="18193" y="11440"/>
                  <a:pt x="18193" y="11398"/>
                </a:cubicBezTo>
              </a:path>
              <a:path w="3303" h="5938">
                <a:moveTo>
                  <a:pt x="19272" y="10414"/>
                </a:moveTo>
                <a:cubicBezTo>
                  <a:pt x="19292" y="10494"/>
                  <a:pt x="19304" y="10501"/>
                  <a:pt x="19304" y="10604"/>
                </a:cubicBezTo>
                <a:cubicBezTo>
                  <a:pt x="19304" y="10689"/>
                  <a:pt x="19304" y="10773"/>
                  <a:pt x="19304" y="10858"/>
                </a:cubicBezTo>
                <a:cubicBezTo>
                  <a:pt x="19354" y="10842"/>
                  <a:pt x="19329" y="10753"/>
                  <a:pt x="19304" y="10700"/>
                </a:cubicBezTo>
                <a:cubicBezTo>
                  <a:pt x="19273" y="10633"/>
                  <a:pt x="19257" y="10548"/>
                  <a:pt x="19209" y="10478"/>
                </a:cubicBezTo>
                <a:cubicBezTo>
                  <a:pt x="19186" y="10444"/>
                  <a:pt x="19130" y="10387"/>
                  <a:pt x="19082" y="10414"/>
                </a:cubicBezTo>
                <a:cubicBezTo>
                  <a:pt x="19019" y="10449"/>
                  <a:pt x="18976" y="10576"/>
                  <a:pt x="18955" y="10636"/>
                </a:cubicBezTo>
                <a:cubicBezTo>
                  <a:pt x="18915" y="10747"/>
                  <a:pt x="18923" y="10836"/>
                  <a:pt x="18923" y="10954"/>
                </a:cubicBezTo>
              </a:path>
              <a:path w="3303" h="5938">
                <a:moveTo>
                  <a:pt x="18923" y="11303"/>
                </a:moveTo>
                <a:cubicBezTo>
                  <a:pt x="18978" y="11391"/>
                  <a:pt x="19026" y="11473"/>
                  <a:pt x="19114" y="11525"/>
                </a:cubicBezTo>
                <a:cubicBezTo>
                  <a:pt x="19193" y="11571"/>
                  <a:pt x="19259" y="11552"/>
                  <a:pt x="19336" y="11525"/>
                </a:cubicBezTo>
                <a:cubicBezTo>
                  <a:pt x="19426" y="11494"/>
                  <a:pt x="19436" y="11430"/>
                  <a:pt x="19494" y="11366"/>
                </a:cubicBezTo>
                <a:cubicBezTo>
                  <a:pt x="19534" y="11322"/>
                  <a:pt x="19560" y="11288"/>
                  <a:pt x="19526" y="11271"/>
                </a:cubicBezTo>
              </a:path>
              <a:path w="3303" h="5938">
                <a:moveTo>
                  <a:pt x="18891" y="10922"/>
                </a:moveTo>
                <a:cubicBezTo>
                  <a:pt x="18891" y="10933"/>
                  <a:pt x="18891" y="10943"/>
                  <a:pt x="18891" y="10954"/>
                </a:cubicBezTo>
              </a:path>
              <a:path w="3303" h="5938">
                <a:moveTo>
                  <a:pt x="18891" y="10922"/>
                </a:moveTo>
                <a:cubicBezTo>
                  <a:pt x="18891" y="10954"/>
                  <a:pt x="18891" y="10985"/>
                  <a:pt x="18891" y="11017"/>
                </a:cubicBezTo>
              </a:path>
              <a:path w="3303" h="5938">
                <a:moveTo>
                  <a:pt x="18891" y="11017"/>
                </a:moveTo>
                <a:cubicBezTo>
                  <a:pt x="18891" y="11133"/>
                  <a:pt x="18891" y="11250"/>
                  <a:pt x="18891" y="11366"/>
                </a:cubicBezTo>
                <a:cubicBezTo>
                  <a:pt x="18944" y="11366"/>
                  <a:pt x="18997" y="11366"/>
                  <a:pt x="19050" y="11366"/>
                </a:cubicBezTo>
              </a:path>
              <a:path w="3303" h="5938">
                <a:moveTo>
                  <a:pt x="17907" y="11938"/>
                </a:moveTo>
                <a:cubicBezTo>
                  <a:pt x="17948" y="11897"/>
                  <a:pt x="17945" y="11909"/>
                  <a:pt x="18002" y="11906"/>
                </a:cubicBezTo>
                <a:cubicBezTo>
                  <a:pt x="18085" y="11902"/>
                  <a:pt x="18147" y="11887"/>
                  <a:pt x="18224" y="11874"/>
                </a:cubicBezTo>
                <a:cubicBezTo>
                  <a:pt x="18371" y="11849"/>
                  <a:pt x="18521" y="11793"/>
                  <a:pt x="18669" y="11779"/>
                </a:cubicBezTo>
                <a:cubicBezTo>
                  <a:pt x="18813" y="11765"/>
                  <a:pt x="18971" y="11772"/>
                  <a:pt x="19114" y="11748"/>
                </a:cubicBezTo>
                <a:cubicBezTo>
                  <a:pt x="19252" y="11725"/>
                  <a:pt x="19385" y="11689"/>
                  <a:pt x="19526" y="11684"/>
                </a:cubicBezTo>
                <a:cubicBezTo>
                  <a:pt x="19642" y="11680"/>
                  <a:pt x="19736" y="11638"/>
                  <a:pt x="19844" y="11620"/>
                </a:cubicBezTo>
                <a:cubicBezTo>
                  <a:pt x="19922" y="11607"/>
                  <a:pt x="19972" y="11598"/>
                  <a:pt x="20034" y="11557"/>
                </a:cubicBezTo>
                <a:cubicBezTo>
                  <a:pt x="20066" y="11557"/>
                  <a:pt x="20077" y="11557"/>
                  <a:pt x="20034" y="11557"/>
                </a:cubicBezTo>
              </a:path>
              <a:path w="3303" h="5938">
                <a:moveTo>
                  <a:pt x="18574" y="12033"/>
                </a:moveTo>
                <a:cubicBezTo>
                  <a:pt x="18628" y="12051"/>
                  <a:pt x="18634" y="12123"/>
                  <a:pt x="18637" y="12192"/>
                </a:cubicBezTo>
                <a:cubicBezTo>
                  <a:pt x="18642" y="12316"/>
                  <a:pt x="18664" y="12421"/>
                  <a:pt x="18669" y="12541"/>
                </a:cubicBezTo>
                <a:cubicBezTo>
                  <a:pt x="18675" y="12707"/>
                  <a:pt x="18672" y="12856"/>
                  <a:pt x="18701" y="13018"/>
                </a:cubicBezTo>
                <a:cubicBezTo>
                  <a:pt x="18705" y="13039"/>
                  <a:pt x="18701" y="13173"/>
                  <a:pt x="18701" y="13081"/>
                </a:cubicBezTo>
                <a:cubicBezTo>
                  <a:pt x="18701" y="12979"/>
                  <a:pt x="18721" y="12889"/>
                  <a:pt x="18732" y="12795"/>
                </a:cubicBezTo>
                <a:cubicBezTo>
                  <a:pt x="18746" y="12680"/>
                  <a:pt x="18758" y="12578"/>
                  <a:pt x="18828" y="12478"/>
                </a:cubicBezTo>
                <a:cubicBezTo>
                  <a:pt x="18840" y="12460"/>
                  <a:pt x="18919" y="12354"/>
                  <a:pt x="18923" y="12351"/>
                </a:cubicBezTo>
                <a:cubicBezTo>
                  <a:pt x="18952" y="12332"/>
                  <a:pt x="19032" y="12370"/>
                  <a:pt x="19050" y="12382"/>
                </a:cubicBezTo>
                <a:cubicBezTo>
                  <a:pt x="19125" y="12431"/>
                  <a:pt x="19115" y="12513"/>
                  <a:pt x="19145" y="12573"/>
                </a:cubicBezTo>
                <a:cubicBezTo>
                  <a:pt x="19175" y="12633"/>
                  <a:pt x="19177" y="12655"/>
                  <a:pt x="19177" y="12732"/>
                </a:cubicBezTo>
                <a:cubicBezTo>
                  <a:pt x="19177" y="12800"/>
                  <a:pt x="19153" y="12895"/>
                  <a:pt x="19114" y="12954"/>
                </a:cubicBezTo>
                <a:cubicBezTo>
                  <a:pt x="19074" y="13015"/>
                  <a:pt x="19009" y="13040"/>
                  <a:pt x="18955" y="13081"/>
                </a:cubicBezTo>
                <a:cubicBezTo>
                  <a:pt x="18912" y="13114"/>
                  <a:pt x="18877" y="13160"/>
                  <a:pt x="18828" y="13176"/>
                </a:cubicBezTo>
                <a:cubicBezTo>
                  <a:pt x="18776" y="13193"/>
                  <a:pt x="18772" y="13145"/>
                  <a:pt x="18764" y="13113"/>
                </a:cubicBezTo>
              </a:path>
              <a:path w="3303" h="5938">
                <a:moveTo>
                  <a:pt x="19494" y="9779"/>
                </a:moveTo>
                <a:lnTo>
                  <a:pt x="19494" y="9779"/>
                </a:lnTo>
              </a:path>
              <a:path w="3303" h="5938">
                <a:moveTo>
                  <a:pt x="18066" y="10065"/>
                </a:moveTo>
                <a:cubicBezTo>
                  <a:pt x="18096" y="10177"/>
                  <a:pt x="18131" y="10297"/>
                  <a:pt x="18161" y="10414"/>
                </a:cubicBezTo>
                <a:cubicBezTo>
                  <a:pt x="18217" y="10631"/>
                  <a:pt x="18311" y="10837"/>
                  <a:pt x="18383" y="11049"/>
                </a:cubicBezTo>
                <a:cubicBezTo>
                  <a:pt x="18468" y="11298"/>
                  <a:pt x="18575" y="11535"/>
                  <a:pt x="18669" y="11779"/>
                </a:cubicBezTo>
                <a:cubicBezTo>
                  <a:pt x="18766" y="12031"/>
                  <a:pt x="18841" y="12289"/>
                  <a:pt x="18923" y="12541"/>
                </a:cubicBezTo>
                <a:cubicBezTo>
                  <a:pt x="18986" y="12735"/>
                  <a:pt x="19065" y="12914"/>
                  <a:pt x="19114" y="13113"/>
                </a:cubicBezTo>
                <a:cubicBezTo>
                  <a:pt x="19146" y="13243"/>
                  <a:pt x="19167" y="13298"/>
                  <a:pt x="19177" y="13430"/>
                </a:cubicBezTo>
              </a:path>
              <a:path w="3303" h="5938">
                <a:moveTo>
                  <a:pt x="17685" y="14954"/>
                </a:moveTo>
                <a:cubicBezTo>
                  <a:pt x="17727" y="14889"/>
                  <a:pt x="17769" y="14913"/>
                  <a:pt x="17844" y="14922"/>
                </a:cubicBezTo>
                <a:cubicBezTo>
                  <a:pt x="18046" y="14945"/>
                  <a:pt x="18251" y="14921"/>
                  <a:pt x="18447" y="14954"/>
                </a:cubicBezTo>
                <a:cubicBezTo>
                  <a:pt x="18526" y="14967"/>
                  <a:pt x="18543" y="14939"/>
                  <a:pt x="18606" y="14986"/>
                </a:cubicBezTo>
              </a:path>
              <a:path w="3303" h="5938">
                <a:moveTo>
                  <a:pt x="18034" y="15399"/>
                </a:moveTo>
                <a:cubicBezTo>
                  <a:pt x="18093" y="15379"/>
                  <a:pt x="18065" y="15367"/>
                  <a:pt x="18161" y="15367"/>
                </a:cubicBezTo>
                <a:cubicBezTo>
                  <a:pt x="18231" y="15367"/>
                  <a:pt x="18282" y="15340"/>
                  <a:pt x="18352" y="15335"/>
                </a:cubicBezTo>
                <a:cubicBezTo>
                  <a:pt x="18438" y="15328"/>
                  <a:pt x="18496" y="15338"/>
                  <a:pt x="18574" y="15367"/>
                </a:cubicBezTo>
              </a:path>
              <a:path w="3303" h="5938">
                <a:moveTo>
                  <a:pt x="19526" y="14002"/>
                </a:moveTo>
                <a:cubicBezTo>
                  <a:pt x="19536" y="14015"/>
                  <a:pt x="19584" y="14058"/>
                  <a:pt x="19590" y="14097"/>
                </a:cubicBezTo>
                <a:cubicBezTo>
                  <a:pt x="19603" y="14184"/>
                  <a:pt x="19579" y="14250"/>
                  <a:pt x="19558" y="14319"/>
                </a:cubicBezTo>
                <a:cubicBezTo>
                  <a:pt x="19558" y="14330"/>
                  <a:pt x="19558" y="14340"/>
                  <a:pt x="19558" y="14351"/>
                </a:cubicBezTo>
                <a:cubicBezTo>
                  <a:pt x="19513" y="14326"/>
                  <a:pt x="19488" y="14313"/>
                  <a:pt x="19463" y="14288"/>
                </a:cubicBezTo>
                <a:cubicBezTo>
                  <a:pt x="19421" y="14246"/>
                  <a:pt x="19360" y="14175"/>
                  <a:pt x="19304" y="14160"/>
                </a:cubicBezTo>
                <a:cubicBezTo>
                  <a:pt x="19228" y="14140"/>
                  <a:pt x="19166" y="14175"/>
                  <a:pt x="19114" y="14224"/>
                </a:cubicBezTo>
                <a:cubicBezTo>
                  <a:pt x="19040" y="14294"/>
                  <a:pt x="18968" y="14405"/>
                  <a:pt x="18955" y="14510"/>
                </a:cubicBezTo>
                <a:cubicBezTo>
                  <a:pt x="18933" y="14681"/>
                  <a:pt x="18946" y="14854"/>
                  <a:pt x="18955" y="15018"/>
                </a:cubicBezTo>
                <a:cubicBezTo>
                  <a:pt x="18964" y="15177"/>
                  <a:pt x="18973" y="15348"/>
                  <a:pt x="19050" y="15494"/>
                </a:cubicBezTo>
                <a:cubicBezTo>
                  <a:pt x="19091" y="15573"/>
                  <a:pt x="19214" y="15691"/>
                  <a:pt x="19304" y="15716"/>
                </a:cubicBezTo>
                <a:cubicBezTo>
                  <a:pt x="19397" y="15742"/>
                  <a:pt x="19479" y="15692"/>
                  <a:pt x="19558" y="15653"/>
                </a:cubicBezTo>
                <a:cubicBezTo>
                  <a:pt x="19652" y="15606"/>
                  <a:pt x="19705" y="15557"/>
                  <a:pt x="19780" y="15494"/>
                </a:cubicBezTo>
                <a:cubicBezTo>
                  <a:pt x="19821" y="15459"/>
                  <a:pt x="19823" y="15409"/>
                  <a:pt x="19844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9"/>
          <p:cNvSpPr/>
          <p:nvPr/>
        </p:nvSpPr>
        <p:spPr>
          <a:xfrm>
            <a:off x="4721400" y="1852560"/>
            <a:ext cx="822240" cy="479520"/>
          </a:xfrm>
          <a:custGeom>
            <a:avLst/>
            <a:gdLst/>
            <a:ahLst/>
            <a:rect l="l" t="t" r="r" b="b"/>
            <a:pathLst>
              <a:path w="2287" h="1334">
                <a:moveTo>
                  <a:pt x="13113" y="5556"/>
                </a:moveTo>
                <a:cubicBezTo>
                  <a:pt x="13226" y="5556"/>
                  <a:pt x="13326" y="5538"/>
                  <a:pt x="13430" y="5524"/>
                </a:cubicBezTo>
                <a:cubicBezTo>
                  <a:pt x="13596" y="5502"/>
                  <a:pt x="13783" y="5520"/>
                  <a:pt x="13938" y="5556"/>
                </a:cubicBezTo>
                <a:cubicBezTo>
                  <a:pt x="13995" y="5569"/>
                  <a:pt x="13982" y="5549"/>
                  <a:pt x="14034" y="5588"/>
                </a:cubicBezTo>
              </a:path>
              <a:path w="2287" h="1334">
                <a:moveTo>
                  <a:pt x="13303" y="6128"/>
                </a:moveTo>
                <a:cubicBezTo>
                  <a:pt x="13372" y="6128"/>
                  <a:pt x="13391" y="6100"/>
                  <a:pt x="13462" y="6096"/>
                </a:cubicBezTo>
                <a:cubicBezTo>
                  <a:pt x="13565" y="6090"/>
                  <a:pt x="13646" y="6069"/>
                  <a:pt x="13748" y="6064"/>
                </a:cubicBezTo>
                <a:cubicBezTo>
                  <a:pt x="13832" y="6060"/>
                  <a:pt x="13918" y="6064"/>
                  <a:pt x="14002" y="6064"/>
                </a:cubicBezTo>
              </a:path>
              <a:path w="2287" h="1334">
                <a:moveTo>
                  <a:pt x="14668" y="5366"/>
                </a:moveTo>
                <a:cubicBezTo>
                  <a:pt x="14668" y="5447"/>
                  <a:pt x="14678" y="5545"/>
                  <a:pt x="14700" y="5620"/>
                </a:cubicBezTo>
                <a:cubicBezTo>
                  <a:pt x="14736" y="5746"/>
                  <a:pt x="14759" y="5865"/>
                  <a:pt x="14764" y="6001"/>
                </a:cubicBezTo>
                <a:cubicBezTo>
                  <a:pt x="14768" y="6122"/>
                  <a:pt x="14796" y="6227"/>
                  <a:pt x="14796" y="6350"/>
                </a:cubicBezTo>
                <a:cubicBezTo>
                  <a:pt x="14796" y="6417"/>
                  <a:pt x="14814" y="6422"/>
                  <a:pt x="14827" y="6477"/>
                </a:cubicBezTo>
                <a:cubicBezTo>
                  <a:pt x="14810" y="6407"/>
                  <a:pt x="14812" y="6333"/>
                  <a:pt x="14796" y="6255"/>
                </a:cubicBezTo>
                <a:cubicBezTo>
                  <a:pt x="14772" y="6140"/>
                  <a:pt x="14757" y="6019"/>
                  <a:pt x="14732" y="5906"/>
                </a:cubicBezTo>
                <a:cubicBezTo>
                  <a:pt x="14709" y="5801"/>
                  <a:pt x="14673" y="5667"/>
                  <a:pt x="14700" y="5556"/>
                </a:cubicBezTo>
                <a:cubicBezTo>
                  <a:pt x="14728" y="5440"/>
                  <a:pt x="14772" y="5389"/>
                  <a:pt x="14859" y="5302"/>
                </a:cubicBezTo>
                <a:cubicBezTo>
                  <a:pt x="14931" y="5230"/>
                  <a:pt x="15042" y="5161"/>
                  <a:pt x="15145" y="5144"/>
                </a:cubicBezTo>
                <a:cubicBezTo>
                  <a:pt x="15230" y="5130"/>
                  <a:pt x="15334" y="5168"/>
                  <a:pt x="15399" y="5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10"/>
          <p:cNvSpPr/>
          <p:nvPr/>
        </p:nvSpPr>
        <p:spPr>
          <a:xfrm>
            <a:off x="4765680" y="3681360"/>
            <a:ext cx="1498680" cy="2605320"/>
          </a:xfrm>
          <a:custGeom>
            <a:avLst/>
            <a:gdLst/>
            <a:ahLst/>
            <a:rect l="l" t="t" r="r" b="b"/>
            <a:pathLst>
              <a:path w="4160" h="7239">
                <a:moveTo>
                  <a:pt x="14002" y="10446"/>
                </a:moveTo>
                <a:cubicBezTo>
                  <a:pt x="14002" y="10478"/>
                  <a:pt x="14002" y="10488"/>
                  <a:pt x="14002" y="10509"/>
                </a:cubicBezTo>
              </a:path>
              <a:path w="4160" h="7239">
                <a:moveTo>
                  <a:pt x="14002" y="10446"/>
                </a:moveTo>
                <a:cubicBezTo>
                  <a:pt x="14002" y="10499"/>
                  <a:pt x="14002" y="10551"/>
                  <a:pt x="14002" y="10604"/>
                </a:cubicBezTo>
              </a:path>
              <a:path w="4160" h="7239">
                <a:moveTo>
                  <a:pt x="14002" y="10604"/>
                </a:moveTo>
                <a:cubicBezTo>
                  <a:pt x="14002" y="11035"/>
                  <a:pt x="14033" y="11488"/>
                  <a:pt x="13970" y="11906"/>
                </a:cubicBezTo>
                <a:cubicBezTo>
                  <a:pt x="13955" y="12005"/>
                  <a:pt x="13970" y="12023"/>
                  <a:pt x="13970" y="11906"/>
                </a:cubicBezTo>
                <a:cubicBezTo>
                  <a:pt x="13970" y="11721"/>
                  <a:pt x="13989" y="11547"/>
                  <a:pt x="14002" y="11366"/>
                </a:cubicBezTo>
                <a:cubicBezTo>
                  <a:pt x="14016" y="11173"/>
                  <a:pt x="14023" y="10984"/>
                  <a:pt x="14065" y="10795"/>
                </a:cubicBezTo>
                <a:cubicBezTo>
                  <a:pt x="14091" y="10680"/>
                  <a:pt x="14123" y="10545"/>
                  <a:pt x="14192" y="10446"/>
                </a:cubicBezTo>
                <a:cubicBezTo>
                  <a:pt x="14222" y="10403"/>
                  <a:pt x="14253" y="10402"/>
                  <a:pt x="14288" y="10382"/>
                </a:cubicBezTo>
                <a:cubicBezTo>
                  <a:pt x="14307" y="10401"/>
                  <a:pt x="14402" y="10459"/>
                  <a:pt x="14414" y="10509"/>
                </a:cubicBezTo>
                <a:cubicBezTo>
                  <a:pt x="14449" y="10651"/>
                  <a:pt x="14454" y="10810"/>
                  <a:pt x="14478" y="10954"/>
                </a:cubicBezTo>
                <a:cubicBezTo>
                  <a:pt x="14507" y="11124"/>
                  <a:pt x="14536" y="11289"/>
                  <a:pt x="14542" y="11462"/>
                </a:cubicBezTo>
                <a:cubicBezTo>
                  <a:pt x="14546" y="11575"/>
                  <a:pt x="14567" y="11672"/>
                  <a:pt x="14573" y="11779"/>
                </a:cubicBezTo>
                <a:cubicBezTo>
                  <a:pt x="14576" y="11832"/>
                  <a:pt x="14573" y="11821"/>
                  <a:pt x="14573" y="11874"/>
                </a:cubicBezTo>
              </a:path>
              <a:path w="4160" h="7239">
                <a:moveTo>
                  <a:pt x="14034" y="11430"/>
                </a:moveTo>
                <a:cubicBezTo>
                  <a:pt x="14051" y="11379"/>
                  <a:pt x="14101" y="11389"/>
                  <a:pt x="14160" y="11366"/>
                </a:cubicBezTo>
                <a:cubicBezTo>
                  <a:pt x="14226" y="11340"/>
                  <a:pt x="14314" y="11315"/>
                  <a:pt x="14383" y="11303"/>
                </a:cubicBezTo>
                <a:cubicBezTo>
                  <a:pt x="14449" y="11291"/>
                  <a:pt x="14506" y="11279"/>
                  <a:pt x="14573" y="11271"/>
                </a:cubicBezTo>
              </a:path>
              <a:path w="4160" h="7239">
                <a:moveTo>
                  <a:pt x="15240" y="10604"/>
                </a:moveTo>
                <a:cubicBezTo>
                  <a:pt x="15240" y="10893"/>
                  <a:pt x="15235" y="11180"/>
                  <a:pt x="15272" y="11462"/>
                </a:cubicBezTo>
                <a:cubicBezTo>
                  <a:pt x="15283" y="11548"/>
                  <a:pt x="15280" y="11612"/>
                  <a:pt x="15304" y="11684"/>
                </a:cubicBezTo>
                <a:cubicBezTo>
                  <a:pt x="15304" y="11720"/>
                  <a:pt x="15301" y="11734"/>
                  <a:pt x="15272" y="11748"/>
                </a:cubicBezTo>
              </a:path>
              <a:path w="4160" h="7239">
                <a:moveTo>
                  <a:pt x="14986" y="11240"/>
                </a:moveTo>
                <a:cubicBezTo>
                  <a:pt x="15064" y="11221"/>
                  <a:pt x="15085" y="11233"/>
                  <a:pt x="15176" y="11240"/>
                </a:cubicBezTo>
                <a:cubicBezTo>
                  <a:pt x="15291" y="11249"/>
                  <a:pt x="15411" y="11240"/>
                  <a:pt x="15526" y="11240"/>
                </a:cubicBezTo>
              </a:path>
              <a:path w="4160" h="7239">
                <a:moveTo>
                  <a:pt x="16288" y="10224"/>
                </a:moveTo>
                <a:cubicBezTo>
                  <a:pt x="16288" y="10503"/>
                  <a:pt x="16291" y="10777"/>
                  <a:pt x="16320" y="11049"/>
                </a:cubicBezTo>
                <a:cubicBezTo>
                  <a:pt x="16332" y="11164"/>
                  <a:pt x="16345" y="11284"/>
                  <a:pt x="16351" y="11398"/>
                </a:cubicBezTo>
                <a:cubicBezTo>
                  <a:pt x="16354" y="11451"/>
                  <a:pt x="16351" y="11441"/>
                  <a:pt x="16351" y="11494"/>
                </a:cubicBezTo>
                <a:cubicBezTo>
                  <a:pt x="16320" y="11422"/>
                  <a:pt x="16296" y="11369"/>
                  <a:pt x="16256" y="11303"/>
                </a:cubicBezTo>
                <a:cubicBezTo>
                  <a:pt x="16211" y="11228"/>
                  <a:pt x="16183" y="11124"/>
                  <a:pt x="16097" y="11081"/>
                </a:cubicBezTo>
                <a:cubicBezTo>
                  <a:pt x="16022" y="11044"/>
                  <a:pt x="15981" y="11044"/>
                  <a:pt x="15907" y="11081"/>
                </a:cubicBezTo>
                <a:cubicBezTo>
                  <a:pt x="15849" y="11109"/>
                  <a:pt x="15761" y="11169"/>
                  <a:pt x="15748" y="11240"/>
                </a:cubicBezTo>
                <a:cubicBezTo>
                  <a:pt x="15734" y="11316"/>
                  <a:pt x="15694" y="11445"/>
                  <a:pt x="15716" y="11525"/>
                </a:cubicBezTo>
                <a:cubicBezTo>
                  <a:pt x="15739" y="11606"/>
                  <a:pt x="15760" y="11679"/>
                  <a:pt x="15812" y="11748"/>
                </a:cubicBezTo>
                <a:cubicBezTo>
                  <a:pt x="15841" y="11787"/>
                  <a:pt x="15922" y="11820"/>
                  <a:pt x="15970" y="11811"/>
                </a:cubicBezTo>
                <a:cubicBezTo>
                  <a:pt x="16035" y="11799"/>
                  <a:pt x="16100" y="11777"/>
                  <a:pt x="16161" y="11748"/>
                </a:cubicBezTo>
                <a:cubicBezTo>
                  <a:pt x="16246" y="11708"/>
                  <a:pt x="16276" y="11642"/>
                  <a:pt x="16351" y="11589"/>
                </a:cubicBezTo>
                <a:cubicBezTo>
                  <a:pt x="16393" y="11559"/>
                  <a:pt x="16396" y="11570"/>
                  <a:pt x="16446" y="11557"/>
                </a:cubicBezTo>
              </a:path>
              <a:path w="4160" h="7239">
                <a:moveTo>
                  <a:pt x="13240" y="12033"/>
                </a:moveTo>
                <a:cubicBezTo>
                  <a:pt x="13255" y="12028"/>
                  <a:pt x="13281" y="12004"/>
                  <a:pt x="13335" y="12002"/>
                </a:cubicBezTo>
                <a:cubicBezTo>
                  <a:pt x="13488" y="11996"/>
                  <a:pt x="13635" y="11988"/>
                  <a:pt x="13780" y="11970"/>
                </a:cubicBezTo>
                <a:cubicBezTo>
                  <a:pt x="13917" y="11953"/>
                  <a:pt x="14061" y="11954"/>
                  <a:pt x="14192" y="11938"/>
                </a:cubicBezTo>
                <a:cubicBezTo>
                  <a:pt x="14306" y="11924"/>
                  <a:pt x="14434" y="11917"/>
                  <a:pt x="14542" y="11906"/>
                </a:cubicBezTo>
                <a:cubicBezTo>
                  <a:pt x="14658" y="11894"/>
                  <a:pt x="14782" y="11885"/>
                  <a:pt x="14891" y="11874"/>
                </a:cubicBezTo>
                <a:cubicBezTo>
                  <a:pt x="14980" y="11865"/>
                  <a:pt x="15058" y="11850"/>
                  <a:pt x="15145" y="11843"/>
                </a:cubicBezTo>
                <a:cubicBezTo>
                  <a:pt x="15233" y="11836"/>
                  <a:pt x="15317" y="11821"/>
                  <a:pt x="15399" y="11811"/>
                </a:cubicBezTo>
                <a:cubicBezTo>
                  <a:pt x="15514" y="11797"/>
                  <a:pt x="15639" y="11792"/>
                  <a:pt x="15748" y="11779"/>
                </a:cubicBezTo>
                <a:cubicBezTo>
                  <a:pt x="15890" y="11762"/>
                  <a:pt x="16056" y="11760"/>
                  <a:pt x="16192" y="11748"/>
                </a:cubicBezTo>
                <a:cubicBezTo>
                  <a:pt x="16341" y="11735"/>
                  <a:pt x="16495" y="11733"/>
                  <a:pt x="16637" y="11716"/>
                </a:cubicBezTo>
                <a:cubicBezTo>
                  <a:pt x="16807" y="11696"/>
                  <a:pt x="16981" y="11709"/>
                  <a:pt x="17145" y="11684"/>
                </a:cubicBezTo>
                <a:cubicBezTo>
                  <a:pt x="17177" y="11684"/>
                  <a:pt x="17187" y="11684"/>
                  <a:pt x="17208" y="11684"/>
                </a:cubicBezTo>
              </a:path>
              <a:path w="4160" h="7239">
                <a:moveTo>
                  <a:pt x="14764" y="11970"/>
                </a:moveTo>
                <a:lnTo>
                  <a:pt x="14764" y="11970"/>
                </a:lnTo>
              </a:path>
              <a:path w="4160" h="7239">
                <a:moveTo>
                  <a:pt x="14764" y="11970"/>
                </a:moveTo>
                <a:cubicBezTo>
                  <a:pt x="14764" y="11981"/>
                  <a:pt x="14764" y="11991"/>
                  <a:pt x="14764" y="12002"/>
                </a:cubicBezTo>
              </a:path>
              <a:path w="4160" h="7239">
                <a:moveTo>
                  <a:pt x="14764" y="12002"/>
                </a:moveTo>
                <a:cubicBezTo>
                  <a:pt x="14730" y="12069"/>
                  <a:pt x="14732" y="12107"/>
                  <a:pt x="14732" y="12192"/>
                </a:cubicBezTo>
                <a:cubicBezTo>
                  <a:pt x="14732" y="12289"/>
                  <a:pt x="14700" y="12375"/>
                  <a:pt x="14700" y="12478"/>
                </a:cubicBezTo>
                <a:cubicBezTo>
                  <a:pt x="14700" y="12589"/>
                  <a:pt x="14668" y="12680"/>
                  <a:pt x="14668" y="12795"/>
                </a:cubicBezTo>
                <a:cubicBezTo>
                  <a:pt x="14668" y="12901"/>
                  <a:pt x="14653" y="12984"/>
                  <a:pt x="14637" y="13081"/>
                </a:cubicBezTo>
                <a:cubicBezTo>
                  <a:pt x="14618" y="13194"/>
                  <a:pt x="14621" y="13317"/>
                  <a:pt x="14605" y="13430"/>
                </a:cubicBezTo>
                <a:cubicBezTo>
                  <a:pt x="14601" y="13461"/>
                  <a:pt x="14608" y="13495"/>
                  <a:pt x="14605" y="13526"/>
                </a:cubicBezTo>
                <a:cubicBezTo>
                  <a:pt x="14582" y="13479"/>
                  <a:pt x="14597" y="13512"/>
                  <a:pt x="14605" y="13430"/>
                </a:cubicBezTo>
                <a:cubicBezTo>
                  <a:pt x="14614" y="13331"/>
                  <a:pt x="14606" y="13237"/>
                  <a:pt x="14637" y="13144"/>
                </a:cubicBezTo>
                <a:cubicBezTo>
                  <a:pt x="14664" y="13062"/>
                  <a:pt x="14713" y="12974"/>
                  <a:pt x="14732" y="12890"/>
                </a:cubicBezTo>
                <a:cubicBezTo>
                  <a:pt x="14753" y="12797"/>
                  <a:pt x="14782" y="12753"/>
                  <a:pt x="14827" y="12668"/>
                </a:cubicBezTo>
                <a:cubicBezTo>
                  <a:pt x="14876" y="12575"/>
                  <a:pt x="14909" y="12498"/>
                  <a:pt x="14986" y="12414"/>
                </a:cubicBezTo>
                <a:cubicBezTo>
                  <a:pt x="15008" y="12390"/>
                  <a:pt x="15066" y="12331"/>
                  <a:pt x="15081" y="12319"/>
                </a:cubicBezTo>
                <a:cubicBezTo>
                  <a:pt x="15134" y="12276"/>
                  <a:pt x="15157" y="12295"/>
                  <a:pt x="15208" y="12319"/>
                </a:cubicBezTo>
                <a:cubicBezTo>
                  <a:pt x="15258" y="12342"/>
                  <a:pt x="15277" y="12355"/>
                  <a:pt x="15304" y="12382"/>
                </a:cubicBezTo>
                <a:cubicBezTo>
                  <a:pt x="15353" y="12432"/>
                  <a:pt x="15349" y="12477"/>
                  <a:pt x="15367" y="12541"/>
                </a:cubicBezTo>
                <a:cubicBezTo>
                  <a:pt x="15386" y="12611"/>
                  <a:pt x="15395" y="12658"/>
                  <a:pt x="15399" y="12732"/>
                </a:cubicBezTo>
                <a:cubicBezTo>
                  <a:pt x="15402" y="12792"/>
                  <a:pt x="15381" y="12890"/>
                  <a:pt x="15367" y="12954"/>
                </a:cubicBezTo>
                <a:cubicBezTo>
                  <a:pt x="15350" y="13029"/>
                  <a:pt x="15315" y="13141"/>
                  <a:pt x="15272" y="13208"/>
                </a:cubicBezTo>
                <a:cubicBezTo>
                  <a:pt x="15241" y="13256"/>
                  <a:pt x="15180" y="13324"/>
                  <a:pt x="15145" y="13367"/>
                </a:cubicBezTo>
                <a:cubicBezTo>
                  <a:pt x="15094" y="13429"/>
                  <a:pt x="15045" y="13463"/>
                  <a:pt x="14986" y="13494"/>
                </a:cubicBezTo>
                <a:cubicBezTo>
                  <a:pt x="14924" y="13527"/>
                  <a:pt x="14868" y="13537"/>
                  <a:pt x="14796" y="13526"/>
                </a:cubicBezTo>
                <a:cubicBezTo>
                  <a:pt x="14725" y="13515"/>
                  <a:pt x="14697" y="13489"/>
                  <a:pt x="14668" y="13462"/>
                </a:cubicBezTo>
                <a:cubicBezTo>
                  <a:pt x="14637" y="13434"/>
                  <a:pt x="14616" y="13404"/>
                  <a:pt x="14605" y="13335"/>
                </a:cubicBezTo>
                <a:cubicBezTo>
                  <a:pt x="14592" y="13256"/>
                  <a:pt x="14627" y="13188"/>
                  <a:pt x="14637" y="13113"/>
                </a:cubicBezTo>
              </a:path>
              <a:path w="4160" h="7239">
                <a:moveTo>
                  <a:pt x="14732" y="14224"/>
                </a:moveTo>
                <a:cubicBezTo>
                  <a:pt x="14739" y="14281"/>
                  <a:pt x="14758" y="14327"/>
                  <a:pt x="14764" y="14383"/>
                </a:cubicBezTo>
                <a:cubicBezTo>
                  <a:pt x="14799" y="14687"/>
                  <a:pt x="14760" y="15007"/>
                  <a:pt x="14796" y="15304"/>
                </a:cubicBezTo>
                <a:cubicBezTo>
                  <a:pt x="14810" y="15416"/>
                  <a:pt x="14796" y="15539"/>
                  <a:pt x="14796" y="15653"/>
                </a:cubicBezTo>
                <a:cubicBezTo>
                  <a:pt x="14768" y="15597"/>
                  <a:pt x="14743" y="15529"/>
                  <a:pt x="14732" y="15462"/>
                </a:cubicBezTo>
                <a:cubicBezTo>
                  <a:pt x="14686" y="15188"/>
                  <a:pt x="14722" y="14838"/>
                  <a:pt x="14764" y="14573"/>
                </a:cubicBezTo>
                <a:cubicBezTo>
                  <a:pt x="14779" y="14478"/>
                  <a:pt x="14810" y="14432"/>
                  <a:pt x="14859" y="14351"/>
                </a:cubicBezTo>
                <a:cubicBezTo>
                  <a:pt x="14893" y="14295"/>
                  <a:pt x="14928" y="14229"/>
                  <a:pt x="14986" y="14192"/>
                </a:cubicBezTo>
                <a:cubicBezTo>
                  <a:pt x="15012" y="14175"/>
                  <a:pt x="15074" y="14147"/>
                  <a:pt x="15113" y="14160"/>
                </a:cubicBezTo>
                <a:cubicBezTo>
                  <a:pt x="15140" y="14169"/>
                  <a:pt x="15230" y="14222"/>
                  <a:pt x="15240" y="14256"/>
                </a:cubicBezTo>
                <a:cubicBezTo>
                  <a:pt x="15274" y="14372"/>
                  <a:pt x="15277" y="14488"/>
                  <a:pt x="15304" y="14605"/>
                </a:cubicBezTo>
                <a:cubicBezTo>
                  <a:pt x="15327" y="14703"/>
                  <a:pt x="15335" y="14786"/>
                  <a:pt x="15335" y="14891"/>
                </a:cubicBezTo>
                <a:cubicBezTo>
                  <a:pt x="15335" y="15013"/>
                  <a:pt x="15367" y="15111"/>
                  <a:pt x="15367" y="15240"/>
                </a:cubicBezTo>
                <a:cubicBezTo>
                  <a:pt x="15367" y="15316"/>
                  <a:pt x="15389" y="15359"/>
                  <a:pt x="15399" y="15430"/>
                </a:cubicBezTo>
                <a:cubicBezTo>
                  <a:pt x="15405" y="15472"/>
                  <a:pt x="15422" y="15484"/>
                  <a:pt x="15430" y="15526"/>
                </a:cubicBezTo>
                <a:cubicBezTo>
                  <a:pt x="15442" y="15588"/>
                  <a:pt x="15443" y="15590"/>
                  <a:pt x="15462" y="15621"/>
                </a:cubicBezTo>
              </a:path>
              <a:path w="4160" h="7239">
                <a:moveTo>
                  <a:pt x="14764" y="15113"/>
                </a:moveTo>
                <a:cubicBezTo>
                  <a:pt x="14824" y="15113"/>
                  <a:pt x="14844" y="15091"/>
                  <a:pt x="14891" y="15081"/>
                </a:cubicBezTo>
                <a:cubicBezTo>
                  <a:pt x="15008" y="15056"/>
                  <a:pt x="15142" y="15093"/>
                  <a:pt x="15240" y="15113"/>
                </a:cubicBezTo>
                <a:cubicBezTo>
                  <a:pt x="15293" y="15113"/>
                  <a:pt x="15303" y="15113"/>
                  <a:pt x="15335" y="15113"/>
                </a:cubicBezTo>
              </a:path>
              <a:path w="4160" h="7239">
                <a:moveTo>
                  <a:pt x="15970" y="14256"/>
                </a:moveTo>
                <a:lnTo>
                  <a:pt x="15970" y="14256"/>
                </a:lnTo>
              </a:path>
              <a:path w="4160" h="7239">
                <a:moveTo>
                  <a:pt x="15812" y="14319"/>
                </a:moveTo>
                <a:cubicBezTo>
                  <a:pt x="15853" y="14375"/>
                  <a:pt x="15843" y="14404"/>
                  <a:pt x="15843" y="14478"/>
                </a:cubicBezTo>
                <a:cubicBezTo>
                  <a:pt x="15843" y="14594"/>
                  <a:pt x="15870" y="14684"/>
                  <a:pt x="15875" y="14796"/>
                </a:cubicBezTo>
                <a:cubicBezTo>
                  <a:pt x="15882" y="14949"/>
                  <a:pt x="15895" y="15203"/>
                  <a:pt x="15843" y="15304"/>
                </a:cubicBezTo>
                <a:cubicBezTo>
                  <a:pt x="15843" y="15335"/>
                  <a:pt x="15843" y="15346"/>
                  <a:pt x="15843" y="15367"/>
                </a:cubicBezTo>
              </a:path>
              <a:path w="4160" h="7239">
                <a:moveTo>
                  <a:pt x="15653" y="14891"/>
                </a:moveTo>
                <a:cubicBezTo>
                  <a:pt x="15653" y="14880"/>
                  <a:pt x="15653" y="14870"/>
                  <a:pt x="15653" y="14859"/>
                </a:cubicBezTo>
                <a:cubicBezTo>
                  <a:pt x="15706" y="14859"/>
                  <a:pt x="15736" y="14846"/>
                  <a:pt x="15780" y="14827"/>
                </a:cubicBezTo>
                <a:cubicBezTo>
                  <a:pt x="15840" y="14802"/>
                  <a:pt x="15906" y="14768"/>
                  <a:pt x="15970" y="14764"/>
                </a:cubicBezTo>
                <a:cubicBezTo>
                  <a:pt x="16044" y="14759"/>
                  <a:pt x="16102" y="14744"/>
                  <a:pt x="16161" y="14732"/>
                </a:cubicBezTo>
                <a:cubicBezTo>
                  <a:pt x="16214" y="14732"/>
                  <a:pt x="16224" y="14732"/>
                  <a:pt x="16256" y="14732"/>
                </a:cubicBezTo>
              </a:path>
              <a:path w="4160" h="7239">
                <a:moveTo>
                  <a:pt x="16764" y="13303"/>
                </a:moveTo>
                <a:cubicBezTo>
                  <a:pt x="16745" y="13391"/>
                  <a:pt x="16732" y="13465"/>
                  <a:pt x="16732" y="13557"/>
                </a:cubicBezTo>
                <a:cubicBezTo>
                  <a:pt x="16732" y="13712"/>
                  <a:pt x="16747" y="13853"/>
                  <a:pt x="16764" y="14002"/>
                </a:cubicBezTo>
                <a:cubicBezTo>
                  <a:pt x="16777" y="14122"/>
                  <a:pt x="16811" y="14230"/>
                  <a:pt x="16828" y="14351"/>
                </a:cubicBezTo>
                <a:cubicBezTo>
                  <a:pt x="16839" y="14433"/>
                  <a:pt x="16862" y="14527"/>
                  <a:pt x="16891" y="14605"/>
                </a:cubicBezTo>
                <a:cubicBezTo>
                  <a:pt x="16918" y="14676"/>
                  <a:pt x="16924" y="14734"/>
                  <a:pt x="16954" y="14796"/>
                </a:cubicBezTo>
                <a:cubicBezTo>
                  <a:pt x="16933" y="14779"/>
                  <a:pt x="16878" y="14773"/>
                  <a:pt x="16859" y="14732"/>
                </a:cubicBezTo>
                <a:cubicBezTo>
                  <a:pt x="16830" y="14670"/>
                  <a:pt x="16809" y="14602"/>
                  <a:pt x="16764" y="14542"/>
                </a:cubicBezTo>
                <a:cubicBezTo>
                  <a:pt x="16735" y="14504"/>
                  <a:pt x="16690" y="14398"/>
                  <a:pt x="16637" y="14383"/>
                </a:cubicBezTo>
                <a:cubicBezTo>
                  <a:pt x="16600" y="14372"/>
                  <a:pt x="16521" y="14337"/>
                  <a:pt x="16478" y="14351"/>
                </a:cubicBezTo>
                <a:cubicBezTo>
                  <a:pt x="16417" y="14371"/>
                  <a:pt x="16382" y="14418"/>
                  <a:pt x="16351" y="14478"/>
                </a:cubicBezTo>
                <a:cubicBezTo>
                  <a:pt x="16308" y="14561"/>
                  <a:pt x="16292" y="14609"/>
                  <a:pt x="16288" y="14700"/>
                </a:cubicBezTo>
                <a:cubicBezTo>
                  <a:pt x="16284" y="14789"/>
                  <a:pt x="16292" y="14788"/>
                  <a:pt x="16320" y="14827"/>
                </a:cubicBezTo>
                <a:cubicBezTo>
                  <a:pt x="16372" y="14899"/>
                  <a:pt x="16425" y="14838"/>
                  <a:pt x="16478" y="14827"/>
                </a:cubicBezTo>
                <a:cubicBezTo>
                  <a:pt x="16544" y="14814"/>
                  <a:pt x="16606" y="14793"/>
                  <a:pt x="16669" y="14764"/>
                </a:cubicBezTo>
                <a:cubicBezTo>
                  <a:pt x="16732" y="14735"/>
                  <a:pt x="16793" y="14672"/>
                  <a:pt x="16828" y="14637"/>
                </a:cubicBezTo>
                <a:cubicBezTo>
                  <a:pt x="16881" y="14583"/>
                  <a:pt x="16929" y="14543"/>
                  <a:pt x="16986" y="14510"/>
                </a:cubicBezTo>
              </a:path>
              <a:path w="4160" h="7239">
                <a:moveTo>
                  <a:pt x="14319" y="16066"/>
                </a:moveTo>
                <a:cubicBezTo>
                  <a:pt x="14331" y="16061"/>
                  <a:pt x="14430" y="16010"/>
                  <a:pt x="14478" y="16002"/>
                </a:cubicBezTo>
                <a:cubicBezTo>
                  <a:pt x="14577" y="15986"/>
                  <a:pt x="14668" y="15970"/>
                  <a:pt x="14764" y="15938"/>
                </a:cubicBezTo>
                <a:cubicBezTo>
                  <a:pt x="14910" y="15890"/>
                  <a:pt x="15027" y="15840"/>
                  <a:pt x="15176" y="15812"/>
                </a:cubicBezTo>
                <a:cubicBezTo>
                  <a:pt x="15337" y="15782"/>
                  <a:pt x="15494" y="15752"/>
                  <a:pt x="15653" y="15716"/>
                </a:cubicBezTo>
                <a:cubicBezTo>
                  <a:pt x="15813" y="15680"/>
                  <a:pt x="15970" y="15628"/>
                  <a:pt x="16129" y="15589"/>
                </a:cubicBezTo>
                <a:cubicBezTo>
                  <a:pt x="16290" y="15549"/>
                  <a:pt x="16444" y="15538"/>
                  <a:pt x="16605" y="15494"/>
                </a:cubicBezTo>
                <a:cubicBezTo>
                  <a:pt x="16753" y="15453"/>
                  <a:pt x="16903" y="15462"/>
                  <a:pt x="17050" y="15430"/>
                </a:cubicBezTo>
                <a:cubicBezTo>
                  <a:pt x="17173" y="15403"/>
                  <a:pt x="17227" y="15417"/>
                  <a:pt x="17336" y="15430"/>
                </a:cubicBezTo>
                <a:cubicBezTo>
                  <a:pt x="17357" y="15430"/>
                  <a:pt x="17378" y="15430"/>
                  <a:pt x="17399" y="15430"/>
                </a:cubicBezTo>
              </a:path>
              <a:path w="4160" h="7239">
                <a:moveTo>
                  <a:pt x="15716" y="15938"/>
                </a:moveTo>
                <a:cubicBezTo>
                  <a:pt x="15716" y="16006"/>
                  <a:pt x="15716" y="16029"/>
                  <a:pt x="15716" y="16097"/>
                </a:cubicBezTo>
                <a:cubicBezTo>
                  <a:pt x="15716" y="16355"/>
                  <a:pt x="15711" y="16607"/>
                  <a:pt x="15684" y="16859"/>
                </a:cubicBezTo>
                <a:cubicBezTo>
                  <a:pt x="15672" y="16969"/>
                  <a:pt x="15670" y="17073"/>
                  <a:pt x="15653" y="17177"/>
                </a:cubicBezTo>
                <a:cubicBezTo>
                  <a:pt x="15653" y="17230"/>
                  <a:pt x="15653" y="17240"/>
                  <a:pt x="15653" y="17272"/>
                </a:cubicBezTo>
                <a:cubicBezTo>
                  <a:pt x="15653" y="17229"/>
                  <a:pt x="15653" y="17251"/>
                  <a:pt x="15653" y="17208"/>
                </a:cubicBezTo>
                <a:cubicBezTo>
                  <a:pt x="15653" y="17107"/>
                  <a:pt x="15673" y="17016"/>
                  <a:pt x="15684" y="16923"/>
                </a:cubicBezTo>
                <a:cubicBezTo>
                  <a:pt x="15697" y="16820"/>
                  <a:pt x="15716" y="16704"/>
                  <a:pt x="15748" y="16605"/>
                </a:cubicBezTo>
                <a:cubicBezTo>
                  <a:pt x="15773" y="16525"/>
                  <a:pt x="15851" y="16472"/>
                  <a:pt x="15907" y="16415"/>
                </a:cubicBezTo>
                <a:cubicBezTo>
                  <a:pt x="15954" y="16368"/>
                  <a:pt x="15993" y="16317"/>
                  <a:pt x="16066" y="16320"/>
                </a:cubicBezTo>
                <a:cubicBezTo>
                  <a:pt x="16125" y="16322"/>
                  <a:pt x="16181" y="16348"/>
                  <a:pt x="16224" y="16383"/>
                </a:cubicBezTo>
                <a:cubicBezTo>
                  <a:pt x="16274" y="16424"/>
                  <a:pt x="16309" y="16489"/>
                  <a:pt x="16320" y="16542"/>
                </a:cubicBezTo>
                <a:cubicBezTo>
                  <a:pt x="16339" y="16638"/>
                  <a:pt x="16300" y="16706"/>
                  <a:pt x="16288" y="16796"/>
                </a:cubicBezTo>
                <a:cubicBezTo>
                  <a:pt x="16275" y="16893"/>
                  <a:pt x="16256" y="17000"/>
                  <a:pt x="16192" y="17082"/>
                </a:cubicBezTo>
                <a:cubicBezTo>
                  <a:pt x="16128" y="17164"/>
                  <a:pt x="16068" y="17257"/>
                  <a:pt x="16002" y="17336"/>
                </a:cubicBezTo>
                <a:cubicBezTo>
                  <a:pt x="15945" y="17404"/>
                  <a:pt x="15897" y="17445"/>
                  <a:pt x="15812" y="17462"/>
                </a:cubicBezTo>
                <a:cubicBezTo>
                  <a:pt x="15724" y="17479"/>
                  <a:pt x="15758" y="17434"/>
                  <a:pt x="15748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11"/>
          <p:cNvSpPr/>
          <p:nvPr/>
        </p:nvSpPr>
        <p:spPr>
          <a:xfrm>
            <a:off x="2732040" y="1336680"/>
            <a:ext cx="628560" cy="1131840"/>
          </a:xfrm>
          <a:custGeom>
            <a:avLst/>
            <a:gdLst/>
            <a:ahLst/>
            <a:rect l="l" t="t" r="r" b="b"/>
            <a:pathLst>
              <a:path w="1747" h="3144">
                <a:moveTo>
                  <a:pt x="9334" y="3715"/>
                </a:moveTo>
                <a:cubicBezTo>
                  <a:pt x="9312" y="3737"/>
                  <a:pt x="9234" y="3793"/>
                  <a:pt x="9208" y="3842"/>
                </a:cubicBezTo>
                <a:cubicBezTo>
                  <a:pt x="9137" y="3978"/>
                  <a:pt x="9048" y="4113"/>
                  <a:pt x="8985" y="4254"/>
                </a:cubicBezTo>
                <a:cubicBezTo>
                  <a:pt x="8889" y="4468"/>
                  <a:pt x="8781" y="4682"/>
                  <a:pt x="8668" y="4890"/>
                </a:cubicBezTo>
                <a:cubicBezTo>
                  <a:pt x="8548" y="5110"/>
                  <a:pt x="8388" y="5327"/>
                  <a:pt x="8287" y="5556"/>
                </a:cubicBezTo>
                <a:cubicBezTo>
                  <a:pt x="8165" y="5834"/>
                  <a:pt x="8037" y="6107"/>
                  <a:pt x="7906" y="6382"/>
                </a:cubicBezTo>
                <a:cubicBezTo>
                  <a:pt x="7843" y="6515"/>
                  <a:pt x="7775" y="6650"/>
                  <a:pt x="7684" y="6763"/>
                </a:cubicBezTo>
                <a:cubicBezTo>
                  <a:pt x="7656" y="6798"/>
                  <a:pt x="7618" y="6825"/>
                  <a:pt x="7588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12"/>
          <p:cNvSpPr/>
          <p:nvPr/>
        </p:nvSpPr>
        <p:spPr>
          <a:xfrm>
            <a:off x="3782880" y="4400640"/>
            <a:ext cx="114480" cy="446040"/>
          </a:xfrm>
          <a:custGeom>
            <a:avLst/>
            <a:gdLst/>
            <a:ahLst/>
            <a:rect l="l" t="t" r="r" b="b"/>
            <a:pathLst>
              <a:path w="319" h="1239">
                <a:moveTo>
                  <a:pt x="10509" y="12224"/>
                </a:moveTo>
                <a:cubicBezTo>
                  <a:pt x="10563" y="12482"/>
                  <a:pt x="10637" y="12731"/>
                  <a:pt x="10700" y="12986"/>
                </a:cubicBezTo>
                <a:cubicBezTo>
                  <a:pt x="10741" y="13152"/>
                  <a:pt x="10770" y="13300"/>
                  <a:pt x="10827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13"/>
          <p:cNvSpPr/>
          <p:nvPr/>
        </p:nvSpPr>
        <p:spPr>
          <a:xfrm>
            <a:off x="3622680" y="3736800"/>
            <a:ext cx="127080" cy="538200"/>
          </a:xfrm>
          <a:custGeom>
            <a:avLst/>
            <a:gdLst/>
            <a:ahLst/>
            <a:rect l="l" t="t" r="r" b="b"/>
            <a:pathLst>
              <a:path w="350" h="1493">
                <a:moveTo>
                  <a:pt x="10065" y="10382"/>
                </a:moveTo>
                <a:cubicBezTo>
                  <a:pt x="10104" y="10503"/>
                  <a:pt x="10131" y="10634"/>
                  <a:pt x="10160" y="10763"/>
                </a:cubicBezTo>
                <a:cubicBezTo>
                  <a:pt x="10213" y="10997"/>
                  <a:pt x="10265" y="11232"/>
                  <a:pt x="10319" y="11462"/>
                </a:cubicBezTo>
                <a:cubicBezTo>
                  <a:pt x="10352" y="11665"/>
                  <a:pt x="10366" y="11740"/>
                  <a:pt x="10414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14"/>
          <p:cNvSpPr/>
          <p:nvPr/>
        </p:nvSpPr>
        <p:spPr>
          <a:xfrm>
            <a:off x="2822400" y="4411800"/>
            <a:ext cx="298800" cy="46080"/>
          </a:xfrm>
          <a:custGeom>
            <a:avLst/>
            <a:gdLst/>
            <a:ahLst/>
            <a:rect l="l" t="t" r="r" b="b"/>
            <a:pathLst>
              <a:path w="827" h="127">
                <a:moveTo>
                  <a:pt x="7874" y="12256"/>
                </a:moveTo>
                <a:cubicBezTo>
                  <a:pt x="7945" y="12256"/>
                  <a:pt x="7918" y="12281"/>
                  <a:pt x="7969" y="12287"/>
                </a:cubicBezTo>
                <a:cubicBezTo>
                  <a:pt x="8038" y="12295"/>
                  <a:pt x="8070" y="12300"/>
                  <a:pt x="8128" y="12319"/>
                </a:cubicBezTo>
                <a:cubicBezTo>
                  <a:pt x="8183" y="12337"/>
                  <a:pt x="8208" y="12292"/>
                  <a:pt x="8255" y="12287"/>
                </a:cubicBezTo>
                <a:cubicBezTo>
                  <a:pt x="8383" y="12273"/>
                  <a:pt x="8528" y="12283"/>
                  <a:pt x="8636" y="12319"/>
                </a:cubicBezTo>
                <a:cubicBezTo>
                  <a:pt x="8647" y="12319"/>
                  <a:pt x="8657" y="12319"/>
                  <a:pt x="8668" y="12319"/>
                </a:cubicBezTo>
                <a:cubicBezTo>
                  <a:pt x="8610" y="12305"/>
                  <a:pt x="8578" y="12287"/>
                  <a:pt x="8509" y="12287"/>
                </a:cubicBezTo>
                <a:cubicBezTo>
                  <a:pt x="8374" y="12287"/>
                  <a:pt x="8245" y="12296"/>
                  <a:pt x="8128" y="12319"/>
                </a:cubicBezTo>
                <a:cubicBezTo>
                  <a:pt x="8074" y="12330"/>
                  <a:pt x="8013" y="12341"/>
                  <a:pt x="7969" y="12351"/>
                </a:cubicBezTo>
                <a:cubicBezTo>
                  <a:pt x="7885" y="12369"/>
                  <a:pt x="7897" y="12364"/>
                  <a:pt x="7842" y="12382"/>
                </a:cubicBezTo>
                <a:cubicBezTo>
                  <a:pt x="7906" y="12367"/>
                  <a:pt x="7925" y="12351"/>
                  <a:pt x="8001" y="12351"/>
                </a:cubicBezTo>
                <a:cubicBezTo>
                  <a:pt x="8170" y="12351"/>
                  <a:pt x="8340" y="12351"/>
                  <a:pt x="8509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15"/>
          <p:cNvSpPr/>
          <p:nvPr/>
        </p:nvSpPr>
        <p:spPr>
          <a:xfrm>
            <a:off x="3371760" y="4378320"/>
            <a:ext cx="446040" cy="274680"/>
          </a:xfrm>
          <a:custGeom>
            <a:avLst/>
            <a:gdLst/>
            <a:ahLst/>
            <a:rect l="l" t="t" r="r" b="b"/>
            <a:pathLst>
              <a:path w="1239" h="763">
                <a:moveTo>
                  <a:pt x="9557" y="12192"/>
                </a:moveTo>
                <a:cubicBezTo>
                  <a:pt x="9545" y="12242"/>
                  <a:pt x="9525" y="12262"/>
                  <a:pt x="9525" y="12319"/>
                </a:cubicBezTo>
                <a:cubicBezTo>
                  <a:pt x="9525" y="12446"/>
                  <a:pt x="9526" y="12559"/>
                  <a:pt x="9493" y="12668"/>
                </a:cubicBezTo>
                <a:cubicBezTo>
                  <a:pt x="9490" y="12677"/>
                  <a:pt x="9493" y="12787"/>
                  <a:pt x="9493" y="12700"/>
                </a:cubicBezTo>
              </a:path>
              <a:path w="1239" h="763">
                <a:moveTo>
                  <a:pt x="9366" y="12351"/>
                </a:moveTo>
                <a:cubicBezTo>
                  <a:pt x="9448" y="12397"/>
                  <a:pt x="9504" y="12408"/>
                  <a:pt x="9588" y="12446"/>
                </a:cubicBezTo>
                <a:cubicBezTo>
                  <a:pt x="9668" y="12482"/>
                  <a:pt x="9725" y="12478"/>
                  <a:pt x="9811" y="12478"/>
                </a:cubicBezTo>
                <a:cubicBezTo>
                  <a:pt x="9821" y="12478"/>
                  <a:pt x="9832" y="12478"/>
                  <a:pt x="9842" y="12478"/>
                </a:cubicBezTo>
              </a:path>
              <a:path w="1239" h="763">
                <a:moveTo>
                  <a:pt x="10573" y="12160"/>
                </a:moveTo>
                <a:cubicBezTo>
                  <a:pt x="10573" y="12245"/>
                  <a:pt x="10555" y="12304"/>
                  <a:pt x="10541" y="12382"/>
                </a:cubicBezTo>
                <a:cubicBezTo>
                  <a:pt x="10525" y="12473"/>
                  <a:pt x="10522" y="12577"/>
                  <a:pt x="10509" y="12668"/>
                </a:cubicBezTo>
                <a:cubicBezTo>
                  <a:pt x="10497" y="12750"/>
                  <a:pt x="10494" y="12860"/>
                  <a:pt x="10541" y="12922"/>
                </a:cubicBezTo>
                <a:cubicBezTo>
                  <a:pt x="10528" y="12872"/>
                  <a:pt x="10509" y="12852"/>
                  <a:pt x="10509" y="12795"/>
                </a:cubicBezTo>
                <a:cubicBezTo>
                  <a:pt x="10509" y="12708"/>
                  <a:pt x="10516" y="12645"/>
                  <a:pt x="10478" y="12573"/>
                </a:cubicBezTo>
                <a:cubicBezTo>
                  <a:pt x="10452" y="12524"/>
                  <a:pt x="10392" y="12434"/>
                  <a:pt x="10319" y="12446"/>
                </a:cubicBezTo>
                <a:cubicBezTo>
                  <a:pt x="10277" y="12453"/>
                  <a:pt x="10203" y="12533"/>
                  <a:pt x="10192" y="12573"/>
                </a:cubicBezTo>
                <a:cubicBezTo>
                  <a:pt x="10178" y="12625"/>
                  <a:pt x="10181" y="12731"/>
                  <a:pt x="10224" y="12764"/>
                </a:cubicBezTo>
                <a:cubicBezTo>
                  <a:pt x="10274" y="12802"/>
                  <a:pt x="10347" y="12849"/>
                  <a:pt x="10414" y="12827"/>
                </a:cubicBezTo>
                <a:cubicBezTo>
                  <a:pt x="10470" y="12808"/>
                  <a:pt x="10578" y="12761"/>
                  <a:pt x="10604" y="12700"/>
                </a:cubicBezTo>
                <a:cubicBezTo>
                  <a:pt x="10625" y="12652"/>
                  <a:pt x="10604" y="12615"/>
                  <a:pt x="10573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6"/>
          <p:cNvSpPr/>
          <p:nvPr/>
        </p:nvSpPr>
        <p:spPr>
          <a:xfrm>
            <a:off x="1565280" y="4479840"/>
            <a:ext cx="378000" cy="298440"/>
          </a:xfrm>
          <a:custGeom>
            <a:avLst/>
            <a:gdLst/>
            <a:ahLst/>
            <a:rect l="l" t="t" r="r" b="b"/>
            <a:pathLst>
              <a:path w="1049" h="827">
                <a:moveTo>
                  <a:pt x="4762" y="12478"/>
                </a:moveTo>
                <a:cubicBezTo>
                  <a:pt x="4762" y="12548"/>
                  <a:pt x="4735" y="12598"/>
                  <a:pt x="4731" y="12668"/>
                </a:cubicBezTo>
                <a:cubicBezTo>
                  <a:pt x="4723" y="12812"/>
                  <a:pt x="4721" y="12945"/>
                  <a:pt x="4699" y="13081"/>
                </a:cubicBezTo>
                <a:cubicBezTo>
                  <a:pt x="4692" y="13122"/>
                  <a:pt x="4723" y="13265"/>
                  <a:pt x="4699" y="13208"/>
                </a:cubicBezTo>
                <a:cubicBezTo>
                  <a:pt x="4668" y="13133"/>
                  <a:pt x="4660" y="13059"/>
                  <a:pt x="4636" y="12986"/>
                </a:cubicBezTo>
                <a:cubicBezTo>
                  <a:pt x="4610" y="12909"/>
                  <a:pt x="4564" y="12851"/>
                  <a:pt x="4508" y="12795"/>
                </a:cubicBezTo>
                <a:cubicBezTo>
                  <a:pt x="4498" y="12785"/>
                  <a:pt x="4487" y="12774"/>
                  <a:pt x="4477" y="12764"/>
                </a:cubicBezTo>
                <a:cubicBezTo>
                  <a:pt x="4453" y="12772"/>
                  <a:pt x="4399" y="12812"/>
                  <a:pt x="4413" y="12859"/>
                </a:cubicBezTo>
                <a:cubicBezTo>
                  <a:pt x="4433" y="12928"/>
                  <a:pt x="4458" y="12968"/>
                  <a:pt x="4508" y="13018"/>
                </a:cubicBezTo>
                <a:cubicBezTo>
                  <a:pt x="4541" y="13051"/>
                  <a:pt x="4619" y="13069"/>
                  <a:pt x="4667" y="13049"/>
                </a:cubicBezTo>
                <a:cubicBezTo>
                  <a:pt x="4715" y="13029"/>
                  <a:pt x="4754" y="12994"/>
                  <a:pt x="4794" y="12954"/>
                </a:cubicBezTo>
                <a:cubicBezTo>
                  <a:pt x="4805" y="12943"/>
                  <a:pt x="4815" y="12933"/>
                  <a:pt x="4826" y="12922"/>
                </a:cubicBezTo>
              </a:path>
              <a:path w="1049" h="827">
                <a:moveTo>
                  <a:pt x="5270" y="12446"/>
                </a:moveTo>
                <a:cubicBezTo>
                  <a:pt x="5294" y="12565"/>
                  <a:pt x="5289" y="12541"/>
                  <a:pt x="5270" y="12668"/>
                </a:cubicBezTo>
                <a:cubicBezTo>
                  <a:pt x="5249" y="12809"/>
                  <a:pt x="5281" y="12951"/>
                  <a:pt x="5302" y="13081"/>
                </a:cubicBezTo>
                <a:cubicBezTo>
                  <a:pt x="5314" y="13155"/>
                  <a:pt x="5318" y="13207"/>
                  <a:pt x="5334" y="13272"/>
                </a:cubicBezTo>
                <a:cubicBezTo>
                  <a:pt x="5324" y="13233"/>
                  <a:pt x="5318" y="13151"/>
                  <a:pt x="5302" y="13113"/>
                </a:cubicBezTo>
                <a:cubicBezTo>
                  <a:pt x="5281" y="13062"/>
                  <a:pt x="5228" y="13007"/>
                  <a:pt x="5207" y="12954"/>
                </a:cubicBezTo>
                <a:cubicBezTo>
                  <a:pt x="5200" y="12935"/>
                  <a:pt x="5157" y="12870"/>
                  <a:pt x="5112" y="12890"/>
                </a:cubicBezTo>
                <a:cubicBezTo>
                  <a:pt x="5062" y="12912"/>
                  <a:pt x="5033" y="12978"/>
                  <a:pt x="5016" y="13018"/>
                </a:cubicBezTo>
                <a:cubicBezTo>
                  <a:pt x="5002" y="13052"/>
                  <a:pt x="4961" y="13132"/>
                  <a:pt x="4985" y="13176"/>
                </a:cubicBezTo>
                <a:cubicBezTo>
                  <a:pt x="5013" y="13228"/>
                  <a:pt x="5096" y="13208"/>
                  <a:pt x="5144" y="13208"/>
                </a:cubicBezTo>
                <a:cubicBezTo>
                  <a:pt x="5228" y="13208"/>
                  <a:pt x="5288" y="13184"/>
                  <a:pt x="5366" y="13176"/>
                </a:cubicBezTo>
                <a:cubicBezTo>
                  <a:pt x="5424" y="13170"/>
                  <a:pt x="5401" y="13156"/>
                  <a:pt x="5366" y="13144"/>
                </a:cubicBezTo>
              </a:path>
              <a:path w="1049" h="827">
                <a:moveTo>
                  <a:pt x="4667" y="12541"/>
                </a:moveTo>
                <a:cubicBezTo>
                  <a:pt x="4667" y="12763"/>
                  <a:pt x="4667" y="12986"/>
                  <a:pt x="4667" y="13208"/>
                </a:cubicBezTo>
                <a:cubicBezTo>
                  <a:pt x="4667" y="13294"/>
                  <a:pt x="4667" y="13159"/>
                  <a:pt x="4667" y="13144"/>
                </a:cubicBezTo>
                <a:cubicBezTo>
                  <a:pt x="4667" y="13031"/>
                  <a:pt x="4693" y="12937"/>
                  <a:pt x="4699" y="12827"/>
                </a:cubicBezTo>
                <a:cubicBezTo>
                  <a:pt x="4704" y="12729"/>
                  <a:pt x="4707" y="12628"/>
                  <a:pt x="4731" y="12573"/>
                </a:cubicBezTo>
                <a:cubicBezTo>
                  <a:pt x="4731" y="12562"/>
                  <a:pt x="4731" y="12552"/>
                  <a:pt x="4731" y="12541"/>
                </a:cubicBezTo>
                <a:cubicBezTo>
                  <a:pt x="4731" y="12624"/>
                  <a:pt x="4704" y="12683"/>
                  <a:pt x="4699" y="12764"/>
                </a:cubicBezTo>
                <a:cubicBezTo>
                  <a:pt x="4694" y="12856"/>
                  <a:pt x="4672" y="12930"/>
                  <a:pt x="4667" y="13018"/>
                </a:cubicBezTo>
                <a:cubicBezTo>
                  <a:pt x="4663" y="13091"/>
                  <a:pt x="4667" y="13166"/>
                  <a:pt x="4667" y="13240"/>
                </a:cubicBezTo>
              </a:path>
              <a:path w="1049" h="827">
                <a:moveTo>
                  <a:pt x="4826" y="13018"/>
                </a:moveTo>
                <a:cubicBezTo>
                  <a:pt x="4762" y="13055"/>
                  <a:pt x="4714" y="13049"/>
                  <a:pt x="4636" y="13049"/>
                </a:cubicBezTo>
                <a:cubicBezTo>
                  <a:pt x="4580" y="13049"/>
                  <a:pt x="4330" y="13049"/>
                  <a:pt x="4382" y="13049"/>
                </a:cubicBezTo>
                <a:cubicBezTo>
                  <a:pt x="4452" y="13008"/>
                  <a:pt x="4518" y="13018"/>
                  <a:pt x="4604" y="13018"/>
                </a:cubicBezTo>
                <a:cubicBezTo>
                  <a:pt x="4678" y="13018"/>
                  <a:pt x="4752" y="13018"/>
                  <a:pt x="4826" y="13018"/>
                </a:cubicBezTo>
                <a:cubicBezTo>
                  <a:pt x="4813" y="12979"/>
                  <a:pt x="4723" y="12963"/>
                  <a:pt x="4667" y="12954"/>
                </a:cubicBezTo>
                <a:cubicBezTo>
                  <a:pt x="4579" y="12939"/>
                  <a:pt x="4506" y="12922"/>
                  <a:pt x="4413" y="12922"/>
                </a:cubicBezTo>
                <a:cubicBezTo>
                  <a:pt x="4336" y="12922"/>
                  <a:pt x="4487" y="12953"/>
                  <a:pt x="4508" y="12954"/>
                </a:cubicBezTo>
                <a:cubicBezTo>
                  <a:pt x="4613" y="12960"/>
                  <a:pt x="4721" y="12954"/>
                  <a:pt x="4826" y="12954"/>
                </a:cubicBezTo>
                <a:cubicBezTo>
                  <a:pt x="4805" y="12871"/>
                  <a:pt x="4744" y="12893"/>
                  <a:pt x="4667" y="12859"/>
                </a:cubicBezTo>
                <a:cubicBezTo>
                  <a:pt x="4579" y="12820"/>
                  <a:pt x="4511" y="12827"/>
                  <a:pt x="4413" y="12827"/>
                </a:cubicBezTo>
                <a:cubicBezTo>
                  <a:pt x="4402" y="12827"/>
                  <a:pt x="4297" y="12827"/>
                  <a:pt x="4382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: 1.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Solving with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ice is building a rectangular garden.  Her garden will be next to an existing 12 foot fence.  She has a total of 44 feet of fencing to build the other three sides.  What will be the dimensions of her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3"/>
          <p:cNvSpPr/>
          <p:nvPr/>
        </p:nvSpPr>
        <p:spPr>
          <a:xfrm>
            <a:off x="1063800" y="3681360"/>
            <a:ext cx="1245960" cy="1587600"/>
          </a:xfrm>
          <a:custGeom>
            <a:avLst/>
            <a:gdLst/>
            <a:ahLst/>
            <a:rect l="l" t="t" r="r" b="b"/>
            <a:pathLst>
              <a:path w="3462" h="4414">
                <a:moveTo>
                  <a:pt x="3048" y="11970"/>
                </a:moveTo>
                <a:cubicBezTo>
                  <a:pt x="3028" y="12030"/>
                  <a:pt x="3016" y="11999"/>
                  <a:pt x="3016" y="12097"/>
                </a:cubicBezTo>
                <a:cubicBezTo>
                  <a:pt x="3016" y="12180"/>
                  <a:pt x="2989" y="12239"/>
                  <a:pt x="2984" y="12319"/>
                </a:cubicBezTo>
                <a:cubicBezTo>
                  <a:pt x="2978" y="12420"/>
                  <a:pt x="2968" y="12510"/>
                  <a:pt x="2953" y="12605"/>
                </a:cubicBezTo>
                <a:cubicBezTo>
                  <a:pt x="2937" y="12705"/>
                  <a:pt x="2953" y="12819"/>
                  <a:pt x="2953" y="12922"/>
                </a:cubicBezTo>
              </a:path>
              <a:path w="3462" h="4414">
                <a:moveTo>
                  <a:pt x="3207" y="12287"/>
                </a:moveTo>
                <a:cubicBezTo>
                  <a:pt x="3222" y="12229"/>
                  <a:pt x="3237" y="12217"/>
                  <a:pt x="3270" y="12192"/>
                </a:cubicBezTo>
                <a:cubicBezTo>
                  <a:pt x="3291" y="12176"/>
                  <a:pt x="3354" y="12091"/>
                  <a:pt x="3366" y="12065"/>
                </a:cubicBezTo>
                <a:cubicBezTo>
                  <a:pt x="3366" y="12033"/>
                  <a:pt x="3366" y="12023"/>
                  <a:pt x="3397" y="12033"/>
                </a:cubicBezTo>
                <a:cubicBezTo>
                  <a:pt x="3426" y="12043"/>
                  <a:pt x="3447" y="12087"/>
                  <a:pt x="3461" y="12128"/>
                </a:cubicBezTo>
                <a:cubicBezTo>
                  <a:pt x="3468" y="12148"/>
                  <a:pt x="3437" y="12321"/>
                  <a:pt x="3429" y="12351"/>
                </a:cubicBezTo>
                <a:cubicBezTo>
                  <a:pt x="3406" y="12434"/>
                  <a:pt x="3386" y="12530"/>
                  <a:pt x="3334" y="12605"/>
                </a:cubicBezTo>
                <a:cubicBezTo>
                  <a:pt x="3293" y="12664"/>
                  <a:pt x="3271" y="12739"/>
                  <a:pt x="3238" y="12795"/>
                </a:cubicBezTo>
                <a:cubicBezTo>
                  <a:pt x="3213" y="12837"/>
                  <a:pt x="3172" y="12881"/>
                  <a:pt x="3143" y="12890"/>
                </a:cubicBezTo>
                <a:cubicBezTo>
                  <a:pt x="3201" y="12890"/>
                  <a:pt x="3218" y="12865"/>
                  <a:pt x="3270" y="12859"/>
                </a:cubicBezTo>
                <a:cubicBezTo>
                  <a:pt x="3340" y="12851"/>
                  <a:pt x="3368" y="12876"/>
                  <a:pt x="3397" y="12890"/>
                </a:cubicBezTo>
                <a:cubicBezTo>
                  <a:pt x="3425" y="12904"/>
                  <a:pt x="3495" y="12919"/>
                  <a:pt x="3524" y="12922"/>
                </a:cubicBezTo>
                <a:cubicBezTo>
                  <a:pt x="3556" y="12922"/>
                  <a:pt x="3567" y="12922"/>
                  <a:pt x="3556" y="12890"/>
                </a:cubicBezTo>
              </a:path>
              <a:path w="3462" h="4414">
                <a:moveTo>
                  <a:pt x="3937" y="11081"/>
                </a:moveTo>
                <a:cubicBezTo>
                  <a:pt x="3883" y="11089"/>
                  <a:pt x="3873" y="11085"/>
                  <a:pt x="3842" y="11112"/>
                </a:cubicBezTo>
                <a:cubicBezTo>
                  <a:pt x="3808" y="11141"/>
                  <a:pt x="3780" y="11178"/>
                  <a:pt x="3746" y="11208"/>
                </a:cubicBezTo>
                <a:cubicBezTo>
                  <a:pt x="3763" y="11230"/>
                  <a:pt x="3768" y="11282"/>
                  <a:pt x="3810" y="11303"/>
                </a:cubicBezTo>
                <a:cubicBezTo>
                  <a:pt x="3845" y="11320"/>
                  <a:pt x="3900" y="11321"/>
                  <a:pt x="3937" y="11335"/>
                </a:cubicBezTo>
                <a:cubicBezTo>
                  <a:pt x="3924" y="11345"/>
                  <a:pt x="3865" y="11379"/>
                  <a:pt x="3842" y="11398"/>
                </a:cubicBezTo>
                <a:cubicBezTo>
                  <a:pt x="3803" y="11430"/>
                  <a:pt x="3785" y="11443"/>
                  <a:pt x="3746" y="11462"/>
                </a:cubicBezTo>
                <a:cubicBezTo>
                  <a:pt x="3775" y="11491"/>
                  <a:pt x="3771" y="11500"/>
                  <a:pt x="3810" y="11525"/>
                </a:cubicBezTo>
                <a:cubicBezTo>
                  <a:pt x="3849" y="11550"/>
                  <a:pt x="3899" y="11570"/>
                  <a:pt x="3937" y="11589"/>
                </a:cubicBezTo>
                <a:cubicBezTo>
                  <a:pt x="3912" y="11609"/>
                  <a:pt x="3891" y="11632"/>
                  <a:pt x="3842" y="11652"/>
                </a:cubicBezTo>
                <a:cubicBezTo>
                  <a:pt x="3798" y="11670"/>
                  <a:pt x="3757" y="11693"/>
                  <a:pt x="3715" y="11716"/>
                </a:cubicBezTo>
                <a:cubicBezTo>
                  <a:pt x="3737" y="11760"/>
                  <a:pt x="3738" y="11805"/>
                  <a:pt x="3778" y="11843"/>
                </a:cubicBezTo>
                <a:cubicBezTo>
                  <a:pt x="3803" y="11867"/>
                  <a:pt x="3917" y="11927"/>
                  <a:pt x="3905" y="11970"/>
                </a:cubicBezTo>
                <a:cubicBezTo>
                  <a:pt x="3890" y="12021"/>
                  <a:pt x="3810" y="12047"/>
                  <a:pt x="3778" y="12065"/>
                </a:cubicBezTo>
                <a:cubicBezTo>
                  <a:pt x="3745" y="12083"/>
                  <a:pt x="3685" y="12095"/>
                  <a:pt x="3715" y="12160"/>
                </a:cubicBezTo>
                <a:cubicBezTo>
                  <a:pt x="3751" y="12238"/>
                  <a:pt x="3836" y="12221"/>
                  <a:pt x="3874" y="12256"/>
                </a:cubicBezTo>
                <a:cubicBezTo>
                  <a:pt x="3888" y="12269"/>
                  <a:pt x="3910" y="12327"/>
                  <a:pt x="3937" y="12351"/>
                </a:cubicBezTo>
                <a:cubicBezTo>
                  <a:pt x="3893" y="12373"/>
                  <a:pt x="3847" y="12374"/>
                  <a:pt x="3810" y="12414"/>
                </a:cubicBezTo>
                <a:cubicBezTo>
                  <a:pt x="3748" y="12481"/>
                  <a:pt x="3794" y="12477"/>
                  <a:pt x="3810" y="12510"/>
                </a:cubicBezTo>
                <a:cubicBezTo>
                  <a:pt x="3826" y="12544"/>
                  <a:pt x="3905" y="12631"/>
                  <a:pt x="3905" y="12668"/>
                </a:cubicBezTo>
                <a:cubicBezTo>
                  <a:pt x="3905" y="12715"/>
                  <a:pt x="3851" y="12710"/>
                  <a:pt x="3810" y="12732"/>
                </a:cubicBezTo>
                <a:cubicBezTo>
                  <a:pt x="3781" y="12747"/>
                  <a:pt x="3715" y="12789"/>
                  <a:pt x="3715" y="12827"/>
                </a:cubicBezTo>
                <a:cubicBezTo>
                  <a:pt x="3715" y="12874"/>
                  <a:pt x="3750" y="12918"/>
                  <a:pt x="3778" y="12954"/>
                </a:cubicBezTo>
                <a:cubicBezTo>
                  <a:pt x="3817" y="13004"/>
                  <a:pt x="3872" y="13073"/>
                  <a:pt x="3905" y="13113"/>
                </a:cubicBezTo>
                <a:cubicBezTo>
                  <a:pt x="3937" y="13152"/>
                  <a:pt x="3950" y="13169"/>
                  <a:pt x="3969" y="13208"/>
                </a:cubicBezTo>
                <a:cubicBezTo>
                  <a:pt x="3898" y="13208"/>
                  <a:pt x="3867" y="13205"/>
                  <a:pt x="3810" y="13240"/>
                </a:cubicBezTo>
                <a:cubicBezTo>
                  <a:pt x="3785" y="13256"/>
                  <a:pt x="3756" y="13281"/>
                  <a:pt x="3778" y="13335"/>
                </a:cubicBezTo>
                <a:cubicBezTo>
                  <a:pt x="3799" y="13386"/>
                  <a:pt x="3869" y="13481"/>
                  <a:pt x="3905" y="13526"/>
                </a:cubicBezTo>
                <a:cubicBezTo>
                  <a:pt x="3935" y="13563"/>
                  <a:pt x="3950" y="13586"/>
                  <a:pt x="3969" y="13621"/>
                </a:cubicBezTo>
                <a:cubicBezTo>
                  <a:pt x="3926" y="13637"/>
                  <a:pt x="3886" y="13637"/>
                  <a:pt x="3842" y="13652"/>
                </a:cubicBezTo>
                <a:cubicBezTo>
                  <a:pt x="3792" y="13669"/>
                  <a:pt x="3760" y="13701"/>
                  <a:pt x="3746" y="13748"/>
                </a:cubicBezTo>
                <a:cubicBezTo>
                  <a:pt x="3727" y="13813"/>
                  <a:pt x="3775" y="13860"/>
                  <a:pt x="3810" y="13906"/>
                </a:cubicBezTo>
                <a:cubicBezTo>
                  <a:pt x="3845" y="13952"/>
                  <a:pt x="3885" y="13983"/>
                  <a:pt x="3905" y="14034"/>
                </a:cubicBezTo>
                <a:cubicBezTo>
                  <a:pt x="3905" y="14044"/>
                  <a:pt x="3905" y="14055"/>
                  <a:pt x="3905" y="14065"/>
                </a:cubicBezTo>
                <a:cubicBezTo>
                  <a:pt x="3882" y="14077"/>
                  <a:pt x="3790" y="14116"/>
                  <a:pt x="3778" y="14129"/>
                </a:cubicBezTo>
                <a:cubicBezTo>
                  <a:pt x="3777" y="14131"/>
                  <a:pt x="3715" y="14253"/>
                  <a:pt x="3715" y="14256"/>
                </a:cubicBezTo>
                <a:cubicBezTo>
                  <a:pt x="3716" y="14278"/>
                  <a:pt x="3797" y="14372"/>
                  <a:pt x="3810" y="14383"/>
                </a:cubicBezTo>
                <a:cubicBezTo>
                  <a:pt x="3855" y="14421"/>
                  <a:pt x="3849" y="14416"/>
                  <a:pt x="3874" y="14446"/>
                </a:cubicBezTo>
                <a:cubicBezTo>
                  <a:pt x="3856" y="14464"/>
                  <a:pt x="3806" y="14503"/>
                  <a:pt x="3778" y="14542"/>
                </a:cubicBezTo>
                <a:cubicBezTo>
                  <a:pt x="3763" y="14563"/>
                  <a:pt x="3758" y="14613"/>
                  <a:pt x="3746" y="14637"/>
                </a:cubicBezTo>
              </a:path>
              <a:path w="3462" h="4414">
                <a:moveTo>
                  <a:pt x="5778" y="10224"/>
                </a:moveTo>
                <a:cubicBezTo>
                  <a:pt x="5791" y="10274"/>
                  <a:pt x="5842" y="10366"/>
                  <a:pt x="5874" y="10414"/>
                </a:cubicBezTo>
                <a:cubicBezTo>
                  <a:pt x="5927" y="10494"/>
                  <a:pt x="6011" y="10556"/>
                  <a:pt x="6064" y="10636"/>
                </a:cubicBezTo>
                <a:cubicBezTo>
                  <a:pt x="6125" y="10727"/>
                  <a:pt x="6176" y="10792"/>
                  <a:pt x="6255" y="10858"/>
                </a:cubicBezTo>
                <a:cubicBezTo>
                  <a:pt x="6320" y="10913"/>
                  <a:pt x="6353" y="10953"/>
                  <a:pt x="6414" y="10922"/>
                </a:cubicBezTo>
              </a:path>
              <a:path w="3462" h="4414">
                <a:moveTo>
                  <a:pt x="6286" y="10224"/>
                </a:moveTo>
                <a:cubicBezTo>
                  <a:pt x="6182" y="10302"/>
                  <a:pt x="6098" y="10412"/>
                  <a:pt x="6001" y="10509"/>
                </a:cubicBezTo>
                <a:cubicBezTo>
                  <a:pt x="5858" y="10652"/>
                  <a:pt x="5691" y="10774"/>
                  <a:pt x="5556" y="10922"/>
                </a:cubicBezTo>
                <a:cubicBezTo>
                  <a:pt x="5524" y="10964"/>
                  <a:pt x="5493" y="11007"/>
                  <a:pt x="5461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4"/>
          <p:cNvSpPr/>
          <p:nvPr/>
        </p:nvSpPr>
        <p:spPr>
          <a:xfrm>
            <a:off x="1336680" y="3978360"/>
            <a:ext cx="1830240" cy="1200240"/>
          </a:xfrm>
          <a:custGeom>
            <a:avLst/>
            <a:gdLst/>
            <a:ahLst/>
            <a:rect l="l" t="t" r="r" b="b"/>
            <a:pathLst>
              <a:path w="5081" h="3335">
                <a:moveTo>
                  <a:pt x="3937" y="11049"/>
                </a:moveTo>
                <a:cubicBezTo>
                  <a:pt x="3925" y="11068"/>
                  <a:pt x="3924" y="11106"/>
                  <a:pt x="3905" y="11144"/>
                </a:cubicBezTo>
                <a:cubicBezTo>
                  <a:pt x="3884" y="11187"/>
                  <a:pt x="3878" y="11176"/>
                  <a:pt x="3874" y="11240"/>
                </a:cubicBezTo>
                <a:cubicBezTo>
                  <a:pt x="3849" y="11672"/>
                  <a:pt x="3848" y="12163"/>
                  <a:pt x="3905" y="12573"/>
                </a:cubicBezTo>
                <a:cubicBezTo>
                  <a:pt x="3958" y="12953"/>
                  <a:pt x="3931" y="13441"/>
                  <a:pt x="3874" y="13811"/>
                </a:cubicBezTo>
                <a:cubicBezTo>
                  <a:pt x="3855" y="13935"/>
                  <a:pt x="3861" y="14081"/>
                  <a:pt x="3842" y="14192"/>
                </a:cubicBezTo>
                <a:cubicBezTo>
                  <a:pt x="3830" y="14265"/>
                  <a:pt x="3870" y="14300"/>
                  <a:pt x="3874" y="14319"/>
                </a:cubicBezTo>
                <a:cubicBezTo>
                  <a:pt x="3893" y="14418"/>
                  <a:pt x="3852" y="14354"/>
                  <a:pt x="3842" y="14351"/>
                </a:cubicBezTo>
              </a:path>
              <a:path w="5081" h="3335">
                <a:moveTo>
                  <a:pt x="3937" y="11049"/>
                </a:moveTo>
                <a:cubicBezTo>
                  <a:pt x="3970" y="11055"/>
                  <a:pt x="4044" y="11079"/>
                  <a:pt x="4064" y="11081"/>
                </a:cubicBezTo>
                <a:cubicBezTo>
                  <a:pt x="4397" y="11112"/>
                  <a:pt x="4751" y="11112"/>
                  <a:pt x="5080" y="11112"/>
                </a:cubicBezTo>
                <a:cubicBezTo>
                  <a:pt x="5285" y="11112"/>
                  <a:pt x="5489" y="11130"/>
                  <a:pt x="5683" y="11144"/>
                </a:cubicBezTo>
                <a:cubicBezTo>
                  <a:pt x="5801" y="11152"/>
                  <a:pt x="5891" y="11121"/>
                  <a:pt x="6001" y="11112"/>
                </a:cubicBezTo>
                <a:cubicBezTo>
                  <a:pt x="6471" y="11074"/>
                  <a:pt x="6972" y="11116"/>
                  <a:pt x="7430" y="11144"/>
                </a:cubicBezTo>
                <a:cubicBezTo>
                  <a:pt x="7829" y="11169"/>
                  <a:pt x="8236" y="11144"/>
                  <a:pt x="8636" y="11144"/>
                </a:cubicBezTo>
                <a:cubicBezTo>
                  <a:pt x="8619" y="11200"/>
                  <a:pt x="8616" y="11197"/>
                  <a:pt x="8604" y="11240"/>
                </a:cubicBezTo>
                <a:cubicBezTo>
                  <a:pt x="8590" y="11288"/>
                  <a:pt x="8578" y="11312"/>
                  <a:pt x="8572" y="11366"/>
                </a:cubicBezTo>
                <a:cubicBezTo>
                  <a:pt x="8547" y="11583"/>
                  <a:pt x="8599" y="11790"/>
                  <a:pt x="8604" y="12002"/>
                </a:cubicBezTo>
                <a:cubicBezTo>
                  <a:pt x="8607" y="12133"/>
                  <a:pt x="8626" y="12261"/>
                  <a:pt x="8636" y="12382"/>
                </a:cubicBezTo>
                <a:cubicBezTo>
                  <a:pt x="8643" y="12461"/>
                  <a:pt x="8600" y="12585"/>
                  <a:pt x="8604" y="12668"/>
                </a:cubicBezTo>
                <a:cubicBezTo>
                  <a:pt x="8608" y="12764"/>
                  <a:pt x="8634" y="12879"/>
                  <a:pt x="8636" y="12986"/>
                </a:cubicBezTo>
                <a:cubicBezTo>
                  <a:pt x="8640" y="13148"/>
                  <a:pt x="8658" y="13306"/>
                  <a:pt x="8668" y="13462"/>
                </a:cubicBezTo>
                <a:cubicBezTo>
                  <a:pt x="8676" y="13575"/>
                  <a:pt x="8678" y="13671"/>
                  <a:pt x="8700" y="13780"/>
                </a:cubicBezTo>
                <a:cubicBezTo>
                  <a:pt x="8717" y="13868"/>
                  <a:pt x="8741" y="13947"/>
                  <a:pt x="8763" y="14034"/>
                </a:cubicBezTo>
                <a:cubicBezTo>
                  <a:pt x="8774" y="14079"/>
                  <a:pt x="8796" y="14153"/>
                  <a:pt x="8795" y="14192"/>
                </a:cubicBezTo>
                <a:cubicBezTo>
                  <a:pt x="8794" y="14236"/>
                  <a:pt x="8767" y="14257"/>
                  <a:pt x="8763" y="14288"/>
                </a:cubicBezTo>
                <a:cubicBezTo>
                  <a:pt x="8712" y="14276"/>
                  <a:pt x="8736" y="14263"/>
                  <a:pt x="8668" y="14256"/>
                </a:cubicBezTo>
                <a:cubicBezTo>
                  <a:pt x="8592" y="14248"/>
                  <a:pt x="8518" y="14230"/>
                  <a:pt x="8446" y="14224"/>
                </a:cubicBezTo>
                <a:cubicBezTo>
                  <a:pt x="8233" y="14206"/>
                  <a:pt x="7948" y="14182"/>
                  <a:pt x="7747" y="14192"/>
                </a:cubicBezTo>
                <a:cubicBezTo>
                  <a:pt x="7702" y="14194"/>
                  <a:pt x="7622" y="14224"/>
                  <a:pt x="7556" y="14224"/>
                </a:cubicBezTo>
                <a:cubicBezTo>
                  <a:pt x="7289" y="14224"/>
                  <a:pt x="7019" y="14235"/>
                  <a:pt x="6763" y="14256"/>
                </a:cubicBezTo>
                <a:cubicBezTo>
                  <a:pt x="6543" y="14274"/>
                  <a:pt x="6309" y="14271"/>
                  <a:pt x="6096" y="14288"/>
                </a:cubicBezTo>
                <a:cubicBezTo>
                  <a:pt x="5802" y="14312"/>
                  <a:pt x="5493" y="14296"/>
                  <a:pt x="5207" y="14319"/>
                </a:cubicBezTo>
                <a:cubicBezTo>
                  <a:pt x="4864" y="14347"/>
                  <a:pt x="4485" y="14328"/>
                  <a:pt x="4159" y="14351"/>
                </a:cubicBezTo>
                <a:cubicBezTo>
                  <a:pt x="4042" y="14359"/>
                  <a:pt x="3909" y="14373"/>
                  <a:pt x="3810" y="14383"/>
                </a:cubicBezTo>
                <a:cubicBezTo>
                  <a:pt x="3779" y="14386"/>
                  <a:pt x="3745" y="14377"/>
                  <a:pt x="3715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5"/>
          <p:cNvSpPr/>
          <p:nvPr/>
        </p:nvSpPr>
        <p:spPr>
          <a:xfrm>
            <a:off x="4275000" y="3176640"/>
            <a:ext cx="492120" cy="676080"/>
          </a:xfrm>
          <a:custGeom>
            <a:avLst/>
            <a:gdLst/>
            <a:ahLst/>
            <a:rect l="l" t="t" r="r" b="b"/>
            <a:pathLst>
              <a:path w="1367" h="1875">
                <a:moveTo>
                  <a:pt x="12065" y="8954"/>
                </a:moveTo>
                <a:cubicBezTo>
                  <a:pt x="12078" y="9003"/>
                  <a:pt x="12097" y="9023"/>
                  <a:pt x="12097" y="9080"/>
                </a:cubicBezTo>
                <a:cubicBezTo>
                  <a:pt x="12097" y="9228"/>
                  <a:pt x="12048" y="9348"/>
                  <a:pt x="12033" y="9493"/>
                </a:cubicBezTo>
                <a:cubicBezTo>
                  <a:pt x="12021" y="9606"/>
                  <a:pt x="12004" y="9734"/>
                  <a:pt x="11970" y="9842"/>
                </a:cubicBezTo>
                <a:cubicBezTo>
                  <a:pt x="11952" y="9898"/>
                  <a:pt x="11911" y="9958"/>
                  <a:pt x="11874" y="9970"/>
                </a:cubicBezTo>
                <a:cubicBezTo>
                  <a:pt x="11874" y="9904"/>
                  <a:pt x="11893" y="9901"/>
                  <a:pt x="11906" y="9874"/>
                </a:cubicBezTo>
                <a:cubicBezTo>
                  <a:pt x="11935" y="9816"/>
                  <a:pt x="11952" y="9813"/>
                  <a:pt x="12002" y="9779"/>
                </a:cubicBezTo>
                <a:cubicBezTo>
                  <a:pt x="12073" y="9731"/>
                  <a:pt x="12074" y="9770"/>
                  <a:pt x="12160" y="9779"/>
                </a:cubicBezTo>
                <a:cubicBezTo>
                  <a:pt x="12237" y="9787"/>
                  <a:pt x="12278" y="9805"/>
                  <a:pt x="12351" y="9811"/>
                </a:cubicBezTo>
                <a:cubicBezTo>
                  <a:pt x="12397" y="9815"/>
                  <a:pt x="12485" y="9828"/>
                  <a:pt x="12510" y="9779"/>
                </a:cubicBezTo>
                <a:cubicBezTo>
                  <a:pt x="12510" y="9768"/>
                  <a:pt x="12510" y="9758"/>
                  <a:pt x="12510" y="9747"/>
                </a:cubicBezTo>
              </a:path>
              <a:path w="1367" h="1875">
                <a:moveTo>
                  <a:pt x="12478" y="8826"/>
                </a:moveTo>
                <a:cubicBezTo>
                  <a:pt x="12495" y="8913"/>
                  <a:pt x="12510" y="8985"/>
                  <a:pt x="12510" y="9080"/>
                </a:cubicBezTo>
                <a:cubicBezTo>
                  <a:pt x="12510" y="9338"/>
                  <a:pt x="12522" y="9587"/>
                  <a:pt x="12541" y="9842"/>
                </a:cubicBezTo>
                <a:cubicBezTo>
                  <a:pt x="12554" y="10020"/>
                  <a:pt x="12510" y="10201"/>
                  <a:pt x="12510" y="10382"/>
                </a:cubicBezTo>
                <a:cubicBezTo>
                  <a:pt x="12510" y="10488"/>
                  <a:pt x="12510" y="10594"/>
                  <a:pt x="12510" y="10700"/>
                </a:cubicBezTo>
              </a:path>
              <a:path w="1367" h="1875">
                <a:moveTo>
                  <a:pt x="12764" y="8858"/>
                </a:moveTo>
                <a:cubicBezTo>
                  <a:pt x="12764" y="8960"/>
                  <a:pt x="12743" y="9046"/>
                  <a:pt x="12732" y="9144"/>
                </a:cubicBezTo>
                <a:cubicBezTo>
                  <a:pt x="12710" y="9344"/>
                  <a:pt x="12545" y="9759"/>
                  <a:pt x="12732" y="9684"/>
                </a:cubicBezTo>
                <a:cubicBezTo>
                  <a:pt x="12807" y="9654"/>
                  <a:pt x="12790" y="9661"/>
                  <a:pt x="12859" y="9684"/>
                </a:cubicBezTo>
                <a:cubicBezTo>
                  <a:pt x="12902" y="9699"/>
                  <a:pt x="12948" y="9691"/>
                  <a:pt x="12986" y="9716"/>
                </a:cubicBezTo>
                <a:cubicBezTo>
                  <a:pt x="13024" y="9740"/>
                  <a:pt x="13101" y="9774"/>
                  <a:pt x="13113" y="9779"/>
                </a:cubicBezTo>
                <a:cubicBezTo>
                  <a:pt x="13123" y="9779"/>
                  <a:pt x="13134" y="9779"/>
                  <a:pt x="13144" y="9779"/>
                </a:cubicBezTo>
                <a:cubicBezTo>
                  <a:pt x="13187" y="9747"/>
                  <a:pt x="13222" y="9738"/>
                  <a:pt x="13240" y="9684"/>
                </a:cubicBezTo>
                <a:cubicBezTo>
                  <a:pt x="13240" y="9652"/>
                  <a:pt x="13240" y="9641"/>
                  <a:pt x="13240" y="9620"/>
                </a:cubicBezTo>
              </a:path>
              <a:path w="1367" h="1875">
                <a:moveTo>
                  <a:pt x="13176" y="8826"/>
                </a:moveTo>
                <a:cubicBezTo>
                  <a:pt x="13176" y="8936"/>
                  <a:pt x="13152" y="9039"/>
                  <a:pt x="13144" y="9144"/>
                </a:cubicBezTo>
                <a:cubicBezTo>
                  <a:pt x="13104" y="9645"/>
                  <a:pt x="13144" y="10165"/>
                  <a:pt x="13144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6"/>
          <p:cNvSpPr/>
          <p:nvPr/>
        </p:nvSpPr>
        <p:spPr>
          <a:xfrm>
            <a:off x="3211560" y="4297320"/>
            <a:ext cx="287280" cy="298440"/>
          </a:xfrm>
          <a:custGeom>
            <a:avLst/>
            <a:gdLst/>
            <a:ahLst/>
            <a:rect l="l" t="t" r="r" b="b"/>
            <a:pathLst>
              <a:path w="795" h="827">
                <a:moveTo>
                  <a:pt x="8985" y="11938"/>
                </a:moveTo>
                <a:cubicBezTo>
                  <a:pt x="8985" y="12032"/>
                  <a:pt x="8969" y="12105"/>
                  <a:pt x="8954" y="12192"/>
                </a:cubicBezTo>
                <a:cubicBezTo>
                  <a:pt x="8935" y="12301"/>
                  <a:pt x="8947" y="12403"/>
                  <a:pt x="8922" y="12510"/>
                </a:cubicBezTo>
                <a:cubicBezTo>
                  <a:pt x="8916" y="12535"/>
                  <a:pt x="8922" y="12742"/>
                  <a:pt x="8922" y="12668"/>
                </a:cubicBezTo>
                <a:cubicBezTo>
                  <a:pt x="8922" y="12647"/>
                  <a:pt x="8922" y="12626"/>
                  <a:pt x="8922" y="12605"/>
                </a:cubicBezTo>
              </a:path>
              <a:path w="795" h="827">
                <a:moveTo>
                  <a:pt x="9208" y="12160"/>
                </a:moveTo>
                <a:cubicBezTo>
                  <a:pt x="9221" y="12107"/>
                  <a:pt x="9244" y="12072"/>
                  <a:pt x="9303" y="12065"/>
                </a:cubicBezTo>
                <a:cubicBezTo>
                  <a:pt x="9344" y="12060"/>
                  <a:pt x="9389" y="12065"/>
                  <a:pt x="9430" y="12065"/>
                </a:cubicBezTo>
                <a:cubicBezTo>
                  <a:pt x="9430" y="12133"/>
                  <a:pt x="9437" y="12144"/>
                  <a:pt x="9430" y="12192"/>
                </a:cubicBezTo>
                <a:cubicBezTo>
                  <a:pt x="9416" y="12292"/>
                  <a:pt x="9429" y="12355"/>
                  <a:pt x="9366" y="12446"/>
                </a:cubicBezTo>
                <a:cubicBezTo>
                  <a:pt x="9313" y="12522"/>
                  <a:pt x="9274" y="12601"/>
                  <a:pt x="9208" y="12668"/>
                </a:cubicBezTo>
                <a:cubicBezTo>
                  <a:pt x="9162" y="12715"/>
                  <a:pt x="9194" y="12715"/>
                  <a:pt x="9144" y="12732"/>
                </a:cubicBezTo>
                <a:cubicBezTo>
                  <a:pt x="9188" y="12717"/>
                  <a:pt x="9183" y="12687"/>
                  <a:pt x="9239" y="12668"/>
                </a:cubicBezTo>
                <a:cubicBezTo>
                  <a:pt x="9317" y="12642"/>
                  <a:pt x="9305" y="12713"/>
                  <a:pt x="9334" y="12732"/>
                </a:cubicBezTo>
                <a:cubicBezTo>
                  <a:pt x="9368" y="12755"/>
                  <a:pt x="9415" y="12764"/>
                  <a:pt x="9462" y="12764"/>
                </a:cubicBezTo>
                <a:cubicBezTo>
                  <a:pt x="9549" y="12764"/>
                  <a:pt x="9582" y="12755"/>
                  <a:pt x="9652" y="12732"/>
                </a:cubicBezTo>
                <a:cubicBezTo>
                  <a:pt x="9698" y="12717"/>
                  <a:pt x="9687" y="12703"/>
                  <a:pt x="9716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7"/>
          <p:cNvSpPr/>
          <p:nvPr/>
        </p:nvSpPr>
        <p:spPr>
          <a:xfrm>
            <a:off x="2035080" y="5222880"/>
            <a:ext cx="343080" cy="388800"/>
          </a:xfrm>
          <a:custGeom>
            <a:avLst/>
            <a:gdLst/>
            <a:ahLst/>
            <a:rect l="l" t="t" r="r" b="b"/>
            <a:pathLst>
              <a:path w="953" h="1080">
                <a:moveTo>
                  <a:pt x="6191" y="14510"/>
                </a:moveTo>
                <a:cubicBezTo>
                  <a:pt x="6191" y="14594"/>
                  <a:pt x="6218" y="14650"/>
                  <a:pt x="6223" y="14732"/>
                </a:cubicBezTo>
                <a:cubicBezTo>
                  <a:pt x="6230" y="14850"/>
                  <a:pt x="6257" y="14967"/>
                  <a:pt x="6286" y="15081"/>
                </a:cubicBezTo>
                <a:cubicBezTo>
                  <a:pt x="6326" y="15243"/>
                  <a:pt x="6398" y="15381"/>
                  <a:pt x="6477" y="15526"/>
                </a:cubicBezTo>
                <a:cubicBezTo>
                  <a:pt x="6488" y="15547"/>
                  <a:pt x="6498" y="15568"/>
                  <a:pt x="6509" y="15589"/>
                </a:cubicBezTo>
              </a:path>
              <a:path w="953" h="1080">
                <a:moveTo>
                  <a:pt x="6604" y="14668"/>
                </a:moveTo>
                <a:cubicBezTo>
                  <a:pt x="6533" y="14634"/>
                  <a:pt x="6481" y="14700"/>
                  <a:pt x="6414" y="14764"/>
                </a:cubicBezTo>
                <a:cubicBezTo>
                  <a:pt x="6262" y="14909"/>
                  <a:pt x="6121" y="15068"/>
                  <a:pt x="5969" y="15208"/>
                </a:cubicBezTo>
                <a:cubicBezTo>
                  <a:pt x="5805" y="15339"/>
                  <a:pt x="5747" y="15387"/>
                  <a:pt x="5652" y="15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8"/>
          <p:cNvSpPr/>
          <p:nvPr/>
        </p:nvSpPr>
        <p:spPr>
          <a:xfrm>
            <a:off x="4332240" y="3749760"/>
            <a:ext cx="2664000" cy="1062000"/>
          </a:xfrm>
          <a:custGeom>
            <a:avLst/>
            <a:gdLst/>
            <a:ahLst/>
            <a:rect l="l" t="t" r="r" b="b"/>
            <a:pathLst>
              <a:path w="7399" h="2954">
                <a:moveTo>
                  <a:pt x="12160" y="11271"/>
                </a:moveTo>
                <a:cubicBezTo>
                  <a:pt x="12167" y="11345"/>
                  <a:pt x="12173" y="11394"/>
                  <a:pt x="12192" y="11462"/>
                </a:cubicBezTo>
                <a:cubicBezTo>
                  <a:pt x="12227" y="11591"/>
                  <a:pt x="12244" y="11713"/>
                  <a:pt x="12287" y="11843"/>
                </a:cubicBezTo>
                <a:cubicBezTo>
                  <a:pt x="12333" y="11980"/>
                  <a:pt x="12370" y="12119"/>
                  <a:pt x="12414" y="12256"/>
                </a:cubicBezTo>
                <a:cubicBezTo>
                  <a:pt x="12456" y="12387"/>
                  <a:pt x="12517" y="12532"/>
                  <a:pt x="12541" y="12668"/>
                </a:cubicBezTo>
                <a:cubicBezTo>
                  <a:pt x="12556" y="12755"/>
                  <a:pt x="12570" y="12876"/>
                  <a:pt x="12605" y="12954"/>
                </a:cubicBezTo>
                <a:cubicBezTo>
                  <a:pt x="12626" y="13002"/>
                  <a:pt x="12647" y="12997"/>
                  <a:pt x="12668" y="13018"/>
                </a:cubicBezTo>
              </a:path>
              <a:path w="7399" h="2954">
                <a:moveTo>
                  <a:pt x="12700" y="11303"/>
                </a:moveTo>
                <a:cubicBezTo>
                  <a:pt x="12658" y="11373"/>
                  <a:pt x="12658" y="11470"/>
                  <a:pt x="12636" y="11557"/>
                </a:cubicBezTo>
                <a:cubicBezTo>
                  <a:pt x="12589" y="11740"/>
                  <a:pt x="12538" y="11921"/>
                  <a:pt x="12478" y="12097"/>
                </a:cubicBezTo>
                <a:cubicBezTo>
                  <a:pt x="12392" y="12349"/>
                  <a:pt x="12292" y="12613"/>
                  <a:pt x="12192" y="12859"/>
                </a:cubicBezTo>
                <a:cubicBezTo>
                  <a:pt x="12135" y="13000"/>
                  <a:pt x="12061" y="13151"/>
                  <a:pt x="12033" y="13303"/>
                </a:cubicBezTo>
                <a:cubicBezTo>
                  <a:pt x="12033" y="13324"/>
                  <a:pt x="12033" y="13346"/>
                  <a:pt x="12033" y="13367"/>
                </a:cubicBezTo>
              </a:path>
              <a:path w="7399" h="2954">
                <a:moveTo>
                  <a:pt x="13430" y="11303"/>
                </a:moveTo>
                <a:cubicBezTo>
                  <a:pt x="13476" y="11380"/>
                  <a:pt x="13462" y="11461"/>
                  <a:pt x="13462" y="11557"/>
                </a:cubicBezTo>
                <a:cubicBezTo>
                  <a:pt x="13462" y="11949"/>
                  <a:pt x="13462" y="12340"/>
                  <a:pt x="13462" y="12732"/>
                </a:cubicBezTo>
              </a:path>
              <a:path w="7399" h="2954">
                <a:moveTo>
                  <a:pt x="13144" y="12065"/>
                </a:moveTo>
                <a:cubicBezTo>
                  <a:pt x="13156" y="12101"/>
                  <a:pt x="13226" y="12119"/>
                  <a:pt x="13272" y="12128"/>
                </a:cubicBezTo>
                <a:cubicBezTo>
                  <a:pt x="13407" y="12154"/>
                  <a:pt x="13559" y="12117"/>
                  <a:pt x="13684" y="12097"/>
                </a:cubicBezTo>
                <a:cubicBezTo>
                  <a:pt x="13748" y="12097"/>
                  <a:pt x="13769" y="12097"/>
                  <a:pt x="13811" y="12097"/>
                </a:cubicBezTo>
              </a:path>
              <a:path w="7399" h="2954">
                <a:moveTo>
                  <a:pt x="14065" y="11208"/>
                </a:moveTo>
                <a:cubicBezTo>
                  <a:pt x="14103" y="11270"/>
                  <a:pt x="14130" y="11354"/>
                  <a:pt x="14160" y="11430"/>
                </a:cubicBezTo>
                <a:cubicBezTo>
                  <a:pt x="14209" y="11554"/>
                  <a:pt x="14247" y="11665"/>
                  <a:pt x="14319" y="11779"/>
                </a:cubicBezTo>
                <a:cubicBezTo>
                  <a:pt x="14391" y="11893"/>
                  <a:pt x="14469" y="12020"/>
                  <a:pt x="14542" y="12128"/>
                </a:cubicBezTo>
                <a:cubicBezTo>
                  <a:pt x="14607" y="12223"/>
                  <a:pt x="14676" y="12309"/>
                  <a:pt x="14732" y="12414"/>
                </a:cubicBezTo>
                <a:cubicBezTo>
                  <a:pt x="14767" y="12481"/>
                  <a:pt x="14806" y="12520"/>
                  <a:pt x="14859" y="12573"/>
                </a:cubicBezTo>
              </a:path>
              <a:path w="7399" h="2954">
                <a:moveTo>
                  <a:pt x="14891" y="11049"/>
                </a:moveTo>
                <a:cubicBezTo>
                  <a:pt x="14859" y="11089"/>
                  <a:pt x="14847" y="11131"/>
                  <a:pt x="14827" y="11208"/>
                </a:cubicBezTo>
                <a:cubicBezTo>
                  <a:pt x="14779" y="11394"/>
                  <a:pt x="14697" y="11569"/>
                  <a:pt x="14637" y="11748"/>
                </a:cubicBezTo>
                <a:cubicBezTo>
                  <a:pt x="14579" y="11921"/>
                  <a:pt x="14524" y="12091"/>
                  <a:pt x="14446" y="12256"/>
                </a:cubicBezTo>
                <a:cubicBezTo>
                  <a:pt x="14370" y="12416"/>
                  <a:pt x="14292" y="12573"/>
                  <a:pt x="14224" y="12732"/>
                </a:cubicBezTo>
                <a:cubicBezTo>
                  <a:pt x="14192" y="12827"/>
                  <a:pt x="14181" y="12859"/>
                  <a:pt x="14160" y="12922"/>
                </a:cubicBezTo>
              </a:path>
              <a:path w="7399" h="2954">
                <a:moveTo>
                  <a:pt x="15589" y="11112"/>
                </a:moveTo>
                <a:cubicBezTo>
                  <a:pt x="15589" y="11190"/>
                  <a:pt x="15640" y="11231"/>
                  <a:pt x="15653" y="11303"/>
                </a:cubicBezTo>
                <a:cubicBezTo>
                  <a:pt x="15677" y="11441"/>
                  <a:pt x="15626" y="11579"/>
                  <a:pt x="15621" y="11716"/>
                </a:cubicBezTo>
                <a:cubicBezTo>
                  <a:pt x="15617" y="11836"/>
                  <a:pt x="15589" y="11942"/>
                  <a:pt x="15589" y="12065"/>
                </a:cubicBezTo>
                <a:cubicBezTo>
                  <a:pt x="15589" y="12145"/>
                  <a:pt x="15574" y="12189"/>
                  <a:pt x="15558" y="12256"/>
                </a:cubicBezTo>
              </a:path>
              <a:path w="7399" h="2954">
                <a:moveTo>
                  <a:pt x="15367" y="11748"/>
                </a:moveTo>
                <a:cubicBezTo>
                  <a:pt x="15515" y="11748"/>
                  <a:pt x="15664" y="11748"/>
                  <a:pt x="15812" y="11748"/>
                </a:cubicBezTo>
              </a:path>
              <a:path w="7399" h="2954">
                <a:moveTo>
                  <a:pt x="16320" y="10573"/>
                </a:moveTo>
                <a:cubicBezTo>
                  <a:pt x="16335" y="10693"/>
                  <a:pt x="16351" y="10794"/>
                  <a:pt x="16351" y="10922"/>
                </a:cubicBezTo>
                <a:cubicBezTo>
                  <a:pt x="16351" y="11462"/>
                  <a:pt x="16351" y="12001"/>
                  <a:pt x="16351" y="12541"/>
                </a:cubicBezTo>
              </a:path>
              <a:path w="7399" h="2954">
                <a:moveTo>
                  <a:pt x="16542" y="10890"/>
                </a:moveTo>
                <a:cubicBezTo>
                  <a:pt x="16580" y="10814"/>
                  <a:pt x="16619" y="10736"/>
                  <a:pt x="16669" y="10668"/>
                </a:cubicBezTo>
                <a:cubicBezTo>
                  <a:pt x="16696" y="10632"/>
                  <a:pt x="16779" y="10538"/>
                  <a:pt x="16828" y="10541"/>
                </a:cubicBezTo>
                <a:cubicBezTo>
                  <a:pt x="16867" y="10543"/>
                  <a:pt x="16927" y="10573"/>
                  <a:pt x="16954" y="10604"/>
                </a:cubicBezTo>
                <a:cubicBezTo>
                  <a:pt x="17029" y="10692"/>
                  <a:pt x="16992" y="10829"/>
                  <a:pt x="16986" y="10922"/>
                </a:cubicBezTo>
                <a:cubicBezTo>
                  <a:pt x="16975" y="11099"/>
                  <a:pt x="16934" y="11257"/>
                  <a:pt x="16891" y="11430"/>
                </a:cubicBezTo>
                <a:cubicBezTo>
                  <a:pt x="16847" y="11606"/>
                  <a:pt x="16780" y="11765"/>
                  <a:pt x="16732" y="11938"/>
                </a:cubicBezTo>
                <a:cubicBezTo>
                  <a:pt x="16697" y="12062"/>
                  <a:pt x="16629" y="12194"/>
                  <a:pt x="16605" y="12319"/>
                </a:cubicBezTo>
                <a:cubicBezTo>
                  <a:pt x="16594" y="12375"/>
                  <a:pt x="16501" y="12486"/>
                  <a:pt x="16542" y="12446"/>
                </a:cubicBezTo>
                <a:cubicBezTo>
                  <a:pt x="16560" y="12429"/>
                  <a:pt x="16598" y="12376"/>
                  <a:pt x="16637" y="12351"/>
                </a:cubicBezTo>
                <a:cubicBezTo>
                  <a:pt x="16673" y="12327"/>
                  <a:pt x="16716" y="12322"/>
                  <a:pt x="16764" y="12319"/>
                </a:cubicBezTo>
                <a:cubicBezTo>
                  <a:pt x="16832" y="12315"/>
                  <a:pt x="16872" y="12336"/>
                  <a:pt x="16923" y="12382"/>
                </a:cubicBezTo>
                <a:cubicBezTo>
                  <a:pt x="16979" y="12433"/>
                  <a:pt x="17013" y="12474"/>
                  <a:pt x="17082" y="12510"/>
                </a:cubicBezTo>
                <a:cubicBezTo>
                  <a:pt x="17137" y="12539"/>
                  <a:pt x="17172" y="12569"/>
                  <a:pt x="17240" y="12573"/>
                </a:cubicBezTo>
                <a:cubicBezTo>
                  <a:pt x="17303" y="12577"/>
                  <a:pt x="17343" y="12575"/>
                  <a:pt x="17399" y="12541"/>
                </a:cubicBezTo>
                <a:cubicBezTo>
                  <a:pt x="17437" y="12504"/>
                  <a:pt x="17452" y="12486"/>
                  <a:pt x="17462" y="12446"/>
                </a:cubicBezTo>
              </a:path>
              <a:path w="7399" h="2954">
                <a:moveTo>
                  <a:pt x="17558" y="11303"/>
                </a:moveTo>
                <a:cubicBezTo>
                  <a:pt x="17608" y="11290"/>
                  <a:pt x="17628" y="11271"/>
                  <a:pt x="17685" y="11271"/>
                </a:cubicBezTo>
                <a:cubicBezTo>
                  <a:pt x="17800" y="11271"/>
                  <a:pt x="17903" y="11272"/>
                  <a:pt x="18002" y="11240"/>
                </a:cubicBezTo>
                <a:cubicBezTo>
                  <a:pt x="18034" y="11240"/>
                  <a:pt x="18045" y="11240"/>
                  <a:pt x="18066" y="11240"/>
                </a:cubicBezTo>
              </a:path>
              <a:path w="7399" h="2954">
                <a:moveTo>
                  <a:pt x="17621" y="11843"/>
                </a:moveTo>
                <a:cubicBezTo>
                  <a:pt x="17709" y="11843"/>
                  <a:pt x="17730" y="11832"/>
                  <a:pt x="17812" y="11811"/>
                </a:cubicBezTo>
                <a:cubicBezTo>
                  <a:pt x="17880" y="11794"/>
                  <a:pt x="17938" y="11801"/>
                  <a:pt x="18002" y="11779"/>
                </a:cubicBezTo>
                <a:cubicBezTo>
                  <a:pt x="18054" y="11754"/>
                  <a:pt x="18063" y="11743"/>
                  <a:pt x="18098" y="11748"/>
                </a:cubicBezTo>
              </a:path>
              <a:path w="7399" h="2954">
                <a:moveTo>
                  <a:pt x="18447" y="10509"/>
                </a:moveTo>
                <a:cubicBezTo>
                  <a:pt x="18463" y="10654"/>
                  <a:pt x="18459" y="10743"/>
                  <a:pt x="18447" y="10890"/>
                </a:cubicBezTo>
                <a:cubicBezTo>
                  <a:pt x="18402" y="11428"/>
                  <a:pt x="18948" y="12647"/>
                  <a:pt x="18447" y="12446"/>
                </a:cubicBezTo>
                <a:cubicBezTo>
                  <a:pt x="18415" y="12446"/>
                  <a:pt x="18404" y="12446"/>
                  <a:pt x="18415" y="12478"/>
                </a:cubicBezTo>
              </a:path>
              <a:path w="7399" h="2954">
                <a:moveTo>
                  <a:pt x="18161" y="10478"/>
                </a:moveTo>
                <a:cubicBezTo>
                  <a:pt x="18161" y="10600"/>
                  <a:pt x="18143" y="10713"/>
                  <a:pt x="18129" y="10827"/>
                </a:cubicBezTo>
                <a:cubicBezTo>
                  <a:pt x="18118" y="10917"/>
                  <a:pt x="18098" y="10990"/>
                  <a:pt x="18098" y="11081"/>
                </a:cubicBezTo>
                <a:cubicBezTo>
                  <a:pt x="18098" y="11120"/>
                  <a:pt x="18108" y="11165"/>
                  <a:pt x="18129" y="11176"/>
                </a:cubicBezTo>
                <a:cubicBezTo>
                  <a:pt x="18197" y="11210"/>
                  <a:pt x="18427" y="11183"/>
                  <a:pt x="18478" y="11144"/>
                </a:cubicBezTo>
              </a:path>
              <a:path w="7399" h="2954">
                <a:moveTo>
                  <a:pt x="18955" y="10414"/>
                </a:moveTo>
                <a:cubicBezTo>
                  <a:pt x="18955" y="10503"/>
                  <a:pt x="18936" y="10548"/>
                  <a:pt x="18923" y="10636"/>
                </a:cubicBezTo>
                <a:cubicBezTo>
                  <a:pt x="18906" y="10751"/>
                  <a:pt x="18907" y="10872"/>
                  <a:pt x="18891" y="10986"/>
                </a:cubicBezTo>
                <a:cubicBezTo>
                  <a:pt x="18877" y="11080"/>
                  <a:pt x="18887" y="11158"/>
                  <a:pt x="18860" y="11240"/>
                </a:cubicBezTo>
                <a:cubicBezTo>
                  <a:pt x="18860" y="11250"/>
                  <a:pt x="18860" y="11261"/>
                  <a:pt x="18860" y="11271"/>
                </a:cubicBezTo>
                <a:cubicBezTo>
                  <a:pt x="18917" y="11271"/>
                  <a:pt x="18935" y="11246"/>
                  <a:pt x="18986" y="11240"/>
                </a:cubicBezTo>
                <a:cubicBezTo>
                  <a:pt x="19089" y="11229"/>
                  <a:pt x="19186" y="11243"/>
                  <a:pt x="19272" y="11271"/>
                </a:cubicBezTo>
                <a:cubicBezTo>
                  <a:pt x="19308" y="11271"/>
                  <a:pt x="19322" y="11268"/>
                  <a:pt x="19336" y="11240"/>
                </a:cubicBezTo>
              </a:path>
              <a:path w="7399" h="2954">
                <a:moveTo>
                  <a:pt x="19399" y="10414"/>
                </a:moveTo>
                <a:cubicBezTo>
                  <a:pt x="19399" y="10609"/>
                  <a:pt x="19382" y="10794"/>
                  <a:pt x="19368" y="10986"/>
                </a:cubicBezTo>
                <a:cubicBezTo>
                  <a:pt x="19353" y="11181"/>
                  <a:pt x="19394" y="11364"/>
                  <a:pt x="19399" y="11557"/>
                </a:cubicBezTo>
                <a:cubicBezTo>
                  <a:pt x="19404" y="11760"/>
                  <a:pt x="19431" y="11955"/>
                  <a:pt x="19431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9"/>
          <p:cNvSpPr/>
          <p:nvPr/>
        </p:nvSpPr>
        <p:spPr>
          <a:xfrm>
            <a:off x="4937040" y="4606920"/>
            <a:ext cx="1874880" cy="947880"/>
          </a:xfrm>
          <a:custGeom>
            <a:avLst/>
            <a:gdLst/>
            <a:ahLst/>
            <a:rect l="l" t="t" r="r" b="b"/>
            <a:pathLst>
              <a:path w="5208" h="2636">
                <a:moveTo>
                  <a:pt x="13780" y="13748"/>
                </a:moveTo>
                <a:cubicBezTo>
                  <a:pt x="13751" y="13777"/>
                  <a:pt x="13745" y="13788"/>
                  <a:pt x="13716" y="13780"/>
                </a:cubicBezTo>
                <a:cubicBezTo>
                  <a:pt x="13740" y="13717"/>
                  <a:pt x="13729" y="13657"/>
                  <a:pt x="13748" y="13589"/>
                </a:cubicBezTo>
                <a:cubicBezTo>
                  <a:pt x="13765" y="13528"/>
                  <a:pt x="13808" y="13421"/>
                  <a:pt x="13843" y="13367"/>
                </a:cubicBezTo>
                <a:cubicBezTo>
                  <a:pt x="13880" y="13309"/>
                  <a:pt x="13964" y="13323"/>
                  <a:pt x="14002" y="13367"/>
                </a:cubicBezTo>
                <a:cubicBezTo>
                  <a:pt x="14061" y="13436"/>
                  <a:pt x="14118" y="13627"/>
                  <a:pt x="14129" y="13716"/>
                </a:cubicBezTo>
                <a:cubicBezTo>
                  <a:pt x="14149" y="13872"/>
                  <a:pt x="14132" y="14041"/>
                  <a:pt x="14097" y="14192"/>
                </a:cubicBezTo>
                <a:cubicBezTo>
                  <a:pt x="14058" y="14362"/>
                  <a:pt x="14015" y="14532"/>
                  <a:pt x="13970" y="14700"/>
                </a:cubicBezTo>
                <a:cubicBezTo>
                  <a:pt x="13938" y="14820"/>
                  <a:pt x="13894" y="14925"/>
                  <a:pt x="13811" y="15018"/>
                </a:cubicBezTo>
                <a:cubicBezTo>
                  <a:pt x="13801" y="15029"/>
                  <a:pt x="13790" y="15039"/>
                  <a:pt x="13780" y="15050"/>
                </a:cubicBezTo>
                <a:cubicBezTo>
                  <a:pt x="13806" y="15003"/>
                  <a:pt x="13838" y="14941"/>
                  <a:pt x="13875" y="14891"/>
                </a:cubicBezTo>
                <a:cubicBezTo>
                  <a:pt x="13910" y="14844"/>
                  <a:pt x="13950" y="14808"/>
                  <a:pt x="14002" y="14796"/>
                </a:cubicBezTo>
                <a:cubicBezTo>
                  <a:pt x="14084" y="14777"/>
                  <a:pt x="14160" y="14814"/>
                  <a:pt x="14224" y="14827"/>
                </a:cubicBezTo>
                <a:cubicBezTo>
                  <a:pt x="14303" y="14842"/>
                  <a:pt x="14349" y="14863"/>
                  <a:pt x="14414" y="14922"/>
                </a:cubicBezTo>
                <a:cubicBezTo>
                  <a:pt x="14442" y="14947"/>
                  <a:pt x="14499" y="14976"/>
                  <a:pt x="14542" y="14954"/>
                </a:cubicBezTo>
                <a:cubicBezTo>
                  <a:pt x="14542" y="14943"/>
                  <a:pt x="14542" y="14933"/>
                  <a:pt x="14542" y="14922"/>
                </a:cubicBezTo>
              </a:path>
              <a:path w="5208" h="2636">
                <a:moveTo>
                  <a:pt x="14510" y="13938"/>
                </a:moveTo>
                <a:cubicBezTo>
                  <a:pt x="14548" y="14014"/>
                  <a:pt x="14602" y="14086"/>
                  <a:pt x="14637" y="14192"/>
                </a:cubicBezTo>
                <a:cubicBezTo>
                  <a:pt x="14686" y="14341"/>
                  <a:pt x="14729" y="14495"/>
                  <a:pt x="14796" y="14637"/>
                </a:cubicBezTo>
                <a:cubicBezTo>
                  <a:pt x="14837" y="14724"/>
                  <a:pt x="14876" y="14845"/>
                  <a:pt x="14922" y="14922"/>
                </a:cubicBezTo>
                <a:cubicBezTo>
                  <a:pt x="14933" y="14933"/>
                  <a:pt x="14943" y="14943"/>
                  <a:pt x="14954" y="14954"/>
                </a:cubicBezTo>
              </a:path>
              <a:path w="5208" h="2636">
                <a:moveTo>
                  <a:pt x="14954" y="13811"/>
                </a:moveTo>
                <a:cubicBezTo>
                  <a:pt x="14897" y="13924"/>
                  <a:pt x="14862" y="14122"/>
                  <a:pt x="14827" y="14256"/>
                </a:cubicBezTo>
                <a:cubicBezTo>
                  <a:pt x="14769" y="14476"/>
                  <a:pt x="14675" y="14675"/>
                  <a:pt x="14605" y="14891"/>
                </a:cubicBezTo>
                <a:cubicBezTo>
                  <a:pt x="14554" y="15048"/>
                  <a:pt x="14544" y="15216"/>
                  <a:pt x="14478" y="15367"/>
                </a:cubicBezTo>
                <a:cubicBezTo>
                  <a:pt x="14467" y="15388"/>
                  <a:pt x="14457" y="15409"/>
                  <a:pt x="14446" y="15430"/>
                </a:cubicBezTo>
              </a:path>
              <a:path w="5208" h="2636">
                <a:moveTo>
                  <a:pt x="15430" y="13589"/>
                </a:moveTo>
                <a:cubicBezTo>
                  <a:pt x="15430" y="13883"/>
                  <a:pt x="15402" y="14197"/>
                  <a:pt x="15462" y="14478"/>
                </a:cubicBezTo>
                <a:cubicBezTo>
                  <a:pt x="15475" y="14536"/>
                  <a:pt x="15425" y="14587"/>
                  <a:pt x="15494" y="14542"/>
                </a:cubicBezTo>
              </a:path>
              <a:path w="5208" h="2636">
                <a:moveTo>
                  <a:pt x="15240" y="14288"/>
                </a:moveTo>
                <a:cubicBezTo>
                  <a:pt x="15198" y="14267"/>
                  <a:pt x="15258" y="14234"/>
                  <a:pt x="15304" y="14224"/>
                </a:cubicBezTo>
                <a:cubicBezTo>
                  <a:pt x="15410" y="14201"/>
                  <a:pt x="15468" y="14158"/>
                  <a:pt x="15558" y="14097"/>
                </a:cubicBezTo>
                <a:cubicBezTo>
                  <a:pt x="15599" y="14054"/>
                  <a:pt x="15621" y="14033"/>
                  <a:pt x="15653" y="14002"/>
                </a:cubicBezTo>
              </a:path>
              <a:path w="5208" h="2636">
                <a:moveTo>
                  <a:pt x="15907" y="13144"/>
                </a:moveTo>
                <a:cubicBezTo>
                  <a:pt x="15907" y="13255"/>
                  <a:pt x="15928" y="13351"/>
                  <a:pt x="15938" y="13462"/>
                </a:cubicBezTo>
                <a:cubicBezTo>
                  <a:pt x="15979" y="13920"/>
                  <a:pt x="15938" y="14399"/>
                  <a:pt x="15938" y="14859"/>
                </a:cubicBezTo>
              </a:path>
              <a:path w="5208" h="2636">
                <a:moveTo>
                  <a:pt x="16097" y="13526"/>
                </a:moveTo>
                <a:cubicBezTo>
                  <a:pt x="16124" y="13445"/>
                  <a:pt x="16143" y="13348"/>
                  <a:pt x="16192" y="13272"/>
                </a:cubicBezTo>
                <a:cubicBezTo>
                  <a:pt x="16221" y="13227"/>
                  <a:pt x="16278" y="13143"/>
                  <a:pt x="16320" y="13113"/>
                </a:cubicBezTo>
                <a:cubicBezTo>
                  <a:pt x="16372" y="13087"/>
                  <a:pt x="16380" y="13076"/>
                  <a:pt x="16415" y="13081"/>
                </a:cubicBezTo>
                <a:cubicBezTo>
                  <a:pt x="16462" y="13153"/>
                  <a:pt x="16476" y="13208"/>
                  <a:pt x="16478" y="13303"/>
                </a:cubicBezTo>
                <a:cubicBezTo>
                  <a:pt x="16484" y="13539"/>
                  <a:pt x="16433" y="13805"/>
                  <a:pt x="16383" y="14034"/>
                </a:cubicBezTo>
                <a:cubicBezTo>
                  <a:pt x="16351" y="14181"/>
                  <a:pt x="16278" y="14331"/>
                  <a:pt x="16256" y="14478"/>
                </a:cubicBezTo>
                <a:cubicBezTo>
                  <a:pt x="16243" y="14568"/>
                  <a:pt x="16248" y="14661"/>
                  <a:pt x="16192" y="14732"/>
                </a:cubicBezTo>
                <a:cubicBezTo>
                  <a:pt x="16192" y="14764"/>
                  <a:pt x="16192" y="14774"/>
                  <a:pt x="16161" y="14764"/>
                </a:cubicBezTo>
                <a:cubicBezTo>
                  <a:pt x="16169" y="14702"/>
                  <a:pt x="16152" y="14688"/>
                  <a:pt x="16192" y="14637"/>
                </a:cubicBezTo>
                <a:cubicBezTo>
                  <a:pt x="16229" y="14591"/>
                  <a:pt x="16295" y="14576"/>
                  <a:pt x="16351" y="14573"/>
                </a:cubicBezTo>
                <a:cubicBezTo>
                  <a:pt x="16433" y="14569"/>
                  <a:pt x="16469" y="14593"/>
                  <a:pt x="16542" y="14605"/>
                </a:cubicBezTo>
                <a:cubicBezTo>
                  <a:pt x="16615" y="14617"/>
                  <a:pt x="16654" y="14633"/>
                  <a:pt x="16732" y="14637"/>
                </a:cubicBezTo>
                <a:cubicBezTo>
                  <a:pt x="16817" y="14641"/>
                  <a:pt x="16852" y="14608"/>
                  <a:pt x="16891" y="14542"/>
                </a:cubicBezTo>
                <a:cubicBezTo>
                  <a:pt x="16902" y="14521"/>
                  <a:pt x="16912" y="14499"/>
                  <a:pt x="16923" y="14478"/>
                </a:cubicBezTo>
              </a:path>
              <a:path w="5208" h="2636">
                <a:moveTo>
                  <a:pt x="16986" y="13589"/>
                </a:moveTo>
                <a:cubicBezTo>
                  <a:pt x="17081" y="13589"/>
                  <a:pt x="17160" y="13581"/>
                  <a:pt x="17240" y="13557"/>
                </a:cubicBezTo>
                <a:cubicBezTo>
                  <a:pt x="17285" y="13543"/>
                  <a:pt x="17350" y="13557"/>
                  <a:pt x="17399" y="13557"/>
                </a:cubicBezTo>
              </a:path>
              <a:path w="5208" h="2636">
                <a:moveTo>
                  <a:pt x="17050" y="14129"/>
                </a:moveTo>
                <a:cubicBezTo>
                  <a:pt x="16967" y="14087"/>
                  <a:pt x="17118" y="14105"/>
                  <a:pt x="17145" y="14097"/>
                </a:cubicBezTo>
                <a:cubicBezTo>
                  <a:pt x="17221" y="14074"/>
                  <a:pt x="17303" y="14072"/>
                  <a:pt x="17367" y="14034"/>
                </a:cubicBezTo>
              </a:path>
              <a:path w="5208" h="2636">
                <a:moveTo>
                  <a:pt x="17653" y="13144"/>
                </a:moveTo>
                <a:cubicBezTo>
                  <a:pt x="17653" y="13318"/>
                  <a:pt x="17640" y="13484"/>
                  <a:pt x="17621" y="13652"/>
                </a:cubicBezTo>
                <a:cubicBezTo>
                  <a:pt x="17616" y="13697"/>
                  <a:pt x="17621" y="13907"/>
                  <a:pt x="17590" y="13938"/>
                </a:cubicBezTo>
                <a:cubicBezTo>
                  <a:pt x="17550" y="13978"/>
                  <a:pt x="17628" y="13922"/>
                  <a:pt x="17653" y="13906"/>
                </a:cubicBezTo>
                <a:cubicBezTo>
                  <a:pt x="17709" y="13869"/>
                  <a:pt x="17739" y="13875"/>
                  <a:pt x="17812" y="13875"/>
                </a:cubicBezTo>
                <a:cubicBezTo>
                  <a:pt x="17879" y="13875"/>
                  <a:pt x="17914" y="13900"/>
                  <a:pt x="17970" y="13906"/>
                </a:cubicBezTo>
                <a:cubicBezTo>
                  <a:pt x="18022" y="13912"/>
                  <a:pt x="18026" y="13904"/>
                  <a:pt x="18066" y="13875"/>
                </a:cubicBezTo>
              </a:path>
              <a:path w="5208" h="2636">
                <a:moveTo>
                  <a:pt x="18034" y="12986"/>
                </a:moveTo>
                <a:cubicBezTo>
                  <a:pt x="17981" y="13109"/>
                  <a:pt x="18024" y="13170"/>
                  <a:pt x="18034" y="13303"/>
                </a:cubicBezTo>
                <a:cubicBezTo>
                  <a:pt x="18053" y="13557"/>
                  <a:pt x="18045" y="13814"/>
                  <a:pt x="18066" y="14065"/>
                </a:cubicBezTo>
                <a:cubicBezTo>
                  <a:pt x="18074" y="14164"/>
                  <a:pt x="18015" y="14577"/>
                  <a:pt x="18098" y="14605"/>
                </a:cubicBezTo>
              </a:path>
              <a:path w="5208" h="2636">
                <a:moveTo>
                  <a:pt x="18352" y="12859"/>
                </a:moveTo>
                <a:cubicBezTo>
                  <a:pt x="18352" y="12948"/>
                  <a:pt x="18359" y="12990"/>
                  <a:pt x="18352" y="13081"/>
                </a:cubicBezTo>
                <a:cubicBezTo>
                  <a:pt x="18342" y="13210"/>
                  <a:pt x="18325" y="13334"/>
                  <a:pt x="18320" y="13462"/>
                </a:cubicBezTo>
                <a:cubicBezTo>
                  <a:pt x="18317" y="13555"/>
                  <a:pt x="18288" y="13592"/>
                  <a:pt x="18288" y="13684"/>
                </a:cubicBezTo>
                <a:cubicBezTo>
                  <a:pt x="18328" y="13644"/>
                  <a:pt x="18359" y="13595"/>
                  <a:pt x="18415" y="13589"/>
                </a:cubicBezTo>
                <a:cubicBezTo>
                  <a:pt x="18504" y="13579"/>
                  <a:pt x="18567" y="13597"/>
                  <a:pt x="18637" y="13621"/>
                </a:cubicBezTo>
                <a:cubicBezTo>
                  <a:pt x="18681" y="13636"/>
                  <a:pt x="18753" y="13647"/>
                  <a:pt x="18796" y="13652"/>
                </a:cubicBezTo>
                <a:cubicBezTo>
                  <a:pt x="18849" y="13658"/>
                  <a:pt x="18878" y="13617"/>
                  <a:pt x="18891" y="13589"/>
                </a:cubicBezTo>
                <a:cubicBezTo>
                  <a:pt x="18902" y="13568"/>
                  <a:pt x="18912" y="13547"/>
                  <a:pt x="18923" y="13526"/>
                </a:cubicBezTo>
              </a:path>
              <a:path w="5208" h="2636">
                <a:moveTo>
                  <a:pt x="18732" y="12795"/>
                </a:moveTo>
                <a:cubicBezTo>
                  <a:pt x="18688" y="12960"/>
                  <a:pt x="18723" y="13070"/>
                  <a:pt x="18732" y="13240"/>
                </a:cubicBezTo>
                <a:cubicBezTo>
                  <a:pt x="18749" y="13557"/>
                  <a:pt x="18745" y="13877"/>
                  <a:pt x="18764" y="14192"/>
                </a:cubicBezTo>
                <a:cubicBezTo>
                  <a:pt x="18777" y="14418"/>
                  <a:pt x="18789" y="14637"/>
                  <a:pt x="18828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0"/>
          <p:cNvSpPr/>
          <p:nvPr/>
        </p:nvSpPr>
        <p:spPr>
          <a:xfrm>
            <a:off x="5611680" y="5429160"/>
            <a:ext cx="355680" cy="297000"/>
          </a:xfrm>
          <a:custGeom>
            <a:avLst/>
            <a:gdLst/>
            <a:ahLst/>
            <a:rect l="l" t="t" r="r" b="b"/>
            <a:pathLst>
              <a:path w="986" h="827">
                <a:moveTo>
                  <a:pt x="15621" y="15335"/>
                </a:moveTo>
                <a:cubicBezTo>
                  <a:pt x="15610" y="15335"/>
                  <a:pt x="15600" y="15335"/>
                  <a:pt x="15589" y="15335"/>
                </a:cubicBezTo>
                <a:cubicBezTo>
                  <a:pt x="15639" y="15323"/>
                  <a:pt x="15660" y="15304"/>
                  <a:pt x="15716" y="15304"/>
                </a:cubicBezTo>
                <a:cubicBezTo>
                  <a:pt x="15748" y="15304"/>
                  <a:pt x="15759" y="15304"/>
                  <a:pt x="15780" y="15304"/>
                </a:cubicBezTo>
              </a:path>
              <a:path w="986" h="827">
                <a:moveTo>
                  <a:pt x="16002" y="15081"/>
                </a:moveTo>
                <a:cubicBezTo>
                  <a:pt x="16002" y="15356"/>
                  <a:pt x="16002" y="15632"/>
                  <a:pt x="16002" y="15907"/>
                </a:cubicBezTo>
              </a:path>
              <a:path w="986" h="827">
                <a:moveTo>
                  <a:pt x="16161" y="15208"/>
                </a:moveTo>
                <a:cubicBezTo>
                  <a:pt x="16161" y="15187"/>
                  <a:pt x="16161" y="15166"/>
                  <a:pt x="16161" y="15145"/>
                </a:cubicBezTo>
                <a:cubicBezTo>
                  <a:pt x="16217" y="15145"/>
                  <a:pt x="16225" y="15137"/>
                  <a:pt x="16256" y="15113"/>
                </a:cubicBezTo>
                <a:cubicBezTo>
                  <a:pt x="16315" y="15068"/>
                  <a:pt x="16320" y="15071"/>
                  <a:pt x="16351" y="15113"/>
                </a:cubicBezTo>
                <a:cubicBezTo>
                  <a:pt x="16421" y="15207"/>
                  <a:pt x="16364" y="15271"/>
                  <a:pt x="16351" y="15367"/>
                </a:cubicBezTo>
                <a:cubicBezTo>
                  <a:pt x="16338" y="15469"/>
                  <a:pt x="16304" y="15556"/>
                  <a:pt x="16288" y="15653"/>
                </a:cubicBezTo>
                <a:cubicBezTo>
                  <a:pt x="16274" y="15736"/>
                  <a:pt x="16303" y="15717"/>
                  <a:pt x="16256" y="15780"/>
                </a:cubicBezTo>
                <a:cubicBezTo>
                  <a:pt x="16328" y="15780"/>
                  <a:pt x="16300" y="15754"/>
                  <a:pt x="16351" y="15748"/>
                </a:cubicBezTo>
                <a:cubicBezTo>
                  <a:pt x="16416" y="15740"/>
                  <a:pt x="16428" y="15763"/>
                  <a:pt x="16478" y="15780"/>
                </a:cubicBezTo>
                <a:cubicBezTo>
                  <a:pt x="16520" y="15794"/>
                  <a:pt x="16549" y="15741"/>
                  <a:pt x="16574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1"/>
          <p:cNvSpPr/>
          <p:nvPr/>
        </p:nvSpPr>
        <p:spPr>
          <a:xfrm>
            <a:off x="6207120" y="5337000"/>
            <a:ext cx="365040" cy="320760"/>
          </a:xfrm>
          <a:custGeom>
            <a:avLst/>
            <a:gdLst/>
            <a:ahLst/>
            <a:rect l="l" t="t" r="r" b="b"/>
            <a:pathLst>
              <a:path w="1017" h="890">
                <a:moveTo>
                  <a:pt x="17240" y="15304"/>
                </a:moveTo>
                <a:cubicBezTo>
                  <a:pt x="17306" y="15304"/>
                  <a:pt x="17345" y="15288"/>
                  <a:pt x="17399" y="15272"/>
                </a:cubicBezTo>
                <a:cubicBezTo>
                  <a:pt x="17454" y="15255"/>
                  <a:pt x="17532" y="15272"/>
                  <a:pt x="17590" y="15272"/>
                </a:cubicBezTo>
              </a:path>
              <a:path w="1017" h="890">
                <a:moveTo>
                  <a:pt x="17685" y="14859"/>
                </a:moveTo>
                <a:cubicBezTo>
                  <a:pt x="17685" y="15085"/>
                  <a:pt x="17676" y="15307"/>
                  <a:pt x="17716" y="15526"/>
                </a:cubicBezTo>
                <a:cubicBezTo>
                  <a:pt x="17727" y="15584"/>
                  <a:pt x="17716" y="15637"/>
                  <a:pt x="17748" y="15684"/>
                </a:cubicBezTo>
                <a:cubicBezTo>
                  <a:pt x="17759" y="15695"/>
                  <a:pt x="17769" y="15705"/>
                  <a:pt x="17780" y="15716"/>
                </a:cubicBezTo>
              </a:path>
              <a:path w="1017" h="890">
                <a:moveTo>
                  <a:pt x="17812" y="15081"/>
                </a:moveTo>
                <a:cubicBezTo>
                  <a:pt x="17824" y="15020"/>
                  <a:pt x="17858" y="14974"/>
                  <a:pt x="17875" y="14922"/>
                </a:cubicBezTo>
                <a:cubicBezTo>
                  <a:pt x="17889" y="14880"/>
                  <a:pt x="17926" y="14885"/>
                  <a:pt x="17939" y="14859"/>
                </a:cubicBezTo>
                <a:cubicBezTo>
                  <a:pt x="17961" y="14815"/>
                  <a:pt x="17972" y="14827"/>
                  <a:pt x="18034" y="14827"/>
                </a:cubicBezTo>
                <a:cubicBezTo>
                  <a:pt x="18034" y="14920"/>
                  <a:pt x="18017" y="15005"/>
                  <a:pt x="18002" y="15081"/>
                </a:cubicBezTo>
                <a:cubicBezTo>
                  <a:pt x="17984" y="15171"/>
                  <a:pt x="17977" y="15277"/>
                  <a:pt x="17970" y="15367"/>
                </a:cubicBezTo>
                <a:cubicBezTo>
                  <a:pt x="17964" y="15449"/>
                  <a:pt x="17912" y="15473"/>
                  <a:pt x="17939" y="15462"/>
                </a:cubicBezTo>
                <a:cubicBezTo>
                  <a:pt x="18026" y="15426"/>
                  <a:pt x="18163" y="15461"/>
                  <a:pt x="18224" y="15430"/>
                </a:cubicBezTo>
                <a:cubicBezTo>
                  <a:pt x="18256" y="15430"/>
                  <a:pt x="18266" y="15430"/>
                  <a:pt x="18256" y="15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2"/>
          <p:cNvSpPr/>
          <p:nvPr/>
        </p:nvSpPr>
        <p:spPr>
          <a:xfrm>
            <a:off x="5932440" y="5589720"/>
            <a:ext cx="1028880" cy="834840"/>
          </a:xfrm>
          <a:custGeom>
            <a:avLst/>
            <a:gdLst/>
            <a:ahLst/>
            <a:rect l="l" t="t" r="r" b="b"/>
            <a:pathLst>
              <a:path w="2859" h="2319">
                <a:moveTo>
                  <a:pt x="16478" y="16351"/>
                </a:moveTo>
                <a:cubicBezTo>
                  <a:pt x="16494" y="16304"/>
                  <a:pt x="16507" y="16314"/>
                  <a:pt x="16542" y="16288"/>
                </a:cubicBezTo>
                <a:cubicBezTo>
                  <a:pt x="16604" y="16242"/>
                  <a:pt x="16634" y="16178"/>
                  <a:pt x="16700" y="16129"/>
                </a:cubicBezTo>
                <a:cubicBezTo>
                  <a:pt x="16740" y="16099"/>
                  <a:pt x="16778" y="16071"/>
                  <a:pt x="16828" y="16066"/>
                </a:cubicBezTo>
                <a:cubicBezTo>
                  <a:pt x="16846" y="16064"/>
                  <a:pt x="16915" y="16132"/>
                  <a:pt x="16923" y="16161"/>
                </a:cubicBezTo>
                <a:cubicBezTo>
                  <a:pt x="16951" y="16257"/>
                  <a:pt x="16925" y="16421"/>
                  <a:pt x="16891" y="16510"/>
                </a:cubicBezTo>
                <a:cubicBezTo>
                  <a:pt x="16855" y="16605"/>
                  <a:pt x="16838" y="16699"/>
                  <a:pt x="16796" y="16796"/>
                </a:cubicBezTo>
                <a:cubicBezTo>
                  <a:pt x="16775" y="16844"/>
                  <a:pt x="16757" y="16916"/>
                  <a:pt x="16732" y="16954"/>
                </a:cubicBezTo>
                <a:cubicBezTo>
                  <a:pt x="16703" y="16997"/>
                  <a:pt x="16591" y="17027"/>
                  <a:pt x="16637" y="17050"/>
                </a:cubicBezTo>
                <a:cubicBezTo>
                  <a:pt x="16675" y="17069"/>
                  <a:pt x="16695" y="17039"/>
                  <a:pt x="16732" y="17018"/>
                </a:cubicBezTo>
                <a:cubicBezTo>
                  <a:pt x="16780" y="16991"/>
                  <a:pt x="16836" y="16960"/>
                  <a:pt x="16891" y="16954"/>
                </a:cubicBezTo>
                <a:cubicBezTo>
                  <a:pt x="16935" y="16949"/>
                  <a:pt x="16987" y="16965"/>
                  <a:pt x="17018" y="16986"/>
                </a:cubicBezTo>
                <a:cubicBezTo>
                  <a:pt x="17069" y="17020"/>
                  <a:pt x="17087" y="17104"/>
                  <a:pt x="17113" y="17050"/>
                </a:cubicBezTo>
              </a:path>
              <a:path w="2859" h="2319">
                <a:moveTo>
                  <a:pt x="17208" y="16320"/>
                </a:moveTo>
                <a:cubicBezTo>
                  <a:pt x="17251" y="16376"/>
                  <a:pt x="17242" y="16419"/>
                  <a:pt x="17272" y="16478"/>
                </a:cubicBezTo>
                <a:cubicBezTo>
                  <a:pt x="17305" y="16543"/>
                  <a:pt x="17347" y="16557"/>
                  <a:pt x="17367" y="16637"/>
                </a:cubicBezTo>
                <a:cubicBezTo>
                  <a:pt x="17385" y="16711"/>
                  <a:pt x="17413" y="16786"/>
                  <a:pt x="17431" y="16859"/>
                </a:cubicBezTo>
                <a:cubicBezTo>
                  <a:pt x="17448" y="16928"/>
                  <a:pt x="17459" y="16992"/>
                  <a:pt x="17494" y="17050"/>
                </a:cubicBezTo>
              </a:path>
              <a:path w="2859" h="2319">
                <a:moveTo>
                  <a:pt x="17526" y="16224"/>
                </a:moveTo>
                <a:cubicBezTo>
                  <a:pt x="17526" y="16298"/>
                  <a:pt x="17517" y="16379"/>
                  <a:pt x="17494" y="16446"/>
                </a:cubicBezTo>
                <a:cubicBezTo>
                  <a:pt x="17458" y="16554"/>
                  <a:pt x="17415" y="16679"/>
                  <a:pt x="17399" y="16796"/>
                </a:cubicBezTo>
                <a:cubicBezTo>
                  <a:pt x="17385" y="16899"/>
                  <a:pt x="17367" y="17014"/>
                  <a:pt x="17336" y="17113"/>
                </a:cubicBezTo>
                <a:cubicBezTo>
                  <a:pt x="17319" y="17168"/>
                  <a:pt x="17303" y="17199"/>
                  <a:pt x="17272" y="17240"/>
                </a:cubicBezTo>
              </a:path>
              <a:path w="2859" h="2319">
                <a:moveTo>
                  <a:pt x="17716" y="16415"/>
                </a:moveTo>
                <a:cubicBezTo>
                  <a:pt x="17789" y="16415"/>
                  <a:pt x="17816" y="16403"/>
                  <a:pt x="17875" y="16383"/>
                </a:cubicBezTo>
                <a:cubicBezTo>
                  <a:pt x="17920" y="16368"/>
                  <a:pt x="17933" y="16357"/>
                  <a:pt x="17970" y="16320"/>
                </a:cubicBezTo>
              </a:path>
              <a:path w="2859" h="2319">
                <a:moveTo>
                  <a:pt x="17844" y="16764"/>
                </a:moveTo>
                <a:cubicBezTo>
                  <a:pt x="17833" y="16764"/>
                  <a:pt x="17823" y="16764"/>
                  <a:pt x="17812" y="16764"/>
                </a:cubicBezTo>
                <a:cubicBezTo>
                  <a:pt x="17878" y="16764"/>
                  <a:pt x="17923" y="16733"/>
                  <a:pt x="17970" y="16700"/>
                </a:cubicBezTo>
                <a:cubicBezTo>
                  <a:pt x="18018" y="16667"/>
                  <a:pt x="18038" y="16669"/>
                  <a:pt x="18098" y="16669"/>
                </a:cubicBezTo>
              </a:path>
              <a:path w="2859" h="2319">
                <a:moveTo>
                  <a:pt x="18288" y="16097"/>
                </a:moveTo>
                <a:cubicBezTo>
                  <a:pt x="18227" y="16077"/>
                  <a:pt x="18260" y="16030"/>
                  <a:pt x="18288" y="15970"/>
                </a:cubicBezTo>
                <a:cubicBezTo>
                  <a:pt x="18318" y="15908"/>
                  <a:pt x="18389" y="15869"/>
                  <a:pt x="18415" y="15812"/>
                </a:cubicBezTo>
                <a:cubicBezTo>
                  <a:pt x="18435" y="15766"/>
                  <a:pt x="18450" y="15780"/>
                  <a:pt x="18510" y="15780"/>
                </a:cubicBezTo>
                <a:cubicBezTo>
                  <a:pt x="18521" y="15780"/>
                  <a:pt x="18531" y="15780"/>
                  <a:pt x="18542" y="15780"/>
                </a:cubicBezTo>
                <a:cubicBezTo>
                  <a:pt x="18542" y="15855"/>
                  <a:pt x="18523" y="15911"/>
                  <a:pt x="18510" y="15970"/>
                </a:cubicBezTo>
                <a:cubicBezTo>
                  <a:pt x="18494" y="16043"/>
                  <a:pt x="18490" y="16070"/>
                  <a:pt x="18447" y="16129"/>
                </a:cubicBezTo>
                <a:cubicBezTo>
                  <a:pt x="18494" y="16113"/>
                  <a:pt x="18473" y="16097"/>
                  <a:pt x="18542" y="16097"/>
                </a:cubicBezTo>
                <a:cubicBezTo>
                  <a:pt x="18614" y="16097"/>
                  <a:pt x="18637" y="16113"/>
                  <a:pt x="18669" y="16129"/>
                </a:cubicBezTo>
                <a:cubicBezTo>
                  <a:pt x="18717" y="16153"/>
                  <a:pt x="18728" y="16182"/>
                  <a:pt x="18732" y="16256"/>
                </a:cubicBezTo>
                <a:cubicBezTo>
                  <a:pt x="18737" y="16342"/>
                  <a:pt x="18683" y="16409"/>
                  <a:pt x="18669" y="16478"/>
                </a:cubicBezTo>
                <a:cubicBezTo>
                  <a:pt x="18652" y="16563"/>
                  <a:pt x="18637" y="16574"/>
                  <a:pt x="18574" y="16637"/>
                </a:cubicBezTo>
                <a:cubicBezTo>
                  <a:pt x="18526" y="16685"/>
                  <a:pt x="18514" y="16700"/>
                  <a:pt x="18447" y="16700"/>
                </a:cubicBezTo>
                <a:cubicBezTo>
                  <a:pt x="18378" y="16700"/>
                  <a:pt x="18375" y="16629"/>
                  <a:pt x="18352" y="16574"/>
                </a:cubicBezTo>
              </a:path>
              <a:path w="2859" h="2319">
                <a:moveTo>
                  <a:pt x="18764" y="15780"/>
                </a:moveTo>
                <a:cubicBezTo>
                  <a:pt x="18764" y="15727"/>
                  <a:pt x="18777" y="15697"/>
                  <a:pt x="18796" y="15653"/>
                </a:cubicBezTo>
                <a:cubicBezTo>
                  <a:pt x="18822" y="15593"/>
                  <a:pt x="18865" y="15545"/>
                  <a:pt x="18923" y="15526"/>
                </a:cubicBezTo>
                <a:cubicBezTo>
                  <a:pt x="18934" y="15526"/>
                  <a:pt x="18944" y="15526"/>
                  <a:pt x="18955" y="15526"/>
                </a:cubicBezTo>
                <a:cubicBezTo>
                  <a:pt x="18996" y="15582"/>
                  <a:pt x="18986" y="15611"/>
                  <a:pt x="18986" y="15684"/>
                </a:cubicBezTo>
                <a:cubicBezTo>
                  <a:pt x="18986" y="15799"/>
                  <a:pt x="18967" y="15892"/>
                  <a:pt x="18955" y="16002"/>
                </a:cubicBezTo>
                <a:cubicBezTo>
                  <a:pt x="18945" y="16090"/>
                  <a:pt x="18927" y="16208"/>
                  <a:pt x="18891" y="16288"/>
                </a:cubicBezTo>
                <a:cubicBezTo>
                  <a:pt x="18875" y="16323"/>
                  <a:pt x="18833" y="16372"/>
                  <a:pt x="18828" y="16383"/>
                </a:cubicBezTo>
                <a:cubicBezTo>
                  <a:pt x="18808" y="16422"/>
                  <a:pt x="18839" y="16383"/>
                  <a:pt x="18891" y="16383"/>
                </a:cubicBezTo>
                <a:cubicBezTo>
                  <a:pt x="18972" y="16383"/>
                  <a:pt x="19015" y="16373"/>
                  <a:pt x="19082" y="16351"/>
                </a:cubicBezTo>
                <a:cubicBezTo>
                  <a:pt x="19145" y="16330"/>
                  <a:pt x="19154" y="16344"/>
                  <a:pt x="19209" y="16288"/>
                </a:cubicBezTo>
                <a:cubicBezTo>
                  <a:pt x="19252" y="16244"/>
                  <a:pt x="19314" y="16184"/>
                  <a:pt x="19336" y="16129"/>
                </a:cubicBezTo>
                <a:cubicBezTo>
                  <a:pt x="19336" y="16118"/>
                  <a:pt x="19336" y="16108"/>
                  <a:pt x="19336" y="16097"/>
                </a:cubicBezTo>
              </a:path>
              <a:path w="2859" h="2319">
                <a:moveTo>
                  <a:pt x="16637" y="17208"/>
                </a:moveTo>
                <a:cubicBezTo>
                  <a:pt x="16637" y="17198"/>
                  <a:pt x="16637" y="17187"/>
                  <a:pt x="16637" y="17177"/>
                </a:cubicBezTo>
                <a:cubicBezTo>
                  <a:pt x="16695" y="17177"/>
                  <a:pt x="16712" y="17151"/>
                  <a:pt x="16764" y="17145"/>
                </a:cubicBezTo>
                <a:cubicBezTo>
                  <a:pt x="16835" y="17137"/>
                  <a:pt x="16887" y="17125"/>
                  <a:pt x="16954" y="17113"/>
                </a:cubicBezTo>
                <a:cubicBezTo>
                  <a:pt x="17045" y="17097"/>
                  <a:pt x="17096" y="17138"/>
                  <a:pt x="17177" y="17145"/>
                </a:cubicBezTo>
                <a:cubicBezTo>
                  <a:pt x="17271" y="17153"/>
                  <a:pt x="17368" y="17145"/>
                  <a:pt x="17462" y="17145"/>
                </a:cubicBezTo>
              </a:path>
              <a:path w="2859" h="2319">
                <a:moveTo>
                  <a:pt x="17018" y="17526"/>
                </a:moveTo>
                <a:cubicBezTo>
                  <a:pt x="16984" y="17509"/>
                  <a:pt x="17027" y="17455"/>
                  <a:pt x="17082" y="17431"/>
                </a:cubicBezTo>
                <a:cubicBezTo>
                  <a:pt x="17113" y="17431"/>
                  <a:pt x="17124" y="17431"/>
                  <a:pt x="17113" y="17399"/>
                </a:cubicBezTo>
                <a:cubicBezTo>
                  <a:pt x="17146" y="17410"/>
                  <a:pt x="17174" y="17423"/>
                  <a:pt x="17177" y="17462"/>
                </a:cubicBezTo>
                <a:cubicBezTo>
                  <a:pt x="17185" y="17561"/>
                  <a:pt x="17161" y="17636"/>
                  <a:pt x="17145" y="17716"/>
                </a:cubicBezTo>
                <a:cubicBezTo>
                  <a:pt x="17141" y="17737"/>
                  <a:pt x="17117" y="17852"/>
                  <a:pt x="17113" y="17844"/>
                </a:cubicBezTo>
                <a:cubicBezTo>
                  <a:pt x="17095" y="17809"/>
                  <a:pt x="17180" y="17783"/>
                  <a:pt x="17208" y="17780"/>
                </a:cubicBezTo>
                <a:cubicBezTo>
                  <a:pt x="17233" y="17777"/>
                  <a:pt x="17313" y="17761"/>
                  <a:pt x="17336" y="17748"/>
                </a:cubicBezTo>
                <a:cubicBezTo>
                  <a:pt x="17373" y="17710"/>
                  <a:pt x="17391" y="17695"/>
                  <a:pt x="17431" y="17685"/>
                </a:cubicBezTo>
              </a:path>
              <a:path w="2859" h="2319">
                <a:moveTo>
                  <a:pt x="18415" y="16954"/>
                </a:moveTo>
                <a:cubicBezTo>
                  <a:pt x="18470" y="16941"/>
                  <a:pt x="18528" y="16928"/>
                  <a:pt x="18574" y="16891"/>
                </a:cubicBezTo>
                <a:cubicBezTo>
                  <a:pt x="18625" y="16850"/>
                  <a:pt x="18680" y="16826"/>
                  <a:pt x="18732" y="16796"/>
                </a:cubicBezTo>
                <a:cubicBezTo>
                  <a:pt x="18823" y="16744"/>
                  <a:pt x="18815" y="16678"/>
                  <a:pt x="18923" y="16669"/>
                </a:cubicBezTo>
                <a:cubicBezTo>
                  <a:pt x="18979" y="16664"/>
                  <a:pt x="19000" y="16649"/>
                  <a:pt x="19050" y="16637"/>
                </a:cubicBezTo>
              </a:path>
              <a:path w="2859" h="2319">
                <a:moveTo>
                  <a:pt x="18606" y="17208"/>
                </a:moveTo>
                <a:cubicBezTo>
                  <a:pt x="18609" y="17198"/>
                  <a:pt x="18660" y="17119"/>
                  <a:pt x="18669" y="17113"/>
                </a:cubicBezTo>
                <a:cubicBezTo>
                  <a:pt x="18688" y="17101"/>
                  <a:pt x="18762" y="17051"/>
                  <a:pt x="18764" y="17050"/>
                </a:cubicBezTo>
                <a:cubicBezTo>
                  <a:pt x="18775" y="17050"/>
                  <a:pt x="18785" y="17050"/>
                  <a:pt x="18796" y="17050"/>
                </a:cubicBezTo>
                <a:cubicBezTo>
                  <a:pt x="18838" y="17106"/>
                  <a:pt x="18828" y="17134"/>
                  <a:pt x="18828" y="17208"/>
                </a:cubicBezTo>
                <a:cubicBezTo>
                  <a:pt x="18828" y="17309"/>
                  <a:pt x="18819" y="17371"/>
                  <a:pt x="18796" y="17462"/>
                </a:cubicBezTo>
                <a:cubicBezTo>
                  <a:pt x="18775" y="17544"/>
                  <a:pt x="18790" y="17499"/>
                  <a:pt x="18828" y="17494"/>
                </a:cubicBezTo>
                <a:cubicBezTo>
                  <a:pt x="18873" y="17488"/>
                  <a:pt x="18920" y="17462"/>
                  <a:pt x="18955" y="17431"/>
                </a:cubicBezTo>
                <a:cubicBezTo>
                  <a:pt x="19015" y="17377"/>
                  <a:pt x="18998" y="17379"/>
                  <a:pt x="19082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3"/>
          <p:cNvSpPr/>
          <p:nvPr/>
        </p:nvSpPr>
        <p:spPr>
          <a:xfrm>
            <a:off x="7178760" y="5521320"/>
            <a:ext cx="776160" cy="77616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9939" y="16066"/>
                </a:moveTo>
                <a:cubicBezTo>
                  <a:pt x="19955" y="16127"/>
                  <a:pt x="20008" y="16159"/>
                  <a:pt x="20034" y="16224"/>
                </a:cubicBezTo>
                <a:cubicBezTo>
                  <a:pt x="20081" y="16339"/>
                  <a:pt x="20122" y="16456"/>
                  <a:pt x="20161" y="16574"/>
                </a:cubicBezTo>
                <a:cubicBezTo>
                  <a:pt x="20217" y="16743"/>
                  <a:pt x="20323" y="16941"/>
                  <a:pt x="20352" y="17113"/>
                </a:cubicBezTo>
                <a:cubicBezTo>
                  <a:pt x="20366" y="17199"/>
                  <a:pt x="20384" y="17279"/>
                  <a:pt x="20384" y="17367"/>
                </a:cubicBezTo>
                <a:cubicBezTo>
                  <a:pt x="20384" y="17399"/>
                  <a:pt x="20384" y="17410"/>
                  <a:pt x="20384" y="17431"/>
                </a:cubicBezTo>
              </a:path>
              <a:path w="2160" h="2160">
                <a:moveTo>
                  <a:pt x="20479" y="15653"/>
                </a:moveTo>
                <a:cubicBezTo>
                  <a:pt x="20463" y="15696"/>
                  <a:pt x="20460" y="15792"/>
                  <a:pt x="20447" y="15875"/>
                </a:cubicBezTo>
                <a:cubicBezTo>
                  <a:pt x="20419" y="16045"/>
                  <a:pt x="20391" y="16214"/>
                  <a:pt x="20352" y="16383"/>
                </a:cubicBezTo>
                <a:cubicBezTo>
                  <a:pt x="20307" y="16578"/>
                  <a:pt x="20239" y="16761"/>
                  <a:pt x="20193" y="16954"/>
                </a:cubicBezTo>
                <a:cubicBezTo>
                  <a:pt x="20159" y="17095"/>
                  <a:pt x="20088" y="17260"/>
                  <a:pt x="20066" y="17399"/>
                </a:cubicBezTo>
                <a:cubicBezTo>
                  <a:pt x="20066" y="17431"/>
                  <a:pt x="20066" y="17462"/>
                  <a:pt x="20066" y="17494"/>
                </a:cubicBezTo>
              </a:path>
              <a:path w="2160" h="2160">
                <a:moveTo>
                  <a:pt x="20542" y="16320"/>
                </a:moveTo>
                <a:cubicBezTo>
                  <a:pt x="20595" y="16281"/>
                  <a:pt x="20674" y="16224"/>
                  <a:pt x="20733" y="16192"/>
                </a:cubicBezTo>
                <a:cubicBezTo>
                  <a:pt x="20794" y="16159"/>
                  <a:pt x="20863" y="16146"/>
                  <a:pt x="20923" y="16097"/>
                </a:cubicBezTo>
              </a:path>
              <a:path w="2160" h="2160">
                <a:moveTo>
                  <a:pt x="20701" y="16637"/>
                </a:moveTo>
                <a:cubicBezTo>
                  <a:pt x="20672" y="16666"/>
                  <a:pt x="20662" y="16672"/>
                  <a:pt x="20669" y="16700"/>
                </a:cubicBezTo>
                <a:cubicBezTo>
                  <a:pt x="20716" y="16666"/>
                  <a:pt x="20786" y="16682"/>
                  <a:pt x="20828" y="16637"/>
                </a:cubicBezTo>
                <a:cubicBezTo>
                  <a:pt x="20899" y="16561"/>
                  <a:pt x="20950" y="16528"/>
                  <a:pt x="21050" y="16478"/>
                </a:cubicBezTo>
              </a:path>
              <a:path w="2160" h="2160">
                <a:moveTo>
                  <a:pt x="21304" y="15335"/>
                </a:moveTo>
                <a:cubicBezTo>
                  <a:pt x="21304" y="15436"/>
                  <a:pt x="21333" y="15520"/>
                  <a:pt x="21336" y="15621"/>
                </a:cubicBezTo>
                <a:cubicBezTo>
                  <a:pt x="21351" y="16108"/>
                  <a:pt x="21336" y="17505"/>
                  <a:pt x="21336" y="17018"/>
                </a:cubicBezTo>
              </a:path>
              <a:path w="2160" h="2160">
                <a:moveTo>
                  <a:pt x="21526" y="15430"/>
                </a:moveTo>
                <a:cubicBezTo>
                  <a:pt x="21468" y="15510"/>
                  <a:pt x="21513" y="15582"/>
                  <a:pt x="21495" y="15684"/>
                </a:cubicBezTo>
                <a:cubicBezTo>
                  <a:pt x="21469" y="15834"/>
                  <a:pt x="21463" y="15973"/>
                  <a:pt x="21463" y="16129"/>
                </a:cubicBezTo>
                <a:cubicBezTo>
                  <a:pt x="21463" y="16262"/>
                  <a:pt x="21480" y="16416"/>
                  <a:pt x="21526" y="16542"/>
                </a:cubicBezTo>
                <a:cubicBezTo>
                  <a:pt x="21541" y="16582"/>
                  <a:pt x="21614" y="16744"/>
                  <a:pt x="21654" y="16764"/>
                </a:cubicBezTo>
                <a:cubicBezTo>
                  <a:pt x="21735" y="16805"/>
                  <a:pt x="21790" y="16725"/>
                  <a:pt x="21844" y="16700"/>
                </a:cubicBezTo>
                <a:cubicBezTo>
                  <a:pt x="21900" y="16674"/>
                  <a:pt x="21937" y="16606"/>
                  <a:pt x="21971" y="16542"/>
                </a:cubicBezTo>
                <a:cubicBezTo>
                  <a:pt x="22016" y="16457"/>
                  <a:pt x="22061" y="16383"/>
                  <a:pt x="22066" y="16288"/>
                </a:cubicBezTo>
                <a:cubicBezTo>
                  <a:pt x="22072" y="16184"/>
                  <a:pt x="22074" y="16138"/>
                  <a:pt x="22066" y="16034"/>
                </a:cubicBezTo>
                <a:cubicBezTo>
                  <a:pt x="22063" y="15993"/>
                  <a:pt x="22044" y="15977"/>
                  <a:pt x="22034" y="15938"/>
                </a:cubicBezTo>
                <a:cubicBezTo>
                  <a:pt x="21957" y="15951"/>
                  <a:pt x="21992" y="15942"/>
                  <a:pt x="21939" y="16002"/>
                </a:cubicBezTo>
                <a:cubicBezTo>
                  <a:pt x="21897" y="16050"/>
                  <a:pt x="21855" y="16128"/>
                  <a:pt x="21844" y="16192"/>
                </a:cubicBezTo>
                <a:cubicBezTo>
                  <a:pt x="21815" y="16358"/>
                  <a:pt x="21856" y="16544"/>
                  <a:pt x="21876" y="16700"/>
                </a:cubicBezTo>
                <a:cubicBezTo>
                  <a:pt x="21886" y="16782"/>
                  <a:pt x="21898" y="16843"/>
                  <a:pt x="21908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4"/>
          <p:cNvSpPr/>
          <p:nvPr/>
        </p:nvSpPr>
        <p:spPr>
          <a:xfrm>
            <a:off x="7693200" y="2422440"/>
            <a:ext cx="1245960" cy="1316160"/>
          </a:xfrm>
          <a:custGeom>
            <a:avLst/>
            <a:gdLst/>
            <a:ahLst/>
            <a:rect l="l" t="t" r="r" b="b"/>
            <a:pathLst>
              <a:path w="3461" h="3652">
                <a:moveTo>
                  <a:pt x="21971" y="7938"/>
                </a:moveTo>
                <a:cubicBezTo>
                  <a:pt x="21925" y="7997"/>
                  <a:pt x="21939" y="8049"/>
                  <a:pt x="21939" y="8128"/>
                </a:cubicBezTo>
                <a:cubicBezTo>
                  <a:pt x="21939" y="8240"/>
                  <a:pt x="21912" y="8335"/>
                  <a:pt x="21908" y="8446"/>
                </a:cubicBezTo>
                <a:cubicBezTo>
                  <a:pt x="21902" y="8608"/>
                  <a:pt x="21889" y="8763"/>
                  <a:pt x="21876" y="8922"/>
                </a:cubicBezTo>
                <a:cubicBezTo>
                  <a:pt x="21856" y="9166"/>
                  <a:pt x="21869" y="9412"/>
                  <a:pt x="21844" y="9652"/>
                </a:cubicBezTo>
                <a:cubicBezTo>
                  <a:pt x="21841" y="9684"/>
                  <a:pt x="21844" y="9938"/>
                  <a:pt x="21844" y="9874"/>
                </a:cubicBezTo>
                <a:cubicBezTo>
                  <a:pt x="21844" y="9863"/>
                  <a:pt x="21844" y="9853"/>
                  <a:pt x="21844" y="9842"/>
                </a:cubicBezTo>
              </a:path>
              <a:path w="3461" h="3652">
                <a:moveTo>
                  <a:pt x="22098" y="8414"/>
                </a:moveTo>
                <a:cubicBezTo>
                  <a:pt x="22124" y="8344"/>
                  <a:pt x="22139" y="8261"/>
                  <a:pt x="22162" y="8192"/>
                </a:cubicBezTo>
                <a:cubicBezTo>
                  <a:pt x="22199" y="8080"/>
                  <a:pt x="22256" y="8075"/>
                  <a:pt x="22320" y="8001"/>
                </a:cubicBezTo>
                <a:cubicBezTo>
                  <a:pt x="22375" y="7937"/>
                  <a:pt x="22377" y="7920"/>
                  <a:pt x="22479" y="7938"/>
                </a:cubicBezTo>
                <a:cubicBezTo>
                  <a:pt x="22535" y="7948"/>
                  <a:pt x="22517" y="8159"/>
                  <a:pt x="22511" y="8192"/>
                </a:cubicBezTo>
                <a:cubicBezTo>
                  <a:pt x="22483" y="8337"/>
                  <a:pt x="22473" y="8495"/>
                  <a:pt x="22416" y="8636"/>
                </a:cubicBezTo>
                <a:cubicBezTo>
                  <a:pt x="22348" y="8805"/>
                  <a:pt x="22308" y="8968"/>
                  <a:pt x="22257" y="9144"/>
                </a:cubicBezTo>
                <a:cubicBezTo>
                  <a:pt x="22225" y="9254"/>
                  <a:pt x="22186" y="9393"/>
                  <a:pt x="22130" y="9493"/>
                </a:cubicBezTo>
                <a:cubicBezTo>
                  <a:pt x="22108" y="9531"/>
                  <a:pt x="22094" y="9554"/>
                  <a:pt x="22066" y="9588"/>
                </a:cubicBezTo>
                <a:cubicBezTo>
                  <a:pt x="22085" y="9564"/>
                  <a:pt x="22109" y="9536"/>
                  <a:pt x="22130" y="9493"/>
                </a:cubicBezTo>
                <a:cubicBezTo>
                  <a:pt x="22157" y="9436"/>
                  <a:pt x="22157" y="9389"/>
                  <a:pt x="22225" y="9366"/>
                </a:cubicBezTo>
                <a:cubicBezTo>
                  <a:pt x="22290" y="9344"/>
                  <a:pt x="22337" y="9388"/>
                  <a:pt x="22384" y="9398"/>
                </a:cubicBezTo>
                <a:cubicBezTo>
                  <a:pt x="22467" y="9415"/>
                  <a:pt x="22441" y="9443"/>
                  <a:pt x="22511" y="9493"/>
                </a:cubicBezTo>
                <a:cubicBezTo>
                  <a:pt x="22529" y="9506"/>
                  <a:pt x="22615" y="9551"/>
                  <a:pt x="22638" y="9557"/>
                </a:cubicBezTo>
                <a:cubicBezTo>
                  <a:pt x="22715" y="9578"/>
                  <a:pt x="22795" y="9545"/>
                  <a:pt x="22828" y="9525"/>
                </a:cubicBezTo>
              </a:path>
              <a:path w="3461" h="3652">
                <a:moveTo>
                  <a:pt x="22828" y="8477"/>
                </a:moveTo>
                <a:cubicBezTo>
                  <a:pt x="22879" y="8503"/>
                  <a:pt x="22935" y="8584"/>
                  <a:pt x="22987" y="8636"/>
                </a:cubicBezTo>
                <a:cubicBezTo>
                  <a:pt x="23056" y="8705"/>
                  <a:pt x="23151" y="8750"/>
                  <a:pt x="23209" y="8826"/>
                </a:cubicBezTo>
                <a:cubicBezTo>
                  <a:pt x="23242" y="8869"/>
                  <a:pt x="23353" y="8966"/>
                  <a:pt x="23368" y="9017"/>
                </a:cubicBezTo>
                <a:cubicBezTo>
                  <a:pt x="23396" y="9114"/>
                  <a:pt x="23383" y="9043"/>
                  <a:pt x="23400" y="9144"/>
                </a:cubicBezTo>
              </a:path>
              <a:path w="3461" h="3652">
                <a:moveTo>
                  <a:pt x="23273" y="8287"/>
                </a:moveTo>
                <a:cubicBezTo>
                  <a:pt x="23230" y="8357"/>
                  <a:pt x="23208" y="8454"/>
                  <a:pt x="23178" y="8541"/>
                </a:cubicBezTo>
                <a:cubicBezTo>
                  <a:pt x="23131" y="8677"/>
                  <a:pt x="23095" y="8817"/>
                  <a:pt x="23050" y="8954"/>
                </a:cubicBezTo>
                <a:cubicBezTo>
                  <a:pt x="23013" y="9065"/>
                  <a:pt x="22981" y="9201"/>
                  <a:pt x="22924" y="9303"/>
                </a:cubicBezTo>
                <a:cubicBezTo>
                  <a:pt x="22913" y="9313"/>
                  <a:pt x="22903" y="9324"/>
                  <a:pt x="22892" y="9334"/>
                </a:cubicBezTo>
              </a:path>
              <a:path w="3461" h="3652">
                <a:moveTo>
                  <a:pt x="23622" y="7842"/>
                </a:moveTo>
                <a:cubicBezTo>
                  <a:pt x="23672" y="7908"/>
                  <a:pt x="23654" y="7977"/>
                  <a:pt x="23654" y="8064"/>
                </a:cubicBezTo>
                <a:cubicBezTo>
                  <a:pt x="23654" y="8343"/>
                  <a:pt x="23663" y="8616"/>
                  <a:pt x="23686" y="8890"/>
                </a:cubicBezTo>
                <a:cubicBezTo>
                  <a:pt x="23701" y="9065"/>
                  <a:pt x="23675" y="9234"/>
                  <a:pt x="23654" y="9398"/>
                </a:cubicBezTo>
                <a:cubicBezTo>
                  <a:pt x="23646" y="9461"/>
                  <a:pt x="23654" y="9589"/>
                  <a:pt x="23654" y="9525"/>
                </a:cubicBezTo>
              </a:path>
              <a:path w="3461" h="3652">
                <a:moveTo>
                  <a:pt x="24003" y="7810"/>
                </a:moveTo>
                <a:cubicBezTo>
                  <a:pt x="23996" y="7897"/>
                  <a:pt x="23975" y="7977"/>
                  <a:pt x="23971" y="8064"/>
                </a:cubicBezTo>
                <a:cubicBezTo>
                  <a:pt x="23965" y="8207"/>
                  <a:pt x="23962" y="8368"/>
                  <a:pt x="23940" y="8509"/>
                </a:cubicBezTo>
                <a:cubicBezTo>
                  <a:pt x="23915" y="8672"/>
                  <a:pt x="23908" y="8818"/>
                  <a:pt x="23908" y="8985"/>
                </a:cubicBezTo>
                <a:cubicBezTo>
                  <a:pt x="23908" y="9163"/>
                  <a:pt x="23917" y="9322"/>
                  <a:pt x="23940" y="9493"/>
                </a:cubicBezTo>
                <a:cubicBezTo>
                  <a:pt x="23946" y="9536"/>
                  <a:pt x="23970" y="9627"/>
                  <a:pt x="24035" y="9620"/>
                </a:cubicBezTo>
                <a:cubicBezTo>
                  <a:pt x="24067" y="9617"/>
                  <a:pt x="24173" y="9555"/>
                  <a:pt x="24194" y="9525"/>
                </a:cubicBezTo>
                <a:cubicBezTo>
                  <a:pt x="24234" y="9469"/>
                  <a:pt x="24305" y="9359"/>
                  <a:pt x="24320" y="9303"/>
                </a:cubicBezTo>
                <a:cubicBezTo>
                  <a:pt x="24348" y="9196"/>
                  <a:pt x="24355" y="9124"/>
                  <a:pt x="24320" y="9017"/>
                </a:cubicBezTo>
                <a:cubicBezTo>
                  <a:pt x="24298" y="8951"/>
                  <a:pt x="24296" y="8918"/>
                  <a:pt x="24257" y="8890"/>
                </a:cubicBezTo>
                <a:cubicBezTo>
                  <a:pt x="24219" y="8863"/>
                  <a:pt x="24150" y="8853"/>
                  <a:pt x="24130" y="8922"/>
                </a:cubicBezTo>
                <a:cubicBezTo>
                  <a:pt x="24105" y="9007"/>
                  <a:pt x="24077" y="9122"/>
                  <a:pt x="24066" y="9208"/>
                </a:cubicBezTo>
                <a:cubicBezTo>
                  <a:pt x="24053" y="9312"/>
                  <a:pt x="24047" y="9421"/>
                  <a:pt x="24035" y="9525"/>
                </a:cubicBezTo>
                <a:cubicBezTo>
                  <a:pt x="24035" y="9588"/>
                  <a:pt x="24035" y="9610"/>
                  <a:pt x="24035" y="9652"/>
                </a:cubicBezTo>
              </a:path>
              <a:path w="3461" h="3652">
                <a:moveTo>
                  <a:pt x="21495" y="10382"/>
                </a:moveTo>
                <a:cubicBezTo>
                  <a:pt x="21596" y="10377"/>
                  <a:pt x="21683" y="10369"/>
                  <a:pt x="21780" y="10350"/>
                </a:cubicBezTo>
                <a:cubicBezTo>
                  <a:pt x="21884" y="10330"/>
                  <a:pt x="21993" y="10304"/>
                  <a:pt x="22098" y="10287"/>
                </a:cubicBezTo>
                <a:cubicBezTo>
                  <a:pt x="22279" y="10257"/>
                  <a:pt x="22459" y="10229"/>
                  <a:pt x="22638" y="10192"/>
                </a:cubicBezTo>
                <a:cubicBezTo>
                  <a:pt x="22808" y="10156"/>
                  <a:pt x="22975" y="10148"/>
                  <a:pt x="23146" y="10128"/>
                </a:cubicBezTo>
                <a:cubicBezTo>
                  <a:pt x="23299" y="10110"/>
                  <a:pt x="23468" y="10091"/>
                  <a:pt x="23622" y="10065"/>
                </a:cubicBezTo>
                <a:cubicBezTo>
                  <a:pt x="23785" y="10038"/>
                  <a:pt x="23932" y="10033"/>
                  <a:pt x="24098" y="10033"/>
                </a:cubicBezTo>
                <a:cubicBezTo>
                  <a:pt x="24301" y="10033"/>
                  <a:pt x="24519" y="10046"/>
                  <a:pt x="24702" y="10065"/>
                </a:cubicBezTo>
                <a:cubicBezTo>
                  <a:pt x="24755" y="10065"/>
                  <a:pt x="24765" y="10065"/>
                  <a:pt x="24797" y="10065"/>
                </a:cubicBezTo>
                <a:cubicBezTo>
                  <a:pt x="24811" y="10003"/>
                  <a:pt x="24838" y="9987"/>
                  <a:pt x="24828" y="9906"/>
                </a:cubicBezTo>
                <a:cubicBezTo>
                  <a:pt x="24817" y="9809"/>
                  <a:pt x="24808" y="9720"/>
                  <a:pt x="24797" y="9620"/>
                </a:cubicBezTo>
                <a:cubicBezTo>
                  <a:pt x="24783" y="9494"/>
                  <a:pt x="24755" y="9363"/>
                  <a:pt x="24733" y="9239"/>
                </a:cubicBezTo>
                <a:cubicBezTo>
                  <a:pt x="24706" y="9088"/>
                  <a:pt x="24694" y="8943"/>
                  <a:pt x="24670" y="8795"/>
                </a:cubicBezTo>
                <a:cubicBezTo>
                  <a:pt x="24641" y="8616"/>
                  <a:pt x="24611" y="8437"/>
                  <a:pt x="24606" y="8255"/>
                </a:cubicBezTo>
                <a:cubicBezTo>
                  <a:pt x="24601" y="8090"/>
                  <a:pt x="24594" y="7912"/>
                  <a:pt x="24574" y="7747"/>
                </a:cubicBezTo>
                <a:cubicBezTo>
                  <a:pt x="24554" y="7585"/>
                  <a:pt x="24543" y="7437"/>
                  <a:pt x="24543" y="7271"/>
                </a:cubicBezTo>
                <a:cubicBezTo>
                  <a:pt x="24543" y="7116"/>
                  <a:pt x="24545" y="6961"/>
                  <a:pt x="24511" y="6826"/>
                </a:cubicBezTo>
                <a:cubicBezTo>
                  <a:pt x="24496" y="6765"/>
                  <a:pt x="24493" y="6778"/>
                  <a:pt x="24479" y="6731"/>
                </a:cubicBezTo>
                <a:cubicBezTo>
                  <a:pt x="24432" y="6743"/>
                  <a:pt x="24393" y="6750"/>
                  <a:pt x="24352" y="6763"/>
                </a:cubicBezTo>
                <a:cubicBezTo>
                  <a:pt x="24280" y="6786"/>
                  <a:pt x="24208" y="6806"/>
                  <a:pt x="24130" y="6826"/>
                </a:cubicBezTo>
                <a:cubicBezTo>
                  <a:pt x="24039" y="6849"/>
                  <a:pt x="23935" y="6864"/>
                  <a:pt x="23844" y="6890"/>
                </a:cubicBezTo>
                <a:cubicBezTo>
                  <a:pt x="23718" y="6926"/>
                  <a:pt x="23592" y="6973"/>
                  <a:pt x="23463" y="6985"/>
                </a:cubicBezTo>
                <a:cubicBezTo>
                  <a:pt x="23323" y="6998"/>
                  <a:pt x="23189" y="7002"/>
                  <a:pt x="23050" y="7017"/>
                </a:cubicBezTo>
                <a:cubicBezTo>
                  <a:pt x="22911" y="7032"/>
                  <a:pt x="22779" y="7045"/>
                  <a:pt x="22638" y="7048"/>
                </a:cubicBezTo>
                <a:cubicBezTo>
                  <a:pt x="22414" y="7053"/>
                  <a:pt x="22184" y="7066"/>
                  <a:pt x="21971" y="7080"/>
                </a:cubicBezTo>
                <a:cubicBezTo>
                  <a:pt x="21873" y="7086"/>
                  <a:pt x="21776" y="7080"/>
                  <a:pt x="21685" y="7112"/>
                </a:cubicBezTo>
                <a:cubicBezTo>
                  <a:pt x="21613" y="7138"/>
                  <a:pt x="21580" y="7155"/>
                  <a:pt x="21526" y="7207"/>
                </a:cubicBezTo>
                <a:cubicBezTo>
                  <a:pt x="21486" y="7245"/>
                  <a:pt x="21449" y="7293"/>
                  <a:pt x="21431" y="7366"/>
                </a:cubicBezTo>
                <a:cubicBezTo>
                  <a:pt x="21408" y="7461"/>
                  <a:pt x="21405" y="7586"/>
                  <a:pt x="21400" y="7684"/>
                </a:cubicBezTo>
                <a:cubicBezTo>
                  <a:pt x="21392" y="7845"/>
                  <a:pt x="21381" y="8002"/>
                  <a:pt x="21368" y="8160"/>
                </a:cubicBezTo>
                <a:cubicBezTo>
                  <a:pt x="21309" y="8858"/>
                  <a:pt x="21368" y="9586"/>
                  <a:pt x="21368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5"/>
          <p:cNvSpPr/>
          <p:nvPr/>
        </p:nvSpPr>
        <p:spPr>
          <a:xfrm>
            <a:off x="1314360" y="4011480"/>
            <a:ext cx="125640" cy="1177920"/>
          </a:xfrm>
          <a:custGeom>
            <a:avLst/>
            <a:gdLst/>
            <a:ahLst/>
            <a:rect l="l" t="t" r="r" b="b"/>
            <a:pathLst>
              <a:path w="350" h="3271">
                <a:moveTo>
                  <a:pt x="3746" y="11144"/>
                </a:moveTo>
                <a:cubicBezTo>
                  <a:pt x="3728" y="11177"/>
                  <a:pt x="3691" y="11226"/>
                  <a:pt x="3683" y="11240"/>
                </a:cubicBezTo>
                <a:cubicBezTo>
                  <a:pt x="3652" y="11292"/>
                  <a:pt x="3667" y="11281"/>
                  <a:pt x="3651" y="11335"/>
                </a:cubicBezTo>
                <a:cubicBezTo>
                  <a:pt x="3735" y="11335"/>
                  <a:pt x="3805" y="11316"/>
                  <a:pt x="3874" y="11303"/>
                </a:cubicBezTo>
                <a:cubicBezTo>
                  <a:pt x="3884" y="11303"/>
                  <a:pt x="3895" y="11303"/>
                  <a:pt x="3905" y="11303"/>
                </a:cubicBezTo>
                <a:cubicBezTo>
                  <a:pt x="3860" y="11331"/>
                  <a:pt x="3814" y="11351"/>
                  <a:pt x="3778" y="11398"/>
                </a:cubicBezTo>
                <a:cubicBezTo>
                  <a:pt x="3743" y="11444"/>
                  <a:pt x="3740" y="11463"/>
                  <a:pt x="3715" y="11494"/>
                </a:cubicBezTo>
                <a:cubicBezTo>
                  <a:pt x="3754" y="11517"/>
                  <a:pt x="3749" y="11522"/>
                  <a:pt x="3810" y="11525"/>
                </a:cubicBezTo>
                <a:cubicBezTo>
                  <a:pt x="3841" y="11527"/>
                  <a:pt x="3874" y="11525"/>
                  <a:pt x="3905" y="11525"/>
                </a:cubicBezTo>
                <a:cubicBezTo>
                  <a:pt x="3881" y="11567"/>
                  <a:pt x="3863" y="11598"/>
                  <a:pt x="3842" y="11620"/>
                </a:cubicBezTo>
                <a:cubicBezTo>
                  <a:pt x="3803" y="11662"/>
                  <a:pt x="3773" y="11712"/>
                  <a:pt x="3746" y="11748"/>
                </a:cubicBezTo>
                <a:cubicBezTo>
                  <a:pt x="3715" y="11748"/>
                  <a:pt x="3705" y="11748"/>
                  <a:pt x="3715" y="11779"/>
                </a:cubicBezTo>
                <a:cubicBezTo>
                  <a:pt x="3778" y="11779"/>
                  <a:pt x="3842" y="11779"/>
                  <a:pt x="3905" y="11779"/>
                </a:cubicBezTo>
                <a:cubicBezTo>
                  <a:pt x="3898" y="11837"/>
                  <a:pt x="3919" y="11861"/>
                  <a:pt x="3874" y="11906"/>
                </a:cubicBezTo>
                <a:cubicBezTo>
                  <a:pt x="3830" y="11950"/>
                  <a:pt x="3747" y="11969"/>
                  <a:pt x="3715" y="12033"/>
                </a:cubicBezTo>
                <a:cubicBezTo>
                  <a:pt x="3694" y="12075"/>
                  <a:pt x="3694" y="12086"/>
                  <a:pt x="3715" y="12128"/>
                </a:cubicBezTo>
                <a:cubicBezTo>
                  <a:pt x="3727" y="12152"/>
                  <a:pt x="3769" y="12182"/>
                  <a:pt x="3810" y="12192"/>
                </a:cubicBezTo>
                <a:cubicBezTo>
                  <a:pt x="3842" y="12192"/>
                  <a:pt x="3853" y="12192"/>
                  <a:pt x="3874" y="12192"/>
                </a:cubicBezTo>
                <a:cubicBezTo>
                  <a:pt x="3866" y="12257"/>
                  <a:pt x="3874" y="12263"/>
                  <a:pt x="3842" y="12319"/>
                </a:cubicBezTo>
                <a:cubicBezTo>
                  <a:pt x="3813" y="12370"/>
                  <a:pt x="3736" y="12425"/>
                  <a:pt x="3715" y="12478"/>
                </a:cubicBezTo>
                <a:cubicBezTo>
                  <a:pt x="3705" y="12503"/>
                  <a:pt x="3718" y="12546"/>
                  <a:pt x="3715" y="12573"/>
                </a:cubicBezTo>
                <a:cubicBezTo>
                  <a:pt x="3780" y="12581"/>
                  <a:pt x="3787" y="12571"/>
                  <a:pt x="3842" y="12605"/>
                </a:cubicBezTo>
                <a:cubicBezTo>
                  <a:pt x="3895" y="12637"/>
                  <a:pt x="3875" y="12640"/>
                  <a:pt x="3842" y="12700"/>
                </a:cubicBezTo>
                <a:cubicBezTo>
                  <a:pt x="3813" y="12753"/>
                  <a:pt x="3771" y="12809"/>
                  <a:pt x="3746" y="12859"/>
                </a:cubicBezTo>
                <a:cubicBezTo>
                  <a:pt x="3730" y="12892"/>
                  <a:pt x="3669" y="12944"/>
                  <a:pt x="3683" y="12986"/>
                </a:cubicBezTo>
                <a:cubicBezTo>
                  <a:pt x="3702" y="13045"/>
                  <a:pt x="3797" y="13059"/>
                  <a:pt x="3842" y="13081"/>
                </a:cubicBezTo>
                <a:cubicBezTo>
                  <a:pt x="3886" y="13103"/>
                  <a:pt x="3922" y="13107"/>
                  <a:pt x="3905" y="13176"/>
                </a:cubicBezTo>
                <a:cubicBezTo>
                  <a:pt x="3894" y="13221"/>
                  <a:pt x="3846" y="13221"/>
                  <a:pt x="3810" y="13272"/>
                </a:cubicBezTo>
                <a:cubicBezTo>
                  <a:pt x="3773" y="13324"/>
                  <a:pt x="3715" y="13397"/>
                  <a:pt x="3715" y="13462"/>
                </a:cubicBezTo>
                <a:cubicBezTo>
                  <a:pt x="3715" y="13507"/>
                  <a:pt x="3769" y="13548"/>
                  <a:pt x="3810" y="13557"/>
                </a:cubicBezTo>
                <a:cubicBezTo>
                  <a:pt x="3871" y="13571"/>
                  <a:pt x="3957" y="13554"/>
                  <a:pt x="4000" y="13621"/>
                </a:cubicBezTo>
                <a:cubicBezTo>
                  <a:pt x="4035" y="13675"/>
                  <a:pt x="3958" y="13714"/>
                  <a:pt x="3937" y="13748"/>
                </a:cubicBezTo>
                <a:cubicBezTo>
                  <a:pt x="3908" y="13795"/>
                  <a:pt x="3830" y="13859"/>
                  <a:pt x="3810" y="13906"/>
                </a:cubicBezTo>
                <a:cubicBezTo>
                  <a:pt x="3781" y="13974"/>
                  <a:pt x="3841" y="13981"/>
                  <a:pt x="3874" y="14002"/>
                </a:cubicBezTo>
                <a:cubicBezTo>
                  <a:pt x="3934" y="14040"/>
                  <a:pt x="3977" y="14024"/>
                  <a:pt x="4000" y="14097"/>
                </a:cubicBezTo>
                <a:cubicBezTo>
                  <a:pt x="4019" y="14159"/>
                  <a:pt x="3972" y="14184"/>
                  <a:pt x="3937" y="14224"/>
                </a:cubicBezTo>
                <a:cubicBezTo>
                  <a:pt x="3889" y="14279"/>
                  <a:pt x="3825" y="14299"/>
                  <a:pt x="3778" y="14351"/>
                </a:cubicBezTo>
                <a:cubicBezTo>
                  <a:pt x="3754" y="14378"/>
                  <a:pt x="3785" y="14379"/>
                  <a:pt x="3778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1981080" y="2057400"/>
            <a:ext cx="3962520" cy="1523880"/>
          </a:xfrm>
          <a:prstGeom prst="triangle">
            <a:avLst>
              <a:gd name="adj" fmla="val 23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909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3526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95480" y="205740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7"/>
          <p:cNvSpPr/>
          <p:nvPr/>
        </p:nvSpPr>
        <p:spPr>
          <a:xfrm>
            <a:off x="2971800" y="1395360"/>
            <a:ext cx="1749600" cy="685800"/>
          </a:xfrm>
          <a:custGeom>
            <a:avLst/>
            <a:gdLst/>
            <a:ahLst/>
            <a:rect l="l" t="t" r="r" b="b"/>
            <a:pathLst>
              <a:path w="4859" h="1905">
                <a:moveTo>
                  <a:pt x="8350" y="4159"/>
                </a:moveTo>
                <a:cubicBezTo>
                  <a:pt x="8312" y="4311"/>
                  <a:pt x="8294" y="4479"/>
                  <a:pt x="8287" y="4636"/>
                </a:cubicBezTo>
                <a:cubicBezTo>
                  <a:pt x="8279" y="4815"/>
                  <a:pt x="8318" y="5009"/>
                  <a:pt x="8255" y="5175"/>
                </a:cubicBezTo>
                <a:cubicBezTo>
                  <a:pt x="8255" y="4903"/>
                  <a:pt x="8224" y="4612"/>
                  <a:pt x="8287" y="4350"/>
                </a:cubicBezTo>
                <a:cubicBezTo>
                  <a:pt x="8319" y="4218"/>
                  <a:pt x="8356" y="4091"/>
                  <a:pt x="8414" y="3969"/>
                </a:cubicBezTo>
                <a:cubicBezTo>
                  <a:pt x="8446" y="3903"/>
                  <a:pt x="8447" y="3889"/>
                  <a:pt x="8509" y="3874"/>
                </a:cubicBezTo>
                <a:cubicBezTo>
                  <a:pt x="8523" y="3957"/>
                  <a:pt x="8562" y="4047"/>
                  <a:pt x="8572" y="4128"/>
                </a:cubicBezTo>
                <a:cubicBezTo>
                  <a:pt x="8592" y="4284"/>
                  <a:pt x="8587" y="4450"/>
                  <a:pt x="8604" y="4604"/>
                </a:cubicBezTo>
                <a:cubicBezTo>
                  <a:pt x="8622" y="4769"/>
                  <a:pt x="8604" y="4946"/>
                  <a:pt x="8604" y="5112"/>
                </a:cubicBezTo>
              </a:path>
              <a:path w="4859" h="1905">
                <a:moveTo>
                  <a:pt x="8255" y="4604"/>
                </a:moveTo>
                <a:cubicBezTo>
                  <a:pt x="8316" y="4558"/>
                  <a:pt x="8375" y="4564"/>
                  <a:pt x="8446" y="4540"/>
                </a:cubicBezTo>
                <a:cubicBezTo>
                  <a:pt x="8547" y="4506"/>
                  <a:pt x="8589" y="4477"/>
                  <a:pt x="8700" y="4477"/>
                </a:cubicBezTo>
              </a:path>
              <a:path w="4859" h="1905">
                <a:moveTo>
                  <a:pt x="8763" y="4667"/>
                </a:moveTo>
                <a:cubicBezTo>
                  <a:pt x="8818" y="4653"/>
                  <a:pt x="8861" y="4650"/>
                  <a:pt x="8922" y="4636"/>
                </a:cubicBezTo>
                <a:cubicBezTo>
                  <a:pt x="9026" y="4612"/>
                  <a:pt x="9101" y="4604"/>
                  <a:pt x="9208" y="4604"/>
                </a:cubicBezTo>
                <a:cubicBezTo>
                  <a:pt x="9250" y="4604"/>
                  <a:pt x="9271" y="4604"/>
                  <a:pt x="9303" y="4604"/>
                </a:cubicBezTo>
              </a:path>
              <a:path w="4859" h="1905">
                <a:moveTo>
                  <a:pt x="8954" y="4953"/>
                </a:moveTo>
                <a:cubicBezTo>
                  <a:pt x="8871" y="4953"/>
                  <a:pt x="9009" y="4988"/>
                  <a:pt x="9017" y="4985"/>
                </a:cubicBezTo>
                <a:cubicBezTo>
                  <a:pt x="9091" y="4952"/>
                  <a:pt x="9149" y="4953"/>
                  <a:pt x="9239" y="4953"/>
                </a:cubicBezTo>
                <a:cubicBezTo>
                  <a:pt x="9320" y="4953"/>
                  <a:pt x="9371" y="4921"/>
                  <a:pt x="9462" y="4921"/>
                </a:cubicBezTo>
                <a:cubicBezTo>
                  <a:pt x="9530" y="4921"/>
                  <a:pt x="9509" y="4937"/>
                  <a:pt x="9557" y="4953"/>
                </a:cubicBezTo>
              </a:path>
              <a:path w="4859" h="1905">
                <a:moveTo>
                  <a:pt x="10065" y="4000"/>
                </a:moveTo>
                <a:cubicBezTo>
                  <a:pt x="10052" y="4107"/>
                  <a:pt x="10032" y="4211"/>
                  <a:pt x="10001" y="4318"/>
                </a:cubicBezTo>
                <a:cubicBezTo>
                  <a:pt x="9968" y="4429"/>
                  <a:pt x="9962" y="4529"/>
                  <a:pt x="9938" y="4636"/>
                </a:cubicBezTo>
                <a:cubicBezTo>
                  <a:pt x="9922" y="4709"/>
                  <a:pt x="9842" y="4883"/>
                  <a:pt x="9874" y="4953"/>
                </a:cubicBezTo>
                <a:cubicBezTo>
                  <a:pt x="9885" y="4953"/>
                  <a:pt x="9895" y="4953"/>
                  <a:pt x="9906" y="4953"/>
                </a:cubicBezTo>
                <a:cubicBezTo>
                  <a:pt x="9947" y="4902"/>
                  <a:pt x="9976" y="4831"/>
                  <a:pt x="10033" y="4794"/>
                </a:cubicBezTo>
                <a:cubicBezTo>
                  <a:pt x="10091" y="4756"/>
                  <a:pt x="10128" y="4762"/>
                  <a:pt x="10192" y="4762"/>
                </a:cubicBezTo>
                <a:cubicBezTo>
                  <a:pt x="10248" y="4762"/>
                  <a:pt x="10271" y="4810"/>
                  <a:pt x="10319" y="4826"/>
                </a:cubicBezTo>
                <a:cubicBezTo>
                  <a:pt x="10367" y="4842"/>
                  <a:pt x="10413" y="4823"/>
                  <a:pt x="10446" y="4794"/>
                </a:cubicBezTo>
                <a:cubicBezTo>
                  <a:pt x="10457" y="4783"/>
                  <a:pt x="10467" y="4773"/>
                  <a:pt x="10478" y="4762"/>
                </a:cubicBezTo>
              </a:path>
              <a:path w="4859" h="1905">
                <a:moveTo>
                  <a:pt x="10446" y="3969"/>
                </a:moveTo>
                <a:cubicBezTo>
                  <a:pt x="10405" y="4091"/>
                  <a:pt x="10365" y="4249"/>
                  <a:pt x="10350" y="4382"/>
                </a:cubicBezTo>
                <a:cubicBezTo>
                  <a:pt x="10329" y="4570"/>
                  <a:pt x="10337" y="4766"/>
                  <a:pt x="10319" y="4953"/>
                </a:cubicBezTo>
                <a:cubicBezTo>
                  <a:pt x="10306" y="5089"/>
                  <a:pt x="10335" y="5207"/>
                  <a:pt x="10287" y="5334"/>
                </a:cubicBezTo>
              </a:path>
              <a:path w="4859" h="1905">
                <a:moveTo>
                  <a:pt x="10573" y="4350"/>
                </a:moveTo>
                <a:cubicBezTo>
                  <a:pt x="10612" y="4281"/>
                  <a:pt x="10650" y="4230"/>
                  <a:pt x="10700" y="4191"/>
                </a:cubicBezTo>
                <a:cubicBezTo>
                  <a:pt x="10728" y="4169"/>
                  <a:pt x="10822" y="4123"/>
                  <a:pt x="10858" y="4159"/>
                </a:cubicBezTo>
                <a:cubicBezTo>
                  <a:pt x="10930" y="4232"/>
                  <a:pt x="10882" y="4367"/>
                  <a:pt x="10858" y="4445"/>
                </a:cubicBezTo>
                <a:cubicBezTo>
                  <a:pt x="10809" y="4606"/>
                  <a:pt x="10755" y="4762"/>
                  <a:pt x="10700" y="4921"/>
                </a:cubicBezTo>
                <a:cubicBezTo>
                  <a:pt x="10677" y="4987"/>
                  <a:pt x="10610" y="5158"/>
                  <a:pt x="10573" y="5207"/>
                </a:cubicBezTo>
                <a:cubicBezTo>
                  <a:pt x="10562" y="5207"/>
                  <a:pt x="10552" y="5207"/>
                  <a:pt x="10541" y="5207"/>
                </a:cubicBezTo>
                <a:cubicBezTo>
                  <a:pt x="10552" y="5162"/>
                  <a:pt x="10588" y="5075"/>
                  <a:pt x="10636" y="5048"/>
                </a:cubicBezTo>
                <a:cubicBezTo>
                  <a:pt x="10674" y="5027"/>
                  <a:pt x="10714" y="5016"/>
                  <a:pt x="10763" y="5016"/>
                </a:cubicBezTo>
                <a:cubicBezTo>
                  <a:pt x="10818" y="5016"/>
                  <a:pt x="10852" y="5074"/>
                  <a:pt x="10890" y="5112"/>
                </a:cubicBezTo>
                <a:cubicBezTo>
                  <a:pt x="10941" y="5163"/>
                  <a:pt x="10907" y="5175"/>
                  <a:pt x="10986" y="5175"/>
                </a:cubicBezTo>
                <a:cubicBezTo>
                  <a:pt x="11022" y="5175"/>
                  <a:pt x="11035" y="5172"/>
                  <a:pt x="11049" y="5144"/>
                </a:cubicBezTo>
              </a:path>
              <a:path w="4859" h="1905">
                <a:moveTo>
                  <a:pt x="11494" y="4699"/>
                </a:moveTo>
                <a:cubicBezTo>
                  <a:pt x="11494" y="4647"/>
                  <a:pt x="11493" y="4588"/>
                  <a:pt x="11462" y="4572"/>
                </a:cubicBezTo>
                <a:cubicBezTo>
                  <a:pt x="11424" y="4553"/>
                  <a:pt x="11356" y="4573"/>
                  <a:pt x="11335" y="4604"/>
                </a:cubicBezTo>
                <a:cubicBezTo>
                  <a:pt x="11267" y="4701"/>
                  <a:pt x="11245" y="4806"/>
                  <a:pt x="11240" y="4921"/>
                </a:cubicBezTo>
                <a:cubicBezTo>
                  <a:pt x="11235" y="5024"/>
                  <a:pt x="11231" y="5073"/>
                  <a:pt x="11303" y="5144"/>
                </a:cubicBezTo>
                <a:cubicBezTo>
                  <a:pt x="11352" y="5192"/>
                  <a:pt x="11403" y="5183"/>
                  <a:pt x="11462" y="5144"/>
                </a:cubicBezTo>
                <a:cubicBezTo>
                  <a:pt x="11473" y="5133"/>
                  <a:pt x="11483" y="5123"/>
                  <a:pt x="11494" y="5112"/>
                </a:cubicBezTo>
              </a:path>
              <a:path w="4859" h="1905">
                <a:moveTo>
                  <a:pt x="11684" y="4636"/>
                </a:moveTo>
                <a:cubicBezTo>
                  <a:pt x="11684" y="4756"/>
                  <a:pt x="11684" y="5237"/>
                  <a:pt x="11684" y="5144"/>
                </a:cubicBezTo>
                <a:cubicBezTo>
                  <a:pt x="11720" y="5038"/>
                  <a:pt x="11718" y="4932"/>
                  <a:pt x="11748" y="4826"/>
                </a:cubicBezTo>
                <a:cubicBezTo>
                  <a:pt x="11772" y="4740"/>
                  <a:pt x="11848" y="4707"/>
                  <a:pt x="11906" y="4667"/>
                </a:cubicBezTo>
                <a:cubicBezTo>
                  <a:pt x="11948" y="4638"/>
                  <a:pt x="11992" y="4608"/>
                  <a:pt x="12033" y="4667"/>
                </a:cubicBezTo>
                <a:cubicBezTo>
                  <a:pt x="12092" y="4752"/>
                  <a:pt x="12055" y="4863"/>
                  <a:pt x="12033" y="4953"/>
                </a:cubicBezTo>
                <a:cubicBezTo>
                  <a:pt x="12010" y="5047"/>
                  <a:pt x="12002" y="5111"/>
                  <a:pt x="12002" y="5207"/>
                </a:cubicBezTo>
                <a:cubicBezTo>
                  <a:pt x="12002" y="5122"/>
                  <a:pt x="12052" y="5070"/>
                  <a:pt x="12065" y="4985"/>
                </a:cubicBezTo>
                <a:cubicBezTo>
                  <a:pt x="12084" y="4862"/>
                  <a:pt x="12156" y="4793"/>
                  <a:pt x="12192" y="4667"/>
                </a:cubicBezTo>
                <a:cubicBezTo>
                  <a:pt x="12192" y="4631"/>
                  <a:pt x="12195" y="4618"/>
                  <a:pt x="12224" y="4604"/>
                </a:cubicBezTo>
              </a:path>
              <a:path w="4859" h="1905">
                <a:moveTo>
                  <a:pt x="12287" y="4572"/>
                </a:moveTo>
                <a:cubicBezTo>
                  <a:pt x="12344" y="4591"/>
                  <a:pt x="12319" y="4663"/>
                  <a:pt x="12319" y="4731"/>
                </a:cubicBezTo>
                <a:cubicBezTo>
                  <a:pt x="12319" y="4808"/>
                  <a:pt x="12296" y="4877"/>
                  <a:pt x="12287" y="4953"/>
                </a:cubicBezTo>
              </a:path>
              <a:path w="4859" h="1905">
                <a:moveTo>
                  <a:pt x="12319" y="5080"/>
                </a:moveTo>
                <a:cubicBezTo>
                  <a:pt x="12347" y="5156"/>
                  <a:pt x="12354" y="5246"/>
                  <a:pt x="12446" y="5270"/>
                </a:cubicBezTo>
                <a:cubicBezTo>
                  <a:pt x="12547" y="5296"/>
                  <a:pt x="12629" y="5269"/>
                  <a:pt x="12700" y="5207"/>
                </a:cubicBezTo>
                <a:cubicBezTo>
                  <a:pt x="12783" y="5134"/>
                  <a:pt x="12832" y="5016"/>
                  <a:pt x="12890" y="4921"/>
                </a:cubicBezTo>
              </a:path>
              <a:path w="4859" h="1905">
                <a:moveTo>
                  <a:pt x="9684" y="5778"/>
                </a:moveTo>
                <a:cubicBezTo>
                  <a:pt x="9663" y="5768"/>
                  <a:pt x="9641" y="5757"/>
                  <a:pt x="9620" y="5747"/>
                </a:cubicBezTo>
                <a:cubicBezTo>
                  <a:pt x="9662" y="5726"/>
                  <a:pt x="9637" y="5722"/>
                  <a:pt x="9684" y="5715"/>
                </a:cubicBezTo>
                <a:cubicBezTo>
                  <a:pt x="9804" y="5698"/>
                  <a:pt x="9946" y="5693"/>
                  <a:pt x="10065" y="5683"/>
                </a:cubicBezTo>
                <a:cubicBezTo>
                  <a:pt x="10258" y="5666"/>
                  <a:pt x="10440" y="5652"/>
                  <a:pt x="10636" y="5652"/>
                </a:cubicBezTo>
                <a:cubicBezTo>
                  <a:pt x="11010" y="5652"/>
                  <a:pt x="11378" y="5641"/>
                  <a:pt x="11748" y="5620"/>
                </a:cubicBezTo>
                <a:cubicBezTo>
                  <a:pt x="11981" y="5607"/>
                  <a:pt x="12214" y="5593"/>
                  <a:pt x="12446" y="5588"/>
                </a:cubicBezTo>
                <a:cubicBezTo>
                  <a:pt x="12606" y="5584"/>
                  <a:pt x="13028" y="5588"/>
                  <a:pt x="13081" y="5588"/>
                </a:cubicBezTo>
                <a:cubicBezTo>
                  <a:pt x="13092" y="5588"/>
                  <a:pt x="13102" y="5588"/>
                  <a:pt x="13113" y="5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8"/>
          <p:cNvSpPr/>
          <p:nvPr/>
        </p:nvSpPr>
        <p:spPr>
          <a:xfrm>
            <a:off x="6629400" y="2000160"/>
            <a:ext cx="1989000" cy="1006560"/>
          </a:xfrm>
          <a:custGeom>
            <a:avLst/>
            <a:gdLst/>
            <a:ahLst/>
            <a:rect l="l" t="t" r="r" b="b"/>
            <a:pathLst>
              <a:path w="5526" h="2795">
                <a:moveTo>
                  <a:pt x="18415" y="8096"/>
                </a:moveTo>
                <a:cubicBezTo>
                  <a:pt x="18423" y="8171"/>
                  <a:pt x="18427" y="8190"/>
                  <a:pt x="18447" y="8223"/>
                </a:cubicBezTo>
                <a:cubicBezTo>
                  <a:pt x="18468" y="8155"/>
                  <a:pt x="18497" y="8073"/>
                  <a:pt x="18510" y="8001"/>
                </a:cubicBezTo>
                <a:cubicBezTo>
                  <a:pt x="18532" y="7878"/>
                  <a:pt x="18563" y="7743"/>
                  <a:pt x="18574" y="7620"/>
                </a:cubicBezTo>
                <a:cubicBezTo>
                  <a:pt x="18591" y="7431"/>
                  <a:pt x="18608" y="7234"/>
                  <a:pt x="18637" y="7048"/>
                </a:cubicBezTo>
                <a:cubicBezTo>
                  <a:pt x="18666" y="6859"/>
                  <a:pt x="18694" y="6664"/>
                  <a:pt x="18732" y="6477"/>
                </a:cubicBezTo>
                <a:cubicBezTo>
                  <a:pt x="18767" y="6306"/>
                  <a:pt x="18812" y="6153"/>
                  <a:pt x="18891" y="6001"/>
                </a:cubicBezTo>
                <a:cubicBezTo>
                  <a:pt x="18914" y="5956"/>
                  <a:pt x="18955" y="5838"/>
                  <a:pt x="18986" y="5810"/>
                </a:cubicBezTo>
                <a:cubicBezTo>
                  <a:pt x="18997" y="5810"/>
                  <a:pt x="19007" y="5810"/>
                  <a:pt x="19018" y="5810"/>
                </a:cubicBezTo>
                <a:cubicBezTo>
                  <a:pt x="19038" y="5855"/>
                  <a:pt x="19075" y="5914"/>
                  <a:pt x="19082" y="5969"/>
                </a:cubicBezTo>
                <a:cubicBezTo>
                  <a:pt x="19101" y="6116"/>
                  <a:pt x="19121" y="6268"/>
                  <a:pt x="19145" y="6414"/>
                </a:cubicBezTo>
                <a:cubicBezTo>
                  <a:pt x="19176" y="6597"/>
                  <a:pt x="19215" y="6771"/>
                  <a:pt x="19240" y="6953"/>
                </a:cubicBezTo>
                <a:cubicBezTo>
                  <a:pt x="19268" y="7155"/>
                  <a:pt x="19320" y="7353"/>
                  <a:pt x="19336" y="7556"/>
                </a:cubicBezTo>
                <a:cubicBezTo>
                  <a:pt x="19351" y="7748"/>
                  <a:pt x="19348" y="7940"/>
                  <a:pt x="19368" y="8128"/>
                </a:cubicBezTo>
                <a:cubicBezTo>
                  <a:pt x="19376" y="8200"/>
                  <a:pt x="19368" y="8277"/>
                  <a:pt x="19368" y="8350"/>
                </a:cubicBezTo>
              </a:path>
              <a:path w="5526" h="2795">
                <a:moveTo>
                  <a:pt x="18669" y="7302"/>
                </a:moveTo>
                <a:cubicBezTo>
                  <a:pt x="18680" y="7286"/>
                  <a:pt x="18757" y="7247"/>
                  <a:pt x="18796" y="7239"/>
                </a:cubicBezTo>
                <a:cubicBezTo>
                  <a:pt x="18926" y="7211"/>
                  <a:pt x="19046" y="7256"/>
                  <a:pt x="19177" y="7207"/>
                </a:cubicBezTo>
                <a:cubicBezTo>
                  <a:pt x="19266" y="7173"/>
                  <a:pt x="19343" y="7157"/>
                  <a:pt x="19431" y="7112"/>
                </a:cubicBezTo>
                <a:cubicBezTo>
                  <a:pt x="19452" y="7101"/>
                  <a:pt x="19473" y="7091"/>
                  <a:pt x="19494" y="7080"/>
                </a:cubicBezTo>
              </a:path>
              <a:path w="5526" h="2795">
                <a:moveTo>
                  <a:pt x="19463" y="7398"/>
                </a:moveTo>
                <a:cubicBezTo>
                  <a:pt x="19516" y="7398"/>
                  <a:pt x="19547" y="7385"/>
                  <a:pt x="19590" y="7366"/>
                </a:cubicBezTo>
                <a:cubicBezTo>
                  <a:pt x="19681" y="7327"/>
                  <a:pt x="19744" y="7276"/>
                  <a:pt x="19844" y="7271"/>
                </a:cubicBezTo>
                <a:cubicBezTo>
                  <a:pt x="19907" y="7268"/>
                  <a:pt x="19971" y="7271"/>
                  <a:pt x="20034" y="7271"/>
                </a:cubicBezTo>
              </a:path>
              <a:path w="5526" h="2795">
                <a:moveTo>
                  <a:pt x="19685" y="7906"/>
                </a:moveTo>
                <a:cubicBezTo>
                  <a:pt x="19740" y="7864"/>
                  <a:pt x="19771" y="7848"/>
                  <a:pt x="19844" y="7842"/>
                </a:cubicBezTo>
                <a:cubicBezTo>
                  <a:pt x="19923" y="7835"/>
                  <a:pt x="19960" y="7829"/>
                  <a:pt x="20034" y="7810"/>
                </a:cubicBezTo>
                <a:cubicBezTo>
                  <a:pt x="20080" y="7798"/>
                  <a:pt x="20145" y="7810"/>
                  <a:pt x="20193" y="7810"/>
                </a:cubicBezTo>
              </a:path>
              <a:path w="5526" h="2795">
                <a:moveTo>
                  <a:pt x="20574" y="5747"/>
                </a:moveTo>
                <a:cubicBezTo>
                  <a:pt x="20574" y="5851"/>
                  <a:pt x="20590" y="5935"/>
                  <a:pt x="20606" y="6032"/>
                </a:cubicBezTo>
                <a:cubicBezTo>
                  <a:pt x="20622" y="6126"/>
                  <a:pt x="20623" y="6227"/>
                  <a:pt x="20638" y="6318"/>
                </a:cubicBezTo>
                <a:cubicBezTo>
                  <a:pt x="20650" y="6388"/>
                  <a:pt x="20638" y="6469"/>
                  <a:pt x="20638" y="6540"/>
                </a:cubicBezTo>
              </a:path>
              <a:path w="5526" h="2795">
                <a:moveTo>
                  <a:pt x="20320" y="6922"/>
                </a:moveTo>
                <a:cubicBezTo>
                  <a:pt x="20361" y="6891"/>
                  <a:pt x="20435" y="6867"/>
                  <a:pt x="20479" y="6858"/>
                </a:cubicBezTo>
                <a:cubicBezTo>
                  <a:pt x="20547" y="6844"/>
                  <a:pt x="20636" y="6848"/>
                  <a:pt x="20701" y="6826"/>
                </a:cubicBezTo>
                <a:cubicBezTo>
                  <a:pt x="20768" y="6803"/>
                  <a:pt x="20836" y="6796"/>
                  <a:pt x="20892" y="6763"/>
                </a:cubicBezTo>
              </a:path>
              <a:path w="5526" h="2795">
                <a:moveTo>
                  <a:pt x="20415" y="7302"/>
                </a:moveTo>
                <a:cubicBezTo>
                  <a:pt x="20429" y="7247"/>
                  <a:pt x="20467" y="7219"/>
                  <a:pt x="20510" y="7176"/>
                </a:cubicBezTo>
                <a:cubicBezTo>
                  <a:pt x="20559" y="7127"/>
                  <a:pt x="20599" y="7098"/>
                  <a:pt x="20669" y="7080"/>
                </a:cubicBezTo>
                <a:cubicBezTo>
                  <a:pt x="20697" y="7073"/>
                  <a:pt x="20791" y="7098"/>
                  <a:pt x="20796" y="7112"/>
                </a:cubicBezTo>
                <a:cubicBezTo>
                  <a:pt x="20816" y="7166"/>
                  <a:pt x="20825" y="7278"/>
                  <a:pt x="20828" y="7334"/>
                </a:cubicBezTo>
                <a:cubicBezTo>
                  <a:pt x="20834" y="7435"/>
                  <a:pt x="20793" y="7556"/>
                  <a:pt x="20764" y="7652"/>
                </a:cubicBezTo>
                <a:cubicBezTo>
                  <a:pt x="20730" y="7763"/>
                  <a:pt x="20690" y="7865"/>
                  <a:pt x="20638" y="7969"/>
                </a:cubicBezTo>
                <a:cubicBezTo>
                  <a:pt x="20600" y="8045"/>
                  <a:pt x="20569" y="8101"/>
                  <a:pt x="20510" y="8160"/>
                </a:cubicBezTo>
                <a:cubicBezTo>
                  <a:pt x="20553" y="8084"/>
                  <a:pt x="20553" y="8064"/>
                  <a:pt x="20638" y="8064"/>
                </a:cubicBezTo>
                <a:cubicBezTo>
                  <a:pt x="20728" y="8064"/>
                  <a:pt x="20787" y="8072"/>
                  <a:pt x="20860" y="8096"/>
                </a:cubicBezTo>
                <a:cubicBezTo>
                  <a:pt x="20908" y="8112"/>
                  <a:pt x="20931" y="8128"/>
                  <a:pt x="20987" y="8128"/>
                </a:cubicBezTo>
              </a:path>
              <a:path w="5526" h="2795">
                <a:moveTo>
                  <a:pt x="21304" y="6985"/>
                </a:moveTo>
                <a:cubicBezTo>
                  <a:pt x="21274" y="6985"/>
                  <a:pt x="21274" y="6985"/>
                  <a:pt x="21304" y="6985"/>
                </a:cubicBezTo>
              </a:path>
              <a:path w="5526" h="2795">
                <a:moveTo>
                  <a:pt x="21558" y="5683"/>
                </a:moveTo>
                <a:lnTo>
                  <a:pt x="21558" y="5683"/>
                </a:lnTo>
              </a:path>
              <a:path w="5526" h="2795">
                <a:moveTo>
                  <a:pt x="21558" y="5683"/>
                </a:moveTo>
                <a:lnTo>
                  <a:pt x="21558" y="5683"/>
                </a:lnTo>
              </a:path>
              <a:path w="5526" h="2795">
                <a:moveTo>
                  <a:pt x="21558" y="5747"/>
                </a:moveTo>
                <a:cubicBezTo>
                  <a:pt x="21558" y="5846"/>
                  <a:pt x="21571" y="5937"/>
                  <a:pt x="21590" y="6032"/>
                </a:cubicBezTo>
                <a:cubicBezTo>
                  <a:pt x="21618" y="6176"/>
                  <a:pt x="21643" y="6334"/>
                  <a:pt x="21654" y="6477"/>
                </a:cubicBezTo>
                <a:cubicBezTo>
                  <a:pt x="21668" y="6659"/>
                  <a:pt x="21685" y="6833"/>
                  <a:pt x="21685" y="7017"/>
                </a:cubicBezTo>
                <a:cubicBezTo>
                  <a:pt x="21685" y="7324"/>
                  <a:pt x="21667" y="7643"/>
                  <a:pt x="21717" y="7938"/>
                </a:cubicBezTo>
                <a:cubicBezTo>
                  <a:pt x="21717" y="7959"/>
                  <a:pt x="21717" y="7980"/>
                  <a:pt x="21717" y="8001"/>
                </a:cubicBezTo>
                <a:cubicBezTo>
                  <a:pt x="21707" y="7931"/>
                  <a:pt x="21704" y="7851"/>
                  <a:pt x="21685" y="7779"/>
                </a:cubicBezTo>
                <a:cubicBezTo>
                  <a:pt x="21655" y="7670"/>
                  <a:pt x="21654" y="7578"/>
                  <a:pt x="21654" y="7461"/>
                </a:cubicBezTo>
                <a:cubicBezTo>
                  <a:pt x="21654" y="7345"/>
                  <a:pt x="21670" y="7255"/>
                  <a:pt x="21685" y="7144"/>
                </a:cubicBezTo>
                <a:cubicBezTo>
                  <a:pt x="21698" y="7053"/>
                  <a:pt x="21714" y="7018"/>
                  <a:pt x="21780" y="6953"/>
                </a:cubicBezTo>
                <a:cubicBezTo>
                  <a:pt x="21824" y="6909"/>
                  <a:pt x="21875" y="6879"/>
                  <a:pt x="21939" y="6890"/>
                </a:cubicBezTo>
                <a:cubicBezTo>
                  <a:pt x="22039" y="6908"/>
                  <a:pt x="22084" y="6961"/>
                  <a:pt x="22130" y="7048"/>
                </a:cubicBezTo>
                <a:cubicBezTo>
                  <a:pt x="22184" y="7149"/>
                  <a:pt x="22220" y="7220"/>
                  <a:pt x="22225" y="7334"/>
                </a:cubicBezTo>
                <a:cubicBezTo>
                  <a:pt x="22231" y="7455"/>
                  <a:pt x="22209" y="7541"/>
                  <a:pt x="22162" y="7652"/>
                </a:cubicBezTo>
                <a:cubicBezTo>
                  <a:pt x="22133" y="7719"/>
                  <a:pt x="22098" y="7801"/>
                  <a:pt x="22034" y="7842"/>
                </a:cubicBezTo>
                <a:cubicBezTo>
                  <a:pt x="21972" y="7882"/>
                  <a:pt x="21945" y="7902"/>
                  <a:pt x="21876" y="7906"/>
                </a:cubicBezTo>
                <a:cubicBezTo>
                  <a:pt x="21799" y="7911"/>
                  <a:pt x="21788" y="7903"/>
                  <a:pt x="21749" y="7874"/>
                </a:cubicBezTo>
                <a:cubicBezTo>
                  <a:pt x="21701" y="7839"/>
                  <a:pt x="21716" y="7877"/>
                  <a:pt x="21749" y="7810"/>
                </a:cubicBezTo>
              </a:path>
              <a:path w="5526" h="2795">
                <a:moveTo>
                  <a:pt x="22384" y="7176"/>
                </a:moveTo>
                <a:cubicBezTo>
                  <a:pt x="22395" y="7176"/>
                  <a:pt x="22405" y="7176"/>
                  <a:pt x="22416" y="7176"/>
                </a:cubicBezTo>
              </a:path>
              <a:path w="5526" h="2795">
                <a:moveTo>
                  <a:pt x="22701" y="5556"/>
                </a:moveTo>
                <a:cubicBezTo>
                  <a:pt x="22719" y="5645"/>
                  <a:pt x="22754" y="5772"/>
                  <a:pt x="22765" y="5874"/>
                </a:cubicBezTo>
                <a:cubicBezTo>
                  <a:pt x="22786" y="6061"/>
                  <a:pt x="22781" y="6259"/>
                  <a:pt x="22796" y="6445"/>
                </a:cubicBezTo>
                <a:cubicBezTo>
                  <a:pt x="22811" y="6634"/>
                  <a:pt x="22815" y="6829"/>
                  <a:pt x="22828" y="7017"/>
                </a:cubicBezTo>
                <a:cubicBezTo>
                  <a:pt x="22840" y="7198"/>
                  <a:pt x="22845" y="7378"/>
                  <a:pt x="22860" y="7556"/>
                </a:cubicBezTo>
                <a:cubicBezTo>
                  <a:pt x="22872" y="7699"/>
                  <a:pt x="22850" y="7847"/>
                  <a:pt x="22828" y="7969"/>
                </a:cubicBezTo>
                <a:cubicBezTo>
                  <a:pt x="22828" y="7980"/>
                  <a:pt x="22828" y="7990"/>
                  <a:pt x="22828" y="8001"/>
                </a:cubicBezTo>
                <a:cubicBezTo>
                  <a:pt x="22828" y="7868"/>
                  <a:pt x="22846" y="7748"/>
                  <a:pt x="22860" y="7620"/>
                </a:cubicBezTo>
                <a:cubicBezTo>
                  <a:pt x="22877" y="7467"/>
                  <a:pt x="22904" y="7328"/>
                  <a:pt x="22924" y="7176"/>
                </a:cubicBezTo>
                <a:cubicBezTo>
                  <a:pt x="22942" y="7038"/>
                  <a:pt x="22959" y="6887"/>
                  <a:pt x="23082" y="6794"/>
                </a:cubicBezTo>
                <a:cubicBezTo>
                  <a:pt x="23101" y="6780"/>
                  <a:pt x="23156" y="6775"/>
                  <a:pt x="23178" y="6763"/>
                </a:cubicBezTo>
                <a:cubicBezTo>
                  <a:pt x="23240" y="6847"/>
                  <a:pt x="23233" y="6879"/>
                  <a:pt x="23273" y="6985"/>
                </a:cubicBezTo>
                <a:cubicBezTo>
                  <a:pt x="23323" y="7116"/>
                  <a:pt x="23343" y="7230"/>
                  <a:pt x="23368" y="7366"/>
                </a:cubicBezTo>
                <a:cubicBezTo>
                  <a:pt x="23397" y="7524"/>
                  <a:pt x="23420" y="7690"/>
                  <a:pt x="23463" y="7842"/>
                </a:cubicBezTo>
                <a:cubicBezTo>
                  <a:pt x="23487" y="7927"/>
                  <a:pt x="23524" y="8034"/>
                  <a:pt x="23590" y="8096"/>
                </a:cubicBezTo>
                <a:cubicBezTo>
                  <a:pt x="23661" y="8163"/>
                  <a:pt x="23691" y="8118"/>
                  <a:pt x="23749" y="8096"/>
                </a:cubicBezTo>
                <a:cubicBezTo>
                  <a:pt x="23848" y="8059"/>
                  <a:pt x="23869" y="7960"/>
                  <a:pt x="23908" y="7874"/>
                </a:cubicBezTo>
                <a:cubicBezTo>
                  <a:pt x="23948" y="7786"/>
                  <a:pt x="23940" y="7717"/>
                  <a:pt x="23940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9"/>
          <p:cNvSpPr/>
          <p:nvPr/>
        </p:nvSpPr>
        <p:spPr>
          <a:xfrm>
            <a:off x="6550200" y="3051000"/>
            <a:ext cx="2388960" cy="2217960"/>
          </a:xfrm>
          <a:custGeom>
            <a:avLst/>
            <a:gdLst/>
            <a:ahLst/>
            <a:rect l="l" t="t" r="r" b="b"/>
            <a:pathLst>
              <a:path w="6636" h="6161">
                <a:moveTo>
                  <a:pt x="24130" y="8509"/>
                </a:moveTo>
                <a:cubicBezTo>
                  <a:pt x="24112" y="8562"/>
                  <a:pt x="24121" y="8553"/>
                  <a:pt x="24098" y="8604"/>
                </a:cubicBezTo>
                <a:cubicBezTo>
                  <a:pt x="24055" y="8701"/>
                  <a:pt x="24006" y="8789"/>
                  <a:pt x="23971" y="8890"/>
                </a:cubicBezTo>
                <a:cubicBezTo>
                  <a:pt x="23920" y="9037"/>
                  <a:pt x="23869" y="9188"/>
                  <a:pt x="23812" y="9334"/>
                </a:cubicBezTo>
                <a:cubicBezTo>
                  <a:pt x="23747" y="9502"/>
                  <a:pt x="23722" y="9658"/>
                  <a:pt x="23717" y="9842"/>
                </a:cubicBezTo>
                <a:cubicBezTo>
                  <a:pt x="23712" y="10038"/>
                  <a:pt x="23729" y="10225"/>
                  <a:pt x="23749" y="10414"/>
                </a:cubicBezTo>
                <a:cubicBezTo>
                  <a:pt x="23760" y="10513"/>
                  <a:pt x="23750" y="10607"/>
                  <a:pt x="23781" y="10700"/>
                </a:cubicBezTo>
                <a:cubicBezTo>
                  <a:pt x="23805" y="10773"/>
                  <a:pt x="23823" y="10805"/>
                  <a:pt x="23876" y="10858"/>
                </a:cubicBezTo>
                <a:cubicBezTo>
                  <a:pt x="23921" y="10902"/>
                  <a:pt x="23882" y="10884"/>
                  <a:pt x="23940" y="10827"/>
                </a:cubicBezTo>
              </a:path>
              <a:path w="6636" h="6161">
                <a:moveTo>
                  <a:pt x="24130" y="9303"/>
                </a:moveTo>
                <a:cubicBezTo>
                  <a:pt x="24109" y="9387"/>
                  <a:pt x="24098" y="9457"/>
                  <a:pt x="24098" y="9557"/>
                </a:cubicBezTo>
                <a:cubicBezTo>
                  <a:pt x="24098" y="9661"/>
                  <a:pt x="24072" y="9744"/>
                  <a:pt x="24066" y="9842"/>
                </a:cubicBezTo>
                <a:cubicBezTo>
                  <a:pt x="24061" y="9932"/>
                  <a:pt x="24020" y="9944"/>
                  <a:pt x="24035" y="9938"/>
                </a:cubicBezTo>
                <a:cubicBezTo>
                  <a:pt x="24068" y="9924"/>
                  <a:pt x="24129" y="9910"/>
                  <a:pt x="24162" y="9906"/>
                </a:cubicBezTo>
                <a:cubicBezTo>
                  <a:pt x="24234" y="9898"/>
                  <a:pt x="24264" y="9919"/>
                  <a:pt x="24320" y="9938"/>
                </a:cubicBezTo>
                <a:cubicBezTo>
                  <a:pt x="24344" y="9946"/>
                  <a:pt x="24390" y="9938"/>
                  <a:pt x="24416" y="9938"/>
                </a:cubicBezTo>
                <a:cubicBezTo>
                  <a:pt x="24416" y="9877"/>
                  <a:pt x="24421" y="9874"/>
                  <a:pt x="24448" y="9811"/>
                </a:cubicBezTo>
              </a:path>
              <a:path w="6636" h="6161">
                <a:moveTo>
                  <a:pt x="24416" y="9366"/>
                </a:moveTo>
                <a:cubicBezTo>
                  <a:pt x="24397" y="9499"/>
                  <a:pt x="24384" y="9611"/>
                  <a:pt x="24384" y="9747"/>
                </a:cubicBezTo>
                <a:cubicBezTo>
                  <a:pt x="24384" y="9858"/>
                  <a:pt x="24326" y="10511"/>
                  <a:pt x="24416" y="10541"/>
                </a:cubicBezTo>
              </a:path>
              <a:path w="6636" h="6161">
                <a:moveTo>
                  <a:pt x="24574" y="8700"/>
                </a:moveTo>
                <a:cubicBezTo>
                  <a:pt x="24672" y="8858"/>
                  <a:pt x="24725" y="8994"/>
                  <a:pt x="24765" y="9176"/>
                </a:cubicBezTo>
                <a:cubicBezTo>
                  <a:pt x="24816" y="9405"/>
                  <a:pt x="24828" y="9608"/>
                  <a:pt x="24828" y="9842"/>
                </a:cubicBezTo>
                <a:cubicBezTo>
                  <a:pt x="24828" y="10048"/>
                  <a:pt x="24829" y="10311"/>
                  <a:pt x="24765" y="10509"/>
                </a:cubicBezTo>
                <a:cubicBezTo>
                  <a:pt x="24715" y="10663"/>
                  <a:pt x="24666" y="10834"/>
                  <a:pt x="24606" y="10986"/>
                </a:cubicBezTo>
                <a:cubicBezTo>
                  <a:pt x="24595" y="11007"/>
                  <a:pt x="24585" y="11028"/>
                  <a:pt x="24574" y="11049"/>
                </a:cubicBezTo>
              </a:path>
              <a:path w="6636" h="6161">
                <a:moveTo>
                  <a:pt x="18510" y="11430"/>
                </a:moveTo>
                <a:cubicBezTo>
                  <a:pt x="18499" y="11430"/>
                  <a:pt x="18489" y="11430"/>
                  <a:pt x="18478" y="11430"/>
                </a:cubicBezTo>
              </a:path>
              <a:path w="6636" h="6161">
                <a:moveTo>
                  <a:pt x="18510" y="11430"/>
                </a:moveTo>
                <a:lnTo>
                  <a:pt x="18510" y="11430"/>
                </a:lnTo>
              </a:path>
              <a:path w="6636" h="6161">
                <a:moveTo>
                  <a:pt x="18478" y="11462"/>
                </a:moveTo>
                <a:cubicBezTo>
                  <a:pt x="18478" y="11532"/>
                  <a:pt x="18451" y="11582"/>
                  <a:pt x="18447" y="11652"/>
                </a:cubicBezTo>
                <a:cubicBezTo>
                  <a:pt x="18442" y="11739"/>
                  <a:pt x="18406" y="11855"/>
                  <a:pt x="18383" y="11938"/>
                </a:cubicBezTo>
                <a:cubicBezTo>
                  <a:pt x="18363" y="12009"/>
                  <a:pt x="18316" y="12131"/>
                  <a:pt x="18288" y="12192"/>
                </a:cubicBezTo>
                <a:cubicBezTo>
                  <a:pt x="18270" y="12231"/>
                  <a:pt x="18216" y="12279"/>
                  <a:pt x="18193" y="12287"/>
                </a:cubicBezTo>
                <a:cubicBezTo>
                  <a:pt x="18206" y="12234"/>
                  <a:pt x="18229" y="12199"/>
                  <a:pt x="18288" y="12192"/>
                </a:cubicBezTo>
                <a:cubicBezTo>
                  <a:pt x="18342" y="12186"/>
                  <a:pt x="18355" y="12203"/>
                  <a:pt x="18383" y="12224"/>
                </a:cubicBezTo>
                <a:cubicBezTo>
                  <a:pt x="18431" y="12261"/>
                  <a:pt x="18461" y="12291"/>
                  <a:pt x="18510" y="12319"/>
                </a:cubicBezTo>
                <a:cubicBezTo>
                  <a:pt x="18559" y="12347"/>
                  <a:pt x="18621" y="12398"/>
                  <a:pt x="18669" y="12414"/>
                </a:cubicBezTo>
                <a:cubicBezTo>
                  <a:pt x="18693" y="12422"/>
                  <a:pt x="18739" y="12414"/>
                  <a:pt x="18764" y="12414"/>
                </a:cubicBezTo>
              </a:path>
              <a:path w="6636" h="6161">
                <a:moveTo>
                  <a:pt x="18986" y="11398"/>
                </a:moveTo>
                <a:cubicBezTo>
                  <a:pt x="18986" y="11603"/>
                  <a:pt x="18969" y="11801"/>
                  <a:pt x="18955" y="12002"/>
                </a:cubicBezTo>
                <a:cubicBezTo>
                  <a:pt x="18941" y="12193"/>
                  <a:pt x="18954" y="12385"/>
                  <a:pt x="18923" y="12573"/>
                </a:cubicBezTo>
                <a:cubicBezTo>
                  <a:pt x="18897" y="12730"/>
                  <a:pt x="18876" y="12893"/>
                  <a:pt x="18860" y="13049"/>
                </a:cubicBezTo>
                <a:cubicBezTo>
                  <a:pt x="18852" y="13121"/>
                  <a:pt x="18860" y="13199"/>
                  <a:pt x="18860" y="13272"/>
                </a:cubicBezTo>
              </a:path>
              <a:path w="6636" h="6161">
                <a:moveTo>
                  <a:pt x="19209" y="11779"/>
                </a:moveTo>
                <a:cubicBezTo>
                  <a:pt x="19218" y="11708"/>
                  <a:pt x="19228" y="11652"/>
                  <a:pt x="19272" y="11589"/>
                </a:cubicBezTo>
                <a:cubicBezTo>
                  <a:pt x="19306" y="11540"/>
                  <a:pt x="19348" y="11560"/>
                  <a:pt x="19399" y="11557"/>
                </a:cubicBezTo>
                <a:cubicBezTo>
                  <a:pt x="19465" y="11553"/>
                  <a:pt x="19467" y="11554"/>
                  <a:pt x="19494" y="11589"/>
                </a:cubicBezTo>
                <a:cubicBezTo>
                  <a:pt x="19557" y="11670"/>
                  <a:pt x="19513" y="11817"/>
                  <a:pt x="19494" y="11906"/>
                </a:cubicBezTo>
                <a:cubicBezTo>
                  <a:pt x="19461" y="12059"/>
                  <a:pt x="19451" y="12237"/>
                  <a:pt x="19399" y="12382"/>
                </a:cubicBezTo>
                <a:cubicBezTo>
                  <a:pt x="19342" y="12542"/>
                  <a:pt x="19322" y="12693"/>
                  <a:pt x="19272" y="12859"/>
                </a:cubicBezTo>
                <a:cubicBezTo>
                  <a:pt x="19242" y="12958"/>
                  <a:pt x="19212" y="13051"/>
                  <a:pt x="19177" y="13144"/>
                </a:cubicBezTo>
                <a:cubicBezTo>
                  <a:pt x="19158" y="13194"/>
                  <a:pt x="19213" y="13140"/>
                  <a:pt x="19240" y="13113"/>
                </a:cubicBezTo>
                <a:cubicBezTo>
                  <a:pt x="19275" y="13078"/>
                  <a:pt x="19323" y="13030"/>
                  <a:pt x="19368" y="13018"/>
                </a:cubicBezTo>
                <a:cubicBezTo>
                  <a:pt x="19442" y="12998"/>
                  <a:pt x="19501" y="13038"/>
                  <a:pt x="19558" y="13049"/>
                </a:cubicBezTo>
                <a:cubicBezTo>
                  <a:pt x="19600" y="13057"/>
                  <a:pt x="19611" y="13073"/>
                  <a:pt x="19653" y="13081"/>
                </a:cubicBezTo>
                <a:cubicBezTo>
                  <a:pt x="19726" y="13096"/>
                  <a:pt x="19706" y="13060"/>
                  <a:pt x="19748" y="13018"/>
                </a:cubicBezTo>
              </a:path>
              <a:path w="6636" h="6161">
                <a:moveTo>
                  <a:pt x="19907" y="12097"/>
                </a:moveTo>
                <a:cubicBezTo>
                  <a:pt x="19975" y="12097"/>
                  <a:pt x="20009" y="12122"/>
                  <a:pt x="20066" y="12128"/>
                </a:cubicBezTo>
                <a:cubicBezTo>
                  <a:pt x="20138" y="12136"/>
                  <a:pt x="20215" y="12128"/>
                  <a:pt x="20288" y="12128"/>
                </a:cubicBezTo>
              </a:path>
              <a:path w="6636" h="6161">
                <a:moveTo>
                  <a:pt x="19907" y="12510"/>
                </a:moveTo>
                <a:cubicBezTo>
                  <a:pt x="19970" y="12510"/>
                  <a:pt x="20018" y="12532"/>
                  <a:pt x="20066" y="12541"/>
                </a:cubicBezTo>
                <a:cubicBezTo>
                  <a:pt x="20132" y="12554"/>
                  <a:pt x="20189" y="12565"/>
                  <a:pt x="20256" y="12573"/>
                </a:cubicBezTo>
              </a:path>
              <a:path w="6636" h="6161">
                <a:moveTo>
                  <a:pt x="20542" y="10446"/>
                </a:moveTo>
                <a:cubicBezTo>
                  <a:pt x="20531" y="10446"/>
                  <a:pt x="20521" y="10446"/>
                  <a:pt x="20510" y="10446"/>
                </a:cubicBezTo>
                <a:cubicBezTo>
                  <a:pt x="20524" y="10487"/>
                  <a:pt x="20533" y="10496"/>
                  <a:pt x="20574" y="10509"/>
                </a:cubicBezTo>
                <a:cubicBezTo>
                  <a:pt x="20590" y="10557"/>
                  <a:pt x="20646" y="10539"/>
                  <a:pt x="20669" y="10573"/>
                </a:cubicBezTo>
                <a:cubicBezTo>
                  <a:pt x="20696" y="10613"/>
                  <a:pt x="20675" y="10621"/>
                  <a:pt x="20733" y="10636"/>
                </a:cubicBezTo>
                <a:cubicBezTo>
                  <a:pt x="20748" y="10698"/>
                  <a:pt x="20803" y="10708"/>
                  <a:pt x="20828" y="10763"/>
                </a:cubicBezTo>
                <a:cubicBezTo>
                  <a:pt x="20828" y="10774"/>
                  <a:pt x="20828" y="10784"/>
                  <a:pt x="20828" y="10795"/>
                </a:cubicBezTo>
                <a:cubicBezTo>
                  <a:pt x="20876" y="10779"/>
                  <a:pt x="20866" y="10767"/>
                  <a:pt x="20892" y="10732"/>
                </a:cubicBezTo>
                <a:cubicBezTo>
                  <a:pt x="20922" y="10691"/>
                  <a:pt x="20977" y="10677"/>
                  <a:pt x="21018" y="10636"/>
                </a:cubicBezTo>
                <a:cubicBezTo>
                  <a:pt x="21074" y="10580"/>
                  <a:pt x="21146" y="10605"/>
                  <a:pt x="21209" y="10573"/>
                </a:cubicBezTo>
                <a:cubicBezTo>
                  <a:pt x="21258" y="10549"/>
                  <a:pt x="21312" y="10513"/>
                  <a:pt x="21368" y="10509"/>
                </a:cubicBezTo>
                <a:cubicBezTo>
                  <a:pt x="21387" y="10508"/>
                  <a:pt x="21477" y="10456"/>
                  <a:pt x="21495" y="10478"/>
                </a:cubicBezTo>
                <a:cubicBezTo>
                  <a:pt x="21495" y="10509"/>
                  <a:pt x="21495" y="10519"/>
                  <a:pt x="21526" y="10509"/>
                </a:cubicBezTo>
              </a:path>
              <a:path w="6636" h="6161">
                <a:moveTo>
                  <a:pt x="20860" y="10858"/>
                </a:moveTo>
                <a:cubicBezTo>
                  <a:pt x="20890" y="10888"/>
                  <a:pt x="20870" y="10853"/>
                  <a:pt x="20892" y="10890"/>
                </a:cubicBezTo>
                <a:cubicBezTo>
                  <a:pt x="20917" y="10931"/>
                  <a:pt x="20957" y="10972"/>
                  <a:pt x="20987" y="11017"/>
                </a:cubicBezTo>
                <a:cubicBezTo>
                  <a:pt x="21036" y="11091"/>
                  <a:pt x="21026" y="11066"/>
                  <a:pt x="21114" y="11112"/>
                </a:cubicBezTo>
                <a:cubicBezTo>
                  <a:pt x="21171" y="11142"/>
                  <a:pt x="21240" y="11155"/>
                  <a:pt x="21304" y="11176"/>
                </a:cubicBezTo>
                <a:cubicBezTo>
                  <a:pt x="21419" y="11215"/>
                  <a:pt x="21446" y="11195"/>
                  <a:pt x="21558" y="11176"/>
                </a:cubicBezTo>
                <a:cubicBezTo>
                  <a:pt x="21657" y="11159"/>
                  <a:pt x="21752" y="11152"/>
                  <a:pt x="21844" y="11112"/>
                </a:cubicBezTo>
                <a:cubicBezTo>
                  <a:pt x="21943" y="11069"/>
                  <a:pt x="22011" y="11011"/>
                  <a:pt x="22098" y="10954"/>
                </a:cubicBezTo>
                <a:cubicBezTo>
                  <a:pt x="22160" y="10913"/>
                  <a:pt x="22202" y="10878"/>
                  <a:pt x="22257" y="10827"/>
                </a:cubicBezTo>
                <a:cubicBezTo>
                  <a:pt x="22267" y="10816"/>
                  <a:pt x="22278" y="10806"/>
                  <a:pt x="22288" y="10795"/>
                </a:cubicBezTo>
                <a:cubicBezTo>
                  <a:pt x="22296" y="10851"/>
                  <a:pt x="22293" y="10856"/>
                  <a:pt x="22320" y="10890"/>
                </a:cubicBezTo>
                <a:cubicBezTo>
                  <a:pt x="22349" y="10926"/>
                  <a:pt x="22343" y="10928"/>
                  <a:pt x="22384" y="10954"/>
                </a:cubicBezTo>
                <a:cubicBezTo>
                  <a:pt x="22434" y="10987"/>
                  <a:pt x="22480" y="11025"/>
                  <a:pt x="22542" y="11049"/>
                </a:cubicBezTo>
                <a:cubicBezTo>
                  <a:pt x="22604" y="11073"/>
                  <a:pt x="22673" y="11062"/>
                  <a:pt x="22733" y="11081"/>
                </a:cubicBezTo>
                <a:cubicBezTo>
                  <a:pt x="22816" y="11107"/>
                  <a:pt x="22907" y="11117"/>
                  <a:pt x="22987" y="11144"/>
                </a:cubicBezTo>
                <a:cubicBezTo>
                  <a:pt x="23088" y="11178"/>
                  <a:pt x="23163" y="11176"/>
                  <a:pt x="23273" y="11176"/>
                </a:cubicBezTo>
                <a:cubicBezTo>
                  <a:pt x="23393" y="11176"/>
                  <a:pt x="23512" y="11193"/>
                  <a:pt x="23622" y="11144"/>
                </a:cubicBezTo>
                <a:cubicBezTo>
                  <a:pt x="23718" y="11101"/>
                  <a:pt x="23799" y="11058"/>
                  <a:pt x="23876" y="10986"/>
                </a:cubicBezTo>
                <a:cubicBezTo>
                  <a:pt x="23949" y="10917"/>
                  <a:pt x="24025" y="10865"/>
                  <a:pt x="24098" y="10795"/>
                </a:cubicBezTo>
                <a:cubicBezTo>
                  <a:pt x="24116" y="10778"/>
                  <a:pt x="24239" y="10659"/>
                  <a:pt x="24225" y="10636"/>
                </a:cubicBezTo>
                <a:cubicBezTo>
                  <a:pt x="24194" y="10636"/>
                  <a:pt x="24183" y="10636"/>
                  <a:pt x="24162" y="10636"/>
                </a:cubicBezTo>
              </a:path>
              <a:path w="6636" h="6161">
                <a:moveTo>
                  <a:pt x="21050" y="11525"/>
                </a:moveTo>
                <a:cubicBezTo>
                  <a:pt x="21050" y="11629"/>
                  <a:pt x="21031" y="11716"/>
                  <a:pt x="21018" y="11811"/>
                </a:cubicBezTo>
                <a:cubicBezTo>
                  <a:pt x="20963" y="12230"/>
                  <a:pt x="21018" y="12690"/>
                  <a:pt x="21018" y="13113"/>
                </a:cubicBezTo>
              </a:path>
              <a:path w="6636" h="6161">
                <a:moveTo>
                  <a:pt x="21368" y="11589"/>
                </a:moveTo>
                <a:cubicBezTo>
                  <a:pt x="21368" y="11677"/>
                  <a:pt x="21340" y="11753"/>
                  <a:pt x="21336" y="11843"/>
                </a:cubicBezTo>
                <a:cubicBezTo>
                  <a:pt x="21332" y="11934"/>
                  <a:pt x="21325" y="12071"/>
                  <a:pt x="21304" y="12160"/>
                </a:cubicBezTo>
                <a:cubicBezTo>
                  <a:pt x="21285" y="12240"/>
                  <a:pt x="21293" y="12335"/>
                  <a:pt x="21272" y="12414"/>
                </a:cubicBezTo>
                <a:cubicBezTo>
                  <a:pt x="21255" y="12478"/>
                  <a:pt x="21241" y="12480"/>
                  <a:pt x="21241" y="12541"/>
                </a:cubicBezTo>
                <a:cubicBezTo>
                  <a:pt x="21280" y="12512"/>
                  <a:pt x="21319" y="12483"/>
                  <a:pt x="21368" y="12478"/>
                </a:cubicBezTo>
                <a:cubicBezTo>
                  <a:pt x="21464" y="12467"/>
                  <a:pt x="21544" y="12484"/>
                  <a:pt x="21622" y="12510"/>
                </a:cubicBezTo>
                <a:cubicBezTo>
                  <a:pt x="21673" y="12527"/>
                  <a:pt x="21713" y="12505"/>
                  <a:pt x="21749" y="12478"/>
                </a:cubicBezTo>
              </a:path>
              <a:path w="6636" h="6161">
                <a:moveTo>
                  <a:pt x="21749" y="11430"/>
                </a:moveTo>
                <a:cubicBezTo>
                  <a:pt x="21749" y="11666"/>
                  <a:pt x="21761" y="11896"/>
                  <a:pt x="21780" y="12128"/>
                </a:cubicBezTo>
                <a:cubicBezTo>
                  <a:pt x="21795" y="12307"/>
                  <a:pt x="21807" y="12490"/>
                  <a:pt x="21812" y="12668"/>
                </a:cubicBezTo>
                <a:cubicBezTo>
                  <a:pt x="21816" y="12824"/>
                  <a:pt x="21823" y="12963"/>
                  <a:pt x="21844" y="13113"/>
                </a:cubicBezTo>
                <a:cubicBezTo>
                  <a:pt x="21849" y="13152"/>
                  <a:pt x="21844" y="13200"/>
                  <a:pt x="21844" y="13240"/>
                </a:cubicBezTo>
              </a:path>
              <a:path w="6636" h="6161">
                <a:moveTo>
                  <a:pt x="22225" y="11748"/>
                </a:moveTo>
                <a:cubicBezTo>
                  <a:pt x="22204" y="11758"/>
                  <a:pt x="22236" y="11841"/>
                  <a:pt x="22257" y="11906"/>
                </a:cubicBezTo>
                <a:cubicBezTo>
                  <a:pt x="22305" y="12054"/>
                  <a:pt x="22370" y="12185"/>
                  <a:pt x="22447" y="12319"/>
                </a:cubicBezTo>
                <a:cubicBezTo>
                  <a:pt x="22515" y="12438"/>
                  <a:pt x="22544" y="12577"/>
                  <a:pt x="22606" y="12700"/>
                </a:cubicBezTo>
                <a:cubicBezTo>
                  <a:pt x="22636" y="12759"/>
                  <a:pt x="22669" y="12842"/>
                  <a:pt x="22701" y="12890"/>
                </a:cubicBezTo>
                <a:cubicBezTo>
                  <a:pt x="22730" y="12919"/>
                  <a:pt x="22736" y="12930"/>
                  <a:pt x="22765" y="12922"/>
                </a:cubicBezTo>
              </a:path>
              <a:path w="6636" h="6161">
                <a:moveTo>
                  <a:pt x="22796" y="11652"/>
                </a:moveTo>
                <a:cubicBezTo>
                  <a:pt x="22746" y="11728"/>
                  <a:pt x="22726" y="11811"/>
                  <a:pt x="22701" y="11906"/>
                </a:cubicBezTo>
                <a:cubicBezTo>
                  <a:pt x="22648" y="12108"/>
                  <a:pt x="22565" y="12318"/>
                  <a:pt x="22479" y="12510"/>
                </a:cubicBezTo>
                <a:cubicBezTo>
                  <a:pt x="22331" y="12840"/>
                  <a:pt x="22232" y="13179"/>
                  <a:pt x="22130" y="13526"/>
                </a:cubicBezTo>
              </a:path>
              <a:path w="6636" h="6161">
                <a:moveTo>
                  <a:pt x="20828" y="13367"/>
                </a:moveTo>
                <a:cubicBezTo>
                  <a:pt x="20838" y="13438"/>
                  <a:pt x="20813" y="13471"/>
                  <a:pt x="20892" y="13494"/>
                </a:cubicBezTo>
                <a:cubicBezTo>
                  <a:pt x="21002" y="13526"/>
                  <a:pt x="21137" y="13477"/>
                  <a:pt x="21241" y="13462"/>
                </a:cubicBezTo>
                <a:cubicBezTo>
                  <a:pt x="21365" y="13444"/>
                  <a:pt x="21473" y="13397"/>
                  <a:pt x="21590" y="13367"/>
                </a:cubicBezTo>
                <a:cubicBezTo>
                  <a:pt x="21743" y="13327"/>
                  <a:pt x="21842" y="13303"/>
                  <a:pt x="22003" y="13303"/>
                </a:cubicBezTo>
                <a:cubicBezTo>
                  <a:pt x="22168" y="13303"/>
                  <a:pt x="22320" y="13317"/>
                  <a:pt x="22479" y="13335"/>
                </a:cubicBezTo>
                <a:cubicBezTo>
                  <a:pt x="22597" y="13348"/>
                  <a:pt x="22639" y="13376"/>
                  <a:pt x="22733" y="13430"/>
                </a:cubicBezTo>
                <a:cubicBezTo>
                  <a:pt x="22810" y="13474"/>
                  <a:pt x="22789" y="13487"/>
                  <a:pt x="22828" y="13526"/>
                </a:cubicBezTo>
              </a:path>
              <a:path w="6636" h="6161">
                <a:moveTo>
                  <a:pt x="21558" y="13652"/>
                </a:moveTo>
                <a:cubicBezTo>
                  <a:pt x="21558" y="13960"/>
                  <a:pt x="21573" y="14277"/>
                  <a:pt x="21526" y="14573"/>
                </a:cubicBezTo>
                <a:cubicBezTo>
                  <a:pt x="21526" y="14594"/>
                  <a:pt x="21526" y="14616"/>
                  <a:pt x="21526" y="14637"/>
                </a:cubicBezTo>
              </a:path>
              <a:path w="6636" h="6161">
                <a:moveTo>
                  <a:pt x="21717" y="13652"/>
                </a:moveTo>
                <a:cubicBezTo>
                  <a:pt x="21759" y="13708"/>
                  <a:pt x="21749" y="13737"/>
                  <a:pt x="21749" y="13811"/>
                </a:cubicBezTo>
                <a:cubicBezTo>
                  <a:pt x="21749" y="13858"/>
                  <a:pt x="21736" y="13989"/>
                  <a:pt x="21717" y="14034"/>
                </a:cubicBezTo>
                <a:cubicBezTo>
                  <a:pt x="21688" y="14062"/>
                  <a:pt x="21677" y="14068"/>
                  <a:pt x="21685" y="14097"/>
                </a:cubicBezTo>
                <a:cubicBezTo>
                  <a:pt x="21726" y="14097"/>
                  <a:pt x="21769" y="14087"/>
                  <a:pt x="21780" y="14065"/>
                </a:cubicBezTo>
                <a:cubicBezTo>
                  <a:pt x="21791" y="14043"/>
                  <a:pt x="21835" y="13988"/>
                  <a:pt x="21876" y="13970"/>
                </a:cubicBezTo>
                <a:cubicBezTo>
                  <a:pt x="21914" y="13953"/>
                  <a:pt x="21963" y="13919"/>
                  <a:pt x="22003" y="13906"/>
                </a:cubicBezTo>
                <a:cubicBezTo>
                  <a:pt x="22053" y="13889"/>
                  <a:pt x="22015" y="13891"/>
                  <a:pt x="22066" y="13875"/>
                </a:cubicBezTo>
              </a:path>
              <a:path w="6636" h="6161">
                <a:moveTo>
                  <a:pt x="22034" y="13303"/>
                </a:moveTo>
                <a:cubicBezTo>
                  <a:pt x="22034" y="13737"/>
                  <a:pt x="22034" y="14171"/>
                  <a:pt x="22034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0"/>
          <p:cNvSpPr/>
          <p:nvPr/>
        </p:nvSpPr>
        <p:spPr>
          <a:xfrm>
            <a:off x="6435720" y="3040200"/>
            <a:ext cx="2068560" cy="984240"/>
          </a:xfrm>
          <a:custGeom>
            <a:avLst/>
            <a:gdLst/>
            <a:ahLst/>
            <a:rect l="l" t="t" r="r" b="b"/>
            <a:pathLst>
              <a:path w="5748" h="2731">
                <a:moveTo>
                  <a:pt x="17939" y="9017"/>
                </a:moveTo>
                <a:cubicBezTo>
                  <a:pt x="17984" y="9032"/>
                  <a:pt x="17985" y="9113"/>
                  <a:pt x="17970" y="9176"/>
                </a:cubicBezTo>
                <a:cubicBezTo>
                  <a:pt x="17947" y="9268"/>
                  <a:pt x="17921" y="9365"/>
                  <a:pt x="17907" y="9462"/>
                </a:cubicBezTo>
                <a:cubicBezTo>
                  <a:pt x="17893" y="9557"/>
                  <a:pt x="17888" y="9653"/>
                  <a:pt x="17875" y="9747"/>
                </a:cubicBezTo>
                <a:cubicBezTo>
                  <a:pt x="17864" y="9825"/>
                  <a:pt x="17900" y="9866"/>
                  <a:pt x="17907" y="9938"/>
                </a:cubicBezTo>
                <a:cubicBezTo>
                  <a:pt x="17907" y="9949"/>
                  <a:pt x="17907" y="9959"/>
                  <a:pt x="17907" y="9970"/>
                </a:cubicBezTo>
                <a:cubicBezTo>
                  <a:pt x="17961" y="9916"/>
                  <a:pt x="17983" y="9934"/>
                  <a:pt x="18034" y="9906"/>
                </a:cubicBezTo>
                <a:cubicBezTo>
                  <a:pt x="18045" y="9895"/>
                  <a:pt x="18055" y="9885"/>
                  <a:pt x="18066" y="9874"/>
                </a:cubicBezTo>
                <a:cubicBezTo>
                  <a:pt x="18126" y="9919"/>
                  <a:pt x="18177" y="9906"/>
                  <a:pt x="18256" y="9906"/>
                </a:cubicBezTo>
                <a:cubicBezTo>
                  <a:pt x="18359" y="9906"/>
                  <a:pt x="18527" y="9938"/>
                  <a:pt x="18606" y="9874"/>
                </a:cubicBezTo>
                <a:cubicBezTo>
                  <a:pt x="18637" y="9842"/>
                  <a:pt x="18647" y="9831"/>
                  <a:pt x="18669" y="9811"/>
                </a:cubicBezTo>
              </a:path>
              <a:path w="5748" h="2731">
                <a:moveTo>
                  <a:pt x="18637" y="8954"/>
                </a:moveTo>
                <a:cubicBezTo>
                  <a:pt x="18579" y="8973"/>
                  <a:pt x="18606" y="9076"/>
                  <a:pt x="18606" y="9144"/>
                </a:cubicBezTo>
                <a:cubicBezTo>
                  <a:pt x="18606" y="9301"/>
                  <a:pt x="18617" y="9429"/>
                  <a:pt x="18606" y="9588"/>
                </a:cubicBezTo>
                <a:cubicBezTo>
                  <a:pt x="18593" y="9776"/>
                  <a:pt x="18563" y="9944"/>
                  <a:pt x="18542" y="10128"/>
                </a:cubicBezTo>
                <a:cubicBezTo>
                  <a:pt x="18528" y="10254"/>
                  <a:pt x="18515" y="10388"/>
                  <a:pt x="18478" y="10509"/>
                </a:cubicBezTo>
                <a:cubicBezTo>
                  <a:pt x="18458" y="10574"/>
                  <a:pt x="18457" y="10590"/>
                  <a:pt x="18415" y="10604"/>
                </a:cubicBezTo>
              </a:path>
              <a:path w="5748" h="2731">
                <a:moveTo>
                  <a:pt x="18923" y="9398"/>
                </a:moveTo>
                <a:cubicBezTo>
                  <a:pt x="18974" y="9321"/>
                  <a:pt x="19007" y="9230"/>
                  <a:pt x="19050" y="9144"/>
                </a:cubicBezTo>
                <a:cubicBezTo>
                  <a:pt x="19078" y="9088"/>
                  <a:pt x="19122" y="9020"/>
                  <a:pt x="19177" y="8985"/>
                </a:cubicBezTo>
                <a:cubicBezTo>
                  <a:pt x="19229" y="8952"/>
                  <a:pt x="19265" y="8957"/>
                  <a:pt x="19304" y="9017"/>
                </a:cubicBezTo>
                <a:cubicBezTo>
                  <a:pt x="19355" y="9095"/>
                  <a:pt x="19351" y="9277"/>
                  <a:pt x="19336" y="9366"/>
                </a:cubicBezTo>
                <a:cubicBezTo>
                  <a:pt x="19310" y="9513"/>
                  <a:pt x="19282" y="9664"/>
                  <a:pt x="19240" y="9811"/>
                </a:cubicBezTo>
                <a:cubicBezTo>
                  <a:pt x="19202" y="9943"/>
                  <a:pt x="19177" y="10102"/>
                  <a:pt x="19114" y="10224"/>
                </a:cubicBezTo>
                <a:cubicBezTo>
                  <a:pt x="19069" y="10311"/>
                  <a:pt x="19011" y="10428"/>
                  <a:pt x="18955" y="10509"/>
                </a:cubicBezTo>
                <a:cubicBezTo>
                  <a:pt x="18943" y="10527"/>
                  <a:pt x="18844" y="10651"/>
                  <a:pt x="18923" y="10573"/>
                </a:cubicBezTo>
                <a:cubicBezTo>
                  <a:pt x="18958" y="10538"/>
                  <a:pt x="19005" y="10490"/>
                  <a:pt x="19050" y="10478"/>
                </a:cubicBezTo>
                <a:cubicBezTo>
                  <a:pt x="19145" y="10453"/>
                  <a:pt x="19220" y="10495"/>
                  <a:pt x="19304" y="10509"/>
                </a:cubicBezTo>
                <a:cubicBezTo>
                  <a:pt x="19362" y="10518"/>
                  <a:pt x="19408" y="10521"/>
                  <a:pt x="19463" y="10541"/>
                </a:cubicBezTo>
                <a:cubicBezTo>
                  <a:pt x="19514" y="10559"/>
                  <a:pt x="19558" y="10586"/>
                  <a:pt x="19622" y="10573"/>
                </a:cubicBezTo>
                <a:cubicBezTo>
                  <a:pt x="19696" y="10558"/>
                  <a:pt x="19787" y="10529"/>
                  <a:pt x="19844" y="10478"/>
                </a:cubicBezTo>
                <a:cubicBezTo>
                  <a:pt x="19855" y="10467"/>
                  <a:pt x="19865" y="10457"/>
                  <a:pt x="19876" y="10446"/>
                </a:cubicBezTo>
              </a:path>
              <a:path w="5748" h="2731">
                <a:moveTo>
                  <a:pt x="20002" y="9366"/>
                </a:moveTo>
                <a:cubicBezTo>
                  <a:pt x="20128" y="9366"/>
                  <a:pt x="20350" y="9325"/>
                  <a:pt x="20447" y="9398"/>
                </a:cubicBezTo>
              </a:path>
              <a:path w="5748" h="2731">
                <a:moveTo>
                  <a:pt x="20066" y="9747"/>
                </a:moveTo>
                <a:cubicBezTo>
                  <a:pt x="20115" y="9784"/>
                  <a:pt x="20131" y="9779"/>
                  <a:pt x="20193" y="9779"/>
                </a:cubicBezTo>
                <a:cubicBezTo>
                  <a:pt x="20301" y="9779"/>
                  <a:pt x="20379" y="9786"/>
                  <a:pt x="20479" y="9811"/>
                </a:cubicBezTo>
                <a:cubicBezTo>
                  <a:pt x="20510" y="9811"/>
                  <a:pt x="20521" y="9811"/>
                  <a:pt x="20542" y="9811"/>
                </a:cubicBezTo>
              </a:path>
              <a:path w="5748" h="2731">
                <a:moveTo>
                  <a:pt x="21018" y="8604"/>
                </a:moveTo>
                <a:cubicBezTo>
                  <a:pt x="21018" y="8789"/>
                  <a:pt x="21015" y="8968"/>
                  <a:pt x="20987" y="9144"/>
                </a:cubicBezTo>
                <a:cubicBezTo>
                  <a:pt x="20987" y="9197"/>
                  <a:pt x="20987" y="9207"/>
                  <a:pt x="20987" y="9239"/>
                </a:cubicBezTo>
              </a:path>
              <a:path w="5748" h="2731">
                <a:moveTo>
                  <a:pt x="20733" y="9366"/>
                </a:moveTo>
                <a:cubicBezTo>
                  <a:pt x="20902" y="9366"/>
                  <a:pt x="21072" y="9366"/>
                  <a:pt x="21241" y="9366"/>
                </a:cubicBezTo>
              </a:path>
              <a:path w="5748" h="2731">
                <a:moveTo>
                  <a:pt x="20955" y="9652"/>
                </a:moveTo>
                <a:cubicBezTo>
                  <a:pt x="20881" y="9726"/>
                  <a:pt x="20990" y="9632"/>
                  <a:pt x="21018" y="9620"/>
                </a:cubicBezTo>
                <a:cubicBezTo>
                  <a:pt x="21085" y="9591"/>
                  <a:pt x="21108" y="9588"/>
                  <a:pt x="21177" y="9588"/>
                </a:cubicBezTo>
                <a:cubicBezTo>
                  <a:pt x="21245" y="9588"/>
                  <a:pt x="21241" y="9630"/>
                  <a:pt x="21241" y="9684"/>
                </a:cubicBezTo>
                <a:cubicBezTo>
                  <a:pt x="21241" y="9745"/>
                  <a:pt x="21182" y="9826"/>
                  <a:pt x="21146" y="9874"/>
                </a:cubicBezTo>
                <a:cubicBezTo>
                  <a:pt x="21092" y="9946"/>
                  <a:pt x="21042" y="9999"/>
                  <a:pt x="20987" y="10065"/>
                </a:cubicBezTo>
                <a:cubicBezTo>
                  <a:pt x="20956" y="10102"/>
                  <a:pt x="20891" y="10200"/>
                  <a:pt x="20860" y="10224"/>
                </a:cubicBezTo>
                <a:cubicBezTo>
                  <a:pt x="20835" y="10243"/>
                  <a:pt x="20795" y="10256"/>
                  <a:pt x="20764" y="10287"/>
                </a:cubicBezTo>
                <a:cubicBezTo>
                  <a:pt x="20776" y="10252"/>
                  <a:pt x="20787" y="10229"/>
                  <a:pt x="20828" y="10224"/>
                </a:cubicBezTo>
                <a:cubicBezTo>
                  <a:pt x="20887" y="10217"/>
                  <a:pt x="20903" y="10249"/>
                  <a:pt x="20955" y="10255"/>
                </a:cubicBezTo>
                <a:cubicBezTo>
                  <a:pt x="20987" y="10258"/>
                  <a:pt x="21065" y="10286"/>
                  <a:pt x="21082" y="10319"/>
                </a:cubicBezTo>
                <a:cubicBezTo>
                  <a:pt x="21099" y="10352"/>
                  <a:pt x="21123" y="10376"/>
                  <a:pt x="21177" y="10382"/>
                </a:cubicBezTo>
                <a:cubicBezTo>
                  <a:pt x="21213" y="10382"/>
                  <a:pt x="21227" y="10379"/>
                  <a:pt x="21241" y="10350"/>
                </a:cubicBezTo>
              </a:path>
              <a:path w="5748" h="2731">
                <a:moveTo>
                  <a:pt x="22162" y="8572"/>
                </a:moveTo>
                <a:cubicBezTo>
                  <a:pt x="22122" y="8612"/>
                  <a:pt x="22149" y="8614"/>
                  <a:pt x="22130" y="8668"/>
                </a:cubicBezTo>
                <a:cubicBezTo>
                  <a:pt x="22093" y="8771"/>
                  <a:pt x="21993" y="8887"/>
                  <a:pt x="21939" y="8985"/>
                </a:cubicBezTo>
                <a:cubicBezTo>
                  <a:pt x="21848" y="9149"/>
                  <a:pt x="21801" y="9282"/>
                  <a:pt x="21749" y="9462"/>
                </a:cubicBezTo>
                <a:cubicBezTo>
                  <a:pt x="21704" y="9618"/>
                  <a:pt x="21685" y="9743"/>
                  <a:pt x="21685" y="9906"/>
                </a:cubicBezTo>
                <a:cubicBezTo>
                  <a:pt x="21685" y="10031"/>
                  <a:pt x="21679" y="10169"/>
                  <a:pt x="21717" y="10287"/>
                </a:cubicBezTo>
                <a:cubicBezTo>
                  <a:pt x="21745" y="10374"/>
                  <a:pt x="21789" y="10468"/>
                  <a:pt x="21844" y="10541"/>
                </a:cubicBezTo>
                <a:cubicBezTo>
                  <a:pt x="21872" y="10578"/>
                  <a:pt x="21861" y="10636"/>
                  <a:pt x="21908" y="10636"/>
                </a:cubicBezTo>
                <a:cubicBezTo>
                  <a:pt x="21950" y="10636"/>
                  <a:pt x="21879" y="10666"/>
                  <a:pt x="21908" y="10636"/>
                </a:cubicBezTo>
                <a:cubicBezTo>
                  <a:pt x="21939" y="10636"/>
                  <a:pt x="21950" y="10636"/>
                  <a:pt x="21939" y="10604"/>
                </a:cubicBezTo>
              </a:path>
              <a:path w="5748" h="2731">
                <a:moveTo>
                  <a:pt x="22098" y="9366"/>
                </a:moveTo>
                <a:cubicBezTo>
                  <a:pt x="22246" y="9366"/>
                  <a:pt x="22394" y="9366"/>
                  <a:pt x="22542" y="9366"/>
                </a:cubicBezTo>
              </a:path>
              <a:path w="5748" h="2731">
                <a:moveTo>
                  <a:pt x="22193" y="9303"/>
                </a:moveTo>
                <a:lnTo>
                  <a:pt x="22193" y="9303"/>
                </a:lnTo>
              </a:path>
              <a:path w="5748" h="2731">
                <a:moveTo>
                  <a:pt x="22193" y="9303"/>
                </a:moveTo>
                <a:cubicBezTo>
                  <a:pt x="22204" y="9303"/>
                  <a:pt x="22214" y="9303"/>
                  <a:pt x="22225" y="9303"/>
                </a:cubicBezTo>
              </a:path>
              <a:path w="5748" h="2731">
                <a:moveTo>
                  <a:pt x="22225" y="9303"/>
                </a:moveTo>
                <a:cubicBezTo>
                  <a:pt x="22304" y="9303"/>
                  <a:pt x="22341" y="9290"/>
                  <a:pt x="22416" y="9271"/>
                </a:cubicBezTo>
                <a:cubicBezTo>
                  <a:pt x="22503" y="9249"/>
                  <a:pt x="22590" y="9266"/>
                  <a:pt x="22670" y="9239"/>
                </a:cubicBezTo>
                <a:cubicBezTo>
                  <a:pt x="22701" y="9239"/>
                  <a:pt x="22712" y="9239"/>
                  <a:pt x="22733" y="9239"/>
                </a:cubicBezTo>
                <a:cubicBezTo>
                  <a:pt x="22733" y="9299"/>
                  <a:pt x="22741" y="9321"/>
                  <a:pt x="22701" y="9366"/>
                </a:cubicBezTo>
                <a:cubicBezTo>
                  <a:pt x="22646" y="9429"/>
                  <a:pt x="22664" y="9515"/>
                  <a:pt x="22638" y="9588"/>
                </a:cubicBezTo>
                <a:cubicBezTo>
                  <a:pt x="22601" y="9692"/>
                  <a:pt x="22608" y="9803"/>
                  <a:pt x="22574" y="9906"/>
                </a:cubicBezTo>
                <a:cubicBezTo>
                  <a:pt x="22545" y="9991"/>
                  <a:pt x="22516" y="10069"/>
                  <a:pt x="22511" y="10160"/>
                </a:cubicBezTo>
                <a:cubicBezTo>
                  <a:pt x="22508" y="10224"/>
                  <a:pt x="22499" y="10322"/>
                  <a:pt x="22479" y="10382"/>
                </a:cubicBezTo>
                <a:cubicBezTo>
                  <a:pt x="22456" y="10451"/>
                  <a:pt x="22447" y="10470"/>
                  <a:pt x="22447" y="10541"/>
                </a:cubicBezTo>
                <a:cubicBezTo>
                  <a:pt x="22447" y="10573"/>
                  <a:pt x="22447" y="10584"/>
                  <a:pt x="22447" y="10541"/>
                </a:cubicBezTo>
              </a:path>
              <a:path w="5748" h="2731">
                <a:moveTo>
                  <a:pt x="22796" y="9779"/>
                </a:moveTo>
                <a:cubicBezTo>
                  <a:pt x="22796" y="9790"/>
                  <a:pt x="22796" y="9800"/>
                  <a:pt x="22796" y="9811"/>
                </a:cubicBezTo>
                <a:cubicBezTo>
                  <a:pt x="22862" y="9832"/>
                  <a:pt x="22829" y="9876"/>
                  <a:pt x="22860" y="9938"/>
                </a:cubicBezTo>
                <a:cubicBezTo>
                  <a:pt x="22898" y="10014"/>
                  <a:pt x="22920" y="10080"/>
                  <a:pt x="22955" y="10160"/>
                </a:cubicBezTo>
                <a:cubicBezTo>
                  <a:pt x="22988" y="10235"/>
                  <a:pt x="23033" y="10317"/>
                  <a:pt x="23082" y="10382"/>
                </a:cubicBezTo>
                <a:cubicBezTo>
                  <a:pt x="23116" y="10427"/>
                  <a:pt x="23135" y="10454"/>
                  <a:pt x="23146" y="10509"/>
                </a:cubicBezTo>
                <a:cubicBezTo>
                  <a:pt x="23191" y="10494"/>
                  <a:pt x="23178" y="10500"/>
                  <a:pt x="23178" y="10446"/>
                </a:cubicBezTo>
              </a:path>
              <a:path w="5748" h="2731">
                <a:moveTo>
                  <a:pt x="23241" y="9874"/>
                </a:moveTo>
                <a:cubicBezTo>
                  <a:pt x="23193" y="9938"/>
                  <a:pt x="23177" y="9999"/>
                  <a:pt x="23114" y="10065"/>
                </a:cubicBezTo>
                <a:cubicBezTo>
                  <a:pt x="23025" y="10159"/>
                  <a:pt x="22954" y="10256"/>
                  <a:pt x="22860" y="10350"/>
                </a:cubicBezTo>
                <a:cubicBezTo>
                  <a:pt x="22801" y="10409"/>
                  <a:pt x="22731" y="10526"/>
                  <a:pt x="22670" y="10573"/>
                </a:cubicBezTo>
                <a:cubicBezTo>
                  <a:pt x="22659" y="10573"/>
                  <a:pt x="22649" y="10573"/>
                  <a:pt x="22638" y="10573"/>
                </a:cubicBezTo>
              </a:path>
              <a:path w="5748" h="2731">
                <a:moveTo>
                  <a:pt x="23273" y="8446"/>
                </a:moveTo>
                <a:cubicBezTo>
                  <a:pt x="23297" y="8475"/>
                  <a:pt x="23343" y="8508"/>
                  <a:pt x="23368" y="8572"/>
                </a:cubicBezTo>
                <a:cubicBezTo>
                  <a:pt x="23464" y="8816"/>
                  <a:pt x="23565" y="9106"/>
                  <a:pt x="23590" y="9366"/>
                </a:cubicBezTo>
                <a:cubicBezTo>
                  <a:pt x="23609" y="9567"/>
                  <a:pt x="23622" y="9766"/>
                  <a:pt x="23622" y="9970"/>
                </a:cubicBezTo>
                <a:cubicBezTo>
                  <a:pt x="23622" y="10150"/>
                  <a:pt x="23621" y="10333"/>
                  <a:pt x="23590" y="10509"/>
                </a:cubicBezTo>
                <a:cubicBezTo>
                  <a:pt x="23570" y="10621"/>
                  <a:pt x="23501" y="10796"/>
                  <a:pt x="23432" y="10890"/>
                </a:cubicBezTo>
                <a:cubicBezTo>
                  <a:pt x="23382" y="10958"/>
                  <a:pt x="23319" y="11009"/>
                  <a:pt x="23273" y="11081"/>
                </a:cubicBezTo>
                <a:cubicBezTo>
                  <a:pt x="23258" y="11104"/>
                  <a:pt x="23254" y="11151"/>
                  <a:pt x="23241" y="11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1"/>
          <p:cNvSpPr/>
          <p:nvPr/>
        </p:nvSpPr>
        <p:spPr>
          <a:xfrm>
            <a:off x="7748640" y="5246640"/>
            <a:ext cx="1440" cy="11160"/>
          </a:xfrm>
          <a:custGeom>
            <a:avLst/>
            <a:gdLst/>
            <a:ahLst/>
            <a:rect l="l" t="t" r="r" b="b"/>
            <a:pathLst>
              <a:path w="1" h="33">
                <a:moveTo>
                  <a:pt x="21526" y="14605"/>
                </a:moveTo>
                <a:cubicBezTo>
                  <a:pt x="21526" y="14594"/>
                  <a:pt x="21526" y="14584"/>
                  <a:pt x="21526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2"/>
          <p:cNvSpPr/>
          <p:nvPr/>
        </p:nvSpPr>
        <p:spPr>
          <a:xfrm>
            <a:off x="3349800" y="4194000"/>
            <a:ext cx="479160" cy="81000"/>
          </a:xfrm>
          <a:custGeom>
            <a:avLst/>
            <a:gdLst/>
            <a:ahLst/>
            <a:rect l="l" t="t" r="r" b="b"/>
            <a:pathLst>
              <a:path w="1334" h="223">
                <a:moveTo>
                  <a:pt x="9303" y="11652"/>
                </a:moveTo>
                <a:cubicBezTo>
                  <a:pt x="9415" y="11652"/>
                  <a:pt x="9516" y="11670"/>
                  <a:pt x="9620" y="11684"/>
                </a:cubicBezTo>
                <a:cubicBezTo>
                  <a:pt x="9741" y="11700"/>
                  <a:pt x="9850" y="11713"/>
                  <a:pt x="9970" y="11748"/>
                </a:cubicBezTo>
                <a:cubicBezTo>
                  <a:pt x="10082" y="11781"/>
                  <a:pt x="10207" y="11856"/>
                  <a:pt x="10319" y="11874"/>
                </a:cubicBezTo>
                <a:cubicBezTo>
                  <a:pt x="10418" y="11890"/>
                  <a:pt x="10535" y="11874"/>
                  <a:pt x="10636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3"/>
          <p:cNvSpPr/>
          <p:nvPr/>
        </p:nvSpPr>
        <p:spPr>
          <a:xfrm>
            <a:off x="2593800" y="3257640"/>
            <a:ext cx="252720" cy="11160"/>
          </a:xfrm>
          <a:custGeom>
            <a:avLst/>
            <a:gdLst/>
            <a:ahLst/>
            <a:rect l="l" t="t" r="r" b="b"/>
            <a:pathLst>
              <a:path w="700" h="32">
                <a:moveTo>
                  <a:pt x="7207" y="9049"/>
                </a:moveTo>
                <a:cubicBezTo>
                  <a:pt x="7339" y="9049"/>
                  <a:pt x="7460" y="9066"/>
                  <a:pt x="7588" y="9080"/>
                </a:cubicBezTo>
                <a:cubicBezTo>
                  <a:pt x="7691" y="9091"/>
                  <a:pt x="7802" y="9080"/>
                  <a:pt x="7906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4"/>
          <p:cNvSpPr/>
          <p:nvPr/>
        </p:nvSpPr>
        <p:spPr>
          <a:xfrm>
            <a:off x="6550200" y="4754520"/>
            <a:ext cx="1450800" cy="1338480"/>
          </a:xfrm>
          <a:custGeom>
            <a:avLst/>
            <a:gdLst/>
            <a:ahLst/>
            <a:rect l="l" t="t" r="r" b="b"/>
            <a:pathLst>
              <a:path w="4033" h="3716">
                <a:moveTo>
                  <a:pt x="18224" y="13462"/>
                </a:moveTo>
                <a:cubicBezTo>
                  <a:pt x="18214" y="13462"/>
                  <a:pt x="18203" y="13462"/>
                  <a:pt x="18193" y="13462"/>
                </a:cubicBezTo>
                <a:cubicBezTo>
                  <a:pt x="18248" y="13504"/>
                  <a:pt x="18278" y="13494"/>
                  <a:pt x="18352" y="13494"/>
                </a:cubicBezTo>
                <a:cubicBezTo>
                  <a:pt x="18432" y="13494"/>
                  <a:pt x="18564" y="13466"/>
                  <a:pt x="18637" y="13430"/>
                </a:cubicBezTo>
                <a:cubicBezTo>
                  <a:pt x="18757" y="13370"/>
                  <a:pt x="18880" y="13292"/>
                  <a:pt x="19018" y="13272"/>
                </a:cubicBezTo>
                <a:cubicBezTo>
                  <a:pt x="19165" y="13251"/>
                  <a:pt x="19320" y="13263"/>
                  <a:pt x="19463" y="13240"/>
                </a:cubicBezTo>
                <a:cubicBezTo>
                  <a:pt x="19575" y="13222"/>
                  <a:pt x="19673" y="13235"/>
                  <a:pt x="19780" y="13208"/>
                </a:cubicBezTo>
                <a:cubicBezTo>
                  <a:pt x="19791" y="13208"/>
                  <a:pt x="19801" y="13208"/>
                  <a:pt x="19812" y="13208"/>
                </a:cubicBezTo>
              </a:path>
              <a:path w="4033" h="3716">
                <a:moveTo>
                  <a:pt x="18828" y="13843"/>
                </a:moveTo>
                <a:cubicBezTo>
                  <a:pt x="18797" y="13957"/>
                  <a:pt x="18796" y="14042"/>
                  <a:pt x="18796" y="14160"/>
                </a:cubicBezTo>
                <a:cubicBezTo>
                  <a:pt x="18796" y="14329"/>
                  <a:pt x="18796" y="14499"/>
                  <a:pt x="18796" y="14668"/>
                </a:cubicBezTo>
              </a:path>
              <a:path w="4033" h="3716">
                <a:moveTo>
                  <a:pt x="19114" y="13557"/>
                </a:moveTo>
                <a:cubicBezTo>
                  <a:pt x="19114" y="13586"/>
                  <a:pt x="19146" y="13678"/>
                  <a:pt x="19145" y="13684"/>
                </a:cubicBezTo>
                <a:cubicBezTo>
                  <a:pt x="19129" y="13801"/>
                  <a:pt x="19120" y="13952"/>
                  <a:pt x="19082" y="14065"/>
                </a:cubicBezTo>
                <a:cubicBezTo>
                  <a:pt x="19055" y="14144"/>
                  <a:pt x="19030" y="14168"/>
                  <a:pt x="19050" y="14160"/>
                </a:cubicBezTo>
                <a:cubicBezTo>
                  <a:pt x="19083" y="14147"/>
                  <a:pt x="19144" y="14133"/>
                  <a:pt x="19177" y="14129"/>
                </a:cubicBezTo>
                <a:cubicBezTo>
                  <a:pt x="19275" y="14118"/>
                  <a:pt x="19384" y="14156"/>
                  <a:pt x="19463" y="14097"/>
                </a:cubicBezTo>
              </a:path>
              <a:path w="4033" h="3716">
                <a:moveTo>
                  <a:pt x="19463" y="13367"/>
                </a:moveTo>
                <a:cubicBezTo>
                  <a:pt x="19388" y="13416"/>
                  <a:pt x="19479" y="13439"/>
                  <a:pt x="19463" y="13526"/>
                </a:cubicBezTo>
                <a:cubicBezTo>
                  <a:pt x="19435" y="13677"/>
                  <a:pt x="19431" y="13813"/>
                  <a:pt x="19431" y="13970"/>
                </a:cubicBezTo>
                <a:cubicBezTo>
                  <a:pt x="19431" y="14142"/>
                  <a:pt x="19399" y="14304"/>
                  <a:pt x="19399" y="14478"/>
                </a:cubicBezTo>
                <a:cubicBezTo>
                  <a:pt x="19399" y="14594"/>
                  <a:pt x="19399" y="14626"/>
                  <a:pt x="19399" y="14700"/>
                </a:cubicBezTo>
              </a:path>
              <a:path w="4033" h="3716">
                <a:moveTo>
                  <a:pt x="19526" y="15399"/>
                </a:moveTo>
                <a:cubicBezTo>
                  <a:pt x="19564" y="15448"/>
                  <a:pt x="19590" y="15497"/>
                  <a:pt x="19622" y="15558"/>
                </a:cubicBezTo>
                <a:cubicBezTo>
                  <a:pt x="19678" y="15664"/>
                  <a:pt x="19738" y="15763"/>
                  <a:pt x="19780" y="15875"/>
                </a:cubicBezTo>
                <a:cubicBezTo>
                  <a:pt x="19829" y="16007"/>
                  <a:pt x="19881" y="16129"/>
                  <a:pt x="19939" y="16256"/>
                </a:cubicBezTo>
                <a:cubicBezTo>
                  <a:pt x="19977" y="16339"/>
                  <a:pt x="19988" y="16436"/>
                  <a:pt x="20034" y="16510"/>
                </a:cubicBezTo>
                <a:cubicBezTo>
                  <a:pt x="20061" y="16554"/>
                  <a:pt x="20085" y="16556"/>
                  <a:pt x="20098" y="16605"/>
                </a:cubicBezTo>
              </a:path>
              <a:path w="4033" h="3716">
                <a:moveTo>
                  <a:pt x="20066" y="15208"/>
                </a:moveTo>
                <a:cubicBezTo>
                  <a:pt x="20024" y="15250"/>
                  <a:pt x="20024" y="15253"/>
                  <a:pt x="20002" y="15335"/>
                </a:cubicBezTo>
                <a:cubicBezTo>
                  <a:pt x="19947" y="15538"/>
                  <a:pt x="19868" y="15735"/>
                  <a:pt x="19812" y="15938"/>
                </a:cubicBezTo>
                <a:cubicBezTo>
                  <a:pt x="19757" y="16139"/>
                  <a:pt x="19716" y="16343"/>
                  <a:pt x="19653" y="16542"/>
                </a:cubicBezTo>
                <a:cubicBezTo>
                  <a:pt x="19620" y="16645"/>
                  <a:pt x="19551" y="16766"/>
                  <a:pt x="19526" y="16859"/>
                </a:cubicBezTo>
                <a:cubicBezTo>
                  <a:pt x="19526" y="16891"/>
                  <a:pt x="19526" y="16902"/>
                  <a:pt x="19526" y="16923"/>
                </a:cubicBezTo>
              </a:path>
              <a:path w="4033" h="3716">
                <a:moveTo>
                  <a:pt x="20225" y="15780"/>
                </a:moveTo>
                <a:cubicBezTo>
                  <a:pt x="20283" y="15780"/>
                  <a:pt x="20300" y="15754"/>
                  <a:pt x="20352" y="15748"/>
                </a:cubicBezTo>
                <a:cubicBezTo>
                  <a:pt x="20410" y="15742"/>
                  <a:pt x="20447" y="15700"/>
                  <a:pt x="20510" y="15684"/>
                </a:cubicBezTo>
                <a:cubicBezTo>
                  <a:pt x="20534" y="15678"/>
                  <a:pt x="20660" y="15663"/>
                  <a:pt x="20669" y="15653"/>
                </a:cubicBezTo>
                <a:cubicBezTo>
                  <a:pt x="20669" y="15642"/>
                  <a:pt x="20669" y="15632"/>
                  <a:pt x="20669" y="15621"/>
                </a:cubicBezTo>
              </a:path>
              <a:path w="4033" h="3716">
                <a:moveTo>
                  <a:pt x="20288" y="16034"/>
                </a:moveTo>
                <a:cubicBezTo>
                  <a:pt x="20277" y="16034"/>
                  <a:pt x="20267" y="16034"/>
                  <a:pt x="20256" y="16034"/>
                </a:cubicBezTo>
                <a:cubicBezTo>
                  <a:pt x="20325" y="16034"/>
                  <a:pt x="20362" y="16014"/>
                  <a:pt x="20415" y="16002"/>
                </a:cubicBezTo>
                <a:cubicBezTo>
                  <a:pt x="20492" y="15985"/>
                  <a:pt x="20529" y="15971"/>
                  <a:pt x="20606" y="15938"/>
                </a:cubicBezTo>
              </a:path>
              <a:path w="4033" h="3716">
                <a:moveTo>
                  <a:pt x="21114" y="15304"/>
                </a:moveTo>
                <a:cubicBezTo>
                  <a:pt x="21071" y="15290"/>
                  <a:pt x="21061" y="15207"/>
                  <a:pt x="21082" y="15145"/>
                </a:cubicBezTo>
                <a:cubicBezTo>
                  <a:pt x="21088" y="15128"/>
                  <a:pt x="21168" y="14992"/>
                  <a:pt x="21177" y="14986"/>
                </a:cubicBezTo>
                <a:cubicBezTo>
                  <a:pt x="21242" y="14942"/>
                  <a:pt x="21247" y="14975"/>
                  <a:pt x="21304" y="14986"/>
                </a:cubicBezTo>
                <a:cubicBezTo>
                  <a:pt x="21392" y="15004"/>
                  <a:pt x="21368" y="15065"/>
                  <a:pt x="21368" y="15145"/>
                </a:cubicBezTo>
                <a:cubicBezTo>
                  <a:pt x="21368" y="15272"/>
                  <a:pt x="21356" y="15376"/>
                  <a:pt x="21336" y="15494"/>
                </a:cubicBezTo>
                <a:cubicBezTo>
                  <a:pt x="21323" y="15571"/>
                  <a:pt x="21293" y="15620"/>
                  <a:pt x="21272" y="15684"/>
                </a:cubicBezTo>
                <a:cubicBezTo>
                  <a:pt x="21253" y="15740"/>
                  <a:pt x="21265" y="15702"/>
                  <a:pt x="21209" y="15716"/>
                </a:cubicBezTo>
                <a:cubicBezTo>
                  <a:pt x="21225" y="15667"/>
                  <a:pt x="21239" y="15682"/>
                  <a:pt x="21272" y="15653"/>
                </a:cubicBezTo>
                <a:cubicBezTo>
                  <a:pt x="21304" y="15624"/>
                  <a:pt x="21352" y="15604"/>
                  <a:pt x="21400" y="15621"/>
                </a:cubicBezTo>
                <a:cubicBezTo>
                  <a:pt x="21447" y="15638"/>
                  <a:pt x="21486" y="15649"/>
                  <a:pt x="21526" y="15684"/>
                </a:cubicBezTo>
                <a:cubicBezTo>
                  <a:pt x="21581" y="15733"/>
                  <a:pt x="21567" y="15812"/>
                  <a:pt x="21590" y="15875"/>
                </a:cubicBezTo>
                <a:cubicBezTo>
                  <a:pt x="21631" y="15989"/>
                  <a:pt x="21609" y="16018"/>
                  <a:pt x="21590" y="16129"/>
                </a:cubicBezTo>
                <a:cubicBezTo>
                  <a:pt x="21575" y="16218"/>
                  <a:pt x="21563" y="16299"/>
                  <a:pt x="21526" y="16383"/>
                </a:cubicBezTo>
                <a:cubicBezTo>
                  <a:pt x="21490" y="16465"/>
                  <a:pt x="21455" y="16468"/>
                  <a:pt x="21400" y="16510"/>
                </a:cubicBezTo>
                <a:cubicBezTo>
                  <a:pt x="21324" y="16568"/>
                  <a:pt x="21309" y="16533"/>
                  <a:pt x="21241" y="16510"/>
                </a:cubicBezTo>
                <a:cubicBezTo>
                  <a:pt x="21193" y="16494"/>
                  <a:pt x="21204" y="16482"/>
                  <a:pt x="21177" y="16446"/>
                </a:cubicBezTo>
                <a:cubicBezTo>
                  <a:pt x="21153" y="16413"/>
                  <a:pt x="21127" y="16367"/>
                  <a:pt x="21146" y="16320"/>
                </a:cubicBezTo>
                <a:cubicBezTo>
                  <a:pt x="21151" y="16308"/>
                  <a:pt x="21205" y="16275"/>
                  <a:pt x="21241" y="16288"/>
                </a:cubicBezTo>
                <a:cubicBezTo>
                  <a:pt x="21277" y="16288"/>
                  <a:pt x="21290" y="16291"/>
                  <a:pt x="21304" y="16320"/>
                </a:cubicBezTo>
              </a:path>
              <a:path w="4033" h="3716">
                <a:moveTo>
                  <a:pt x="22130" y="15272"/>
                </a:moveTo>
                <a:cubicBezTo>
                  <a:pt x="22130" y="15330"/>
                  <a:pt x="22156" y="15347"/>
                  <a:pt x="22162" y="15399"/>
                </a:cubicBezTo>
                <a:cubicBezTo>
                  <a:pt x="22172" y="15490"/>
                  <a:pt x="22183" y="15436"/>
                  <a:pt x="22162" y="15399"/>
                </a:cubicBezTo>
                <a:cubicBezTo>
                  <a:pt x="22133" y="15348"/>
                  <a:pt x="22083" y="15292"/>
                  <a:pt x="22066" y="15240"/>
                </a:cubicBezTo>
                <a:cubicBezTo>
                  <a:pt x="22048" y="15186"/>
                  <a:pt x="22051" y="15169"/>
                  <a:pt x="22003" y="15145"/>
                </a:cubicBezTo>
                <a:cubicBezTo>
                  <a:pt x="22003" y="15230"/>
                  <a:pt x="21978" y="15256"/>
                  <a:pt x="21971" y="15335"/>
                </a:cubicBezTo>
                <a:cubicBezTo>
                  <a:pt x="21966" y="15392"/>
                  <a:pt x="21939" y="15426"/>
                  <a:pt x="21939" y="15494"/>
                </a:cubicBezTo>
                <a:cubicBezTo>
                  <a:pt x="21939" y="15584"/>
                  <a:pt x="21949" y="15641"/>
                  <a:pt x="21971" y="15716"/>
                </a:cubicBezTo>
                <a:cubicBezTo>
                  <a:pt x="21989" y="15777"/>
                  <a:pt x="21956" y="15789"/>
                  <a:pt x="22003" y="15843"/>
                </a:cubicBezTo>
                <a:cubicBezTo>
                  <a:pt x="22027" y="15870"/>
                  <a:pt x="22094" y="15929"/>
                  <a:pt x="22098" y="15938"/>
                </a:cubicBezTo>
                <a:cubicBezTo>
                  <a:pt x="22113" y="15967"/>
                  <a:pt x="22160" y="16004"/>
                  <a:pt x="22193" y="15938"/>
                </a:cubicBezTo>
                <a:cubicBezTo>
                  <a:pt x="22202" y="15919"/>
                  <a:pt x="22193" y="15864"/>
                  <a:pt x="22193" y="15843"/>
                </a:cubicBezTo>
              </a:path>
              <a:path w="4033" h="3716">
                <a:moveTo>
                  <a:pt x="22098" y="15113"/>
                </a:moveTo>
                <a:cubicBezTo>
                  <a:pt x="22070" y="15159"/>
                  <a:pt x="22044" y="15246"/>
                  <a:pt x="22034" y="15304"/>
                </a:cubicBezTo>
                <a:cubicBezTo>
                  <a:pt x="22034" y="15325"/>
                  <a:pt x="22034" y="15346"/>
                  <a:pt x="22034" y="15367"/>
                </a:cubicBezTo>
              </a:path>
              <a:path w="4033" h="3716">
                <a:moveTo>
                  <a:pt x="22003" y="15494"/>
                </a:moveTo>
                <a:cubicBezTo>
                  <a:pt x="22010" y="15473"/>
                  <a:pt x="22031" y="15416"/>
                  <a:pt x="22066" y="15399"/>
                </a:cubicBezTo>
                <a:cubicBezTo>
                  <a:pt x="22077" y="15399"/>
                  <a:pt x="22087" y="15399"/>
                  <a:pt x="22098" y="15399"/>
                </a:cubicBezTo>
                <a:cubicBezTo>
                  <a:pt x="22098" y="15480"/>
                  <a:pt x="22075" y="15542"/>
                  <a:pt x="22066" y="15621"/>
                </a:cubicBezTo>
                <a:cubicBezTo>
                  <a:pt x="22055" y="15718"/>
                  <a:pt x="22034" y="15809"/>
                  <a:pt x="22034" y="15907"/>
                </a:cubicBezTo>
                <a:cubicBezTo>
                  <a:pt x="22034" y="15917"/>
                  <a:pt x="22034" y="15928"/>
                  <a:pt x="22034" y="15938"/>
                </a:cubicBezTo>
                <a:cubicBezTo>
                  <a:pt x="22047" y="15885"/>
                  <a:pt x="22071" y="15858"/>
                  <a:pt x="22098" y="15812"/>
                </a:cubicBezTo>
                <a:cubicBezTo>
                  <a:pt x="22127" y="15762"/>
                  <a:pt x="22149" y="15703"/>
                  <a:pt x="22162" y="15653"/>
                </a:cubicBezTo>
                <a:cubicBezTo>
                  <a:pt x="22213" y="15670"/>
                  <a:pt x="22221" y="15679"/>
                  <a:pt x="22225" y="15748"/>
                </a:cubicBezTo>
                <a:cubicBezTo>
                  <a:pt x="22231" y="15842"/>
                  <a:pt x="22193" y="15932"/>
                  <a:pt x="22193" y="16034"/>
                </a:cubicBezTo>
                <a:cubicBezTo>
                  <a:pt x="22193" y="16082"/>
                  <a:pt x="22202" y="16134"/>
                  <a:pt x="22225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2362320"/>
            <a:ext cx="510516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0968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64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143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1911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7"/>
          <p:cNvSpPr/>
          <p:nvPr/>
        </p:nvSpPr>
        <p:spPr>
          <a:xfrm>
            <a:off x="7108920" y="2365200"/>
            <a:ext cx="1738080" cy="676440"/>
          </a:xfrm>
          <a:custGeom>
            <a:avLst/>
            <a:gdLst/>
            <a:ahLst/>
            <a:rect l="l" t="t" r="r" b="b"/>
            <a:pathLst>
              <a:path w="4827" h="1875">
                <a:moveTo>
                  <a:pt x="19876" y="6922"/>
                </a:moveTo>
                <a:cubicBezTo>
                  <a:pt x="19943" y="6989"/>
                  <a:pt x="19939" y="7015"/>
                  <a:pt x="19939" y="7112"/>
                </a:cubicBezTo>
                <a:cubicBezTo>
                  <a:pt x="19939" y="7217"/>
                  <a:pt x="19967" y="7294"/>
                  <a:pt x="19971" y="7398"/>
                </a:cubicBezTo>
                <a:cubicBezTo>
                  <a:pt x="19976" y="7538"/>
                  <a:pt x="19997" y="7671"/>
                  <a:pt x="20002" y="7810"/>
                </a:cubicBezTo>
                <a:cubicBezTo>
                  <a:pt x="20008" y="7986"/>
                  <a:pt x="19995" y="8152"/>
                  <a:pt x="20034" y="8318"/>
                </a:cubicBezTo>
                <a:cubicBezTo>
                  <a:pt x="20039" y="8338"/>
                  <a:pt x="20052" y="8510"/>
                  <a:pt x="20066" y="8414"/>
                </a:cubicBezTo>
                <a:cubicBezTo>
                  <a:pt x="20066" y="8403"/>
                  <a:pt x="20066" y="8393"/>
                  <a:pt x="20066" y="8382"/>
                </a:cubicBezTo>
              </a:path>
              <a:path w="4827" h="1875">
                <a:moveTo>
                  <a:pt x="19780" y="7112"/>
                </a:moveTo>
                <a:cubicBezTo>
                  <a:pt x="19743" y="7051"/>
                  <a:pt x="19739" y="6989"/>
                  <a:pt x="19780" y="6922"/>
                </a:cubicBezTo>
                <a:cubicBezTo>
                  <a:pt x="19819" y="6858"/>
                  <a:pt x="19902" y="6791"/>
                  <a:pt x="19971" y="6763"/>
                </a:cubicBezTo>
                <a:cubicBezTo>
                  <a:pt x="20045" y="6733"/>
                  <a:pt x="20174" y="6708"/>
                  <a:pt x="20256" y="6731"/>
                </a:cubicBezTo>
                <a:cubicBezTo>
                  <a:pt x="20344" y="6756"/>
                  <a:pt x="20412" y="6806"/>
                  <a:pt x="20447" y="6890"/>
                </a:cubicBezTo>
                <a:cubicBezTo>
                  <a:pt x="20486" y="6985"/>
                  <a:pt x="20502" y="7138"/>
                  <a:pt x="20479" y="7239"/>
                </a:cubicBezTo>
                <a:cubicBezTo>
                  <a:pt x="20456" y="7337"/>
                  <a:pt x="20389" y="7431"/>
                  <a:pt x="20352" y="7525"/>
                </a:cubicBezTo>
                <a:cubicBezTo>
                  <a:pt x="20315" y="7619"/>
                  <a:pt x="20250" y="7687"/>
                  <a:pt x="20161" y="7747"/>
                </a:cubicBezTo>
                <a:cubicBezTo>
                  <a:pt x="20103" y="7786"/>
                  <a:pt x="20069" y="7810"/>
                  <a:pt x="20002" y="7810"/>
                </a:cubicBezTo>
                <a:cubicBezTo>
                  <a:pt x="19992" y="7810"/>
                  <a:pt x="19981" y="7810"/>
                  <a:pt x="19971" y="7810"/>
                </a:cubicBezTo>
              </a:path>
              <a:path w="4827" h="1875">
                <a:moveTo>
                  <a:pt x="20606" y="7652"/>
                </a:moveTo>
                <a:cubicBezTo>
                  <a:pt x="20671" y="7652"/>
                  <a:pt x="20681" y="7638"/>
                  <a:pt x="20733" y="7620"/>
                </a:cubicBezTo>
                <a:cubicBezTo>
                  <a:pt x="20785" y="7602"/>
                  <a:pt x="20834" y="7588"/>
                  <a:pt x="20892" y="7588"/>
                </a:cubicBezTo>
                <a:cubicBezTo>
                  <a:pt x="20934" y="7588"/>
                  <a:pt x="20976" y="7588"/>
                  <a:pt x="21018" y="7588"/>
                </a:cubicBezTo>
              </a:path>
              <a:path w="4827" h="1875">
                <a:moveTo>
                  <a:pt x="20574" y="8064"/>
                </a:moveTo>
                <a:cubicBezTo>
                  <a:pt x="20646" y="8064"/>
                  <a:pt x="20674" y="8052"/>
                  <a:pt x="20733" y="8033"/>
                </a:cubicBezTo>
                <a:cubicBezTo>
                  <a:pt x="20800" y="8011"/>
                  <a:pt x="20850" y="8001"/>
                  <a:pt x="20923" y="8001"/>
                </a:cubicBezTo>
                <a:cubicBezTo>
                  <a:pt x="20965" y="8001"/>
                  <a:pt x="21008" y="8001"/>
                  <a:pt x="21050" y="8001"/>
                </a:cubicBezTo>
              </a:path>
              <a:path w="4827" h="1875">
                <a:moveTo>
                  <a:pt x="21209" y="7239"/>
                </a:moveTo>
                <a:cubicBezTo>
                  <a:pt x="21182" y="7205"/>
                  <a:pt x="21144" y="7157"/>
                  <a:pt x="21146" y="7112"/>
                </a:cubicBezTo>
                <a:cubicBezTo>
                  <a:pt x="21149" y="7055"/>
                  <a:pt x="21183" y="6979"/>
                  <a:pt x="21209" y="6922"/>
                </a:cubicBezTo>
                <a:cubicBezTo>
                  <a:pt x="21252" y="6826"/>
                  <a:pt x="21294" y="6772"/>
                  <a:pt x="21368" y="6699"/>
                </a:cubicBezTo>
                <a:cubicBezTo>
                  <a:pt x="21424" y="6644"/>
                  <a:pt x="21430" y="6616"/>
                  <a:pt x="21495" y="6668"/>
                </a:cubicBezTo>
                <a:cubicBezTo>
                  <a:pt x="21543" y="6706"/>
                  <a:pt x="21580" y="6779"/>
                  <a:pt x="21590" y="6858"/>
                </a:cubicBezTo>
                <a:cubicBezTo>
                  <a:pt x="21606" y="6978"/>
                  <a:pt x="21557" y="7155"/>
                  <a:pt x="21526" y="7271"/>
                </a:cubicBezTo>
                <a:cubicBezTo>
                  <a:pt x="21484" y="7429"/>
                  <a:pt x="21477" y="7587"/>
                  <a:pt x="21431" y="7747"/>
                </a:cubicBezTo>
                <a:cubicBezTo>
                  <a:pt x="21396" y="7868"/>
                  <a:pt x="21359" y="8003"/>
                  <a:pt x="21336" y="8128"/>
                </a:cubicBezTo>
                <a:cubicBezTo>
                  <a:pt x="21322" y="8207"/>
                  <a:pt x="21329" y="8198"/>
                  <a:pt x="21272" y="8255"/>
                </a:cubicBezTo>
                <a:cubicBezTo>
                  <a:pt x="21253" y="8177"/>
                  <a:pt x="21263" y="8196"/>
                  <a:pt x="21272" y="8128"/>
                </a:cubicBezTo>
                <a:cubicBezTo>
                  <a:pt x="21283" y="8041"/>
                  <a:pt x="21253" y="8032"/>
                  <a:pt x="21336" y="8001"/>
                </a:cubicBezTo>
                <a:cubicBezTo>
                  <a:pt x="21375" y="7986"/>
                  <a:pt x="21437" y="8017"/>
                  <a:pt x="21463" y="8033"/>
                </a:cubicBezTo>
                <a:cubicBezTo>
                  <a:pt x="21477" y="8042"/>
                  <a:pt x="21553" y="8144"/>
                  <a:pt x="21558" y="8160"/>
                </a:cubicBezTo>
                <a:cubicBezTo>
                  <a:pt x="21573" y="8212"/>
                  <a:pt x="21584" y="8255"/>
                  <a:pt x="21654" y="8287"/>
                </a:cubicBezTo>
                <a:cubicBezTo>
                  <a:pt x="21664" y="8287"/>
                  <a:pt x="21675" y="8287"/>
                  <a:pt x="21685" y="8287"/>
                </a:cubicBezTo>
              </a:path>
              <a:path w="4827" h="1875">
                <a:moveTo>
                  <a:pt x="21780" y="8160"/>
                </a:moveTo>
                <a:cubicBezTo>
                  <a:pt x="21827" y="8178"/>
                  <a:pt x="21853" y="8190"/>
                  <a:pt x="21908" y="8192"/>
                </a:cubicBezTo>
                <a:cubicBezTo>
                  <a:pt x="21967" y="8195"/>
                  <a:pt x="22022" y="8188"/>
                  <a:pt x="22066" y="8160"/>
                </a:cubicBezTo>
                <a:cubicBezTo>
                  <a:pt x="22146" y="8110"/>
                  <a:pt x="22138" y="8043"/>
                  <a:pt x="22162" y="7969"/>
                </a:cubicBezTo>
                <a:cubicBezTo>
                  <a:pt x="22198" y="7860"/>
                  <a:pt x="22244" y="7769"/>
                  <a:pt x="22257" y="7652"/>
                </a:cubicBezTo>
                <a:cubicBezTo>
                  <a:pt x="22273" y="7506"/>
                  <a:pt x="22283" y="7354"/>
                  <a:pt x="22288" y="7207"/>
                </a:cubicBezTo>
                <a:cubicBezTo>
                  <a:pt x="22294" y="7032"/>
                  <a:pt x="22324" y="6797"/>
                  <a:pt x="22257" y="6636"/>
                </a:cubicBezTo>
                <a:cubicBezTo>
                  <a:pt x="22235" y="6585"/>
                  <a:pt x="22227" y="6601"/>
                  <a:pt x="22193" y="6572"/>
                </a:cubicBezTo>
                <a:cubicBezTo>
                  <a:pt x="22104" y="6637"/>
                  <a:pt x="22126" y="6642"/>
                  <a:pt x="22098" y="6763"/>
                </a:cubicBezTo>
                <a:cubicBezTo>
                  <a:pt x="22064" y="6908"/>
                  <a:pt x="22039" y="7057"/>
                  <a:pt x="22034" y="7207"/>
                </a:cubicBezTo>
                <a:cubicBezTo>
                  <a:pt x="22029" y="7381"/>
                  <a:pt x="22084" y="7545"/>
                  <a:pt x="22098" y="7715"/>
                </a:cubicBezTo>
                <a:cubicBezTo>
                  <a:pt x="22109" y="7846"/>
                  <a:pt x="22112" y="7976"/>
                  <a:pt x="22162" y="8096"/>
                </a:cubicBezTo>
                <a:cubicBezTo>
                  <a:pt x="22193" y="8171"/>
                  <a:pt x="22201" y="8198"/>
                  <a:pt x="22257" y="8255"/>
                </a:cubicBezTo>
                <a:cubicBezTo>
                  <a:pt x="22257" y="8287"/>
                  <a:pt x="22257" y="8297"/>
                  <a:pt x="22288" y="8287"/>
                </a:cubicBezTo>
              </a:path>
              <a:path w="4827" h="1875">
                <a:moveTo>
                  <a:pt x="22892" y="6985"/>
                </a:moveTo>
                <a:cubicBezTo>
                  <a:pt x="22892" y="7130"/>
                  <a:pt x="22905" y="7258"/>
                  <a:pt x="22924" y="7398"/>
                </a:cubicBezTo>
                <a:cubicBezTo>
                  <a:pt x="22940" y="7511"/>
                  <a:pt x="22934" y="7635"/>
                  <a:pt x="22955" y="7747"/>
                </a:cubicBezTo>
                <a:cubicBezTo>
                  <a:pt x="22963" y="7788"/>
                  <a:pt x="23024" y="7950"/>
                  <a:pt x="22987" y="8001"/>
                </a:cubicBezTo>
                <a:cubicBezTo>
                  <a:pt x="22976" y="8001"/>
                  <a:pt x="22966" y="8001"/>
                  <a:pt x="22955" y="8001"/>
                </a:cubicBezTo>
              </a:path>
              <a:path w="4827" h="1875">
                <a:moveTo>
                  <a:pt x="22670" y="7620"/>
                </a:moveTo>
                <a:cubicBezTo>
                  <a:pt x="22765" y="7620"/>
                  <a:pt x="22834" y="7609"/>
                  <a:pt x="22924" y="7588"/>
                </a:cubicBezTo>
                <a:cubicBezTo>
                  <a:pt x="22983" y="7574"/>
                  <a:pt x="23056" y="7562"/>
                  <a:pt x="23114" y="7556"/>
                </a:cubicBezTo>
                <a:cubicBezTo>
                  <a:pt x="23125" y="7556"/>
                  <a:pt x="23135" y="7556"/>
                  <a:pt x="23146" y="7556"/>
                </a:cubicBezTo>
              </a:path>
              <a:path w="4827" h="1875">
                <a:moveTo>
                  <a:pt x="23241" y="7112"/>
                </a:moveTo>
                <a:cubicBezTo>
                  <a:pt x="23249" y="7059"/>
                  <a:pt x="23272" y="6966"/>
                  <a:pt x="23304" y="6922"/>
                </a:cubicBezTo>
                <a:cubicBezTo>
                  <a:pt x="23366" y="6838"/>
                  <a:pt x="23428" y="6803"/>
                  <a:pt x="23495" y="6763"/>
                </a:cubicBezTo>
                <a:cubicBezTo>
                  <a:pt x="23537" y="6738"/>
                  <a:pt x="23598" y="6712"/>
                  <a:pt x="23622" y="6794"/>
                </a:cubicBezTo>
                <a:cubicBezTo>
                  <a:pt x="23655" y="6908"/>
                  <a:pt x="23600" y="7036"/>
                  <a:pt x="23590" y="7144"/>
                </a:cubicBezTo>
                <a:cubicBezTo>
                  <a:pt x="23572" y="7333"/>
                  <a:pt x="23513" y="7470"/>
                  <a:pt x="23463" y="7652"/>
                </a:cubicBezTo>
                <a:cubicBezTo>
                  <a:pt x="23427" y="7783"/>
                  <a:pt x="23401" y="7943"/>
                  <a:pt x="23336" y="8064"/>
                </a:cubicBezTo>
                <a:cubicBezTo>
                  <a:pt x="23307" y="8093"/>
                  <a:pt x="23296" y="8099"/>
                  <a:pt x="23304" y="8128"/>
                </a:cubicBezTo>
                <a:cubicBezTo>
                  <a:pt x="23319" y="8069"/>
                  <a:pt x="23335" y="8058"/>
                  <a:pt x="23368" y="8033"/>
                </a:cubicBezTo>
                <a:cubicBezTo>
                  <a:pt x="23417" y="7997"/>
                  <a:pt x="23433" y="8001"/>
                  <a:pt x="23495" y="8001"/>
                </a:cubicBezTo>
                <a:cubicBezTo>
                  <a:pt x="23585" y="8001"/>
                  <a:pt x="23609" y="8065"/>
                  <a:pt x="23686" y="8096"/>
                </a:cubicBezTo>
                <a:cubicBezTo>
                  <a:pt x="23733" y="8115"/>
                  <a:pt x="23772" y="8191"/>
                  <a:pt x="23812" y="8160"/>
                </a:cubicBezTo>
                <a:cubicBezTo>
                  <a:pt x="23823" y="8139"/>
                  <a:pt x="23833" y="8117"/>
                  <a:pt x="23844" y="8096"/>
                </a:cubicBezTo>
              </a:path>
              <a:path w="4827" h="1875">
                <a:moveTo>
                  <a:pt x="23844" y="7271"/>
                </a:moveTo>
                <a:cubicBezTo>
                  <a:pt x="23844" y="7343"/>
                  <a:pt x="23856" y="7426"/>
                  <a:pt x="23876" y="7493"/>
                </a:cubicBezTo>
                <a:cubicBezTo>
                  <a:pt x="23908" y="7600"/>
                  <a:pt x="23930" y="7701"/>
                  <a:pt x="23971" y="7810"/>
                </a:cubicBezTo>
                <a:cubicBezTo>
                  <a:pt x="24006" y="7903"/>
                  <a:pt x="24037" y="8002"/>
                  <a:pt x="24066" y="8096"/>
                </a:cubicBezTo>
                <a:cubicBezTo>
                  <a:pt x="24077" y="8133"/>
                  <a:pt x="24089" y="8155"/>
                  <a:pt x="24098" y="8192"/>
                </a:cubicBezTo>
                <a:cubicBezTo>
                  <a:pt x="24098" y="8097"/>
                  <a:pt x="24126" y="8028"/>
                  <a:pt x="24130" y="7938"/>
                </a:cubicBezTo>
                <a:cubicBezTo>
                  <a:pt x="24135" y="7824"/>
                  <a:pt x="24145" y="7727"/>
                  <a:pt x="24162" y="7620"/>
                </a:cubicBezTo>
                <a:cubicBezTo>
                  <a:pt x="24173" y="7550"/>
                  <a:pt x="24162" y="7469"/>
                  <a:pt x="24162" y="7398"/>
                </a:cubicBezTo>
                <a:cubicBezTo>
                  <a:pt x="24194" y="7419"/>
                  <a:pt x="24226" y="7497"/>
                  <a:pt x="24257" y="7556"/>
                </a:cubicBezTo>
                <a:cubicBezTo>
                  <a:pt x="24320" y="7674"/>
                  <a:pt x="24381" y="7793"/>
                  <a:pt x="24448" y="7906"/>
                </a:cubicBezTo>
                <a:cubicBezTo>
                  <a:pt x="24482" y="7963"/>
                  <a:pt x="24497" y="8018"/>
                  <a:pt x="24543" y="8033"/>
                </a:cubicBezTo>
                <a:cubicBezTo>
                  <a:pt x="24525" y="7942"/>
                  <a:pt x="24511" y="7879"/>
                  <a:pt x="24511" y="7779"/>
                </a:cubicBezTo>
                <a:cubicBezTo>
                  <a:pt x="24511" y="7573"/>
                  <a:pt x="24521" y="7376"/>
                  <a:pt x="24543" y="7176"/>
                </a:cubicBezTo>
                <a:cubicBezTo>
                  <a:pt x="24553" y="7089"/>
                  <a:pt x="24565" y="7008"/>
                  <a:pt x="24574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8"/>
          <p:cNvSpPr/>
          <p:nvPr/>
        </p:nvSpPr>
        <p:spPr>
          <a:xfrm>
            <a:off x="7064280" y="2960640"/>
            <a:ext cx="2068560" cy="800280"/>
          </a:xfrm>
          <a:custGeom>
            <a:avLst/>
            <a:gdLst/>
            <a:ahLst/>
            <a:rect l="l" t="t" r="r" b="b"/>
            <a:pathLst>
              <a:path w="5747" h="2224">
                <a:moveTo>
                  <a:pt x="19812" y="9080"/>
                </a:moveTo>
                <a:lnTo>
                  <a:pt x="19812" y="9080"/>
                </a:lnTo>
              </a:path>
              <a:path w="5747" h="2224">
                <a:moveTo>
                  <a:pt x="19812" y="9080"/>
                </a:moveTo>
                <a:lnTo>
                  <a:pt x="19812" y="9080"/>
                </a:lnTo>
              </a:path>
              <a:path w="5747" h="2224">
                <a:moveTo>
                  <a:pt x="19780" y="9144"/>
                </a:moveTo>
                <a:cubicBezTo>
                  <a:pt x="19780" y="9241"/>
                  <a:pt x="19737" y="9248"/>
                  <a:pt x="19717" y="9334"/>
                </a:cubicBezTo>
                <a:cubicBezTo>
                  <a:pt x="19696" y="9424"/>
                  <a:pt x="19668" y="9531"/>
                  <a:pt x="19653" y="9620"/>
                </a:cubicBezTo>
                <a:cubicBezTo>
                  <a:pt x="19637" y="9714"/>
                  <a:pt x="19626" y="9812"/>
                  <a:pt x="19622" y="9906"/>
                </a:cubicBezTo>
                <a:cubicBezTo>
                  <a:pt x="19617" y="10011"/>
                  <a:pt x="19636" y="10104"/>
                  <a:pt x="19653" y="10192"/>
                </a:cubicBezTo>
                <a:cubicBezTo>
                  <a:pt x="19669" y="10273"/>
                  <a:pt x="19669" y="10284"/>
                  <a:pt x="19717" y="10319"/>
                </a:cubicBezTo>
                <a:cubicBezTo>
                  <a:pt x="19746" y="10340"/>
                  <a:pt x="19801" y="10373"/>
                  <a:pt x="19844" y="10350"/>
                </a:cubicBezTo>
                <a:cubicBezTo>
                  <a:pt x="19899" y="10320"/>
                  <a:pt x="19944" y="10243"/>
                  <a:pt x="19971" y="10192"/>
                </a:cubicBezTo>
                <a:cubicBezTo>
                  <a:pt x="20023" y="10093"/>
                  <a:pt x="20027" y="10009"/>
                  <a:pt x="20066" y="9906"/>
                </a:cubicBezTo>
                <a:cubicBezTo>
                  <a:pt x="20100" y="9816"/>
                  <a:pt x="20098" y="9749"/>
                  <a:pt x="20098" y="9652"/>
                </a:cubicBezTo>
                <a:cubicBezTo>
                  <a:pt x="20098" y="9620"/>
                  <a:pt x="20098" y="9589"/>
                  <a:pt x="20098" y="9557"/>
                </a:cubicBezTo>
                <a:cubicBezTo>
                  <a:pt x="20033" y="9557"/>
                  <a:pt x="20030" y="9551"/>
                  <a:pt x="20002" y="9588"/>
                </a:cubicBezTo>
                <a:cubicBezTo>
                  <a:pt x="19952" y="9656"/>
                  <a:pt x="19943" y="9754"/>
                  <a:pt x="19939" y="9842"/>
                </a:cubicBezTo>
                <a:cubicBezTo>
                  <a:pt x="19934" y="9941"/>
                  <a:pt x="19907" y="10026"/>
                  <a:pt x="19907" y="10128"/>
                </a:cubicBezTo>
                <a:cubicBezTo>
                  <a:pt x="19907" y="10205"/>
                  <a:pt x="19894" y="10260"/>
                  <a:pt x="19939" y="10319"/>
                </a:cubicBezTo>
              </a:path>
              <a:path w="5747" h="2224">
                <a:moveTo>
                  <a:pt x="20225" y="9144"/>
                </a:moveTo>
                <a:cubicBezTo>
                  <a:pt x="20225" y="9377"/>
                  <a:pt x="20225" y="9609"/>
                  <a:pt x="20225" y="9842"/>
                </a:cubicBezTo>
                <a:cubicBezTo>
                  <a:pt x="20288" y="9842"/>
                  <a:pt x="20301" y="9828"/>
                  <a:pt x="20352" y="9811"/>
                </a:cubicBezTo>
                <a:cubicBezTo>
                  <a:pt x="20425" y="9787"/>
                  <a:pt x="20550" y="9852"/>
                  <a:pt x="20574" y="9779"/>
                </a:cubicBezTo>
              </a:path>
              <a:path w="5747" h="2224">
                <a:moveTo>
                  <a:pt x="20510" y="8954"/>
                </a:moveTo>
                <a:cubicBezTo>
                  <a:pt x="20510" y="9018"/>
                  <a:pt x="20526" y="9084"/>
                  <a:pt x="20542" y="9144"/>
                </a:cubicBezTo>
                <a:cubicBezTo>
                  <a:pt x="20579" y="9284"/>
                  <a:pt x="20594" y="9443"/>
                  <a:pt x="20606" y="9588"/>
                </a:cubicBezTo>
                <a:cubicBezTo>
                  <a:pt x="20630" y="9870"/>
                  <a:pt x="20606" y="10163"/>
                  <a:pt x="20606" y="10446"/>
                </a:cubicBezTo>
              </a:path>
              <a:path w="5747" h="2224">
                <a:moveTo>
                  <a:pt x="20892" y="9525"/>
                </a:moveTo>
                <a:cubicBezTo>
                  <a:pt x="20881" y="9525"/>
                  <a:pt x="20871" y="9525"/>
                  <a:pt x="20860" y="9525"/>
                </a:cubicBezTo>
                <a:cubicBezTo>
                  <a:pt x="20882" y="9591"/>
                  <a:pt x="20896" y="9532"/>
                  <a:pt x="20955" y="9525"/>
                </a:cubicBezTo>
                <a:cubicBezTo>
                  <a:pt x="21009" y="9519"/>
                  <a:pt x="21033" y="9498"/>
                  <a:pt x="21082" y="9493"/>
                </a:cubicBezTo>
                <a:cubicBezTo>
                  <a:pt x="21141" y="9486"/>
                  <a:pt x="21165" y="9492"/>
                  <a:pt x="21209" y="9525"/>
                </a:cubicBezTo>
              </a:path>
              <a:path w="5747" h="2224">
                <a:moveTo>
                  <a:pt x="20860" y="9874"/>
                </a:moveTo>
                <a:cubicBezTo>
                  <a:pt x="20950" y="9874"/>
                  <a:pt x="21007" y="9867"/>
                  <a:pt x="21082" y="9842"/>
                </a:cubicBezTo>
                <a:cubicBezTo>
                  <a:pt x="21093" y="9842"/>
                  <a:pt x="21103" y="9842"/>
                  <a:pt x="21114" y="9842"/>
                </a:cubicBezTo>
              </a:path>
              <a:path w="5747" h="2224">
                <a:moveTo>
                  <a:pt x="21368" y="9239"/>
                </a:moveTo>
                <a:cubicBezTo>
                  <a:pt x="21325" y="9168"/>
                  <a:pt x="21330" y="9165"/>
                  <a:pt x="21368" y="9080"/>
                </a:cubicBezTo>
                <a:cubicBezTo>
                  <a:pt x="21391" y="9029"/>
                  <a:pt x="21418" y="8998"/>
                  <a:pt x="21463" y="8954"/>
                </a:cubicBezTo>
                <a:cubicBezTo>
                  <a:pt x="21522" y="8896"/>
                  <a:pt x="21522" y="8874"/>
                  <a:pt x="21590" y="8922"/>
                </a:cubicBezTo>
                <a:cubicBezTo>
                  <a:pt x="21668" y="8977"/>
                  <a:pt x="21598" y="9076"/>
                  <a:pt x="21590" y="9144"/>
                </a:cubicBezTo>
                <a:cubicBezTo>
                  <a:pt x="21574" y="9281"/>
                  <a:pt x="21561" y="9430"/>
                  <a:pt x="21495" y="9557"/>
                </a:cubicBezTo>
                <a:cubicBezTo>
                  <a:pt x="21429" y="9684"/>
                  <a:pt x="21382" y="9800"/>
                  <a:pt x="21336" y="9938"/>
                </a:cubicBezTo>
                <a:cubicBezTo>
                  <a:pt x="21300" y="10046"/>
                  <a:pt x="21258" y="10153"/>
                  <a:pt x="21209" y="10255"/>
                </a:cubicBezTo>
                <a:cubicBezTo>
                  <a:pt x="21181" y="10315"/>
                  <a:pt x="21169" y="10319"/>
                  <a:pt x="21114" y="10350"/>
                </a:cubicBezTo>
                <a:cubicBezTo>
                  <a:pt x="21124" y="10283"/>
                  <a:pt x="21125" y="10276"/>
                  <a:pt x="21177" y="10224"/>
                </a:cubicBezTo>
                <a:cubicBezTo>
                  <a:pt x="21221" y="10180"/>
                  <a:pt x="21246" y="10195"/>
                  <a:pt x="21304" y="10192"/>
                </a:cubicBezTo>
                <a:cubicBezTo>
                  <a:pt x="21369" y="10188"/>
                  <a:pt x="21380" y="10197"/>
                  <a:pt x="21431" y="10224"/>
                </a:cubicBezTo>
                <a:cubicBezTo>
                  <a:pt x="21471" y="10245"/>
                  <a:pt x="21515" y="10240"/>
                  <a:pt x="21558" y="10255"/>
                </a:cubicBezTo>
                <a:cubicBezTo>
                  <a:pt x="21637" y="10283"/>
                  <a:pt x="21618" y="10264"/>
                  <a:pt x="21685" y="10255"/>
                </a:cubicBezTo>
                <a:cubicBezTo>
                  <a:pt x="21744" y="10247"/>
                  <a:pt x="21774" y="10251"/>
                  <a:pt x="21812" y="10192"/>
                </a:cubicBezTo>
                <a:cubicBezTo>
                  <a:pt x="21823" y="10171"/>
                  <a:pt x="21833" y="10149"/>
                  <a:pt x="21844" y="10128"/>
                </a:cubicBezTo>
              </a:path>
              <a:path w="5747" h="2224">
                <a:moveTo>
                  <a:pt x="22193" y="8541"/>
                </a:moveTo>
                <a:lnTo>
                  <a:pt x="22193" y="8541"/>
                </a:lnTo>
              </a:path>
              <a:path w="5747" h="2224">
                <a:moveTo>
                  <a:pt x="22193" y="8541"/>
                </a:moveTo>
                <a:lnTo>
                  <a:pt x="22193" y="8541"/>
                </a:lnTo>
              </a:path>
              <a:path w="5747" h="2224">
                <a:moveTo>
                  <a:pt x="22130" y="8541"/>
                </a:moveTo>
                <a:cubicBezTo>
                  <a:pt x="22100" y="8622"/>
                  <a:pt x="22063" y="8710"/>
                  <a:pt x="22034" y="8795"/>
                </a:cubicBezTo>
                <a:cubicBezTo>
                  <a:pt x="21993" y="8915"/>
                  <a:pt x="21954" y="9082"/>
                  <a:pt x="21939" y="9208"/>
                </a:cubicBezTo>
                <a:cubicBezTo>
                  <a:pt x="21922" y="9352"/>
                  <a:pt x="21891" y="9543"/>
                  <a:pt x="21908" y="9684"/>
                </a:cubicBezTo>
                <a:cubicBezTo>
                  <a:pt x="21923" y="9803"/>
                  <a:pt x="21951" y="9923"/>
                  <a:pt x="22003" y="10033"/>
                </a:cubicBezTo>
                <a:cubicBezTo>
                  <a:pt x="22040" y="10111"/>
                  <a:pt x="22073" y="10192"/>
                  <a:pt x="22130" y="10255"/>
                </a:cubicBezTo>
                <a:cubicBezTo>
                  <a:pt x="22154" y="10281"/>
                  <a:pt x="22218" y="10309"/>
                  <a:pt x="22257" y="10287"/>
                </a:cubicBezTo>
                <a:cubicBezTo>
                  <a:pt x="22288" y="10287"/>
                  <a:pt x="22299" y="10287"/>
                  <a:pt x="22288" y="10255"/>
                </a:cubicBezTo>
              </a:path>
              <a:path w="5747" h="2224">
                <a:moveTo>
                  <a:pt x="22162" y="9271"/>
                </a:moveTo>
                <a:cubicBezTo>
                  <a:pt x="22175" y="9218"/>
                  <a:pt x="22198" y="9191"/>
                  <a:pt x="22225" y="9144"/>
                </a:cubicBezTo>
                <a:cubicBezTo>
                  <a:pt x="22274" y="9058"/>
                  <a:pt x="22286" y="9080"/>
                  <a:pt x="22384" y="9080"/>
                </a:cubicBezTo>
                <a:cubicBezTo>
                  <a:pt x="22504" y="9080"/>
                  <a:pt x="22423" y="9250"/>
                  <a:pt x="22416" y="9303"/>
                </a:cubicBezTo>
                <a:cubicBezTo>
                  <a:pt x="22399" y="9423"/>
                  <a:pt x="22338" y="9533"/>
                  <a:pt x="22320" y="9652"/>
                </a:cubicBezTo>
                <a:cubicBezTo>
                  <a:pt x="22309" y="9728"/>
                  <a:pt x="22288" y="9798"/>
                  <a:pt x="22288" y="9874"/>
                </a:cubicBezTo>
                <a:cubicBezTo>
                  <a:pt x="22325" y="9837"/>
                  <a:pt x="22370" y="9794"/>
                  <a:pt x="22416" y="9779"/>
                </a:cubicBezTo>
                <a:cubicBezTo>
                  <a:pt x="22446" y="9769"/>
                  <a:pt x="22531" y="9795"/>
                  <a:pt x="22542" y="9811"/>
                </a:cubicBezTo>
                <a:cubicBezTo>
                  <a:pt x="22542" y="9842"/>
                  <a:pt x="22542" y="9853"/>
                  <a:pt x="22574" y="9842"/>
                </a:cubicBezTo>
              </a:path>
              <a:path w="5747" h="2224">
                <a:moveTo>
                  <a:pt x="22511" y="9144"/>
                </a:moveTo>
                <a:cubicBezTo>
                  <a:pt x="22520" y="9086"/>
                  <a:pt x="22518" y="9056"/>
                  <a:pt x="22574" y="9049"/>
                </a:cubicBezTo>
                <a:cubicBezTo>
                  <a:pt x="22617" y="9044"/>
                  <a:pt x="22687" y="8992"/>
                  <a:pt x="22733" y="9017"/>
                </a:cubicBezTo>
                <a:cubicBezTo>
                  <a:pt x="22822" y="9066"/>
                  <a:pt x="22813" y="9185"/>
                  <a:pt x="22796" y="9271"/>
                </a:cubicBezTo>
                <a:cubicBezTo>
                  <a:pt x="22775" y="9377"/>
                  <a:pt x="22722" y="9485"/>
                  <a:pt x="22701" y="9588"/>
                </a:cubicBezTo>
                <a:cubicBezTo>
                  <a:pt x="22688" y="9652"/>
                  <a:pt x="22670" y="9713"/>
                  <a:pt x="22670" y="9779"/>
                </a:cubicBezTo>
                <a:cubicBezTo>
                  <a:pt x="22749" y="9779"/>
                  <a:pt x="22790" y="9792"/>
                  <a:pt x="22828" y="9811"/>
                </a:cubicBezTo>
                <a:cubicBezTo>
                  <a:pt x="22858" y="9826"/>
                  <a:pt x="22922" y="9834"/>
                  <a:pt x="22955" y="9842"/>
                </a:cubicBezTo>
              </a:path>
              <a:path w="5747" h="2224">
                <a:moveTo>
                  <a:pt x="22701" y="8636"/>
                </a:moveTo>
                <a:cubicBezTo>
                  <a:pt x="22793" y="8728"/>
                  <a:pt x="22884" y="8814"/>
                  <a:pt x="22955" y="8922"/>
                </a:cubicBezTo>
                <a:cubicBezTo>
                  <a:pt x="23043" y="9057"/>
                  <a:pt x="23088" y="9185"/>
                  <a:pt x="23146" y="9334"/>
                </a:cubicBezTo>
                <a:cubicBezTo>
                  <a:pt x="23188" y="9444"/>
                  <a:pt x="23226" y="9626"/>
                  <a:pt x="23209" y="9747"/>
                </a:cubicBezTo>
                <a:cubicBezTo>
                  <a:pt x="23194" y="9854"/>
                  <a:pt x="23178" y="9994"/>
                  <a:pt x="23146" y="10096"/>
                </a:cubicBezTo>
                <a:cubicBezTo>
                  <a:pt x="23120" y="10176"/>
                  <a:pt x="23076" y="10191"/>
                  <a:pt x="23019" y="10224"/>
                </a:cubicBezTo>
              </a:path>
              <a:path w="5747" h="2224">
                <a:moveTo>
                  <a:pt x="23432" y="9176"/>
                </a:moveTo>
                <a:lnTo>
                  <a:pt x="23432" y="9176"/>
                </a:lnTo>
              </a:path>
              <a:path w="5747" h="2224">
                <a:moveTo>
                  <a:pt x="23432" y="9176"/>
                </a:moveTo>
                <a:cubicBezTo>
                  <a:pt x="23442" y="9208"/>
                  <a:pt x="23453" y="9239"/>
                  <a:pt x="23463" y="9271"/>
                </a:cubicBezTo>
              </a:path>
              <a:path w="5747" h="2224">
                <a:moveTo>
                  <a:pt x="23463" y="9271"/>
                </a:moveTo>
                <a:cubicBezTo>
                  <a:pt x="23463" y="9476"/>
                  <a:pt x="23450" y="9681"/>
                  <a:pt x="23495" y="9874"/>
                </a:cubicBezTo>
                <a:cubicBezTo>
                  <a:pt x="23501" y="9902"/>
                  <a:pt x="23495" y="9941"/>
                  <a:pt x="23495" y="9970"/>
                </a:cubicBezTo>
              </a:path>
              <a:path w="5747" h="2224">
                <a:moveTo>
                  <a:pt x="23241" y="9588"/>
                </a:moveTo>
                <a:cubicBezTo>
                  <a:pt x="23336" y="9588"/>
                  <a:pt x="23432" y="9588"/>
                  <a:pt x="23527" y="9588"/>
                </a:cubicBezTo>
              </a:path>
              <a:path w="5747" h="2224">
                <a:moveTo>
                  <a:pt x="23749" y="8858"/>
                </a:moveTo>
                <a:cubicBezTo>
                  <a:pt x="23713" y="8786"/>
                  <a:pt x="23756" y="8804"/>
                  <a:pt x="23781" y="8731"/>
                </a:cubicBezTo>
                <a:cubicBezTo>
                  <a:pt x="23797" y="8685"/>
                  <a:pt x="23825" y="8653"/>
                  <a:pt x="23876" y="8636"/>
                </a:cubicBezTo>
                <a:cubicBezTo>
                  <a:pt x="23941" y="8614"/>
                  <a:pt x="23989" y="8672"/>
                  <a:pt x="24003" y="8731"/>
                </a:cubicBezTo>
                <a:cubicBezTo>
                  <a:pt x="24038" y="8880"/>
                  <a:pt x="24001" y="9095"/>
                  <a:pt x="23971" y="9239"/>
                </a:cubicBezTo>
                <a:cubicBezTo>
                  <a:pt x="23929" y="9441"/>
                  <a:pt x="23847" y="9640"/>
                  <a:pt x="23812" y="9842"/>
                </a:cubicBezTo>
                <a:cubicBezTo>
                  <a:pt x="23801" y="9905"/>
                  <a:pt x="23789" y="10043"/>
                  <a:pt x="23749" y="10001"/>
                </a:cubicBezTo>
                <a:cubicBezTo>
                  <a:pt x="23770" y="9994"/>
                  <a:pt x="23827" y="9972"/>
                  <a:pt x="23844" y="9938"/>
                </a:cubicBezTo>
                <a:cubicBezTo>
                  <a:pt x="23876" y="9873"/>
                  <a:pt x="23897" y="9919"/>
                  <a:pt x="23971" y="9938"/>
                </a:cubicBezTo>
                <a:cubicBezTo>
                  <a:pt x="24035" y="9954"/>
                  <a:pt x="24077" y="10018"/>
                  <a:pt x="24130" y="10033"/>
                </a:cubicBezTo>
                <a:cubicBezTo>
                  <a:pt x="24181" y="10047"/>
                  <a:pt x="24233" y="10112"/>
                  <a:pt x="24257" y="10065"/>
                </a:cubicBezTo>
                <a:cubicBezTo>
                  <a:pt x="24257" y="10033"/>
                  <a:pt x="24257" y="10022"/>
                  <a:pt x="24257" y="10001"/>
                </a:cubicBezTo>
              </a:path>
              <a:path w="5747" h="2224">
                <a:moveTo>
                  <a:pt x="24448" y="8223"/>
                </a:moveTo>
                <a:lnTo>
                  <a:pt x="24448" y="8223"/>
                </a:lnTo>
              </a:path>
              <a:path w="5747" h="2224">
                <a:moveTo>
                  <a:pt x="24448" y="8223"/>
                </a:moveTo>
                <a:cubicBezTo>
                  <a:pt x="24448" y="8234"/>
                  <a:pt x="24448" y="8244"/>
                  <a:pt x="24448" y="8255"/>
                </a:cubicBezTo>
              </a:path>
              <a:path w="5747" h="2224">
                <a:moveTo>
                  <a:pt x="24448" y="8255"/>
                </a:moveTo>
                <a:cubicBezTo>
                  <a:pt x="24421" y="8336"/>
                  <a:pt x="24378" y="8425"/>
                  <a:pt x="24352" y="8509"/>
                </a:cubicBezTo>
                <a:cubicBezTo>
                  <a:pt x="24295" y="8690"/>
                  <a:pt x="24258" y="8866"/>
                  <a:pt x="24225" y="9049"/>
                </a:cubicBezTo>
                <a:cubicBezTo>
                  <a:pt x="24198" y="9198"/>
                  <a:pt x="24170" y="9371"/>
                  <a:pt x="24194" y="9525"/>
                </a:cubicBezTo>
                <a:cubicBezTo>
                  <a:pt x="24213" y="9646"/>
                  <a:pt x="24236" y="9761"/>
                  <a:pt x="24289" y="9874"/>
                </a:cubicBezTo>
                <a:cubicBezTo>
                  <a:pt x="24325" y="9950"/>
                  <a:pt x="24356" y="10006"/>
                  <a:pt x="24416" y="10065"/>
                </a:cubicBezTo>
                <a:cubicBezTo>
                  <a:pt x="24470" y="10118"/>
                  <a:pt x="24489" y="10096"/>
                  <a:pt x="24543" y="10065"/>
                </a:cubicBezTo>
              </a:path>
              <a:path w="5747" h="2224">
                <a:moveTo>
                  <a:pt x="24416" y="9080"/>
                </a:moveTo>
                <a:cubicBezTo>
                  <a:pt x="24429" y="9031"/>
                  <a:pt x="24464" y="9000"/>
                  <a:pt x="24479" y="8954"/>
                </a:cubicBezTo>
                <a:cubicBezTo>
                  <a:pt x="24499" y="8892"/>
                  <a:pt x="24507" y="8890"/>
                  <a:pt x="24574" y="8890"/>
                </a:cubicBezTo>
                <a:cubicBezTo>
                  <a:pt x="24617" y="8890"/>
                  <a:pt x="24650" y="8966"/>
                  <a:pt x="24638" y="9017"/>
                </a:cubicBezTo>
                <a:cubicBezTo>
                  <a:pt x="24614" y="9116"/>
                  <a:pt x="24604" y="9236"/>
                  <a:pt x="24574" y="9334"/>
                </a:cubicBezTo>
                <a:cubicBezTo>
                  <a:pt x="24541" y="9440"/>
                  <a:pt x="24520" y="9586"/>
                  <a:pt x="24479" y="9684"/>
                </a:cubicBezTo>
                <a:cubicBezTo>
                  <a:pt x="24451" y="9713"/>
                  <a:pt x="24441" y="9719"/>
                  <a:pt x="24448" y="9747"/>
                </a:cubicBezTo>
                <a:cubicBezTo>
                  <a:pt x="24483" y="9700"/>
                  <a:pt x="24498" y="9666"/>
                  <a:pt x="24543" y="9620"/>
                </a:cubicBezTo>
                <a:cubicBezTo>
                  <a:pt x="24590" y="9572"/>
                  <a:pt x="24622" y="9578"/>
                  <a:pt x="24670" y="9620"/>
                </a:cubicBezTo>
                <a:cubicBezTo>
                  <a:pt x="24705" y="9651"/>
                  <a:pt x="24713" y="9758"/>
                  <a:pt x="24733" y="9716"/>
                </a:cubicBezTo>
                <a:cubicBezTo>
                  <a:pt x="24733" y="9705"/>
                  <a:pt x="24733" y="9695"/>
                  <a:pt x="24733" y="9684"/>
                </a:cubicBezTo>
              </a:path>
              <a:path w="5747" h="2224">
                <a:moveTo>
                  <a:pt x="24828" y="9176"/>
                </a:moveTo>
                <a:cubicBezTo>
                  <a:pt x="24828" y="9313"/>
                  <a:pt x="24828" y="9451"/>
                  <a:pt x="24828" y="9588"/>
                </a:cubicBezTo>
                <a:cubicBezTo>
                  <a:pt x="24828" y="9641"/>
                  <a:pt x="24828" y="9546"/>
                  <a:pt x="24828" y="9493"/>
                </a:cubicBezTo>
                <a:cubicBezTo>
                  <a:pt x="24828" y="9390"/>
                  <a:pt x="24860" y="9318"/>
                  <a:pt x="24860" y="9208"/>
                </a:cubicBezTo>
                <a:cubicBezTo>
                  <a:pt x="24860" y="9172"/>
                  <a:pt x="24863" y="9158"/>
                  <a:pt x="24892" y="9144"/>
                </a:cubicBezTo>
                <a:cubicBezTo>
                  <a:pt x="24927" y="9156"/>
                  <a:pt x="24942" y="9217"/>
                  <a:pt x="24956" y="9271"/>
                </a:cubicBezTo>
                <a:cubicBezTo>
                  <a:pt x="24966" y="9312"/>
                  <a:pt x="24956" y="9559"/>
                  <a:pt x="24956" y="9493"/>
                </a:cubicBezTo>
                <a:cubicBezTo>
                  <a:pt x="24956" y="9417"/>
                  <a:pt x="24987" y="9350"/>
                  <a:pt x="24987" y="9271"/>
                </a:cubicBezTo>
                <a:cubicBezTo>
                  <a:pt x="24987" y="9230"/>
                  <a:pt x="25009" y="9214"/>
                  <a:pt x="25019" y="9176"/>
                </a:cubicBezTo>
                <a:cubicBezTo>
                  <a:pt x="25052" y="9187"/>
                  <a:pt x="25073" y="9250"/>
                  <a:pt x="25082" y="9303"/>
                </a:cubicBezTo>
                <a:cubicBezTo>
                  <a:pt x="25094" y="9370"/>
                  <a:pt x="25084" y="9499"/>
                  <a:pt x="25114" y="9557"/>
                </a:cubicBezTo>
                <a:cubicBezTo>
                  <a:pt x="25143" y="9585"/>
                  <a:pt x="25154" y="9591"/>
                  <a:pt x="25146" y="9620"/>
                </a:cubicBezTo>
              </a:path>
              <a:path w="5747" h="2224">
                <a:moveTo>
                  <a:pt x="25114" y="8477"/>
                </a:moveTo>
                <a:cubicBezTo>
                  <a:pt x="25156" y="8498"/>
                  <a:pt x="25153" y="8470"/>
                  <a:pt x="25178" y="8509"/>
                </a:cubicBezTo>
                <a:cubicBezTo>
                  <a:pt x="25244" y="8611"/>
                  <a:pt x="25320" y="8735"/>
                  <a:pt x="25336" y="8858"/>
                </a:cubicBezTo>
                <a:cubicBezTo>
                  <a:pt x="25369" y="9105"/>
                  <a:pt x="25368" y="9341"/>
                  <a:pt x="25368" y="9588"/>
                </a:cubicBezTo>
                <a:cubicBezTo>
                  <a:pt x="25368" y="9783"/>
                  <a:pt x="25327" y="9928"/>
                  <a:pt x="25241" y="10096"/>
                </a:cubicBezTo>
                <a:cubicBezTo>
                  <a:pt x="25183" y="10210"/>
                  <a:pt x="25135" y="10288"/>
                  <a:pt x="25051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9"/>
          <p:cNvSpPr/>
          <p:nvPr/>
        </p:nvSpPr>
        <p:spPr>
          <a:xfrm>
            <a:off x="7029360" y="3921120"/>
            <a:ext cx="560520" cy="560520"/>
          </a:xfrm>
          <a:custGeom>
            <a:avLst/>
            <a:gdLst/>
            <a:ahLst/>
            <a:rect l="l" t="t" r="r" b="b"/>
            <a:pathLst>
              <a:path w="1557" h="1557">
                <a:moveTo>
                  <a:pt x="19812" y="10922"/>
                </a:moveTo>
                <a:cubicBezTo>
                  <a:pt x="19800" y="10958"/>
                  <a:pt x="19782" y="10997"/>
                  <a:pt x="19748" y="11049"/>
                </a:cubicBezTo>
                <a:cubicBezTo>
                  <a:pt x="19702" y="11119"/>
                  <a:pt x="19689" y="11218"/>
                  <a:pt x="19653" y="11303"/>
                </a:cubicBezTo>
                <a:cubicBezTo>
                  <a:pt x="19606" y="11413"/>
                  <a:pt x="19569" y="11534"/>
                  <a:pt x="19558" y="11652"/>
                </a:cubicBezTo>
                <a:cubicBezTo>
                  <a:pt x="19545" y="11793"/>
                  <a:pt x="19526" y="11922"/>
                  <a:pt x="19526" y="12065"/>
                </a:cubicBezTo>
                <a:cubicBezTo>
                  <a:pt x="19526" y="12138"/>
                  <a:pt x="19547" y="12234"/>
                  <a:pt x="19590" y="12287"/>
                </a:cubicBezTo>
                <a:cubicBezTo>
                  <a:pt x="19632" y="12339"/>
                  <a:pt x="19653" y="12351"/>
                  <a:pt x="19717" y="12351"/>
                </a:cubicBezTo>
                <a:cubicBezTo>
                  <a:pt x="19818" y="12351"/>
                  <a:pt x="19824" y="12287"/>
                  <a:pt x="19876" y="12224"/>
                </a:cubicBezTo>
                <a:cubicBezTo>
                  <a:pt x="19947" y="12138"/>
                  <a:pt x="19996" y="12085"/>
                  <a:pt x="20002" y="11970"/>
                </a:cubicBezTo>
                <a:cubicBezTo>
                  <a:pt x="20007" y="11875"/>
                  <a:pt x="20011" y="11840"/>
                  <a:pt x="20002" y="11748"/>
                </a:cubicBezTo>
                <a:cubicBezTo>
                  <a:pt x="19995" y="11682"/>
                  <a:pt x="19976" y="11628"/>
                  <a:pt x="19907" y="11620"/>
                </a:cubicBezTo>
                <a:cubicBezTo>
                  <a:pt x="19897" y="11620"/>
                  <a:pt x="19886" y="11620"/>
                  <a:pt x="19876" y="11620"/>
                </a:cubicBezTo>
                <a:cubicBezTo>
                  <a:pt x="19844" y="11705"/>
                  <a:pt x="19823" y="11815"/>
                  <a:pt x="19812" y="11906"/>
                </a:cubicBezTo>
                <a:cubicBezTo>
                  <a:pt x="19801" y="11997"/>
                  <a:pt x="19771" y="12409"/>
                  <a:pt x="19844" y="12287"/>
                </a:cubicBezTo>
              </a:path>
              <a:path w="1557" h="1557">
                <a:moveTo>
                  <a:pt x="20161" y="11049"/>
                </a:moveTo>
                <a:cubicBezTo>
                  <a:pt x="20161" y="11192"/>
                  <a:pt x="20145" y="11324"/>
                  <a:pt x="20130" y="11462"/>
                </a:cubicBezTo>
                <a:cubicBezTo>
                  <a:pt x="20119" y="11560"/>
                  <a:pt x="20114" y="11664"/>
                  <a:pt x="20098" y="11748"/>
                </a:cubicBezTo>
                <a:cubicBezTo>
                  <a:pt x="20085" y="11814"/>
                  <a:pt x="20096" y="11829"/>
                  <a:pt x="20130" y="11874"/>
                </a:cubicBezTo>
                <a:cubicBezTo>
                  <a:pt x="20169" y="11845"/>
                  <a:pt x="20207" y="11816"/>
                  <a:pt x="20256" y="11811"/>
                </a:cubicBezTo>
                <a:cubicBezTo>
                  <a:pt x="20321" y="11804"/>
                  <a:pt x="20502" y="11843"/>
                  <a:pt x="20510" y="11779"/>
                </a:cubicBezTo>
                <a:cubicBezTo>
                  <a:pt x="20510" y="11769"/>
                  <a:pt x="20510" y="11758"/>
                  <a:pt x="20510" y="11748"/>
                </a:cubicBezTo>
              </a:path>
              <a:path w="1557" h="1557">
                <a:moveTo>
                  <a:pt x="20479" y="10890"/>
                </a:moveTo>
                <a:cubicBezTo>
                  <a:pt x="20479" y="11409"/>
                  <a:pt x="20479" y="11927"/>
                  <a:pt x="20479" y="12446"/>
                </a:cubicBezTo>
              </a:path>
              <a:path w="1557" h="1557">
                <a:moveTo>
                  <a:pt x="20669" y="11494"/>
                </a:moveTo>
                <a:cubicBezTo>
                  <a:pt x="20709" y="11464"/>
                  <a:pt x="20746" y="11436"/>
                  <a:pt x="20796" y="11430"/>
                </a:cubicBezTo>
                <a:cubicBezTo>
                  <a:pt x="20847" y="11424"/>
                  <a:pt x="20912" y="11420"/>
                  <a:pt x="20955" y="11398"/>
                </a:cubicBezTo>
                <a:cubicBezTo>
                  <a:pt x="20966" y="11387"/>
                  <a:pt x="20976" y="11377"/>
                  <a:pt x="20987" y="11366"/>
                </a:cubicBezTo>
              </a:path>
              <a:path w="1557" h="1557">
                <a:moveTo>
                  <a:pt x="20764" y="11811"/>
                </a:moveTo>
                <a:cubicBezTo>
                  <a:pt x="20845" y="11811"/>
                  <a:pt x="20888" y="11801"/>
                  <a:pt x="20955" y="11779"/>
                </a:cubicBezTo>
                <a:cubicBezTo>
                  <a:pt x="20991" y="11767"/>
                  <a:pt x="21044" y="11779"/>
                  <a:pt x="21082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0"/>
          <p:cNvSpPr/>
          <p:nvPr/>
        </p:nvSpPr>
        <p:spPr>
          <a:xfrm>
            <a:off x="7726320" y="3875040"/>
            <a:ext cx="344520" cy="514440"/>
          </a:xfrm>
          <a:custGeom>
            <a:avLst/>
            <a:gdLst/>
            <a:ahLst/>
            <a:rect l="l" t="t" r="r" b="b"/>
            <a:pathLst>
              <a:path w="954" h="1430">
                <a:moveTo>
                  <a:pt x="21526" y="10827"/>
                </a:moveTo>
                <a:cubicBezTo>
                  <a:pt x="21526" y="10918"/>
                  <a:pt x="21505" y="10998"/>
                  <a:pt x="21495" y="11081"/>
                </a:cubicBezTo>
                <a:cubicBezTo>
                  <a:pt x="21482" y="11187"/>
                  <a:pt x="21469" y="11296"/>
                  <a:pt x="21463" y="11398"/>
                </a:cubicBezTo>
                <a:cubicBezTo>
                  <a:pt x="21463" y="11419"/>
                  <a:pt x="21463" y="11441"/>
                  <a:pt x="21463" y="11462"/>
                </a:cubicBezTo>
                <a:cubicBezTo>
                  <a:pt x="21527" y="11462"/>
                  <a:pt x="21538" y="11477"/>
                  <a:pt x="21590" y="11494"/>
                </a:cubicBezTo>
                <a:cubicBezTo>
                  <a:pt x="21665" y="11519"/>
                  <a:pt x="21751" y="11477"/>
                  <a:pt x="21780" y="11462"/>
                </a:cubicBezTo>
                <a:cubicBezTo>
                  <a:pt x="21812" y="11462"/>
                  <a:pt x="21823" y="11462"/>
                  <a:pt x="21812" y="11430"/>
                </a:cubicBezTo>
              </a:path>
              <a:path w="954" h="1430">
                <a:moveTo>
                  <a:pt x="21812" y="10795"/>
                </a:moveTo>
                <a:cubicBezTo>
                  <a:pt x="21864" y="10812"/>
                  <a:pt x="21844" y="10857"/>
                  <a:pt x="21844" y="10922"/>
                </a:cubicBezTo>
                <a:cubicBezTo>
                  <a:pt x="21844" y="11082"/>
                  <a:pt x="21812" y="11235"/>
                  <a:pt x="21812" y="11398"/>
                </a:cubicBezTo>
                <a:cubicBezTo>
                  <a:pt x="21812" y="11510"/>
                  <a:pt x="21752" y="12161"/>
                  <a:pt x="21844" y="12192"/>
                </a:cubicBezTo>
              </a:path>
              <a:path w="954" h="1430">
                <a:moveTo>
                  <a:pt x="22034" y="10890"/>
                </a:moveTo>
                <a:cubicBezTo>
                  <a:pt x="22082" y="10906"/>
                  <a:pt x="22080" y="10986"/>
                  <a:pt x="22066" y="11049"/>
                </a:cubicBezTo>
                <a:cubicBezTo>
                  <a:pt x="22043" y="11153"/>
                  <a:pt x="22034" y="11228"/>
                  <a:pt x="22034" y="11335"/>
                </a:cubicBezTo>
                <a:cubicBezTo>
                  <a:pt x="22034" y="11388"/>
                  <a:pt x="22034" y="11441"/>
                  <a:pt x="22034" y="11494"/>
                </a:cubicBezTo>
                <a:cubicBezTo>
                  <a:pt x="22074" y="11464"/>
                  <a:pt x="22112" y="11436"/>
                  <a:pt x="22162" y="11430"/>
                </a:cubicBezTo>
                <a:cubicBezTo>
                  <a:pt x="22237" y="11422"/>
                  <a:pt x="22395" y="11462"/>
                  <a:pt x="22416" y="11398"/>
                </a:cubicBezTo>
              </a:path>
              <a:path w="954" h="1430">
                <a:moveTo>
                  <a:pt x="22384" y="10763"/>
                </a:moveTo>
                <a:cubicBezTo>
                  <a:pt x="22430" y="10840"/>
                  <a:pt x="22416" y="10921"/>
                  <a:pt x="22416" y="11017"/>
                </a:cubicBezTo>
                <a:cubicBezTo>
                  <a:pt x="22416" y="11409"/>
                  <a:pt x="22416" y="11800"/>
                  <a:pt x="22416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1"/>
          <p:cNvSpPr/>
          <p:nvPr/>
        </p:nvSpPr>
        <p:spPr>
          <a:xfrm>
            <a:off x="8240760" y="3828960"/>
            <a:ext cx="720720" cy="538200"/>
          </a:xfrm>
          <a:custGeom>
            <a:avLst/>
            <a:gdLst/>
            <a:ahLst/>
            <a:rect l="l" t="t" r="r" b="b"/>
            <a:pathLst>
              <a:path w="2001" h="1493">
                <a:moveTo>
                  <a:pt x="23082" y="11144"/>
                </a:moveTo>
                <a:cubicBezTo>
                  <a:pt x="23082" y="11288"/>
                  <a:pt x="23092" y="11421"/>
                  <a:pt x="23114" y="11557"/>
                </a:cubicBezTo>
                <a:cubicBezTo>
                  <a:pt x="23122" y="11606"/>
                  <a:pt x="23114" y="11666"/>
                  <a:pt x="23114" y="11716"/>
                </a:cubicBezTo>
              </a:path>
              <a:path w="2001" h="1493">
                <a:moveTo>
                  <a:pt x="22892" y="11525"/>
                </a:moveTo>
                <a:cubicBezTo>
                  <a:pt x="22959" y="11525"/>
                  <a:pt x="22994" y="11523"/>
                  <a:pt x="23050" y="11494"/>
                </a:cubicBezTo>
                <a:cubicBezTo>
                  <a:pt x="23129" y="11452"/>
                  <a:pt x="23177" y="11398"/>
                  <a:pt x="23241" y="11335"/>
                </a:cubicBezTo>
              </a:path>
              <a:path w="2001" h="1493">
                <a:moveTo>
                  <a:pt x="23527" y="10827"/>
                </a:moveTo>
                <a:cubicBezTo>
                  <a:pt x="23551" y="10926"/>
                  <a:pt x="23527" y="11028"/>
                  <a:pt x="23527" y="11144"/>
                </a:cubicBezTo>
                <a:cubicBezTo>
                  <a:pt x="23527" y="11232"/>
                  <a:pt x="23516" y="11375"/>
                  <a:pt x="23495" y="11462"/>
                </a:cubicBezTo>
                <a:cubicBezTo>
                  <a:pt x="23493" y="11470"/>
                  <a:pt x="23467" y="11649"/>
                  <a:pt x="23463" y="11652"/>
                </a:cubicBezTo>
                <a:cubicBezTo>
                  <a:pt x="23419" y="11688"/>
                  <a:pt x="23482" y="11630"/>
                  <a:pt x="23495" y="11620"/>
                </a:cubicBezTo>
                <a:cubicBezTo>
                  <a:pt x="23538" y="11588"/>
                  <a:pt x="23548" y="11546"/>
                  <a:pt x="23590" y="11525"/>
                </a:cubicBezTo>
                <a:cubicBezTo>
                  <a:pt x="23666" y="11487"/>
                  <a:pt x="23821" y="11521"/>
                  <a:pt x="23876" y="11494"/>
                </a:cubicBezTo>
                <a:cubicBezTo>
                  <a:pt x="23908" y="11494"/>
                  <a:pt x="23919" y="11494"/>
                  <a:pt x="23908" y="11462"/>
                </a:cubicBezTo>
              </a:path>
              <a:path w="2001" h="1493">
                <a:moveTo>
                  <a:pt x="23844" y="10636"/>
                </a:moveTo>
                <a:cubicBezTo>
                  <a:pt x="23844" y="10768"/>
                  <a:pt x="23865" y="10888"/>
                  <a:pt x="23876" y="11017"/>
                </a:cubicBezTo>
                <a:cubicBezTo>
                  <a:pt x="23891" y="11185"/>
                  <a:pt x="23904" y="11357"/>
                  <a:pt x="23908" y="11525"/>
                </a:cubicBezTo>
                <a:cubicBezTo>
                  <a:pt x="23912" y="11690"/>
                  <a:pt x="23933" y="11841"/>
                  <a:pt x="23940" y="12002"/>
                </a:cubicBezTo>
                <a:cubicBezTo>
                  <a:pt x="23942" y="12044"/>
                  <a:pt x="23940" y="12086"/>
                  <a:pt x="23940" y="12128"/>
                </a:cubicBezTo>
              </a:path>
              <a:path w="2001" h="1493">
                <a:moveTo>
                  <a:pt x="24130" y="11144"/>
                </a:moveTo>
                <a:cubicBezTo>
                  <a:pt x="24130" y="11232"/>
                  <a:pt x="24159" y="11308"/>
                  <a:pt x="24162" y="11398"/>
                </a:cubicBezTo>
                <a:cubicBezTo>
                  <a:pt x="24167" y="11522"/>
                  <a:pt x="24175" y="11632"/>
                  <a:pt x="24194" y="11748"/>
                </a:cubicBezTo>
                <a:cubicBezTo>
                  <a:pt x="24204" y="11813"/>
                  <a:pt x="24194" y="11880"/>
                  <a:pt x="24194" y="11779"/>
                </a:cubicBezTo>
                <a:cubicBezTo>
                  <a:pt x="24194" y="11614"/>
                  <a:pt x="24205" y="11462"/>
                  <a:pt x="24225" y="11303"/>
                </a:cubicBezTo>
                <a:cubicBezTo>
                  <a:pt x="24235" y="11221"/>
                  <a:pt x="24249" y="11147"/>
                  <a:pt x="24289" y="11081"/>
                </a:cubicBezTo>
                <a:cubicBezTo>
                  <a:pt x="24374" y="11081"/>
                  <a:pt x="24355" y="11127"/>
                  <a:pt x="24384" y="11208"/>
                </a:cubicBezTo>
                <a:cubicBezTo>
                  <a:pt x="24431" y="11342"/>
                  <a:pt x="24419" y="11484"/>
                  <a:pt x="24448" y="11620"/>
                </a:cubicBezTo>
                <a:cubicBezTo>
                  <a:pt x="24464" y="11696"/>
                  <a:pt x="24468" y="11785"/>
                  <a:pt x="24511" y="11843"/>
                </a:cubicBezTo>
                <a:cubicBezTo>
                  <a:pt x="24529" y="11769"/>
                  <a:pt x="24543" y="11708"/>
                  <a:pt x="24543" y="11620"/>
                </a:cubicBezTo>
                <a:cubicBezTo>
                  <a:pt x="24543" y="11484"/>
                  <a:pt x="24555" y="11367"/>
                  <a:pt x="24574" y="11240"/>
                </a:cubicBezTo>
                <a:cubicBezTo>
                  <a:pt x="24583" y="11179"/>
                  <a:pt x="24593" y="11165"/>
                  <a:pt x="24606" y="11112"/>
                </a:cubicBezTo>
                <a:cubicBezTo>
                  <a:pt x="24642" y="11121"/>
                  <a:pt x="24720" y="11162"/>
                  <a:pt x="24733" y="11208"/>
                </a:cubicBezTo>
                <a:cubicBezTo>
                  <a:pt x="24766" y="11323"/>
                  <a:pt x="24784" y="11470"/>
                  <a:pt x="24797" y="11589"/>
                </a:cubicBezTo>
                <a:cubicBezTo>
                  <a:pt x="24811" y="11716"/>
                  <a:pt x="24815" y="11848"/>
                  <a:pt x="24860" y="11970"/>
                </a:cubicBezTo>
                <a:cubicBezTo>
                  <a:pt x="24871" y="11991"/>
                  <a:pt x="24881" y="12012"/>
                  <a:pt x="24892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2"/>
          <p:cNvSpPr/>
          <p:nvPr/>
        </p:nvSpPr>
        <p:spPr>
          <a:xfrm>
            <a:off x="6904080" y="4446720"/>
            <a:ext cx="468360" cy="457200"/>
          </a:xfrm>
          <a:custGeom>
            <a:avLst/>
            <a:gdLst/>
            <a:ahLst/>
            <a:rect l="l" t="t" r="r" b="b"/>
            <a:pathLst>
              <a:path w="1303" h="1271">
                <a:moveTo>
                  <a:pt x="19177" y="12890"/>
                </a:moveTo>
                <a:cubicBezTo>
                  <a:pt x="19271" y="12890"/>
                  <a:pt x="19344" y="12896"/>
                  <a:pt x="19431" y="12859"/>
                </a:cubicBezTo>
              </a:path>
              <a:path w="1303" h="1271">
                <a:moveTo>
                  <a:pt x="19685" y="12636"/>
                </a:moveTo>
                <a:cubicBezTo>
                  <a:pt x="19685" y="12740"/>
                  <a:pt x="19670" y="12835"/>
                  <a:pt x="19653" y="12922"/>
                </a:cubicBezTo>
                <a:cubicBezTo>
                  <a:pt x="19639" y="12991"/>
                  <a:pt x="19641" y="13022"/>
                  <a:pt x="19622" y="13081"/>
                </a:cubicBezTo>
                <a:cubicBezTo>
                  <a:pt x="19622" y="13092"/>
                  <a:pt x="19622" y="13102"/>
                  <a:pt x="19622" y="13113"/>
                </a:cubicBezTo>
                <a:cubicBezTo>
                  <a:pt x="19669" y="13097"/>
                  <a:pt x="19648" y="13081"/>
                  <a:pt x="19717" y="13081"/>
                </a:cubicBezTo>
                <a:cubicBezTo>
                  <a:pt x="19791" y="13081"/>
                  <a:pt x="19865" y="13081"/>
                  <a:pt x="19939" y="13081"/>
                </a:cubicBezTo>
              </a:path>
              <a:path w="1303" h="1271">
                <a:moveTo>
                  <a:pt x="19971" y="12573"/>
                </a:moveTo>
                <a:cubicBezTo>
                  <a:pt x="19971" y="12922"/>
                  <a:pt x="19971" y="13272"/>
                  <a:pt x="19971" y="13621"/>
                </a:cubicBezTo>
              </a:path>
              <a:path w="1303" h="1271">
                <a:moveTo>
                  <a:pt x="20161" y="12636"/>
                </a:moveTo>
                <a:cubicBezTo>
                  <a:pt x="20161" y="12751"/>
                  <a:pt x="20156" y="12847"/>
                  <a:pt x="20130" y="12954"/>
                </a:cubicBezTo>
                <a:cubicBezTo>
                  <a:pt x="20130" y="12986"/>
                  <a:pt x="20130" y="12997"/>
                  <a:pt x="20130" y="13018"/>
                </a:cubicBezTo>
                <a:cubicBezTo>
                  <a:pt x="20177" y="13002"/>
                  <a:pt x="20156" y="12986"/>
                  <a:pt x="20225" y="12986"/>
                </a:cubicBezTo>
                <a:cubicBezTo>
                  <a:pt x="20241" y="12938"/>
                  <a:pt x="20263" y="12954"/>
                  <a:pt x="20320" y="12954"/>
                </a:cubicBezTo>
                <a:cubicBezTo>
                  <a:pt x="20373" y="12954"/>
                  <a:pt x="20426" y="12954"/>
                  <a:pt x="20479" y="12954"/>
                </a:cubicBezTo>
              </a:path>
              <a:path w="1303" h="1271">
                <a:moveTo>
                  <a:pt x="20479" y="12351"/>
                </a:moveTo>
                <a:cubicBezTo>
                  <a:pt x="20457" y="12458"/>
                  <a:pt x="20447" y="12553"/>
                  <a:pt x="20447" y="12668"/>
                </a:cubicBezTo>
                <a:cubicBezTo>
                  <a:pt x="20447" y="12901"/>
                  <a:pt x="20447" y="13134"/>
                  <a:pt x="20447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3"/>
          <p:cNvSpPr/>
          <p:nvPr/>
        </p:nvSpPr>
        <p:spPr>
          <a:xfrm>
            <a:off x="7578720" y="4411800"/>
            <a:ext cx="446040" cy="423720"/>
          </a:xfrm>
          <a:custGeom>
            <a:avLst/>
            <a:gdLst/>
            <a:ahLst/>
            <a:rect l="l" t="t" r="r" b="b"/>
            <a:pathLst>
              <a:path w="1239" h="1175">
                <a:moveTo>
                  <a:pt x="21050" y="12732"/>
                </a:moveTo>
                <a:cubicBezTo>
                  <a:pt x="21115" y="12732"/>
                  <a:pt x="21125" y="12717"/>
                  <a:pt x="21177" y="12700"/>
                </a:cubicBezTo>
                <a:cubicBezTo>
                  <a:pt x="21224" y="12684"/>
                  <a:pt x="21249" y="12668"/>
                  <a:pt x="21304" y="12668"/>
                </a:cubicBezTo>
              </a:path>
              <a:path w="1239" h="1175">
                <a:moveTo>
                  <a:pt x="21558" y="12541"/>
                </a:moveTo>
                <a:cubicBezTo>
                  <a:pt x="21610" y="12558"/>
                  <a:pt x="21590" y="12603"/>
                  <a:pt x="21590" y="12668"/>
                </a:cubicBezTo>
                <a:cubicBezTo>
                  <a:pt x="21590" y="12720"/>
                  <a:pt x="21573" y="12837"/>
                  <a:pt x="21558" y="12890"/>
                </a:cubicBezTo>
                <a:cubicBezTo>
                  <a:pt x="21543" y="12942"/>
                  <a:pt x="21524" y="12978"/>
                  <a:pt x="21495" y="13018"/>
                </a:cubicBezTo>
                <a:cubicBezTo>
                  <a:pt x="21515" y="12990"/>
                  <a:pt x="21545" y="12928"/>
                  <a:pt x="21558" y="12922"/>
                </a:cubicBezTo>
                <a:cubicBezTo>
                  <a:pt x="21599" y="12902"/>
                  <a:pt x="21634" y="12890"/>
                  <a:pt x="21685" y="12890"/>
                </a:cubicBezTo>
                <a:cubicBezTo>
                  <a:pt x="21740" y="12890"/>
                  <a:pt x="21736" y="12892"/>
                  <a:pt x="21780" y="12859"/>
                </a:cubicBezTo>
              </a:path>
              <a:path w="1239" h="1175">
                <a:moveTo>
                  <a:pt x="21844" y="12446"/>
                </a:moveTo>
                <a:cubicBezTo>
                  <a:pt x="21792" y="12481"/>
                  <a:pt x="21812" y="12586"/>
                  <a:pt x="21812" y="12668"/>
                </a:cubicBezTo>
                <a:cubicBezTo>
                  <a:pt x="21812" y="12922"/>
                  <a:pt x="21812" y="13176"/>
                  <a:pt x="21812" y="13430"/>
                </a:cubicBezTo>
              </a:path>
              <a:path w="1239" h="1175">
                <a:moveTo>
                  <a:pt x="21971" y="12510"/>
                </a:moveTo>
                <a:cubicBezTo>
                  <a:pt x="21986" y="12554"/>
                  <a:pt x="22027" y="12555"/>
                  <a:pt x="22003" y="12636"/>
                </a:cubicBezTo>
                <a:cubicBezTo>
                  <a:pt x="21982" y="12707"/>
                  <a:pt x="21971" y="12752"/>
                  <a:pt x="21971" y="12827"/>
                </a:cubicBezTo>
                <a:cubicBezTo>
                  <a:pt x="21971" y="12887"/>
                  <a:pt x="21988" y="12815"/>
                  <a:pt x="22003" y="12795"/>
                </a:cubicBezTo>
                <a:cubicBezTo>
                  <a:pt x="22042" y="12742"/>
                  <a:pt x="22069" y="12732"/>
                  <a:pt x="22130" y="12732"/>
                </a:cubicBezTo>
                <a:cubicBezTo>
                  <a:pt x="22187" y="12732"/>
                  <a:pt x="22207" y="12752"/>
                  <a:pt x="22257" y="12764"/>
                </a:cubicBezTo>
              </a:path>
              <a:path w="1239" h="1175">
                <a:moveTo>
                  <a:pt x="22288" y="12256"/>
                </a:moveTo>
                <a:cubicBezTo>
                  <a:pt x="22288" y="12542"/>
                  <a:pt x="22288" y="12827"/>
                  <a:pt x="2228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4"/>
          <p:cNvSpPr/>
          <p:nvPr/>
        </p:nvSpPr>
        <p:spPr>
          <a:xfrm>
            <a:off x="7304040" y="4925880"/>
            <a:ext cx="1189080" cy="560520"/>
          </a:xfrm>
          <a:custGeom>
            <a:avLst/>
            <a:gdLst/>
            <a:ahLst/>
            <a:rect l="l" t="t" r="r" b="b"/>
            <a:pathLst>
              <a:path w="3303" h="1557">
                <a:moveTo>
                  <a:pt x="20320" y="14478"/>
                </a:moveTo>
                <a:cubicBezTo>
                  <a:pt x="20264" y="14459"/>
                  <a:pt x="20298" y="14433"/>
                  <a:pt x="20320" y="14383"/>
                </a:cubicBezTo>
                <a:cubicBezTo>
                  <a:pt x="20344" y="14328"/>
                  <a:pt x="20378" y="14266"/>
                  <a:pt x="20415" y="14224"/>
                </a:cubicBezTo>
                <a:cubicBezTo>
                  <a:pt x="20438" y="14197"/>
                  <a:pt x="20504" y="14171"/>
                  <a:pt x="20542" y="14192"/>
                </a:cubicBezTo>
                <a:cubicBezTo>
                  <a:pt x="20574" y="14210"/>
                  <a:pt x="20608" y="14357"/>
                  <a:pt x="20606" y="14383"/>
                </a:cubicBezTo>
                <a:cubicBezTo>
                  <a:pt x="20596" y="14497"/>
                  <a:pt x="20558" y="14619"/>
                  <a:pt x="20542" y="14732"/>
                </a:cubicBezTo>
                <a:cubicBezTo>
                  <a:pt x="20530" y="14822"/>
                  <a:pt x="20506" y="14932"/>
                  <a:pt x="20479" y="15018"/>
                </a:cubicBezTo>
                <a:cubicBezTo>
                  <a:pt x="20462" y="15072"/>
                  <a:pt x="20406" y="15163"/>
                  <a:pt x="20384" y="15208"/>
                </a:cubicBezTo>
                <a:cubicBezTo>
                  <a:pt x="20355" y="15266"/>
                  <a:pt x="20327" y="15262"/>
                  <a:pt x="20352" y="15208"/>
                </a:cubicBezTo>
                <a:cubicBezTo>
                  <a:pt x="20381" y="15145"/>
                  <a:pt x="20382" y="15103"/>
                  <a:pt x="20447" y="15081"/>
                </a:cubicBezTo>
                <a:cubicBezTo>
                  <a:pt x="20478" y="15071"/>
                  <a:pt x="20535" y="15029"/>
                  <a:pt x="20574" y="15050"/>
                </a:cubicBezTo>
                <a:cubicBezTo>
                  <a:pt x="20603" y="15066"/>
                  <a:pt x="20719" y="15092"/>
                  <a:pt x="20733" y="15113"/>
                </a:cubicBezTo>
                <a:cubicBezTo>
                  <a:pt x="20761" y="15154"/>
                  <a:pt x="20737" y="15158"/>
                  <a:pt x="20796" y="15113"/>
                </a:cubicBezTo>
              </a:path>
              <a:path w="3303" h="1557">
                <a:moveTo>
                  <a:pt x="21018" y="14192"/>
                </a:moveTo>
                <a:cubicBezTo>
                  <a:pt x="20981" y="14256"/>
                  <a:pt x="20938" y="14366"/>
                  <a:pt x="20923" y="14446"/>
                </a:cubicBezTo>
                <a:cubicBezTo>
                  <a:pt x="20903" y="14552"/>
                  <a:pt x="20892" y="14654"/>
                  <a:pt x="20892" y="14764"/>
                </a:cubicBezTo>
                <a:cubicBezTo>
                  <a:pt x="20892" y="14853"/>
                  <a:pt x="20929" y="14921"/>
                  <a:pt x="20987" y="14986"/>
                </a:cubicBezTo>
                <a:cubicBezTo>
                  <a:pt x="21047" y="15054"/>
                  <a:pt x="21056" y="14999"/>
                  <a:pt x="21114" y="14986"/>
                </a:cubicBezTo>
                <a:cubicBezTo>
                  <a:pt x="21184" y="14971"/>
                  <a:pt x="21249" y="14945"/>
                  <a:pt x="21272" y="14859"/>
                </a:cubicBezTo>
                <a:cubicBezTo>
                  <a:pt x="21295" y="14771"/>
                  <a:pt x="21304" y="14706"/>
                  <a:pt x="21304" y="14605"/>
                </a:cubicBezTo>
                <a:cubicBezTo>
                  <a:pt x="21304" y="14489"/>
                  <a:pt x="21232" y="14423"/>
                  <a:pt x="21209" y="14319"/>
                </a:cubicBezTo>
                <a:cubicBezTo>
                  <a:pt x="21189" y="14227"/>
                  <a:pt x="21173" y="14219"/>
                  <a:pt x="21082" y="14192"/>
                </a:cubicBezTo>
                <a:cubicBezTo>
                  <a:pt x="21030" y="14176"/>
                  <a:pt x="20998" y="14213"/>
                  <a:pt x="20955" y="14224"/>
                </a:cubicBezTo>
              </a:path>
              <a:path w="3303" h="1557">
                <a:moveTo>
                  <a:pt x="21400" y="14288"/>
                </a:moveTo>
                <a:cubicBezTo>
                  <a:pt x="21495" y="14288"/>
                  <a:pt x="21590" y="14288"/>
                  <a:pt x="21685" y="14288"/>
                </a:cubicBezTo>
              </a:path>
              <a:path w="3303" h="1557">
                <a:moveTo>
                  <a:pt x="21526" y="14637"/>
                </a:moveTo>
                <a:cubicBezTo>
                  <a:pt x="21516" y="14637"/>
                  <a:pt x="21505" y="14637"/>
                  <a:pt x="21495" y="14637"/>
                </a:cubicBezTo>
                <a:cubicBezTo>
                  <a:pt x="21552" y="14637"/>
                  <a:pt x="21571" y="14662"/>
                  <a:pt x="21622" y="14668"/>
                </a:cubicBezTo>
                <a:cubicBezTo>
                  <a:pt x="21673" y="14673"/>
                  <a:pt x="21729" y="14668"/>
                  <a:pt x="21780" y="14668"/>
                </a:cubicBezTo>
              </a:path>
              <a:path w="3303" h="1557">
                <a:moveTo>
                  <a:pt x="22066" y="13811"/>
                </a:moveTo>
                <a:cubicBezTo>
                  <a:pt x="22066" y="13976"/>
                  <a:pt x="22060" y="14132"/>
                  <a:pt x="22034" y="14288"/>
                </a:cubicBezTo>
                <a:cubicBezTo>
                  <a:pt x="22024" y="14347"/>
                  <a:pt x="22034" y="14419"/>
                  <a:pt x="22034" y="14478"/>
                </a:cubicBezTo>
                <a:cubicBezTo>
                  <a:pt x="22059" y="14453"/>
                  <a:pt x="22122" y="14387"/>
                  <a:pt x="22130" y="14383"/>
                </a:cubicBezTo>
                <a:cubicBezTo>
                  <a:pt x="22186" y="14356"/>
                  <a:pt x="22248" y="14401"/>
                  <a:pt x="22288" y="14414"/>
                </a:cubicBezTo>
                <a:cubicBezTo>
                  <a:pt x="22331" y="14428"/>
                  <a:pt x="22326" y="14465"/>
                  <a:pt x="22352" y="14478"/>
                </a:cubicBezTo>
                <a:cubicBezTo>
                  <a:pt x="22363" y="14478"/>
                  <a:pt x="22373" y="14478"/>
                  <a:pt x="22384" y="14478"/>
                </a:cubicBezTo>
              </a:path>
              <a:path w="3303" h="1557">
                <a:moveTo>
                  <a:pt x="22352" y="13684"/>
                </a:moveTo>
                <a:cubicBezTo>
                  <a:pt x="22352" y="13889"/>
                  <a:pt x="22367" y="14087"/>
                  <a:pt x="22384" y="14288"/>
                </a:cubicBezTo>
                <a:cubicBezTo>
                  <a:pt x="22398" y="14453"/>
                  <a:pt x="22390" y="14633"/>
                  <a:pt x="22416" y="14796"/>
                </a:cubicBezTo>
                <a:cubicBezTo>
                  <a:pt x="22421" y="14827"/>
                  <a:pt x="22451" y="15000"/>
                  <a:pt x="22479" y="15018"/>
                </a:cubicBezTo>
                <a:cubicBezTo>
                  <a:pt x="22490" y="15018"/>
                  <a:pt x="22500" y="15018"/>
                  <a:pt x="22511" y="15018"/>
                </a:cubicBezTo>
              </a:path>
              <a:path w="3303" h="1557">
                <a:moveTo>
                  <a:pt x="22638" y="14065"/>
                </a:moveTo>
                <a:cubicBezTo>
                  <a:pt x="22654" y="14128"/>
                  <a:pt x="22655" y="14186"/>
                  <a:pt x="22670" y="14256"/>
                </a:cubicBezTo>
                <a:cubicBezTo>
                  <a:pt x="22691" y="14354"/>
                  <a:pt x="22711" y="14447"/>
                  <a:pt x="22733" y="14542"/>
                </a:cubicBezTo>
                <a:cubicBezTo>
                  <a:pt x="22746" y="14597"/>
                  <a:pt x="22710" y="14587"/>
                  <a:pt x="22765" y="14605"/>
                </a:cubicBezTo>
                <a:cubicBezTo>
                  <a:pt x="22765" y="14391"/>
                  <a:pt x="22754" y="14174"/>
                  <a:pt x="22796" y="13970"/>
                </a:cubicBezTo>
                <a:cubicBezTo>
                  <a:pt x="22806" y="13922"/>
                  <a:pt x="22823" y="13911"/>
                  <a:pt x="22860" y="13875"/>
                </a:cubicBezTo>
                <a:cubicBezTo>
                  <a:pt x="22930" y="13943"/>
                  <a:pt x="22972" y="14029"/>
                  <a:pt x="22987" y="14129"/>
                </a:cubicBezTo>
                <a:cubicBezTo>
                  <a:pt x="23004" y="14241"/>
                  <a:pt x="23011" y="14366"/>
                  <a:pt x="23019" y="14478"/>
                </a:cubicBezTo>
                <a:cubicBezTo>
                  <a:pt x="23023" y="14532"/>
                  <a:pt x="23003" y="14526"/>
                  <a:pt x="23050" y="14542"/>
                </a:cubicBezTo>
                <a:cubicBezTo>
                  <a:pt x="23050" y="14336"/>
                  <a:pt x="23060" y="14138"/>
                  <a:pt x="23082" y="13938"/>
                </a:cubicBezTo>
                <a:cubicBezTo>
                  <a:pt x="23093" y="13842"/>
                  <a:pt x="23093" y="13790"/>
                  <a:pt x="23178" y="13748"/>
                </a:cubicBezTo>
                <a:cubicBezTo>
                  <a:pt x="23240" y="13811"/>
                  <a:pt x="23262" y="13877"/>
                  <a:pt x="23273" y="13970"/>
                </a:cubicBezTo>
                <a:cubicBezTo>
                  <a:pt x="23288" y="14097"/>
                  <a:pt x="23291" y="14229"/>
                  <a:pt x="23336" y="14351"/>
                </a:cubicBezTo>
                <a:cubicBezTo>
                  <a:pt x="23351" y="14392"/>
                  <a:pt x="23379" y="14495"/>
                  <a:pt x="23432" y="14510"/>
                </a:cubicBezTo>
                <a:cubicBezTo>
                  <a:pt x="23520" y="14535"/>
                  <a:pt x="23556" y="14442"/>
                  <a:pt x="23590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5"/>
          <p:cNvSpPr/>
          <p:nvPr/>
        </p:nvSpPr>
        <p:spPr>
          <a:xfrm>
            <a:off x="7954920" y="5268960"/>
            <a:ext cx="514440" cy="217440"/>
          </a:xfrm>
          <a:custGeom>
            <a:avLst/>
            <a:gdLst/>
            <a:ahLst/>
            <a:rect l="l" t="t" r="r" b="b"/>
            <a:pathLst>
              <a:path w="1430" h="604">
                <a:moveTo>
                  <a:pt x="22098" y="15208"/>
                </a:moveTo>
                <a:cubicBezTo>
                  <a:pt x="22098" y="15280"/>
                  <a:pt x="22125" y="15161"/>
                  <a:pt x="22162" y="15145"/>
                </a:cubicBezTo>
                <a:cubicBezTo>
                  <a:pt x="22231" y="15116"/>
                  <a:pt x="22278" y="15089"/>
                  <a:pt x="22352" y="15050"/>
                </a:cubicBezTo>
                <a:cubicBezTo>
                  <a:pt x="22440" y="15004"/>
                  <a:pt x="22519" y="14993"/>
                  <a:pt x="22606" y="14954"/>
                </a:cubicBezTo>
                <a:cubicBezTo>
                  <a:pt x="22701" y="14912"/>
                  <a:pt x="22794" y="14863"/>
                  <a:pt x="22892" y="14827"/>
                </a:cubicBezTo>
                <a:cubicBezTo>
                  <a:pt x="23004" y="14785"/>
                  <a:pt x="23088" y="14694"/>
                  <a:pt x="23209" y="14668"/>
                </a:cubicBezTo>
                <a:cubicBezTo>
                  <a:pt x="23311" y="14646"/>
                  <a:pt x="23361" y="14660"/>
                  <a:pt x="23463" y="14668"/>
                </a:cubicBezTo>
                <a:cubicBezTo>
                  <a:pt x="23495" y="14668"/>
                  <a:pt x="23506" y="14668"/>
                  <a:pt x="23527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16"/>
          <p:cNvSpPr/>
          <p:nvPr/>
        </p:nvSpPr>
        <p:spPr>
          <a:xfrm>
            <a:off x="8218440" y="5394240"/>
            <a:ext cx="114480" cy="160560"/>
          </a:xfrm>
          <a:custGeom>
            <a:avLst/>
            <a:gdLst/>
            <a:ahLst/>
            <a:rect l="l" t="t" r="r" b="b"/>
            <a:pathLst>
              <a:path w="319" h="445">
                <a:moveTo>
                  <a:pt x="22860" y="14986"/>
                </a:moveTo>
                <a:cubicBezTo>
                  <a:pt x="22818" y="15042"/>
                  <a:pt x="22828" y="15070"/>
                  <a:pt x="22828" y="15145"/>
                </a:cubicBezTo>
                <a:cubicBezTo>
                  <a:pt x="22828" y="15236"/>
                  <a:pt x="22822" y="15401"/>
                  <a:pt x="22828" y="15399"/>
                </a:cubicBezTo>
                <a:cubicBezTo>
                  <a:pt x="22839" y="15399"/>
                  <a:pt x="22849" y="15399"/>
                  <a:pt x="22860" y="15399"/>
                </a:cubicBezTo>
                <a:cubicBezTo>
                  <a:pt x="22868" y="15376"/>
                  <a:pt x="22915" y="15321"/>
                  <a:pt x="22955" y="15304"/>
                </a:cubicBezTo>
                <a:cubicBezTo>
                  <a:pt x="22986" y="15290"/>
                  <a:pt x="23051" y="15276"/>
                  <a:pt x="23082" y="15272"/>
                </a:cubicBezTo>
                <a:cubicBezTo>
                  <a:pt x="23118" y="15272"/>
                  <a:pt x="23132" y="15269"/>
                  <a:pt x="23146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17"/>
          <p:cNvSpPr/>
          <p:nvPr/>
        </p:nvSpPr>
        <p:spPr>
          <a:xfrm>
            <a:off x="8321760" y="5315040"/>
            <a:ext cx="22320" cy="366480"/>
          </a:xfrm>
          <a:custGeom>
            <a:avLst/>
            <a:gdLst/>
            <a:ahLst/>
            <a:rect l="l" t="t" r="r" b="b"/>
            <a:pathLst>
              <a:path w="65" h="1017">
                <a:moveTo>
                  <a:pt x="23146" y="14764"/>
                </a:moveTo>
                <a:cubicBezTo>
                  <a:pt x="23094" y="14781"/>
                  <a:pt x="23114" y="14826"/>
                  <a:pt x="23114" y="14891"/>
                </a:cubicBezTo>
                <a:cubicBezTo>
                  <a:pt x="23114" y="15118"/>
                  <a:pt x="23119" y="15342"/>
                  <a:pt x="23146" y="15558"/>
                </a:cubicBezTo>
                <a:cubicBezTo>
                  <a:pt x="23158" y="15656"/>
                  <a:pt x="23144" y="15690"/>
                  <a:pt x="23178" y="15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8"/>
          <p:cNvSpPr/>
          <p:nvPr/>
        </p:nvSpPr>
        <p:spPr>
          <a:xfrm>
            <a:off x="7280280" y="5418000"/>
            <a:ext cx="309600" cy="125640"/>
          </a:xfrm>
          <a:custGeom>
            <a:avLst/>
            <a:gdLst/>
            <a:ahLst/>
            <a:rect l="l" t="t" r="r" b="b"/>
            <a:pathLst>
              <a:path w="858" h="350">
                <a:moveTo>
                  <a:pt x="20256" y="15399"/>
                </a:moveTo>
                <a:cubicBezTo>
                  <a:pt x="20225" y="15399"/>
                  <a:pt x="20214" y="15399"/>
                  <a:pt x="20225" y="15367"/>
                </a:cubicBezTo>
                <a:cubicBezTo>
                  <a:pt x="20286" y="15367"/>
                  <a:pt x="20326" y="15339"/>
                  <a:pt x="20384" y="15335"/>
                </a:cubicBezTo>
                <a:cubicBezTo>
                  <a:pt x="20462" y="15330"/>
                  <a:pt x="20538" y="15296"/>
                  <a:pt x="20606" y="15272"/>
                </a:cubicBezTo>
                <a:cubicBezTo>
                  <a:pt x="20704" y="15237"/>
                  <a:pt x="20764" y="15140"/>
                  <a:pt x="20860" y="15113"/>
                </a:cubicBezTo>
                <a:cubicBezTo>
                  <a:pt x="20922" y="15096"/>
                  <a:pt x="20984" y="15056"/>
                  <a:pt x="21050" y="15050"/>
                </a:cubicBezTo>
                <a:cubicBezTo>
                  <a:pt x="21061" y="15050"/>
                  <a:pt x="21071" y="15050"/>
                  <a:pt x="21082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9"/>
          <p:cNvSpPr/>
          <p:nvPr/>
        </p:nvSpPr>
        <p:spPr>
          <a:xfrm>
            <a:off x="7451640" y="5578560"/>
            <a:ext cx="115920" cy="136440"/>
          </a:xfrm>
          <a:custGeom>
            <a:avLst/>
            <a:gdLst/>
            <a:ahLst/>
            <a:rect l="l" t="t" r="r" b="b"/>
            <a:pathLst>
              <a:path w="318" h="382">
                <a:moveTo>
                  <a:pt x="20733" y="15494"/>
                </a:moveTo>
                <a:cubicBezTo>
                  <a:pt x="20722" y="15494"/>
                  <a:pt x="20712" y="15494"/>
                  <a:pt x="20701" y="15494"/>
                </a:cubicBezTo>
                <a:cubicBezTo>
                  <a:pt x="20717" y="15559"/>
                  <a:pt x="20733" y="15575"/>
                  <a:pt x="20733" y="15653"/>
                </a:cubicBezTo>
                <a:cubicBezTo>
                  <a:pt x="20733" y="15722"/>
                  <a:pt x="20759" y="15856"/>
                  <a:pt x="20701" y="15875"/>
                </a:cubicBezTo>
                <a:cubicBezTo>
                  <a:pt x="20717" y="15827"/>
                  <a:pt x="20729" y="15838"/>
                  <a:pt x="20764" y="15812"/>
                </a:cubicBezTo>
                <a:cubicBezTo>
                  <a:pt x="20815" y="15773"/>
                  <a:pt x="20846" y="15806"/>
                  <a:pt x="20892" y="15780"/>
                </a:cubicBezTo>
                <a:cubicBezTo>
                  <a:pt x="20939" y="15753"/>
                  <a:pt x="20974" y="15749"/>
                  <a:pt x="21018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20"/>
          <p:cNvSpPr/>
          <p:nvPr/>
        </p:nvSpPr>
        <p:spPr>
          <a:xfrm>
            <a:off x="7543800" y="5497560"/>
            <a:ext cx="34920" cy="320760"/>
          </a:xfrm>
          <a:custGeom>
            <a:avLst/>
            <a:gdLst/>
            <a:ahLst/>
            <a:rect l="l" t="t" r="r" b="b"/>
            <a:pathLst>
              <a:path w="96" h="890">
                <a:moveTo>
                  <a:pt x="20987" y="15272"/>
                </a:moveTo>
                <a:cubicBezTo>
                  <a:pt x="20937" y="15338"/>
                  <a:pt x="20955" y="15407"/>
                  <a:pt x="20955" y="15494"/>
                </a:cubicBezTo>
                <a:cubicBezTo>
                  <a:pt x="20955" y="15621"/>
                  <a:pt x="20964" y="15782"/>
                  <a:pt x="20987" y="15907"/>
                </a:cubicBezTo>
                <a:cubicBezTo>
                  <a:pt x="21003" y="15996"/>
                  <a:pt x="21040" y="16071"/>
                  <a:pt x="21050" y="16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21"/>
          <p:cNvSpPr/>
          <p:nvPr/>
        </p:nvSpPr>
        <p:spPr>
          <a:xfrm>
            <a:off x="7669080" y="5851440"/>
            <a:ext cx="331920" cy="274680"/>
          </a:xfrm>
          <a:custGeom>
            <a:avLst/>
            <a:gdLst/>
            <a:ahLst/>
            <a:rect l="l" t="t" r="r" b="b"/>
            <a:pathLst>
              <a:path w="922" h="763">
                <a:moveTo>
                  <a:pt x="21336" y="16510"/>
                </a:moveTo>
                <a:cubicBezTo>
                  <a:pt x="21305" y="16526"/>
                  <a:pt x="21343" y="16575"/>
                  <a:pt x="21368" y="16637"/>
                </a:cubicBezTo>
                <a:cubicBezTo>
                  <a:pt x="21402" y="16721"/>
                  <a:pt x="21424" y="16805"/>
                  <a:pt x="21431" y="16891"/>
                </a:cubicBezTo>
                <a:cubicBezTo>
                  <a:pt x="21434" y="16932"/>
                  <a:pt x="21453" y="16947"/>
                  <a:pt x="21463" y="16986"/>
                </a:cubicBezTo>
                <a:cubicBezTo>
                  <a:pt x="21440" y="16978"/>
                  <a:pt x="21406" y="16928"/>
                  <a:pt x="21400" y="16891"/>
                </a:cubicBezTo>
                <a:cubicBezTo>
                  <a:pt x="21382" y="16774"/>
                  <a:pt x="21368" y="16662"/>
                  <a:pt x="21368" y="16542"/>
                </a:cubicBezTo>
                <a:cubicBezTo>
                  <a:pt x="21368" y="16497"/>
                  <a:pt x="21374" y="16382"/>
                  <a:pt x="21400" y="16351"/>
                </a:cubicBezTo>
                <a:cubicBezTo>
                  <a:pt x="21420" y="16327"/>
                  <a:pt x="21448" y="16320"/>
                  <a:pt x="21495" y="16320"/>
                </a:cubicBezTo>
                <a:cubicBezTo>
                  <a:pt x="21571" y="16320"/>
                  <a:pt x="21593" y="16420"/>
                  <a:pt x="21622" y="16478"/>
                </a:cubicBezTo>
                <a:cubicBezTo>
                  <a:pt x="21669" y="16571"/>
                  <a:pt x="21651" y="16672"/>
                  <a:pt x="21685" y="16764"/>
                </a:cubicBezTo>
                <a:cubicBezTo>
                  <a:pt x="21714" y="16793"/>
                  <a:pt x="21725" y="16799"/>
                  <a:pt x="21717" y="16828"/>
                </a:cubicBezTo>
                <a:cubicBezTo>
                  <a:pt x="21717" y="16683"/>
                  <a:pt x="21717" y="16551"/>
                  <a:pt x="21749" y="16415"/>
                </a:cubicBezTo>
                <a:cubicBezTo>
                  <a:pt x="21768" y="16333"/>
                  <a:pt x="21748" y="16321"/>
                  <a:pt x="21812" y="16256"/>
                </a:cubicBezTo>
                <a:cubicBezTo>
                  <a:pt x="21882" y="16274"/>
                  <a:pt x="21904" y="16317"/>
                  <a:pt x="21939" y="16383"/>
                </a:cubicBezTo>
                <a:cubicBezTo>
                  <a:pt x="21999" y="16495"/>
                  <a:pt x="22008" y="16581"/>
                  <a:pt x="22034" y="16700"/>
                </a:cubicBezTo>
                <a:cubicBezTo>
                  <a:pt x="22051" y="16778"/>
                  <a:pt x="22098" y="16918"/>
                  <a:pt x="22130" y="16986"/>
                </a:cubicBezTo>
                <a:cubicBezTo>
                  <a:pt x="22151" y="17030"/>
                  <a:pt x="22187" y="17018"/>
                  <a:pt x="22225" y="17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22"/>
          <p:cNvSpPr/>
          <p:nvPr/>
        </p:nvSpPr>
        <p:spPr>
          <a:xfrm>
            <a:off x="8047080" y="5908680"/>
            <a:ext cx="79200" cy="23760"/>
          </a:xfrm>
          <a:custGeom>
            <a:avLst/>
            <a:gdLst/>
            <a:ahLst/>
            <a:rect l="l" t="t" r="r" b="b"/>
            <a:pathLst>
              <a:path w="223" h="64">
                <a:moveTo>
                  <a:pt x="22384" y="16478"/>
                </a:moveTo>
                <a:cubicBezTo>
                  <a:pt x="22373" y="16478"/>
                  <a:pt x="22363" y="16478"/>
                  <a:pt x="22352" y="16478"/>
                </a:cubicBezTo>
                <a:cubicBezTo>
                  <a:pt x="22411" y="16478"/>
                  <a:pt x="22427" y="16452"/>
                  <a:pt x="22479" y="16446"/>
                </a:cubicBezTo>
                <a:cubicBezTo>
                  <a:pt x="22520" y="16441"/>
                  <a:pt x="22535" y="16425"/>
                  <a:pt x="22574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23"/>
          <p:cNvSpPr/>
          <p:nvPr/>
        </p:nvSpPr>
        <p:spPr>
          <a:xfrm>
            <a:off x="8058240" y="6046920"/>
            <a:ext cx="81000" cy="21960"/>
          </a:xfrm>
          <a:custGeom>
            <a:avLst/>
            <a:gdLst/>
            <a:ahLst/>
            <a:rect l="l" t="t" r="r" b="b"/>
            <a:pathLst>
              <a:path w="223" h="64">
                <a:moveTo>
                  <a:pt x="22416" y="16859"/>
                </a:moveTo>
                <a:cubicBezTo>
                  <a:pt x="22405" y="16859"/>
                  <a:pt x="22395" y="16859"/>
                  <a:pt x="22384" y="16859"/>
                </a:cubicBezTo>
                <a:cubicBezTo>
                  <a:pt x="22443" y="16859"/>
                  <a:pt x="22465" y="16838"/>
                  <a:pt x="22511" y="16828"/>
                </a:cubicBezTo>
                <a:cubicBezTo>
                  <a:pt x="22568" y="16828"/>
                  <a:pt x="22585" y="16832"/>
                  <a:pt x="22606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24"/>
          <p:cNvSpPr/>
          <p:nvPr/>
        </p:nvSpPr>
        <p:spPr>
          <a:xfrm>
            <a:off x="8229600" y="5657760"/>
            <a:ext cx="206280" cy="514440"/>
          </a:xfrm>
          <a:custGeom>
            <a:avLst/>
            <a:gdLst/>
            <a:ahLst/>
            <a:rect l="l" t="t" r="r" b="b"/>
            <a:pathLst>
              <a:path w="573" h="1430">
                <a:moveTo>
                  <a:pt x="23241" y="15716"/>
                </a:moveTo>
                <a:cubicBezTo>
                  <a:pt x="23231" y="15746"/>
                  <a:pt x="23202" y="15803"/>
                  <a:pt x="23178" y="15843"/>
                </a:cubicBezTo>
                <a:cubicBezTo>
                  <a:pt x="23146" y="15896"/>
                  <a:pt x="23044" y="15996"/>
                  <a:pt x="22987" y="16002"/>
                </a:cubicBezTo>
                <a:cubicBezTo>
                  <a:pt x="22978" y="16003"/>
                  <a:pt x="22912" y="15981"/>
                  <a:pt x="22892" y="15970"/>
                </a:cubicBezTo>
                <a:cubicBezTo>
                  <a:pt x="22881" y="15959"/>
                  <a:pt x="22871" y="15949"/>
                  <a:pt x="22860" y="15938"/>
                </a:cubicBezTo>
                <a:cubicBezTo>
                  <a:pt x="22860" y="16042"/>
                  <a:pt x="22879" y="16128"/>
                  <a:pt x="22892" y="16224"/>
                </a:cubicBezTo>
                <a:cubicBezTo>
                  <a:pt x="22904" y="16316"/>
                  <a:pt x="22892" y="16417"/>
                  <a:pt x="22892" y="16510"/>
                </a:cubicBezTo>
                <a:cubicBezTo>
                  <a:pt x="22906" y="16455"/>
                  <a:pt x="22939" y="16404"/>
                  <a:pt x="22955" y="16351"/>
                </a:cubicBezTo>
                <a:cubicBezTo>
                  <a:pt x="22969" y="16305"/>
                  <a:pt x="23011" y="16229"/>
                  <a:pt x="23050" y="16224"/>
                </a:cubicBezTo>
                <a:cubicBezTo>
                  <a:pt x="23119" y="16215"/>
                  <a:pt x="23191" y="16211"/>
                  <a:pt x="23241" y="16256"/>
                </a:cubicBezTo>
                <a:cubicBezTo>
                  <a:pt x="23294" y="16303"/>
                  <a:pt x="23335" y="16384"/>
                  <a:pt x="23368" y="16446"/>
                </a:cubicBezTo>
                <a:cubicBezTo>
                  <a:pt x="23420" y="16545"/>
                  <a:pt x="23432" y="16583"/>
                  <a:pt x="23432" y="16700"/>
                </a:cubicBezTo>
                <a:cubicBezTo>
                  <a:pt x="23432" y="16798"/>
                  <a:pt x="23420" y="16933"/>
                  <a:pt x="23368" y="17018"/>
                </a:cubicBezTo>
                <a:cubicBezTo>
                  <a:pt x="23319" y="17097"/>
                  <a:pt x="23301" y="17137"/>
                  <a:pt x="23209" y="17145"/>
                </a:cubicBezTo>
                <a:cubicBezTo>
                  <a:pt x="23173" y="17148"/>
                  <a:pt x="23097" y="17160"/>
                  <a:pt x="23082" y="17113"/>
                </a:cubicBezTo>
                <a:cubicBezTo>
                  <a:pt x="23066" y="17061"/>
                  <a:pt x="23095" y="16932"/>
                  <a:pt x="23114" y="16891"/>
                </a:cubicBezTo>
                <a:cubicBezTo>
                  <a:pt x="23133" y="16850"/>
                  <a:pt x="23200" y="16799"/>
                  <a:pt x="23241" y="16796"/>
                </a:cubicBezTo>
                <a:cubicBezTo>
                  <a:pt x="23262" y="16796"/>
                  <a:pt x="23283" y="16796"/>
                  <a:pt x="23304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an be used to find a term in a geometric sequence, where a is the first term, r is the common ratio of the terms and n is the ordinal number of the term.  What is the sixth term in the sequence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, 30, 10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2971800" y="380880"/>
                <a:ext cx="2558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·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Ink 4"/>
          <p:cNvSpPr/>
          <p:nvPr/>
        </p:nvSpPr>
        <p:spPr>
          <a:xfrm>
            <a:off x="1565280" y="1554120"/>
            <a:ext cx="4778280" cy="2000160"/>
          </a:xfrm>
          <a:custGeom>
            <a:avLst/>
            <a:gdLst/>
            <a:ahLst/>
            <a:rect l="l" t="t" r="r" b="b"/>
            <a:pathLst>
              <a:path w="13272" h="5557">
                <a:moveTo>
                  <a:pt x="4382" y="9747"/>
                </a:moveTo>
                <a:cubicBezTo>
                  <a:pt x="4371" y="9758"/>
                  <a:pt x="4361" y="9768"/>
                  <a:pt x="4350" y="9779"/>
                </a:cubicBezTo>
              </a:path>
              <a:path w="13272" h="5557">
                <a:moveTo>
                  <a:pt x="4382" y="9747"/>
                </a:moveTo>
                <a:lnTo>
                  <a:pt x="4382" y="9747"/>
                </a:lnTo>
              </a:path>
              <a:path w="13272" h="5557">
                <a:moveTo>
                  <a:pt x="4604" y="9874"/>
                </a:moveTo>
                <a:cubicBezTo>
                  <a:pt x="4791" y="9759"/>
                  <a:pt x="4936" y="9669"/>
                  <a:pt x="5112" y="9525"/>
                </a:cubicBezTo>
                <a:cubicBezTo>
                  <a:pt x="5281" y="9387"/>
                  <a:pt x="5445" y="9226"/>
                  <a:pt x="5620" y="9080"/>
                </a:cubicBezTo>
                <a:cubicBezTo>
                  <a:pt x="6202" y="8595"/>
                  <a:pt x="6779" y="8163"/>
                  <a:pt x="7430" y="7779"/>
                </a:cubicBezTo>
                <a:cubicBezTo>
                  <a:pt x="7763" y="7582"/>
                  <a:pt x="8098" y="7434"/>
                  <a:pt x="8446" y="7271"/>
                </a:cubicBezTo>
                <a:cubicBezTo>
                  <a:pt x="9842" y="6617"/>
                  <a:pt x="11374" y="6064"/>
                  <a:pt x="12827" y="5556"/>
                </a:cubicBezTo>
                <a:cubicBezTo>
                  <a:pt x="13333" y="5379"/>
                  <a:pt x="13821" y="5152"/>
                  <a:pt x="14319" y="4953"/>
                </a:cubicBezTo>
                <a:cubicBezTo>
                  <a:pt x="14746" y="4782"/>
                  <a:pt x="15182" y="4641"/>
                  <a:pt x="15621" y="4508"/>
                </a:cubicBezTo>
                <a:cubicBezTo>
                  <a:pt x="16312" y="4299"/>
                  <a:pt x="16917" y="4311"/>
                  <a:pt x="17621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5"/>
          <p:cNvSpPr/>
          <p:nvPr/>
        </p:nvSpPr>
        <p:spPr>
          <a:xfrm>
            <a:off x="1886040" y="3714840"/>
            <a:ext cx="2081160" cy="1200240"/>
          </a:xfrm>
          <a:custGeom>
            <a:avLst/>
            <a:gdLst/>
            <a:ahLst/>
            <a:rect l="l" t="t" r="r" b="b"/>
            <a:pathLst>
              <a:path w="5779" h="3334">
                <a:moveTo>
                  <a:pt x="5683" y="12002"/>
                </a:moveTo>
                <a:cubicBezTo>
                  <a:pt x="5683" y="11939"/>
                  <a:pt x="5705" y="11891"/>
                  <a:pt x="5715" y="11843"/>
                </a:cubicBezTo>
                <a:cubicBezTo>
                  <a:pt x="5733" y="11753"/>
                  <a:pt x="5736" y="11561"/>
                  <a:pt x="5683" y="11494"/>
                </a:cubicBezTo>
                <a:cubicBezTo>
                  <a:pt x="5649" y="11452"/>
                  <a:pt x="5585" y="11382"/>
                  <a:pt x="5524" y="11398"/>
                </a:cubicBezTo>
                <a:cubicBezTo>
                  <a:pt x="5414" y="11428"/>
                  <a:pt x="5348" y="11521"/>
                  <a:pt x="5302" y="11620"/>
                </a:cubicBezTo>
                <a:cubicBezTo>
                  <a:pt x="5257" y="11717"/>
                  <a:pt x="5211" y="11861"/>
                  <a:pt x="5239" y="11970"/>
                </a:cubicBezTo>
                <a:cubicBezTo>
                  <a:pt x="5264" y="12068"/>
                  <a:pt x="5304" y="12120"/>
                  <a:pt x="5398" y="12128"/>
                </a:cubicBezTo>
                <a:cubicBezTo>
                  <a:pt x="5505" y="12137"/>
                  <a:pt x="5534" y="12034"/>
                  <a:pt x="5588" y="11970"/>
                </a:cubicBezTo>
                <a:cubicBezTo>
                  <a:pt x="5646" y="11900"/>
                  <a:pt x="5674" y="11842"/>
                  <a:pt x="5683" y="11748"/>
                </a:cubicBezTo>
                <a:cubicBezTo>
                  <a:pt x="5683" y="11716"/>
                  <a:pt x="5683" y="11705"/>
                  <a:pt x="5683" y="11748"/>
                </a:cubicBezTo>
                <a:cubicBezTo>
                  <a:pt x="5683" y="11850"/>
                  <a:pt x="5663" y="11936"/>
                  <a:pt x="5652" y="12033"/>
                </a:cubicBezTo>
                <a:cubicBezTo>
                  <a:pt x="5639" y="12156"/>
                  <a:pt x="5643" y="12293"/>
                  <a:pt x="5620" y="12414"/>
                </a:cubicBezTo>
                <a:cubicBezTo>
                  <a:pt x="5603" y="12508"/>
                  <a:pt x="5588" y="12572"/>
                  <a:pt x="5588" y="12668"/>
                </a:cubicBezTo>
                <a:cubicBezTo>
                  <a:pt x="5588" y="12737"/>
                  <a:pt x="5620" y="12745"/>
                  <a:pt x="5620" y="12668"/>
                </a:cubicBezTo>
              </a:path>
              <a:path w="5779" h="3334">
                <a:moveTo>
                  <a:pt x="6064" y="11684"/>
                </a:moveTo>
                <a:cubicBezTo>
                  <a:pt x="6044" y="11764"/>
                  <a:pt x="5994" y="11850"/>
                  <a:pt x="5969" y="11938"/>
                </a:cubicBezTo>
                <a:cubicBezTo>
                  <a:pt x="5926" y="12091"/>
                  <a:pt x="5882" y="12253"/>
                  <a:pt x="5906" y="12414"/>
                </a:cubicBezTo>
                <a:cubicBezTo>
                  <a:pt x="5926" y="12548"/>
                  <a:pt x="5966" y="12702"/>
                  <a:pt x="6096" y="12764"/>
                </a:cubicBezTo>
                <a:cubicBezTo>
                  <a:pt x="6207" y="12817"/>
                  <a:pt x="6383" y="12744"/>
                  <a:pt x="6445" y="12636"/>
                </a:cubicBezTo>
                <a:cubicBezTo>
                  <a:pt x="6529" y="12491"/>
                  <a:pt x="6543" y="12251"/>
                  <a:pt x="6509" y="12097"/>
                </a:cubicBezTo>
                <a:cubicBezTo>
                  <a:pt x="6482" y="11974"/>
                  <a:pt x="6388" y="11852"/>
                  <a:pt x="6286" y="11779"/>
                </a:cubicBezTo>
                <a:cubicBezTo>
                  <a:pt x="6195" y="11714"/>
                  <a:pt x="6131" y="11744"/>
                  <a:pt x="6064" y="11811"/>
                </a:cubicBezTo>
              </a:path>
              <a:path w="5779" h="3334">
                <a:moveTo>
                  <a:pt x="5398" y="10319"/>
                </a:moveTo>
                <a:cubicBezTo>
                  <a:pt x="5398" y="10405"/>
                  <a:pt x="5379" y="10463"/>
                  <a:pt x="5366" y="10541"/>
                </a:cubicBezTo>
                <a:cubicBezTo>
                  <a:pt x="5352" y="10624"/>
                  <a:pt x="5339" y="10713"/>
                  <a:pt x="5334" y="10795"/>
                </a:cubicBezTo>
                <a:cubicBezTo>
                  <a:pt x="5334" y="10848"/>
                  <a:pt x="5334" y="10858"/>
                  <a:pt x="5334" y="10890"/>
                </a:cubicBezTo>
              </a:path>
              <a:path w="5779" h="3334">
                <a:moveTo>
                  <a:pt x="5747" y="10414"/>
                </a:moveTo>
                <a:cubicBezTo>
                  <a:pt x="5703" y="10414"/>
                  <a:pt x="5586" y="10420"/>
                  <a:pt x="5556" y="10446"/>
                </a:cubicBezTo>
                <a:cubicBezTo>
                  <a:pt x="5556" y="10478"/>
                  <a:pt x="5556" y="10489"/>
                  <a:pt x="5524" y="10478"/>
                </a:cubicBezTo>
                <a:cubicBezTo>
                  <a:pt x="5569" y="10511"/>
                  <a:pt x="5644" y="10496"/>
                  <a:pt x="5683" y="10541"/>
                </a:cubicBezTo>
                <a:cubicBezTo>
                  <a:pt x="5697" y="10557"/>
                  <a:pt x="5732" y="10638"/>
                  <a:pt x="5715" y="10668"/>
                </a:cubicBezTo>
                <a:cubicBezTo>
                  <a:pt x="5684" y="10724"/>
                  <a:pt x="5644" y="10732"/>
                  <a:pt x="5588" y="10732"/>
                </a:cubicBezTo>
                <a:cubicBezTo>
                  <a:pt x="5521" y="10732"/>
                  <a:pt x="5566" y="10698"/>
                  <a:pt x="5588" y="10668"/>
                </a:cubicBezTo>
              </a:path>
              <a:path w="5779" h="3334">
                <a:moveTo>
                  <a:pt x="5937" y="10446"/>
                </a:moveTo>
                <a:cubicBezTo>
                  <a:pt x="5937" y="10457"/>
                  <a:pt x="5937" y="10467"/>
                  <a:pt x="5937" y="10478"/>
                </a:cubicBezTo>
                <a:cubicBezTo>
                  <a:pt x="5995" y="10497"/>
                  <a:pt x="5943" y="10536"/>
                  <a:pt x="5937" y="10604"/>
                </a:cubicBezTo>
                <a:cubicBezTo>
                  <a:pt x="5931" y="10680"/>
                  <a:pt x="5924" y="10732"/>
                  <a:pt x="5906" y="10795"/>
                </a:cubicBezTo>
                <a:cubicBezTo>
                  <a:pt x="5906" y="10806"/>
                  <a:pt x="5906" y="10816"/>
                  <a:pt x="5906" y="10827"/>
                </a:cubicBezTo>
              </a:path>
              <a:path w="5779" h="3334">
                <a:moveTo>
                  <a:pt x="5810" y="10509"/>
                </a:moveTo>
                <a:cubicBezTo>
                  <a:pt x="5757" y="10509"/>
                  <a:pt x="5855" y="10524"/>
                  <a:pt x="5906" y="10509"/>
                </a:cubicBezTo>
                <a:cubicBezTo>
                  <a:pt x="5998" y="10482"/>
                  <a:pt x="6083" y="10509"/>
                  <a:pt x="6191" y="10509"/>
                </a:cubicBezTo>
                <a:cubicBezTo>
                  <a:pt x="6212" y="10509"/>
                  <a:pt x="6234" y="10509"/>
                  <a:pt x="6255" y="10509"/>
                </a:cubicBezTo>
              </a:path>
              <a:path w="5779" h="3334">
                <a:moveTo>
                  <a:pt x="7048" y="12764"/>
                </a:moveTo>
                <a:cubicBezTo>
                  <a:pt x="7066" y="12833"/>
                  <a:pt x="7107" y="12872"/>
                  <a:pt x="7112" y="12954"/>
                </a:cubicBezTo>
                <a:cubicBezTo>
                  <a:pt x="7118" y="13064"/>
                  <a:pt x="7095" y="13141"/>
                  <a:pt x="7048" y="13240"/>
                </a:cubicBezTo>
                <a:cubicBezTo>
                  <a:pt x="7023" y="13293"/>
                  <a:pt x="6997" y="13317"/>
                  <a:pt x="6985" y="13367"/>
                </a:cubicBezTo>
              </a:path>
              <a:path w="5779" h="3334">
                <a:moveTo>
                  <a:pt x="7684" y="11874"/>
                </a:moveTo>
                <a:cubicBezTo>
                  <a:pt x="7726" y="11860"/>
                  <a:pt x="7724" y="11830"/>
                  <a:pt x="7779" y="11811"/>
                </a:cubicBezTo>
                <a:cubicBezTo>
                  <a:pt x="7846" y="11788"/>
                  <a:pt x="7974" y="11804"/>
                  <a:pt x="8033" y="11843"/>
                </a:cubicBezTo>
                <a:cubicBezTo>
                  <a:pt x="8077" y="11872"/>
                  <a:pt x="8143" y="11946"/>
                  <a:pt x="8128" y="12002"/>
                </a:cubicBezTo>
                <a:cubicBezTo>
                  <a:pt x="8103" y="12096"/>
                  <a:pt x="8042" y="12098"/>
                  <a:pt x="7969" y="12128"/>
                </a:cubicBezTo>
                <a:cubicBezTo>
                  <a:pt x="7890" y="12160"/>
                  <a:pt x="7895" y="12160"/>
                  <a:pt x="7810" y="12160"/>
                </a:cubicBezTo>
                <a:cubicBezTo>
                  <a:pt x="7828" y="12106"/>
                  <a:pt x="7872" y="12128"/>
                  <a:pt x="7938" y="12128"/>
                </a:cubicBezTo>
                <a:cubicBezTo>
                  <a:pt x="8039" y="12128"/>
                  <a:pt x="8066" y="12215"/>
                  <a:pt x="8096" y="12287"/>
                </a:cubicBezTo>
                <a:cubicBezTo>
                  <a:pt x="8123" y="12352"/>
                  <a:pt x="8156" y="12468"/>
                  <a:pt x="8128" y="12541"/>
                </a:cubicBezTo>
                <a:cubicBezTo>
                  <a:pt x="8102" y="12608"/>
                  <a:pt x="8029" y="12656"/>
                  <a:pt x="7969" y="12668"/>
                </a:cubicBezTo>
                <a:cubicBezTo>
                  <a:pt x="7891" y="12684"/>
                  <a:pt x="7809" y="12648"/>
                  <a:pt x="7747" y="12605"/>
                </a:cubicBezTo>
                <a:cubicBezTo>
                  <a:pt x="7707" y="12577"/>
                  <a:pt x="7694" y="12551"/>
                  <a:pt x="7684" y="12510"/>
                </a:cubicBezTo>
              </a:path>
              <a:path w="5779" h="3334">
                <a:moveTo>
                  <a:pt x="8509" y="12097"/>
                </a:moveTo>
                <a:cubicBezTo>
                  <a:pt x="8415" y="12097"/>
                  <a:pt x="8366" y="12132"/>
                  <a:pt x="8318" y="12224"/>
                </a:cubicBezTo>
                <a:cubicBezTo>
                  <a:pt x="8270" y="12316"/>
                  <a:pt x="8227" y="12469"/>
                  <a:pt x="8255" y="12573"/>
                </a:cubicBezTo>
                <a:cubicBezTo>
                  <a:pt x="8284" y="12683"/>
                  <a:pt x="8400" y="12753"/>
                  <a:pt x="8509" y="12732"/>
                </a:cubicBezTo>
                <a:cubicBezTo>
                  <a:pt x="8634" y="12708"/>
                  <a:pt x="8683" y="12593"/>
                  <a:pt x="8700" y="12478"/>
                </a:cubicBezTo>
                <a:cubicBezTo>
                  <a:pt x="8719" y="12353"/>
                  <a:pt x="8690" y="12267"/>
                  <a:pt x="8636" y="12160"/>
                </a:cubicBezTo>
                <a:cubicBezTo>
                  <a:pt x="8590" y="12070"/>
                  <a:pt x="8538" y="12083"/>
                  <a:pt x="8477" y="12097"/>
                </a:cubicBezTo>
                <a:cubicBezTo>
                  <a:pt x="8433" y="12097"/>
                  <a:pt x="8428" y="12109"/>
                  <a:pt x="8477" y="12160"/>
                </a:cubicBezTo>
              </a:path>
              <a:path w="5779" h="3334">
                <a:moveTo>
                  <a:pt x="7430" y="10573"/>
                </a:moveTo>
                <a:cubicBezTo>
                  <a:pt x="7441" y="10530"/>
                  <a:pt x="7477" y="10488"/>
                  <a:pt x="7525" y="10478"/>
                </a:cubicBezTo>
                <a:cubicBezTo>
                  <a:pt x="7583" y="10466"/>
                  <a:pt x="7643" y="10472"/>
                  <a:pt x="7684" y="10509"/>
                </a:cubicBezTo>
                <a:cubicBezTo>
                  <a:pt x="7749" y="10567"/>
                  <a:pt x="7714" y="10664"/>
                  <a:pt x="7684" y="10732"/>
                </a:cubicBezTo>
                <a:cubicBezTo>
                  <a:pt x="7650" y="10809"/>
                  <a:pt x="7611" y="10891"/>
                  <a:pt x="7556" y="10954"/>
                </a:cubicBezTo>
                <a:cubicBezTo>
                  <a:pt x="7522" y="10992"/>
                  <a:pt x="7425" y="11013"/>
                  <a:pt x="7461" y="11049"/>
                </a:cubicBezTo>
                <a:cubicBezTo>
                  <a:pt x="7469" y="11057"/>
                  <a:pt x="7559" y="11017"/>
                  <a:pt x="7588" y="11017"/>
                </a:cubicBezTo>
                <a:cubicBezTo>
                  <a:pt x="7657" y="11017"/>
                  <a:pt x="7666" y="11032"/>
                  <a:pt x="7715" y="11081"/>
                </a:cubicBezTo>
                <a:cubicBezTo>
                  <a:pt x="7758" y="11124"/>
                  <a:pt x="7763" y="11126"/>
                  <a:pt x="7779" y="11081"/>
                </a:cubicBezTo>
              </a:path>
              <a:path w="5779" h="3334">
                <a:moveTo>
                  <a:pt x="7938" y="10573"/>
                </a:moveTo>
                <a:cubicBezTo>
                  <a:pt x="7938" y="10658"/>
                  <a:pt x="7938" y="10742"/>
                  <a:pt x="7938" y="10827"/>
                </a:cubicBezTo>
                <a:cubicBezTo>
                  <a:pt x="7938" y="10741"/>
                  <a:pt x="7945" y="10676"/>
                  <a:pt x="7969" y="10604"/>
                </a:cubicBezTo>
                <a:cubicBezTo>
                  <a:pt x="7969" y="10594"/>
                  <a:pt x="7969" y="10583"/>
                  <a:pt x="7969" y="10573"/>
                </a:cubicBezTo>
                <a:cubicBezTo>
                  <a:pt x="8004" y="10584"/>
                  <a:pt x="8028" y="10595"/>
                  <a:pt x="8033" y="10636"/>
                </a:cubicBezTo>
                <a:cubicBezTo>
                  <a:pt x="8038" y="10676"/>
                  <a:pt x="8040" y="10720"/>
                  <a:pt x="8064" y="10732"/>
                </a:cubicBezTo>
                <a:cubicBezTo>
                  <a:pt x="8075" y="10732"/>
                  <a:pt x="8085" y="10732"/>
                  <a:pt x="8096" y="10732"/>
                </a:cubicBezTo>
                <a:cubicBezTo>
                  <a:pt x="8133" y="10720"/>
                  <a:pt x="8154" y="10688"/>
                  <a:pt x="8160" y="10636"/>
                </a:cubicBezTo>
                <a:cubicBezTo>
                  <a:pt x="8160" y="10625"/>
                  <a:pt x="8160" y="10615"/>
                  <a:pt x="8160" y="10604"/>
                </a:cubicBezTo>
              </a:path>
              <a:path w="5779" h="3334">
                <a:moveTo>
                  <a:pt x="8255" y="10541"/>
                </a:moveTo>
                <a:cubicBezTo>
                  <a:pt x="8255" y="10613"/>
                  <a:pt x="8280" y="10583"/>
                  <a:pt x="8287" y="10636"/>
                </a:cubicBezTo>
                <a:cubicBezTo>
                  <a:pt x="8291" y="10672"/>
                  <a:pt x="8301" y="10764"/>
                  <a:pt x="8318" y="10795"/>
                </a:cubicBezTo>
                <a:cubicBezTo>
                  <a:pt x="8329" y="10806"/>
                  <a:pt x="8339" y="10816"/>
                  <a:pt x="8350" y="10827"/>
                </a:cubicBezTo>
                <a:cubicBezTo>
                  <a:pt x="8319" y="10785"/>
                  <a:pt x="8300" y="10723"/>
                  <a:pt x="8287" y="10668"/>
                </a:cubicBezTo>
                <a:cubicBezTo>
                  <a:pt x="8280" y="10641"/>
                  <a:pt x="8287" y="10601"/>
                  <a:pt x="8287" y="10573"/>
                </a:cubicBezTo>
                <a:cubicBezTo>
                  <a:pt x="8358" y="10573"/>
                  <a:pt x="8387" y="10585"/>
                  <a:pt x="8446" y="10604"/>
                </a:cubicBezTo>
                <a:cubicBezTo>
                  <a:pt x="8471" y="10612"/>
                  <a:pt x="8549" y="10663"/>
                  <a:pt x="8541" y="10700"/>
                </a:cubicBezTo>
                <a:cubicBezTo>
                  <a:pt x="8529" y="10754"/>
                  <a:pt x="8480" y="10772"/>
                  <a:pt x="8446" y="10795"/>
                </a:cubicBezTo>
                <a:cubicBezTo>
                  <a:pt x="8399" y="10827"/>
                  <a:pt x="8407" y="10827"/>
                  <a:pt x="8350" y="10827"/>
                </a:cubicBezTo>
              </a:path>
              <a:path w="5779" h="3334">
                <a:moveTo>
                  <a:pt x="9208" y="12954"/>
                </a:moveTo>
                <a:cubicBezTo>
                  <a:pt x="9208" y="13125"/>
                  <a:pt x="9266" y="13412"/>
                  <a:pt x="9176" y="13557"/>
                </a:cubicBezTo>
                <a:cubicBezTo>
                  <a:pt x="9140" y="13593"/>
                  <a:pt x="9129" y="13610"/>
                  <a:pt x="9144" y="13652"/>
                </a:cubicBezTo>
              </a:path>
              <a:path w="5779" h="3334">
                <a:moveTo>
                  <a:pt x="10096" y="12097"/>
                </a:moveTo>
                <a:cubicBezTo>
                  <a:pt x="10096" y="12200"/>
                  <a:pt x="10094" y="12282"/>
                  <a:pt x="10065" y="12382"/>
                </a:cubicBezTo>
                <a:cubicBezTo>
                  <a:pt x="10022" y="12528"/>
                  <a:pt x="10046" y="12684"/>
                  <a:pt x="10001" y="12827"/>
                </a:cubicBezTo>
                <a:cubicBezTo>
                  <a:pt x="9981" y="12892"/>
                  <a:pt x="9970" y="12892"/>
                  <a:pt x="9970" y="12954"/>
                </a:cubicBezTo>
              </a:path>
              <a:path w="5779" h="3334">
                <a:moveTo>
                  <a:pt x="10319" y="12160"/>
                </a:moveTo>
                <a:cubicBezTo>
                  <a:pt x="10260" y="12199"/>
                  <a:pt x="10274" y="12297"/>
                  <a:pt x="10255" y="12382"/>
                </a:cubicBezTo>
                <a:cubicBezTo>
                  <a:pt x="10224" y="12521"/>
                  <a:pt x="10204" y="12663"/>
                  <a:pt x="10287" y="12795"/>
                </a:cubicBezTo>
                <a:cubicBezTo>
                  <a:pt x="10340" y="12879"/>
                  <a:pt x="10477" y="12941"/>
                  <a:pt x="10573" y="12922"/>
                </a:cubicBezTo>
                <a:cubicBezTo>
                  <a:pt x="10702" y="12897"/>
                  <a:pt x="10729" y="12773"/>
                  <a:pt x="10732" y="12668"/>
                </a:cubicBezTo>
                <a:cubicBezTo>
                  <a:pt x="10736" y="12534"/>
                  <a:pt x="10714" y="12377"/>
                  <a:pt x="10604" y="12287"/>
                </a:cubicBezTo>
                <a:cubicBezTo>
                  <a:pt x="10543" y="12237"/>
                  <a:pt x="10455" y="12256"/>
                  <a:pt x="10382" y="12256"/>
                </a:cubicBezTo>
              </a:path>
              <a:path w="5779" h="3334">
                <a:moveTo>
                  <a:pt x="9779" y="11144"/>
                </a:moveTo>
                <a:cubicBezTo>
                  <a:pt x="9857" y="11144"/>
                  <a:pt x="9907" y="11162"/>
                  <a:pt x="9970" y="11176"/>
                </a:cubicBezTo>
                <a:cubicBezTo>
                  <a:pt x="10052" y="11194"/>
                  <a:pt x="10065" y="11181"/>
                  <a:pt x="10065" y="11271"/>
                </a:cubicBezTo>
                <a:cubicBezTo>
                  <a:pt x="10065" y="11341"/>
                  <a:pt x="10010" y="11339"/>
                  <a:pt x="9970" y="11366"/>
                </a:cubicBezTo>
                <a:cubicBezTo>
                  <a:pt x="9941" y="11395"/>
                  <a:pt x="9935" y="11406"/>
                  <a:pt x="9906" y="11398"/>
                </a:cubicBezTo>
                <a:cubicBezTo>
                  <a:pt x="9971" y="11398"/>
                  <a:pt x="10016" y="11386"/>
                  <a:pt x="10065" y="11430"/>
                </a:cubicBezTo>
                <a:cubicBezTo>
                  <a:pt x="10108" y="11469"/>
                  <a:pt x="10161" y="11525"/>
                  <a:pt x="10128" y="11589"/>
                </a:cubicBezTo>
                <a:cubicBezTo>
                  <a:pt x="10093" y="11657"/>
                  <a:pt x="10060" y="11648"/>
                  <a:pt x="10001" y="11684"/>
                </a:cubicBezTo>
                <a:cubicBezTo>
                  <a:pt x="9959" y="11710"/>
                  <a:pt x="9884" y="11734"/>
                  <a:pt x="9842" y="11684"/>
                </a:cubicBezTo>
                <a:cubicBezTo>
                  <a:pt x="9810" y="11646"/>
                  <a:pt x="9825" y="11624"/>
                  <a:pt x="9842" y="11589"/>
                </a:cubicBezTo>
              </a:path>
              <a:path w="5779" h="3334">
                <a:moveTo>
                  <a:pt x="10224" y="11208"/>
                </a:moveTo>
                <a:cubicBezTo>
                  <a:pt x="10240" y="11256"/>
                  <a:pt x="10255" y="11235"/>
                  <a:pt x="10255" y="11303"/>
                </a:cubicBezTo>
                <a:cubicBezTo>
                  <a:pt x="10255" y="11358"/>
                  <a:pt x="10224" y="11517"/>
                  <a:pt x="10224" y="11462"/>
                </a:cubicBezTo>
                <a:cubicBezTo>
                  <a:pt x="10224" y="11451"/>
                  <a:pt x="10224" y="11441"/>
                  <a:pt x="10224" y="11430"/>
                </a:cubicBezTo>
                <a:cubicBezTo>
                  <a:pt x="10189" y="11418"/>
                  <a:pt x="10169" y="11358"/>
                  <a:pt x="10192" y="11303"/>
                </a:cubicBezTo>
                <a:cubicBezTo>
                  <a:pt x="10219" y="11238"/>
                  <a:pt x="10252" y="11208"/>
                  <a:pt x="10319" y="11208"/>
                </a:cubicBezTo>
                <a:cubicBezTo>
                  <a:pt x="10350" y="11208"/>
                  <a:pt x="10361" y="11208"/>
                  <a:pt x="10382" y="11208"/>
                </a:cubicBezTo>
                <a:cubicBezTo>
                  <a:pt x="10382" y="11252"/>
                  <a:pt x="10399" y="11310"/>
                  <a:pt x="10350" y="11335"/>
                </a:cubicBezTo>
                <a:cubicBezTo>
                  <a:pt x="10311" y="11355"/>
                  <a:pt x="10268" y="11387"/>
                  <a:pt x="10224" y="11398"/>
                </a:cubicBezTo>
                <a:cubicBezTo>
                  <a:pt x="10262" y="11411"/>
                  <a:pt x="10294" y="11407"/>
                  <a:pt x="10350" y="11430"/>
                </a:cubicBezTo>
                <a:cubicBezTo>
                  <a:pt x="10404" y="11453"/>
                  <a:pt x="10412" y="11462"/>
                  <a:pt x="10478" y="11462"/>
                </a:cubicBezTo>
              </a:path>
              <a:path w="5779" h="3334">
                <a:moveTo>
                  <a:pt x="10541" y="11144"/>
                </a:moveTo>
                <a:cubicBezTo>
                  <a:pt x="10541" y="11225"/>
                  <a:pt x="10567" y="11260"/>
                  <a:pt x="10573" y="11335"/>
                </a:cubicBezTo>
                <a:cubicBezTo>
                  <a:pt x="10575" y="11363"/>
                  <a:pt x="10573" y="11537"/>
                  <a:pt x="10573" y="11462"/>
                </a:cubicBezTo>
                <a:cubicBezTo>
                  <a:pt x="10573" y="11372"/>
                  <a:pt x="10581" y="11287"/>
                  <a:pt x="10604" y="11240"/>
                </a:cubicBezTo>
                <a:cubicBezTo>
                  <a:pt x="10621" y="11205"/>
                  <a:pt x="10666" y="11199"/>
                  <a:pt x="10700" y="11240"/>
                </a:cubicBezTo>
                <a:cubicBezTo>
                  <a:pt x="10743" y="11292"/>
                  <a:pt x="10793" y="11372"/>
                  <a:pt x="10827" y="11430"/>
                </a:cubicBezTo>
                <a:cubicBezTo>
                  <a:pt x="10850" y="11470"/>
                  <a:pt x="10852" y="11545"/>
                  <a:pt x="10827" y="11589"/>
                </a:cubicBezTo>
                <a:cubicBezTo>
                  <a:pt x="10799" y="11639"/>
                  <a:pt x="10715" y="11620"/>
                  <a:pt x="10668" y="11620"/>
                </a:cubicBezTo>
              </a:path>
              <a:path w="5779" h="3334">
                <a:moveTo>
                  <a:pt x="10922" y="12827"/>
                </a:moveTo>
                <a:cubicBezTo>
                  <a:pt x="10941" y="12903"/>
                  <a:pt x="11002" y="12924"/>
                  <a:pt x="11017" y="13018"/>
                </a:cubicBezTo>
                <a:cubicBezTo>
                  <a:pt x="11042" y="13177"/>
                  <a:pt x="10996" y="13338"/>
                  <a:pt x="10986" y="13494"/>
                </a:cubicBezTo>
                <a:cubicBezTo>
                  <a:pt x="10986" y="13547"/>
                  <a:pt x="10986" y="13599"/>
                  <a:pt x="10986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6"/>
          <p:cNvSpPr/>
          <p:nvPr/>
        </p:nvSpPr>
        <p:spPr>
          <a:xfrm>
            <a:off x="4194000" y="3965400"/>
            <a:ext cx="1189080" cy="1144800"/>
          </a:xfrm>
          <a:custGeom>
            <a:avLst/>
            <a:gdLst/>
            <a:ahLst/>
            <a:rect l="l" t="t" r="r" b="b"/>
            <a:pathLst>
              <a:path w="3303" h="3176">
                <a:moveTo>
                  <a:pt x="11874" y="11874"/>
                </a:moveTo>
                <a:cubicBezTo>
                  <a:pt x="11874" y="12118"/>
                  <a:pt x="11874" y="12785"/>
                  <a:pt x="11874" y="12541"/>
                </a:cubicBezTo>
                <a:cubicBezTo>
                  <a:pt x="11874" y="12531"/>
                  <a:pt x="11874" y="12520"/>
                  <a:pt x="11874" y="12510"/>
                </a:cubicBezTo>
              </a:path>
              <a:path w="3303" h="3176">
                <a:moveTo>
                  <a:pt x="12033" y="11970"/>
                </a:moveTo>
                <a:cubicBezTo>
                  <a:pt x="12033" y="12115"/>
                  <a:pt x="12031" y="12247"/>
                  <a:pt x="12065" y="12382"/>
                </a:cubicBezTo>
                <a:cubicBezTo>
                  <a:pt x="12074" y="12420"/>
                  <a:pt x="12110" y="12440"/>
                  <a:pt x="12160" y="12446"/>
                </a:cubicBezTo>
                <a:cubicBezTo>
                  <a:pt x="12195" y="12450"/>
                  <a:pt x="12277" y="12387"/>
                  <a:pt x="12287" y="12351"/>
                </a:cubicBezTo>
                <a:cubicBezTo>
                  <a:pt x="12306" y="12285"/>
                  <a:pt x="12319" y="12233"/>
                  <a:pt x="12319" y="12160"/>
                </a:cubicBezTo>
                <a:cubicBezTo>
                  <a:pt x="12319" y="12124"/>
                  <a:pt x="12310" y="12052"/>
                  <a:pt x="12287" y="12033"/>
                </a:cubicBezTo>
                <a:cubicBezTo>
                  <a:pt x="12236" y="11992"/>
                  <a:pt x="12190" y="11970"/>
                  <a:pt x="12128" y="11970"/>
                </a:cubicBezTo>
                <a:cubicBezTo>
                  <a:pt x="12097" y="11970"/>
                  <a:pt x="12086" y="11970"/>
                  <a:pt x="12065" y="11970"/>
                </a:cubicBezTo>
              </a:path>
              <a:path w="3303" h="3176">
                <a:moveTo>
                  <a:pt x="11652" y="12795"/>
                </a:moveTo>
                <a:cubicBezTo>
                  <a:pt x="11729" y="12735"/>
                  <a:pt x="11790" y="12728"/>
                  <a:pt x="11874" y="12700"/>
                </a:cubicBezTo>
                <a:cubicBezTo>
                  <a:pt x="11959" y="12671"/>
                  <a:pt x="12037" y="12641"/>
                  <a:pt x="12128" y="12636"/>
                </a:cubicBezTo>
                <a:cubicBezTo>
                  <a:pt x="12228" y="12630"/>
                  <a:pt x="12300" y="12643"/>
                  <a:pt x="12382" y="12668"/>
                </a:cubicBezTo>
                <a:cubicBezTo>
                  <a:pt x="12414" y="12668"/>
                  <a:pt x="12425" y="12668"/>
                  <a:pt x="12446" y="12668"/>
                </a:cubicBezTo>
              </a:path>
              <a:path w="3303" h="3176">
                <a:moveTo>
                  <a:pt x="11906" y="12954"/>
                </a:moveTo>
                <a:cubicBezTo>
                  <a:pt x="11918" y="12917"/>
                  <a:pt x="11950" y="12896"/>
                  <a:pt x="12002" y="12890"/>
                </a:cubicBezTo>
                <a:cubicBezTo>
                  <a:pt x="12046" y="12885"/>
                  <a:pt x="12031" y="12922"/>
                  <a:pt x="12097" y="12922"/>
                </a:cubicBezTo>
                <a:cubicBezTo>
                  <a:pt x="12107" y="12922"/>
                  <a:pt x="12118" y="12922"/>
                  <a:pt x="12128" y="12922"/>
                </a:cubicBezTo>
                <a:cubicBezTo>
                  <a:pt x="12128" y="13010"/>
                  <a:pt x="12117" y="13062"/>
                  <a:pt x="12097" y="13144"/>
                </a:cubicBezTo>
                <a:cubicBezTo>
                  <a:pt x="12087" y="13187"/>
                  <a:pt x="12077" y="13175"/>
                  <a:pt x="12033" y="13208"/>
                </a:cubicBezTo>
                <a:cubicBezTo>
                  <a:pt x="12048" y="13149"/>
                  <a:pt x="12064" y="13138"/>
                  <a:pt x="12097" y="13113"/>
                </a:cubicBezTo>
                <a:cubicBezTo>
                  <a:pt x="12125" y="13091"/>
                  <a:pt x="12181" y="13057"/>
                  <a:pt x="12224" y="13081"/>
                </a:cubicBezTo>
                <a:cubicBezTo>
                  <a:pt x="12292" y="13119"/>
                  <a:pt x="12287" y="13172"/>
                  <a:pt x="12287" y="13240"/>
                </a:cubicBezTo>
                <a:cubicBezTo>
                  <a:pt x="12287" y="13312"/>
                  <a:pt x="12298" y="13367"/>
                  <a:pt x="12256" y="13430"/>
                </a:cubicBezTo>
                <a:cubicBezTo>
                  <a:pt x="12221" y="13483"/>
                  <a:pt x="12170" y="13541"/>
                  <a:pt x="12128" y="13589"/>
                </a:cubicBezTo>
                <a:cubicBezTo>
                  <a:pt x="12116" y="13602"/>
                  <a:pt x="11982" y="13655"/>
                  <a:pt x="11970" y="13652"/>
                </a:cubicBezTo>
                <a:cubicBezTo>
                  <a:pt x="11959" y="13642"/>
                  <a:pt x="11949" y="13631"/>
                  <a:pt x="11938" y="13621"/>
                </a:cubicBezTo>
              </a:path>
              <a:path w="3303" h="3176">
                <a:moveTo>
                  <a:pt x="11938" y="11081"/>
                </a:moveTo>
                <a:cubicBezTo>
                  <a:pt x="11938" y="11147"/>
                  <a:pt x="11954" y="11187"/>
                  <a:pt x="11970" y="11240"/>
                </a:cubicBezTo>
                <a:cubicBezTo>
                  <a:pt x="11980" y="11274"/>
                  <a:pt x="11970" y="11330"/>
                  <a:pt x="11970" y="11366"/>
                </a:cubicBezTo>
                <a:cubicBezTo>
                  <a:pt x="12019" y="11382"/>
                  <a:pt x="11996" y="11398"/>
                  <a:pt x="12065" y="11398"/>
                </a:cubicBezTo>
                <a:cubicBezTo>
                  <a:pt x="12134" y="11398"/>
                  <a:pt x="12111" y="11414"/>
                  <a:pt x="12160" y="11430"/>
                </a:cubicBezTo>
              </a:path>
              <a:path w="3303" h="3176">
                <a:moveTo>
                  <a:pt x="12097" y="11081"/>
                </a:moveTo>
                <a:cubicBezTo>
                  <a:pt x="12097" y="11151"/>
                  <a:pt x="12124" y="11201"/>
                  <a:pt x="12128" y="11271"/>
                </a:cubicBezTo>
                <a:cubicBezTo>
                  <a:pt x="12136" y="11418"/>
                  <a:pt x="12128" y="11568"/>
                  <a:pt x="12128" y="11716"/>
                </a:cubicBezTo>
              </a:path>
              <a:path w="3303" h="3176">
                <a:moveTo>
                  <a:pt x="12256" y="11081"/>
                </a:moveTo>
                <a:cubicBezTo>
                  <a:pt x="12256" y="11091"/>
                  <a:pt x="12256" y="11102"/>
                  <a:pt x="12256" y="11112"/>
                </a:cubicBezTo>
                <a:cubicBezTo>
                  <a:pt x="12311" y="11131"/>
                  <a:pt x="12287" y="11204"/>
                  <a:pt x="12287" y="11271"/>
                </a:cubicBezTo>
                <a:cubicBezTo>
                  <a:pt x="12287" y="11345"/>
                  <a:pt x="12287" y="11420"/>
                  <a:pt x="12287" y="11494"/>
                </a:cubicBezTo>
              </a:path>
              <a:path w="3303" h="3176">
                <a:moveTo>
                  <a:pt x="12128" y="11366"/>
                </a:moveTo>
                <a:cubicBezTo>
                  <a:pt x="12178" y="11354"/>
                  <a:pt x="12199" y="11335"/>
                  <a:pt x="12256" y="11335"/>
                </a:cubicBezTo>
                <a:cubicBezTo>
                  <a:pt x="12276" y="11335"/>
                  <a:pt x="12362" y="11314"/>
                  <a:pt x="12382" y="11303"/>
                </a:cubicBezTo>
                <a:cubicBezTo>
                  <a:pt x="12393" y="11292"/>
                  <a:pt x="12403" y="11282"/>
                  <a:pt x="12414" y="11271"/>
                </a:cubicBezTo>
              </a:path>
              <a:path w="3303" h="3176">
                <a:moveTo>
                  <a:pt x="12446" y="11017"/>
                </a:moveTo>
                <a:cubicBezTo>
                  <a:pt x="12446" y="11100"/>
                  <a:pt x="12465" y="11162"/>
                  <a:pt x="12478" y="11240"/>
                </a:cubicBezTo>
                <a:cubicBezTo>
                  <a:pt x="12493" y="11328"/>
                  <a:pt x="12486" y="11414"/>
                  <a:pt x="12510" y="11462"/>
                </a:cubicBezTo>
                <a:cubicBezTo>
                  <a:pt x="12537" y="11515"/>
                  <a:pt x="12510" y="11437"/>
                  <a:pt x="12510" y="11398"/>
                </a:cubicBezTo>
                <a:cubicBezTo>
                  <a:pt x="12510" y="11317"/>
                  <a:pt x="12509" y="11316"/>
                  <a:pt x="12541" y="11240"/>
                </a:cubicBezTo>
                <a:cubicBezTo>
                  <a:pt x="12620" y="11279"/>
                  <a:pt x="12605" y="11340"/>
                  <a:pt x="12605" y="11430"/>
                </a:cubicBezTo>
                <a:cubicBezTo>
                  <a:pt x="12605" y="11500"/>
                  <a:pt x="12632" y="11577"/>
                  <a:pt x="12700" y="11525"/>
                </a:cubicBezTo>
                <a:cubicBezTo>
                  <a:pt x="12732" y="11494"/>
                  <a:pt x="12743" y="11483"/>
                  <a:pt x="12764" y="11462"/>
                </a:cubicBezTo>
              </a:path>
              <a:path w="3303" h="3176">
                <a:moveTo>
                  <a:pt x="13049" y="12890"/>
                </a:moveTo>
                <a:cubicBezTo>
                  <a:pt x="13100" y="12958"/>
                  <a:pt x="13135" y="13087"/>
                  <a:pt x="13144" y="13176"/>
                </a:cubicBezTo>
                <a:cubicBezTo>
                  <a:pt x="13167" y="13394"/>
                  <a:pt x="13123" y="13600"/>
                  <a:pt x="13081" y="13811"/>
                </a:cubicBezTo>
                <a:cubicBezTo>
                  <a:pt x="13049" y="13970"/>
                  <a:pt x="13038" y="14023"/>
                  <a:pt x="13018" y="14129"/>
                </a:cubicBezTo>
              </a:path>
              <a:path w="3303" h="3176">
                <a:moveTo>
                  <a:pt x="14002" y="11874"/>
                </a:moveTo>
                <a:cubicBezTo>
                  <a:pt x="14002" y="11945"/>
                  <a:pt x="14031" y="11994"/>
                  <a:pt x="14034" y="12065"/>
                </a:cubicBezTo>
                <a:cubicBezTo>
                  <a:pt x="14039" y="12180"/>
                  <a:pt x="14008" y="12271"/>
                  <a:pt x="14002" y="12382"/>
                </a:cubicBezTo>
                <a:cubicBezTo>
                  <a:pt x="14000" y="12418"/>
                  <a:pt x="14002" y="12638"/>
                  <a:pt x="14002" y="12573"/>
                </a:cubicBezTo>
              </a:path>
              <a:path w="3303" h="3176">
                <a:moveTo>
                  <a:pt x="14224" y="11970"/>
                </a:moveTo>
                <a:cubicBezTo>
                  <a:pt x="14208" y="12050"/>
                  <a:pt x="14211" y="12145"/>
                  <a:pt x="14192" y="12224"/>
                </a:cubicBezTo>
                <a:cubicBezTo>
                  <a:pt x="14166" y="12334"/>
                  <a:pt x="14173" y="12382"/>
                  <a:pt x="14192" y="12478"/>
                </a:cubicBezTo>
                <a:cubicBezTo>
                  <a:pt x="14208" y="12558"/>
                  <a:pt x="14180" y="12541"/>
                  <a:pt x="14256" y="12541"/>
                </a:cubicBezTo>
                <a:cubicBezTo>
                  <a:pt x="14306" y="12492"/>
                  <a:pt x="14374" y="12438"/>
                  <a:pt x="14414" y="12382"/>
                </a:cubicBezTo>
                <a:cubicBezTo>
                  <a:pt x="14458" y="12320"/>
                  <a:pt x="14495" y="12145"/>
                  <a:pt x="14510" y="12065"/>
                </a:cubicBezTo>
                <a:cubicBezTo>
                  <a:pt x="14522" y="12003"/>
                  <a:pt x="14509" y="11920"/>
                  <a:pt x="14478" y="11874"/>
                </a:cubicBezTo>
                <a:cubicBezTo>
                  <a:pt x="14467" y="11864"/>
                  <a:pt x="14457" y="11853"/>
                  <a:pt x="14446" y="11843"/>
                </a:cubicBezTo>
                <a:cubicBezTo>
                  <a:pt x="14342" y="11858"/>
                  <a:pt x="14322" y="11891"/>
                  <a:pt x="14256" y="11970"/>
                </a:cubicBezTo>
                <a:cubicBezTo>
                  <a:pt x="14245" y="11981"/>
                  <a:pt x="14235" y="11991"/>
                  <a:pt x="14224" y="12002"/>
                </a:cubicBezTo>
              </a:path>
              <a:path w="3303" h="3176">
                <a:moveTo>
                  <a:pt x="13843" y="12764"/>
                </a:moveTo>
                <a:cubicBezTo>
                  <a:pt x="13814" y="12792"/>
                  <a:pt x="13808" y="12802"/>
                  <a:pt x="13780" y="12795"/>
                </a:cubicBezTo>
                <a:cubicBezTo>
                  <a:pt x="13834" y="12755"/>
                  <a:pt x="13849" y="12785"/>
                  <a:pt x="13906" y="12764"/>
                </a:cubicBezTo>
                <a:cubicBezTo>
                  <a:pt x="13990" y="12734"/>
                  <a:pt x="14070" y="12705"/>
                  <a:pt x="14160" y="12700"/>
                </a:cubicBezTo>
                <a:cubicBezTo>
                  <a:pt x="14236" y="12696"/>
                  <a:pt x="14348" y="12701"/>
                  <a:pt x="14414" y="12732"/>
                </a:cubicBezTo>
                <a:cubicBezTo>
                  <a:pt x="14446" y="12747"/>
                  <a:pt x="14485" y="12802"/>
                  <a:pt x="14510" y="12827"/>
                </a:cubicBezTo>
              </a:path>
              <a:path w="3303" h="3176">
                <a:moveTo>
                  <a:pt x="14256" y="13176"/>
                </a:moveTo>
                <a:cubicBezTo>
                  <a:pt x="14207" y="13164"/>
                  <a:pt x="14179" y="13122"/>
                  <a:pt x="14160" y="13113"/>
                </a:cubicBezTo>
                <a:cubicBezTo>
                  <a:pt x="14119" y="13093"/>
                  <a:pt x="14085" y="13081"/>
                  <a:pt x="14034" y="13081"/>
                </a:cubicBezTo>
                <a:cubicBezTo>
                  <a:pt x="13972" y="13081"/>
                  <a:pt x="13947" y="13162"/>
                  <a:pt x="13938" y="13208"/>
                </a:cubicBezTo>
                <a:cubicBezTo>
                  <a:pt x="13914" y="13327"/>
                  <a:pt x="13914" y="13406"/>
                  <a:pt x="13938" y="13526"/>
                </a:cubicBezTo>
                <a:cubicBezTo>
                  <a:pt x="13938" y="13568"/>
                  <a:pt x="13938" y="13589"/>
                  <a:pt x="13938" y="13621"/>
                </a:cubicBezTo>
                <a:cubicBezTo>
                  <a:pt x="13984" y="13621"/>
                  <a:pt x="14049" y="13615"/>
                  <a:pt x="14065" y="13557"/>
                </a:cubicBezTo>
                <a:cubicBezTo>
                  <a:pt x="14094" y="13453"/>
                  <a:pt x="14122" y="13346"/>
                  <a:pt x="14160" y="13240"/>
                </a:cubicBezTo>
                <a:cubicBezTo>
                  <a:pt x="14188" y="13161"/>
                  <a:pt x="14209" y="13080"/>
                  <a:pt x="14256" y="13018"/>
                </a:cubicBezTo>
                <a:cubicBezTo>
                  <a:pt x="14302" y="13078"/>
                  <a:pt x="14300" y="13134"/>
                  <a:pt x="14319" y="13208"/>
                </a:cubicBezTo>
                <a:cubicBezTo>
                  <a:pt x="14355" y="13347"/>
                  <a:pt x="14371" y="13508"/>
                  <a:pt x="14383" y="13652"/>
                </a:cubicBezTo>
                <a:cubicBezTo>
                  <a:pt x="14397" y="13810"/>
                  <a:pt x="14407" y="13972"/>
                  <a:pt x="14414" y="14129"/>
                </a:cubicBezTo>
                <a:cubicBezTo>
                  <a:pt x="14414" y="14150"/>
                  <a:pt x="14414" y="14171"/>
                  <a:pt x="14414" y="14192"/>
                </a:cubicBezTo>
              </a:path>
              <a:path w="3303" h="3176">
                <a:moveTo>
                  <a:pt x="14097" y="11112"/>
                </a:moveTo>
                <a:cubicBezTo>
                  <a:pt x="14080" y="11162"/>
                  <a:pt x="14047" y="11146"/>
                  <a:pt x="14002" y="11176"/>
                </a:cubicBezTo>
                <a:cubicBezTo>
                  <a:pt x="13951" y="11210"/>
                  <a:pt x="13938" y="11208"/>
                  <a:pt x="13875" y="11208"/>
                </a:cubicBezTo>
                <a:cubicBezTo>
                  <a:pt x="13875" y="11284"/>
                  <a:pt x="13862" y="11335"/>
                  <a:pt x="13843" y="11398"/>
                </a:cubicBezTo>
                <a:cubicBezTo>
                  <a:pt x="13843" y="11441"/>
                  <a:pt x="13843" y="11462"/>
                  <a:pt x="13843" y="11494"/>
                </a:cubicBezTo>
                <a:cubicBezTo>
                  <a:pt x="13882" y="11481"/>
                  <a:pt x="13896" y="11440"/>
                  <a:pt x="13938" y="11398"/>
                </a:cubicBezTo>
                <a:cubicBezTo>
                  <a:pt x="13989" y="11347"/>
                  <a:pt x="13955" y="11335"/>
                  <a:pt x="14034" y="11335"/>
                </a:cubicBezTo>
                <a:cubicBezTo>
                  <a:pt x="14085" y="11335"/>
                  <a:pt x="14073" y="11394"/>
                  <a:pt x="14097" y="11430"/>
                </a:cubicBezTo>
                <a:cubicBezTo>
                  <a:pt x="14131" y="11481"/>
                  <a:pt x="14129" y="11494"/>
                  <a:pt x="14129" y="11557"/>
                </a:cubicBezTo>
                <a:cubicBezTo>
                  <a:pt x="14129" y="11665"/>
                  <a:pt x="14102" y="11632"/>
                  <a:pt x="14065" y="11716"/>
                </a:cubicBezTo>
                <a:cubicBezTo>
                  <a:pt x="14065" y="11748"/>
                  <a:pt x="14065" y="11758"/>
                  <a:pt x="14034" y="11748"/>
                </a:cubicBezTo>
              </a:path>
              <a:path w="3303" h="3176">
                <a:moveTo>
                  <a:pt x="14256" y="11081"/>
                </a:moveTo>
                <a:cubicBezTo>
                  <a:pt x="14270" y="11135"/>
                  <a:pt x="14268" y="11217"/>
                  <a:pt x="14288" y="11271"/>
                </a:cubicBezTo>
                <a:cubicBezTo>
                  <a:pt x="14315" y="11343"/>
                  <a:pt x="14344" y="11409"/>
                  <a:pt x="14351" y="11494"/>
                </a:cubicBezTo>
                <a:cubicBezTo>
                  <a:pt x="14351" y="11525"/>
                  <a:pt x="14351" y="11536"/>
                  <a:pt x="14351" y="11557"/>
                </a:cubicBezTo>
              </a:path>
              <a:path w="3303" h="3176">
                <a:moveTo>
                  <a:pt x="14192" y="11398"/>
                </a:moveTo>
                <a:cubicBezTo>
                  <a:pt x="14245" y="11398"/>
                  <a:pt x="14275" y="11385"/>
                  <a:pt x="14319" y="11366"/>
                </a:cubicBezTo>
                <a:cubicBezTo>
                  <a:pt x="14380" y="11340"/>
                  <a:pt x="14430" y="11307"/>
                  <a:pt x="14478" y="11271"/>
                </a:cubicBezTo>
              </a:path>
              <a:path w="3303" h="3176">
                <a:moveTo>
                  <a:pt x="14478" y="11017"/>
                </a:moveTo>
                <a:cubicBezTo>
                  <a:pt x="14510" y="11028"/>
                  <a:pt x="14533" y="11092"/>
                  <a:pt x="14542" y="11144"/>
                </a:cubicBezTo>
                <a:cubicBezTo>
                  <a:pt x="14556" y="11226"/>
                  <a:pt x="14560" y="11329"/>
                  <a:pt x="14573" y="11398"/>
                </a:cubicBezTo>
                <a:cubicBezTo>
                  <a:pt x="14582" y="11450"/>
                  <a:pt x="14580" y="11546"/>
                  <a:pt x="14605" y="11430"/>
                </a:cubicBezTo>
                <a:cubicBezTo>
                  <a:pt x="14621" y="11353"/>
                  <a:pt x="14620" y="11269"/>
                  <a:pt x="14668" y="11208"/>
                </a:cubicBezTo>
                <a:cubicBezTo>
                  <a:pt x="14715" y="11149"/>
                  <a:pt x="14777" y="11165"/>
                  <a:pt x="14796" y="11240"/>
                </a:cubicBezTo>
                <a:cubicBezTo>
                  <a:pt x="14815" y="11313"/>
                  <a:pt x="14844" y="11352"/>
                  <a:pt x="14859" y="11398"/>
                </a:cubicBezTo>
                <a:cubicBezTo>
                  <a:pt x="14904" y="11353"/>
                  <a:pt x="14922" y="11328"/>
                  <a:pt x="14954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7"/>
          <p:cNvSpPr/>
          <p:nvPr/>
        </p:nvSpPr>
        <p:spPr>
          <a:xfrm>
            <a:off x="5521320" y="3760920"/>
            <a:ext cx="890640" cy="1531800"/>
          </a:xfrm>
          <a:custGeom>
            <a:avLst/>
            <a:gdLst/>
            <a:ahLst/>
            <a:rect l="l" t="t" r="r" b="b"/>
            <a:pathLst>
              <a:path w="2478" h="4255">
                <a:moveTo>
                  <a:pt x="15335" y="13780"/>
                </a:moveTo>
                <a:cubicBezTo>
                  <a:pt x="15351" y="13910"/>
                  <a:pt x="15396" y="14022"/>
                  <a:pt x="15399" y="14160"/>
                </a:cubicBezTo>
                <a:cubicBezTo>
                  <a:pt x="15403" y="14327"/>
                  <a:pt x="15392" y="14473"/>
                  <a:pt x="15367" y="14637"/>
                </a:cubicBezTo>
              </a:path>
              <a:path w="2478" h="4255">
                <a:moveTo>
                  <a:pt x="16288" y="11684"/>
                </a:moveTo>
                <a:cubicBezTo>
                  <a:pt x="16231" y="11703"/>
                  <a:pt x="16256" y="11775"/>
                  <a:pt x="16256" y="11843"/>
                </a:cubicBezTo>
                <a:cubicBezTo>
                  <a:pt x="16256" y="12037"/>
                  <a:pt x="16267" y="12231"/>
                  <a:pt x="16224" y="12414"/>
                </a:cubicBezTo>
                <a:cubicBezTo>
                  <a:pt x="16224" y="12450"/>
                  <a:pt x="16227" y="12464"/>
                  <a:pt x="16256" y="12478"/>
                </a:cubicBezTo>
              </a:path>
              <a:path w="2478" h="4255">
                <a:moveTo>
                  <a:pt x="16510" y="11716"/>
                </a:moveTo>
                <a:cubicBezTo>
                  <a:pt x="16510" y="11851"/>
                  <a:pt x="16503" y="11998"/>
                  <a:pt x="16478" y="12128"/>
                </a:cubicBezTo>
                <a:cubicBezTo>
                  <a:pt x="16457" y="12237"/>
                  <a:pt x="16405" y="12385"/>
                  <a:pt x="16510" y="12478"/>
                </a:cubicBezTo>
                <a:cubicBezTo>
                  <a:pt x="16520" y="12487"/>
                  <a:pt x="16590" y="12478"/>
                  <a:pt x="16605" y="12478"/>
                </a:cubicBezTo>
                <a:cubicBezTo>
                  <a:pt x="16672" y="12394"/>
                  <a:pt x="16718" y="12320"/>
                  <a:pt x="16764" y="12224"/>
                </a:cubicBezTo>
                <a:cubicBezTo>
                  <a:pt x="16806" y="12137"/>
                  <a:pt x="16816" y="12003"/>
                  <a:pt x="16796" y="11906"/>
                </a:cubicBezTo>
                <a:cubicBezTo>
                  <a:pt x="16773" y="11796"/>
                  <a:pt x="16745" y="11725"/>
                  <a:pt x="16637" y="11716"/>
                </a:cubicBezTo>
                <a:cubicBezTo>
                  <a:pt x="16557" y="11709"/>
                  <a:pt x="16548" y="11758"/>
                  <a:pt x="16510" y="11811"/>
                </a:cubicBezTo>
              </a:path>
              <a:path w="2478" h="4255">
                <a:moveTo>
                  <a:pt x="15938" y="12922"/>
                </a:moveTo>
                <a:cubicBezTo>
                  <a:pt x="15880" y="12892"/>
                  <a:pt x="15982" y="12864"/>
                  <a:pt x="16034" y="12859"/>
                </a:cubicBezTo>
                <a:cubicBezTo>
                  <a:pt x="16111" y="12852"/>
                  <a:pt x="16216" y="12795"/>
                  <a:pt x="16288" y="12764"/>
                </a:cubicBezTo>
                <a:cubicBezTo>
                  <a:pt x="16388" y="12721"/>
                  <a:pt x="16494" y="12705"/>
                  <a:pt x="16605" y="12700"/>
                </a:cubicBezTo>
                <a:cubicBezTo>
                  <a:pt x="16708" y="12695"/>
                  <a:pt x="16798" y="12691"/>
                  <a:pt x="16891" y="12732"/>
                </a:cubicBezTo>
              </a:path>
              <a:path w="2478" h="4255">
                <a:moveTo>
                  <a:pt x="16034" y="13335"/>
                </a:moveTo>
                <a:cubicBezTo>
                  <a:pt x="16048" y="13278"/>
                  <a:pt x="16065" y="13264"/>
                  <a:pt x="16097" y="13240"/>
                </a:cubicBezTo>
                <a:cubicBezTo>
                  <a:pt x="16125" y="13219"/>
                  <a:pt x="16181" y="13184"/>
                  <a:pt x="16224" y="13208"/>
                </a:cubicBezTo>
                <a:cubicBezTo>
                  <a:pt x="16276" y="13237"/>
                  <a:pt x="16256" y="13319"/>
                  <a:pt x="16256" y="13367"/>
                </a:cubicBezTo>
                <a:cubicBezTo>
                  <a:pt x="16256" y="13518"/>
                  <a:pt x="16215" y="13610"/>
                  <a:pt x="16192" y="13748"/>
                </a:cubicBezTo>
                <a:cubicBezTo>
                  <a:pt x="16172" y="13869"/>
                  <a:pt x="16133" y="13950"/>
                  <a:pt x="16097" y="14065"/>
                </a:cubicBezTo>
                <a:cubicBezTo>
                  <a:pt x="16080" y="14120"/>
                  <a:pt x="16122" y="14110"/>
                  <a:pt x="16066" y="14129"/>
                </a:cubicBezTo>
                <a:cubicBezTo>
                  <a:pt x="16078" y="14078"/>
                  <a:pt x="16113" y="14049"/>
                  <a:pt x="16129" y="14002"/>
                </a:cubicBezTo>
                <a:cubicBezTo>
                  <a:pt x="16145" y="13954"/>
                  <a:pt x="16167" y="13970"/>
                  <a:pt x="16224" y="13970"/>
                </a:cubicBezTo>
                <a:cubicBezTo>
                  <a:pt x="16280" y="13970"/>
                  <a:pt x="16376" y="13993"/>
                  <a:pt x="16383" y="13938"/>
                </a:cubicBezTo>
                <a:cubicBezTo>
                  <a:pt x="16383" y="13927"/>
                  <a:pt x="16383" y="13917"/>
                  <a:pt x="16383" y="13906"/>
                </a:cubicBezTo>
              </a:path>
              <a:path w="2478" h="4255">
                <a:moveTo>
                  <a:pt x="16446" y="13240"/>
                </a:moveTo>
                <a:cubicBezTo>
                  <a:pt x="16494" y="13228"/>
                  <a:pt x="16536" y="13211"/>
                  <a:pt x="16574" y="13176"/>
                </a:cubicBezTo>
                <a:cubicBezTo>
                  <a:pt x="16619" y="13135"/>
                  <a:pt x="16651" y="13149"/>
                  <a:pt x="16700" y="13113"/>
                </a:cubicBezTo>
                <a:cubicBezTo>
                  <a:pt x="16700" y="13318"/>
                  <a:pt x="16705" y="13517"/>
                  <a:pt x="16732" y="13716"/>
                </a:cubicBezTo>
                <a:cubicBezTo>
                  <a:pt x="16744" y="13801"/>
                  <a:pt x="16756" y="13889"/>
                  <a:pt x="16764" y="13970"/>
                </a:cubicBezTo>
                <a:cubicBezTo>
                  <a:pt x="16764" y="14002"/>
                  <a:pt x="16764" y="14013"/>
                  <a:pt x="16764" y="14034"/>
                </a:cubicBezTo>
              </a:path>
              <a:path w="2478" h="4255">
                <a:moveTo>
                  <a:pt x="16415" y="10700"/>
                </a:moveTo>
                <a:cubicBezTo>
                  <a:pt x="16369" y="10776"/>
                  <a:pt x="16355" y="10859"/>
                  <a:pt x="16351" y="10954"/>
                </a:cubicBezTo>
                <a:cubicBezTo>
                  <a:pt x="16345" y="11098"/>
                  <a:pt x="16328" y="11267"/>
                  <a:pt x="16383" y="11398"/>
                </a:cubicBezTo>
                <a:cubicBezTo>
                  <a:pt x="16416" y="11477"/>
                  <a:pt x="16418" y="11526"/>
                  <a:pt x="16510" y="11557"/>
                </a:cubicBezTo>
                <a:cubicBezTo>
                  <a:pt x="16537" y="11566"/>
                  <a:pt x="16621" y="11517"/>
                  <a:pt x="16637" y="11494"/>
                </a:cubicBezTo>
                <a:cubicBezTo>
                  <a:pt x="16678" y="11435"/>
                  <a:pt x="16748" y="11342"/>
                  <a:pt x="16764" y="11271"/>
                </a:cubicBezTo>
                <a:cubicBezTo>
                  <a:pt x="16773" y="11231"/>
                  <a:pt x="16764" y="11153"/>
                  <a:pt x="16764" y="11112"/>
                </a:cubicBezTo>
                <a:cubicBezTo>
                  <a:pt x="16705" y="11112"/>
                  <a:pt x="16682" y="11104"/>
                  <a:pt x="16637" y="11144"/>
                </a:cubicBezTo>
                <a:cubicBezTo>
                  <a:pt x="16596" y="11180"/>
                  <a:pt x="16546" y="11252"/>
                  <a:pt x="16542" y="11303"/>
                </a:cubicBezTo>
                <a:cubicBezTo>
                  <a:pt x="16537" y="11368"/>
                  <a:pt x="16561" y="11415"/>
                  <a:pt x="16605" y="11430"/>
                </a:cubicBezTo>
              </a:path>
              <a:path w="2478" h="4255">
                <a:moveTo>
                  <a:pt x="16923" y="10541"/>
                </a:moveTo>
                <a:cubicBezTo>
                  <a:pt x="16923" y="10664"/>
                  <a:pt x="16904" y="10772"/>
                  <a:pt x="16891" y="10890"/>
                </a:cubicBezTo>
                <a:cubicBezTo>
                  <a:pt x="16882" y="10972"/>
                  <a:pt x="16891" y="11061"/>
                  <a:pt x="16891" y="11144"/>
                </a:cubicBezTo>
              </a:path>
              <a:path w="2478" h="4255">
                <a:moveTo>
                  <a:pt x="16764" y="10922"/>
                </a:moveTo>
                <a:cubicBezTo>
                  <a:pt x="16753" y="10922"/>
                  <a:pt x="16743" y="10922"/>
                  <a:pt x="16732" y="10922"/>
                </a:cubicBezTo>
                <a:cubicBezTo>
                  <a:pt x="16782" y="10884"/>
                  <a:pt x="16842" y="10890"/>
                  <a:pt x="16891" y="10858"/>
                </a:cubicBezTo>
                <a:cubicBezTo>
                  <a:pt x="16926" y="10835"/>
                  <a:pt x="16957" y="10792"/>
                  <a:pt x="16986" y="10763"/>
                </a:cubicBezTo>
              </a:path>
              <a:path w="2478" h="4255">
                <a:moveTo>
                  <a:pt x="17082" y="10446"/>
                </a:moveTo>
                <a:cubicBezTo>
                  <a:pt x="17082" y="10548"/>
                  <a:pt x="17102" y="10634"/>
                  <a:pt x="17113" y="10732"/>
                </a:cubicBezTo>
                <a:cubicBezTo>
                  <a:pt x="17126" y="10845"/>
                  <a:pt x="17113" y="10967"/>
                  <a:pt x="17113" y="11081"/>
                </a:cubicBezTo>
                <a:cubicBezTo>
                  <a:pt x="17113" y="11133"/>
                  <a:pt x="17113" y="11038"/>
                  <a:pt x="17113" y="10986"/>
                </a:cubicBezTo>
                <a:cubicBezTo>
                  <a:pt x="17113" y="10900"/>
                  <a:pt x="17135" y="10775"/>
                  <a:pt x="17177" y="10700"/>
                </a:cubicBezTo>
                <a:cubicBezTo>
                  <a:pt x="17190" y="10677"/>
                  <a:pt x="17280" y="10641"/>
                  <a:pt x="17304" y="10668"/>
                </a:cubicBezTo>
                <a:cubicBezTo>
                  <a:pt x="17346" y="10715"/>
                  <a:pt x="17385" y="10866"/>
                  <a:pt x="17399" y="10922"/>
                </a:cubicBezTo>
                <a:cubicBezTo>
                  <a:pt x="17417" y="10994"/>
                  <a:pt x="17434" y="11051"/>
                  <a:pt x="17494" y="11081"/>
                </a:cubicBezTo>
              </a:path>
              <a:path w="2478" h="4255">
                <a:moveTo>
                  <a:pt x="15621" y="14605"/>
                </a:moveTo>
                <a:cubicBezTo>
                  <a:pt x="15621" y="14622"/>
                  <a:pt x="15505" y="14583"/>
                  <a:pt x="15621" y="14637"/>
                </a:cubicBezTo>
                <a:cubicBezTo>
                  <a:pt x="15696" y="14672"/>
                  <a:pt x="15762" y="14691"/>
                  <a:pt x="15843" y="14700"/>
                </a:cubicBezTo>
                <a:cubicBezTo>
                  <a:pt x="15982" y="14716"/>
                  <a:pt x="16124" y="14701"/>
                  <a:pt x="16256" y="14668"/>
                </a:cubicBezTo>
                <a:cubicBezTo>
                  <a:pt x="16432" y="14625"/>
                  <a:pt x="16630" y="14581"/>
                  <a:pt x="16796" y="14510"/>
                </a:cubicBezTo>
                <a:cubicBezTo>
                  <a:pt x="16973" y="14435"/>
                  <a:pt x="17100" y="14391"/>
                  <a:pt x="17240" y="14256"/>
                </a:cubicBezTo>
                <a:cubicBezTo>
                  <a:pt x="17398" y="14104"/>
                  <a:pt x="17475" y="13984"/>
                  <a:pt x="17558" y="13780"/>
                </a:cubicBezTo>
                <a:cubicBezTo>
                  <a:pt x="17647" y="13563"/>
                  <a:pt x="17727" y="13339"/>
                  <a:pt x="17780" y="13113"/>
                </a:cubicBezTo>
                <a:cubicBezTo>
                  <a:pt x="17829" y="12905"/>
                  <a:pt x="17812" y="12690"/>
                  <a:pt x="17812" y="12478"/>
                </a:cubicBezTo>
                <a:cubicBezTo>
                  <a:pt x="17812" y="12248"/>
                  <a:pt x="17742" y="12107"/>
                  <a:pt x="17653" y="11906"/>
                </a:cubicBezTo>
                <a:cubicBezTo>
                  <a:pt x="17589" y="11762"/>
                  <a:pt x="17517" y="11721"/>
                  <a:pt x="17399" y="11620"/>
                </a:cubicBezTo>
                <a:cubicBezTo>
                  <a:pt x="17292" y="11528"/>
                  <a:pt x="17154" y="11413"/>
                  <a:pt x="17018" y="11366"/>
                </a:cubicBezTo>
                <a:cubicBezTo>
                  <a:pt x="16917" y="11331"/>
                  <a:pt x="16777" y="11338"/>
                  <a:pt x="16669" y="11335"/>
                </a:cubicBezTo>
                <a:cubicBezTo>
                  <a:pt x="16529" y="11331"/>
                  <a:pt x="16404" y="11364"/>
                  <a:pt x="16288" y="11430"/>
                </a:cubicBezTo>
                <a:cubicBezTo>
                  <a:pt x="16162" y="11502"/>
                  <a:pt x="16034" y="11571"/>
                  <a:pt x="15938" y="11684"/>
                </a:cubicBezTo>
                <a:cubicBezTo>
                  <a:pt x="15821" y="11822"/>
                  <a:pt x="15727" y="11960"/>
                  <a:pt x="15653" y="12128"/>
                </a:cubicBezTo>
                <a:cubicBezTo>
                  <a:pt x="15561" y="12338"/>
                  <a:pt x="15474" y="12537"/>
                  <a:pt x="15430" y="12764"/>
                </a:cubicBezTo>
                <a:cubicBezTo>
                  <a:pt x="15383" y="13003"/>
                  <a:pt x="15376" y="13284"/>
                  <a:pt x="15399" y="13526"/>
                </a:cubicBezTo>
                <a:cubicBezTo>
                  <a:pt x="15417" y="13713"/>
                  <a:pt x="15471" y="13933"/>
                  <a:pt x="15558" y="14097"/>
                </a:cubicBezTo>
                <a:cubicBezTo>
                  <a:pt x="15620" y="14214"/>
                  <a:pt x="15727" y="14378"/>
                  <a:pt x="15843" y="14446"/>
                </a:cubicBezTo>
                <a:cubicBezTo>
                  <a:pt x="15947" y="14507"/>
                  <a:pt x="16106" y="14529"/>
                  <a:pt x="16224" y="14510"/>
                </a:cubicBezTo>
                <a:cubicBezTo>
                  <a:pt x="16332" y="14493"/>
                  <a:pt x="16438" y="14449"/>
                  <a:pt x="1654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8"/>
          <p:cNvSpPr/>
          <p:nvPr/>
        </p:nvSpPr>
        <p:spPr>
          <a:xfrm>
            <a:off x="3921120" y="3475080"/>
            <a:ext cx="285840" cy="217440"/>
          </a:xfrm>
          <a:custGeom>
            <a:avLst/>
            <a:gdLst/>
            <a:ahLst/>
            <a:rect l="l" t="t" r="r" b="b"/>
            <a:pathLst>
              <a:path w="795" h="604">
                <a:moveTo>
                  <a:pt x="11081" y="9716"/>
                </a:moveTo>
                <a:cubicBezTo>
                  <a:pt x="11090" y="9689"/>
                  <a:pt x="11142" y="9640"/>
                  <a:pt x="11112" y="9684"/>
                </a:cubicBezTo>
                <a:cubicBezTo>
                  <a:pt x="11086" y="9722"/>
                  <a:pt x="11007" y="9758"/>
                  <a:pt x="11049" y="9779"/>
                </a:cubicBezTo>
                <a:cubicBezTo>
                  <a:pt x="11060" y="9779"/>
                  <a:pt x="11070" y="9779"/>
                  <a:pt x="11081" y="9779"/>
                </a:cubicBezTo>
              </a:path>
              <a:path w="795" h="604">
                <a:moveTo>
                  <a:pt x="10890" y="9938"/>
                </a:moveTo>
                <a:cubicBezTo>
                  <a:pt x="11024" y="9938"/>
                  <a:pt x="11155" y="9935"/>
                  <a:pt x="11271" y="9970"/>
                </a:cubicBezTo>
                <a:cubicBezTo>
                  <a:pt x="11282" y="9970"/>
                  <a:pt x="11292" y="9970"/>
                  <a:pt x="11303" y="9970"/>
                </a:cubicBezTo>
              </a:path>
              <a:path w="795" h="604">
                <a:moveTo>
                  <a:pt x="11049" y="10224"/>
                </a:moveTo>
                <a:cubicBezTo>
                  <a:pt x="11060" y="10213"/>
                  <a:pt x="11070" y="10203"/>
                  <a:pt x="11081" y="10192"/>
                </a:cubicBezTo>
              </a:path>
              <a:path w="795" h="604">
                <a:moveTo>
                  <a:pt x="11398" y="9747"/>
                </a:moveTo>
                <a:cubicBezTo>
                  <a:pt x="11443" y="9732"/>
                  <a:pt x="11430" y="9691"/>
                  <a:pt x="11494" y="9684"/>
                </a:cubicBezTo>
                <a:cubicBezTo>
                  <a:pt x="11533" y="9680"/>
                  <a:pt x="11590" y="9638"/>
                  <a:pt x="11620" y="9684"/>
                </a:cubicBezTo>
                <a:cubicBezTo>
                  <a:pt x="11644" y="9721"/>
                  <a:pt x="11610" y="9787"/>
                  <a:pt x="11589" y="9811"/>
                </a:cubicBezTo>
                <a:cubicBezTo>
                  <a:pt x="11546" y="9859"/>
                  <a:pt x="11543" y="9873"/>
                  <a:pt x="11494" y="9906"/>
                </a:cubicBezTo>
                <a:cubicBezTo>
                  <a:pt x="11416" y="9959"/>
                  <a:pt x="11515" y="9906"/>
                  <a:pt x="11557" y="9906"/>
                </a:cubicBezTo>
                <a:cubicBezTo>
                  <a:pt x="11617" y="9906"/>
                  <a:pt x="11666" y="9979"/>
                  <a:pt x="11684" y="10033"/>
                </a:cubicBezTo>
                <a:cubicBezTo>
                  <a:pt x="11703" y="10090"/>
                  <a:pt x="11687" y="10152"/>
                  <a:pt x="11652" y="10192"/>
                </a:cubicBezTo>
                <a:cubicBezTo>
                  <a:pt x="11611" y="10238"/>
                  <a:pt x="11521" y="10250"/>
                  <a:pt x="11462" y="10255"/>
                </a:cubicBezTo>
                <a:cubicBezTo>
                  <a:pt x="11395" y="10260"/>
                  <a:pt x="11398" y="10254"/>
                  <a:pt x="11398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9"/>
          <p:cNvSpPr/>
          <p:nvPr/>
        </p:nvSpPr>
        <p:spPr>
          <a:xfrm>
            <a:off x="4618080" y="3508200"/>
            <a:ext cx="285840" cy="230400"/>
          </a:xfrm>
          <a:custGeom>
            <a:avLst/>
            <a:gdLst/>
            <a:ahLst/>
            <a:rect l="l" t="t" r="r" b="b"/>
            <a:pathLst>
              <a:path w="795" h="636">
                <a:moveTo>
                  <a:pt x="13049" y="9779"/>
                </a:moveTo>
                <a:cubicBezTo>
                  <a:pt x="13039" y="9775"/>
                  <a:pt x="12979" y="9715"/>
                  <a:pt x="12954" y="9747"/>
                </a:cubicBezTo>
                <a:cubicBezTo>
                  <a:pt x="12940" y="9765"/>
                  <a:pt x="12928" y="9817"/>
                  <a:pt x="12922" y="9842"/>
                </a:cubicBezTo>
                <a:cubicBezTo>
                  <a:pt x="12971" y="9842"/>
                  <a:pt x="13012" y="9862"/>
                  <a:pt x="13018" y="9811"/>
                </a:cubicBezTo>
                <a:cubicBezTo>
                  <a:pt x="13027" y="9741"/>
                  <a:pt x="12975" y="9804"/>
                  <a:pt x="12954" y="9811"/>
                </a:cubicBezTo>
              </a:path>
              <a:path w="795" h="636">
                <a:moveTo>
                  <a:pt x="12827" y="10065"/>
                </a:moveTo>
                <a:cubicBezTo>
                  <a:pt x="12900" y="10065"/>
                  <a:pt x="12959" y="10084"/>
                  <a:pt x="13018" y="10096"/>
                </a:cubicBezTo>
                <a:cubicBezTo>
                  <a:pt x="13065" y="10105"/>
                  <a:pt x="13127" y="10096"/>
                  <a:pt x="13176" y="10096"/>
                </a:cubicBezTo>
              </a:path>
              <a:path w="795" h="636">
                <a:moveTo>
                  <a:pt x="12986" y="10350"/>
                </a:moveTo>
                <a:cubicBezTo>
                  <a:pt x="12935" y="10367"/>
                  <a:pt x="12935" y="10367"/>
                  <a:pt x="12986" y="10350"/>
                </a:cubicBezTo>
              </a:path>
              <a:path w="795" h="636">
                <a:moveTo>
                  <a:pt x="13367" y="9874"/>
                </a:moveTo>
                <a:cubicBezTo>
                  <a:pt x="13375" y="9841"/>
                  <a:pt x="13416" y="9786"/>
                  <a:pt x="13430" y="9779"/>
                </a:cubicBezTo>
                <a:cubicBezTo>
                  <a:pt x="13456" y="9766"/>
                  <a:pt x="13527" y="9779"/>
                  <a:pt x="13557" y="9779"/>
                </a:cubicBezTo>
                <a:cubicBezTo>
                  <a:pt x="13557" y="9837"/>
                  <a:pt x="13565" y="9862"/>
                  <a:pt x="13526" y="9906"/>
                </a:cubicBezTo>
                <a:cubicBezTo>
                  <a:pt x="13495" y="9941"/>
                  <a:pt x="13383" y="9970"/>
                  <a:pt x="13430" y="9970"/>
                </a:cubicBezTo>
                <a:cubicBezTo>
                  <a:pt x="13488" y="9970"/>
                  <a:pt x="13513" y="9962"/>
                  <a:pt x="13557" y="10001"/>
                </a:cubicBezTo>
                <a:cubicBezTo>
                  <a:pt x="13597" y="10037"/>
                  <a:pt x="13642" y="10102"/>
                  <a:pt x="13621" y="10160"/>
                </a:cubicBezTo>
                <a:cubicBezTo>
                  <a:pt x="13604" y="10208"/>
                  <a:pt x="13580" y="10295"/>
                  <a:pt x="13526" y="10319"/>
                </a:cubicBezTo>
                <a:cubicBezTo>
                  <a:pt x="13478" y="10341"/>
                  <a:pt x="13372" y="10331"/>
                  <a:pt x="13367" y="10287"/>
                </a:cubicBezTo>
                <a:cubicBezTo>
                  <a:pt x="13367" y="10251"/>
                  <a:pt x="13370" y="10238"/>
                  <a:pt x="13398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0"/>
          <p:cNvSpPr/>
          <p:nvPr/>
        </p:nvSpPr>
        <p:spPr>
          <a:xfrm>
            <a:off x="1932120" y="3497400"/>
            <a:ext cx="1017360" cy="206280"/>
          </a:xfrm>
          <a:custGeom>
            <a:avLst/>
            <a:gdLst/>
            <a:ahLst/>
            <a:rect l="l" t="t" r="r" b="b"/>
            <a:pathLst>
              <a:path w="2827" h="572">
                <a:moveTo>
                  <a:pt x="5398" y="9747"/>
                </a:moveTo>
                <a:cubicBezTo>
                  <a:pt x="5451" y="9747"/>
                  <a:pt x="5440" y="9747"/>
                  <a:pt x="5493" y="9747"/>
                </a:cubicBezTo>
                <a:cubicBezTo>
                  <a:pt x="5586" y="9747"/>
                  <a:pt x="5657" y="9726"/>
                  <a:pt x="5747" y="9716"/>
                </a:cubicBezTo>
                <a:cubicBezTo>
                  <a:pt x="6000" y="9687"/>
                  <a:pt x="6260" y="9730"/>
                  <a:pt x="6509" y="9747"/>
                </a:cubicBezTo>
                <a:cubicBezTo>
                  <a:pt x="6772" y="9764"/>
                  <a:pt x="7041" y="9763"/>
                  <a:pt x="7302" y="9779"/>
                </a:cubicBezTo>
                <a:cubicBezTo>
                  <a:pt x="7493" y="9791"/>
                  <a:pt x="7686" y="9773"/>
                  <a:pt x="7874" y="9811"/>
                </a:cubicBezTo>
                <a:cubicBezTo>
                  <a:pt x="7902" y="9817"/>
                  <a:pt x="8197" y="9842"/>
                  <a:pt x="8033" y="9842"/>
                </a:cubicBezTo>
              </a:path>
              <a:path w="2827" h="572">
                <a:moveTo>
                  <a:pt x="5842" y="10255"/>
                </a:moveTo>
                <a:cubicBezTo>
                  <a:pt x="5813" y="10284"/>
                  <a:pt x="5807" y="10295"/>
                  <a:pt x="5778" y="10287"/>
                </a:cubicBezTo>
                <a:cubicBezTo>
                  <a:pt x="5821" y="10261"/>
                  <a:pt x="5883" y="10233"/>
                  <a:pt x="5937" y="10224"/>
                </a:cubicBezTo>
                <a:cubicBezTo>
                  <a:pt x="6420" y="10146"/>
                  <a:pt x="6973" y="10221"/>
                  <a:pt x="7461" y="10192"/>
                </a:cubicBezTo>
                <a:cubicBezTo>
                  <a:pt x="7703" y="10178"/>
                  <a:pt x="7950" y="10192"/>
                  <a:pt x="8192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1"/>
          <p:cNvSpPr/>
          <p:nvPr/>
        </p:nvSpPr>
        <p:spPr>
          <a:xfrm>
            <a:off x="2835360" y="1347840"/>
            <a:ext cx="3817800" cy="2206440"/>
          </a:xfrm>
          <a:custGeom>
            <a:avLst/>
            <a:gdLst/>
            <a:ahLst/>
            <a:rect l="l" t="t" r="r" b="b"/>
            <a:pathLst>
              <a:path w="10605" h="6129">
                <a:moveTo>
                  <a:pt x="7874" y="3746"/>
                </a:moveTo>
                <a:cubicBezTo>
                  <a:pt x="7922" y="3812"/>
                  <a:pt x="7919" y="3888"/>
                  <a:pt x="8001" y="3969"/>
                </a:cubicBezTo>
                <a:cubicBezTo>
                  <a:pt x="8166" y="4131"/>
                  <a:pt x="8422" y="4263"/>
                  <a:pt x="8636" y="4350"/>
                </a:cubicBezTo>
                <a:cubicBezTo>
                  <a:pt x="8950" y="4478"/>
                  <a:pt x="9272" y="4581"/>
                  <a:pt x="9588" y="4699"/>
                </a:cubicBezTo>
                <a:cubicBezTo>
                  <a:pt x="10038" y="4867"/>
                  <a:pt x="10472" y="5073"/>
                  <a:pt x="10922" y="5239"/>
                </a:cubicBezTo>
                <a:cubicBezTo>
                  <a:pt x="11334" y="5391"/>
                  <a:pt x="11748" y="5532"/>
                  <a:pt x="12160" y="5683"/>
                </a:cubicBezTo>
                <a:cubicBezTo>
                  <a:pt x="12651" y="5864"/>
                  <a:pt x="13146" y="6066"/>
                  <a:pt x="13621" y="6286"/>
                </a:cubicBezTo>
                <a:cubicBezTo>
                  <a:pt x="14505" y="6695"/>
                  <a:pt x="15413" y="7107"/>
                  <a:pt x="16224" y="7652"/>
                </a:cubicBezTo>
                <a:cubicBezTo>
                  <a:pt x="17138" y="8266"/>
                  <a:pt x="17825" y="8998"/>
                  <a:pt x="18478" y="9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, a, w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90720" y="2286000"/>
                <a:ext cx="67816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w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Ink 4"/>
          <p:cNvSpPr/>
          <p:nvPr/>
        </p:nvSpPr>
        <p:spPr>
          <a:xfrm>
            <a:off x="982800" y="2879640"/>
            <a:ext cx="6858000" cy="984240"/>
          </a:xfrm>
          <a:custGeom>
            <a:avLst/>
            <a:gdLst/>
            <a:ahLst/>
            <a:rect l="l" t="t" r="r" b="b"/>
            <a:pathLst>
              <a:path w="19051" h="2732">
                <a:moveTo>
                  <a:pt x="3492" y="8096"/>
                </a:moveTo>
                <a:cubicBezTo>
                  <a:pt x="3688" y="8096"/>
                  <a:pt x="3874" y="8091"/>
                  <a:pt x="4064" y="8064"/>
                </a:cubicBezTo>
                <a:cubicBezTo>
                  <a:pt x="4269" y="8035"/>
                  <a:pt x="4495" y="8054"/>
                  <a:pt x="4699" y="8033"/>
                </a:cubicBezTo>
                <a:cubicBezTo>
                  <a:pt x="5062" y="7995"/>
                  <a:pt x="5452" y="8034"/>
                  <a:pt x="5810" y="8064"/>
                </a:cubicBezTo>
                <a:cubicBezTo>
                  <a:pt x="5990" y="8079"/>
                  <a:pt x="6174" y="8080"/>
                  <a:pt x="6350" y="8096"/>
                </a:cubicBezTo>
                <a:cubicBezTo>
                  <a:pt x="6512" y="8111"/>
                  <a:pt x="6667" y="8105"/>
                  <a:pt x="6826" y="8128"/>
                </a:cubicBezTo>
                <a:cubicBezTo>
                  <a:pt x="6927" y="8142"/>
                  <a:pt x="6994" y="8127"/>
                  <a:pt x="7080" y="8160"/>
                </a:cubicBezTo>
              </a:path>
              <a:path w="19051" h="2732">
                <a:moveTo>
                  <a:pt x="13716" y="8001"/>
                </a:moveTo>
                <a:cubicBezTo>
                  <a:pt x="13782" y="8010"/>
                  <a:pt x="13763" y="8023"/>
                  <a:pt x="13811" y="8033"/>
                </a:cubicBezTo>
                <a:cubicBezTo>
                  <a:pt x="13903" y="8051"/>
                  <a:pt x="13983" y="8014"/>
                  <a:pt x="14065" y="8001"/>
                </a:cubicBezTo>
                <a:cubicBezTo>
                  <a:pt x="14643" y="7909"/>
                  <a:pt x="15331" y="7994"/>
                  <a:pt x="15907" y="8033"/>
                </a:cubicBezTo>
                <a:cubicBezTo>
                  <a:pt x="16288" y="8059"/>
                  <a:pt x="16672" y="8033"/>
                  <a:pt x="17050" y="8064"/>
                </a:cubicBezTo>
                <a:cubicBezTo>
                  <a:pt x="17240" y="8079"/>
                  <a:pt x="17449" y="8071"/>
                  <a:pt x="17621" y="8096"/>
                </a:cubicBezTo>
                <a:cubicBezTo>
                  <a:pt x="17674" y="8096"/>
                  <a:pt x="17684" y="8096"/>
                  <a:pt x="17716" y="8096"/>
                </a:cubicBezTo>
              </a:path>
              <a:path w="19051" h="2732">
                <a:moveTo>
                  <a:pt x="6953" y="8826"/>
                </a:moveTo>
                <a:cubicBezTo>
                  <a:pt x="6868" y="8778"/>
                  <a:pt x="6792" y="8739"/>
                  <a:pt x="6699" y="8700"/>
                </a:cubicBezTo>
                <a:cubicBezTo>
                  <a:pt x="6498" y="8616"/>
                  <a:pt x="6304" y="8579"/>
                  <a:pt x="6096" y="8541"/>
                </a:cubicBezTo>
                <a:cubicBezTo>
                  <a:pt x="5927" y="8510"/>
                  <a:pt x="5760" y="8482"/>
                  <a:pt x="5588" y="8477"/>
                </a:cubicBezTo>
                <a:cubicBezTo>
                  <a:pt x="5416" y="8472"/>
                  <a:pt x="5254" y="8446"/>
                  <a:pt x="5080" y="8446"/>
                </a:cubicBezTo>
                <a:cubicBezTo>
                  <a:pt x="4906" y="8446"/>
                  <a:pt x="4744" y="8472"/>
                  <a:pt x="4572" y="8477"/>
                </a:cubicBezTo>
                <a:cubicBezTo>
                  <a:pt x="4409" y="8481"/>
                  <a:pt x="4254" y="8527"/>
                  <a:pt x="4096" y="8541"/>
                </a:cubicBezTo>
                <a:cubicBezTo>
                  <a:pt x="3903" y="8558"/>
                  <a:pt x="3707" y="8592"/>
                  <a:pt x="3524" y="8668"/>
                </a:cubicBezTo>
                <a:cubicBezTo>
                  <a:pt x="3407" y="8717"/>
                  <a:pt x="3284" y="8791"/>
                  <a:pt x="3175" y="8858"/>
                </a:cubicBezTo>
                <a:cubicBezTo>
                  <a:pt x="3100" y="8904"/>
                  <a:pt x="2940" y="9012"/>
                  <a:pt x="2889" y="9080"/>
                </a:cubicBezTo>
                <a:cubicBezTo>
                  <a:pt x="2834" y="9154"/>
                  <a:pt x="2796" y="9282"/>
                  <a:pt x="2762" y="9366"/>
                </a:cubicBezTo>
                <a:cubicBezTo>
                  <a:pt x="2721" y="9466"/>
                  <a:pt x="2719" y="9608"/>
                  <a:pt x="2730" y="9716"/>
                </a:cubicBezTo>
                <a:cubicBezTo>
                  <a:pt x="2740" y="9814"/>
                  <a:pt x="2776" y="9913"/>
                  <a:pt x="2826" y="10001"/>
                </a:cubicBezTo>
                <a:cubicBezTo>
                  <a:pt x="2871" y="10081"/>
                  <a:pt x="2940" y="10167"/>
                  <a:pt x="3016" y="10224"/>
                </a:cubicBezTo>
                <a:cubicBezTo>
                  <a:pt x="3113" y="10298"/>
                  <a:pt x="3248" y="10340"/>
                  <a:pt x="3366" y="10382"/>
                </a:cubicBezTo>
                <a:cubicBezTo>
                  <a:pt x="3619" y="10473"/>
                  <a:pt x="3870" y="10514"/>
                  <a:pt x="4128" y="10573"/>
                </a:cubicBezTo>
                <a:cubicBezTo>
                  <a:pt x="4293" y="10611"/>
                  <a:pt x="4467" y="10632"/>
                  <a:pt x="4636" y="10636"/>
                </a:cubicBezTo>
                <a:cubicBezTo>
                  <a:pt x="4831" y="10641"/>
                  <a:pt x="5013" y="10685"/>
                  <a:pt x="5207" y="10700"/>
                </a:cubicBezTo>
                <a:cubicBezTo>
                  <a:pt x="5386" y="10714"/>
                  <a:pt x="5569" y="10728"/>
                  <a:pt x="5747" y="10732"/>
                </a:cubicBezTo>
                <a:cubicBezTo>
                  <a:pt x="5975" y="10738"/>
                  <a:pt x="6191" y="10719"/>
                  <a:pt x="6414" y="10700"/>
                </a:cubicBezTo>
                <a:cubicBezTo>
                  <a:pt x="6572" y="10687"/>
                  <a:pt x="6704" y="10649"/>
                  <a:pt x="6858" y="10604"/>
                </a:cubicBezTo>
                <a:cubicBezTo>
                  <a:pt x="7006" y="10561"/>
                  <a:pt x="7065" y="10514"/>
                  <a:pt x="7176" y="10414"/>
                </a:cubicBezTo>
                <a:cubicBezTo>
                  <a:pt x="7276" y="10325"/>
                  <a:pt x="7312" y="10247"/>
                  <a:pt x="7366" y="10128"/>
                </a:cubicBezTo>
                <a:cubicBezTo>
                  <a:pt x="7423" y="10003"/>
                  <a:pt x="7425" y="9914"/>
                  <a:pt x="7430" y="9779"/>
                </a:cubicBezTo>
                <a:cubicBezTo>
                  <a:pt x="7436" y="9626"/>
                  <a:pt x="7401" y="9514"/>
                  <a:pt x="7366" y="9366"/>
                </a:cubicBezTo>
                <a:cubicBezTo>
                  <a:pt x="7341" y="9262"/>
                  <a:pt x="7295" y="9143"/>
                  <a:pt x="7239" y="9049"/>
                </a:cubicBezTo>
                <a:cubicBezTo>
                  <a:pt x="7181" y="8952"/>
                  <a:pt x="7103" y="8871"/>
                  <a:pt x="7017" y="8795"/>
                </a:cubicBezTo>
                <a:cubicBezTo>
                  <a:pt x="6926" y="8714"/>
                  <a:pt x="6845" y="8648"/>
                  <a:pt x="6731" y="8604"/>
                </a:cubicBezTo>
                <a:cubicBezTo>
                  <a:pt x="6662" y="8577"/>
                  <a:pt x="6485" y="8540"/>
                  <a:pt x="6414" y="8541"/>
                </a:cubicBezTo>
                <a:cubicBezTo>
                  <a:pt x="6342" y="8543"/>
                  <a:pt x="6269" y="8572"/>
                  <a:pt x="6191" y="8572"/>
                </a:cubicBezTo>
              </a:path>
              <a:path w="19051" h="2732">
                <a:moveTo>
                  <a:pt x="14859" y="8826"/>
                </a:moveTo>
                <a:cubicBezTo>
                  <a:pt x="14807" y="8815"/>
                  <a:pt x="14757" y="8809"/>
                  <a:pt x="14700" y="8795"/>
                </a:cubicBezTo>
                <a:cubicBezTo>
                  <a:pt x="14623" y="8777"/>
                  <a:pt x="14532" y="8723"/>
                  <a:pt x="14446" y="8700"/>
                </a:cubicBezTo>
                <a:cubicBezTo>
                  <a:pt x="14319" y="8667"/>
                  <a:pt x="14166" y="8645"/>
                  <a:pt x="14034" y="8636"/>
                </a:cubicBezTo>
                <a:cubicBezTo>
                  <a:pt x="13881" y="8626"/>
                  <a:pt x="13698" y="8614"/>
                  <a:pt x="13557" y="8668"/>
                </a:cubicBezTo>
                <a:cubicBezTo>
                  <a:pt x="13465" y="8703"/>
                  <a:pt x="13317" y="8797"/>
                  <a:pt x="13240" y="8858"/>
                </a:cubicBezTo>
                <a:cubicBezTo>
                  <a:pt x="13166" y="8917"/>
                  <a:pt x="13097" y="9001"/>
                  <a:pt x="13049" y="9080"/>
                </a:cubicBezTo>
                <a:cubicBezTo>
                  <a:pt x="12978" y="9198"/>
                  <a:pt x="12909" y="9355"/>
                  <a:pt x="12890" y="9493"/>
                </a:cubicBezTo>
                <a:cubicBezTo>
                  <a:pt x="12875" y="9606"/>
                  <a:pt x="12883" y="9740"/>
                  <a:pt x="12922" y="9842"/>
                </a:cubicBezTo>
                <a:cubicBezTo>
                  <a:pt x="12956" y="9932"/>
                  <a:pt x="13044" y="9978"/>
                  <a:pt x="13113" y="10033"/>
                </a:cubicBezTo>
                <a:cubicBezTo>
                  <a:pt x="13197" y="10100"/>
                  <a:pt x="13304" y="10182"/>
                  <a:pt x="13398" y="10224"/>
                </a:cubicBezTo>
                <a:cubicBezTo>
                  <a:pt x="13526" y="10282"/>
                  <a:pt x="13676" y="10313"/>
                  <a:pt x="13811" y="10350"/>
                </a:cubicBezTo>
                <a:cubicBezTo>
                  <a:pt x="13970" y="10394"/>
                  <a:pt x="14129" y="10437"/>
                  <a:pt x="14288" y="10478"/>
                </a:cubicBezTo>
                <a:cubicBezTo>
                  <a:pt x="14455" y="10521"/>
                  <a:pt x="14654" y="10555"/>
                  <a:pt x="14827" y="10573"/>
                </a:cubicBezTo>
                <a:cubicBezTo>
                  <a:pt x="15049" y="10596"/>
                  <a:pt x="15273" y="10652"/>
                  <a:pt x="15494" y="10668"/>
                </a:cubicBezTo>
                <a:cubicBezTo>
                  <a:pt x="15822" y="10692"/>
                  <a:pt x="16156" y="10659"/>
                  <a:pt x="16478" y="10636"/>
                </a:cubicBezTo>
                <a:cubicBezTo>
                  <a:pt x="16661" y="10623"/>
                  <a:pt x="16838" y="10613"/>
                  <a:pt x="17018" y="10573"/>
                </a:cubicBezTo>
                <a:cubicBezTo>
                  <a:pt x="17241" y="10524"/>
                  <a:pt x="17507" y="10477"/>
                  <a:pt x="17716" y="10382"/>
                </a:cubicBezTo>
                <a:cubicBezTo>
                  <a:pt x="17842" y="10325"/>
                  <a:pt x="17959" y="10248"/>
                  <a:pt x="18066" y="10160"/>
                </a:cubicBezTo>
                <a:cubicBezTo>
                  <a:pt x="18150" y="10091"/>
                  <a:pt x="18201" y="10001"/>
                  <a:pt x="18256" y="9906"/>
                </a:cubicBezTo>
                <a:cubicBezTo>
                  <a:pt x="18315" y="9805"/>
                  <a:pt x="18371" y="9670"/>
                  <a:pt x="18383" y="9557"/>
                </a:cubicBezTo>
                <a:cubicBezTo>
                  <a:pt x="18397" y="9423"/>
                  <a:pt x="18364" y="9356"/>
                  <a:pt x="18320" y="9239"/>
                </a:cubicBezTo>
                <a:cubicBezTo>
                  <a:pt x="18272" y="9111"/>
                  <a:pt x="18229" y="9049"/>
                  <a:pt x="18129" y="8954"/>
                </a:cubicBezTo>
                <a:cubicBezTo>
                  <a:pt x="18019" y="8850"/>
                  <a:pt x="17892" y="8782"/>
                  <a:pt x="17748" y="8731"/>
                </a:cubicBezTo>
                <a:cubicBezTo>
                  <a:pt x="17490" y="8639"/>
                  <a:pt x="17220" y="8608"/>
                  <a:pt x="16954" y="8572"/>
                </a:cubicBezTo>
                <a:cubicBezTo>
                  <a:pt x="16750" y="8545"/>
                  <a:pt x="16558" y="8541"/>
                  <a:pt x="16351" y="8541"/>
                </a:cubicBezTo>
                <a:cubicBezTo>
                  <a:pt x="16150" y="8541"/>
                  <a:pt x="15946" y="8546"/>
                  <a:pt x="15748" y="8572"/>
                </a:cubicBezTo>
                <a:cubicBezTo>
                  <a:pt x="15544" y="8599"/>
                  <a:pt x="15347" y="8621"/>
                  <a:pt x="15145" y="8668"/>
                </a:cubicBezTo>
                <a:cubicBezTo>
                  <a:pt x="14977" y="8707"/>
                  <a:pt x="14808" y="8730"/>
                  <a:pt x="14637" y="8763"/>
                </a:cubicBezTo>
                <a:cubicBezTo>
                  <a:pt x="14543" y="8795"/>
                  <a:pt x="14513" y="8805"/>
                  <a:pt x="14446" y="8795"/>
                </a:cubicBezTo>
              </a:path>
              <a:path w="19051" h="2732">
                <a:moveTo>
                  <a:pt x="9716" y="8446"/>
                </a:moveTo>
                <a:cubicBezTo>
                  <a:pt x="9689" y="8483"/>
                  <a:pt x="9659" y="8530"/>
                  <a:pt x="9620" y="8572"/>
                </a:cubicBezTo>
                <a:cubicBezTo>
                  <a:pt x="9534" y="8663"/>
                  <a:pt x="9448" y="8736"/>
                  <a:pt x="9366" y="8826"/>
                </a:cubicBezTo>
                <a:cubicBezTo>
                  <a:pt x="9280" y="8921"/>
                  <a:pt x="9159" y="8990"/>
                  <a:pt x="9080" y="9080"/>
                </a:cubicBezTo>
                <a:cubicBezTo>
                  <a:pt x="8954" y="9223"/>
                  <a:pt x="8829" y="9355"/>
                  <a:pt x="8700" y="9493"/>
                </a:cubicBezTo>
                <a:cubicBezTo>
                  <a:pt x="8585" y="9616"/>
                  <a:pt x="8470" y="9731"/>
                  <a:pt x="8350" y="9842"/>
                </a:cubicBezTo>
                <a:cubicBezTo>
                  <a:pt x="8224" y="9959"/>
                  <a:pt x="8094" y="10080"/>
                  <a:pt x="7969" y="10192"/>
                </a:cubicBezTo>
                <a:cubicBezTo>
                  <a:pt x="7915" y="10240"/>
                  <a:pt x="7891" y="10301"/>
                  <a:pt x="7842" y="10350"/>
                </a:cubicBezTo>
                <a:cubicBezTo>
                  <a:pt x="7810" y="10350"/>
                  <a:pt x="7799" y="10350"/>
                  <a:pt x="7810" y="10382"/>
                </a:cubicBezTo>
                <a:cubicBezTo>
                  <a:pt x="7854" y="10362"/>
                  <a:pt x="7870" y="10360"/>
                  <a:pt x="7906" y="10350"/>
                </a:cubicBezTo>
                <a:cubicBezTo>
                  <a:pt x="7953" y="10336"/>
                  <a:pt x="8022" y="10292"/>
                  <a:pt x="8064" y="10287"/>
                </a:cubicBezTo>
                <a:cubicBezTo>
                  <a:pt x="8252" y="10264"/>
                  <a:pt x="8450" y="10276"/>
                  <a:pt x="8636" y="10255"/>
                </a:cubicBezTo>
                <a:cubicBezTo>
                  <a:pt x="8918" y="10223"/>
                  <a:pt x="9216" y="10264"/>
                  <a:pt x="9493" y="10287"/>
                </a:cubicBezTo>
                <a:cubicBezTo>
                  <a:pt x="9683" y="10303"/>
                  <a:pt x="9876" y="10304"/>
                  <a:pt x="10065" y="10319"/>
                </a:cubicBezTo>
                <a:cubicBezTo>
                  <a:pt x="10236" y="10332"/>
                  <a:pt x="10404" y="10368"/>
                  <a:pt x="10573" y="10382"/>
                </a:cubicBezTo>
                <a:cubicBezTo>
                  <a:pt x="10704" y="10393"/>
                  <a:pt x="10827" y="10416"/>
                  <a:pt x="10954" y="10446"/>
                </a:cubicBezTo>
                <a:cubicBezTo>
                  <a:pt x="11034" y="10465"/>
                  <a:pt x="11090" y="10473"/>
                  <a:pt x="11176" y="10478"/>
                </a:cubicBezTo>
                <a:cubicBezTo>
                  <a:pt x="11187" y="10478"/>
                  <a:pt x="11197" y="10478"/>
                  <a:pt x="11208" y="10478"/>
                </a:cubicBezTo>
                <a:cubicBezTo>
                  <a:pt x="11196" y="10429"/>
                  <a:pt x="11191" y="10396"/>
                  <a:pt x="11176" y="10350"/>
                </a:cubicBezTo>
                <a:cubicBezTo>
                  <a:pt x="11160" y="10299"/>
                  <a:pt x="11167" y="10240"/>
                  <a:pt x="11144" y="10192"/>
                </a:cubicBezTo>
                <a:cubicBezTo>
                  <a:pt x="11104" y="10109"/>
                  <a:pt x="11035" y="10018"/>
                  <a:pt x="10986" y="9938"/>
                </a:cubicBezTo>
                <a:cubicBezTo>
                  <a:pt x="10916" y="9822"/>
                  <a:pt x="10866" y="9702"/>
                  <a:pt x="10795" y="9588"/>
                </a:cubicBezTo>
                <a:cubicBezTo>
                  <a:pt x="10707" y="9447"/>
                  <a:pt x="10626" y="9347"/>
                  <a:pt x="10541" y="9208"/>
                </a:cubicBezTo>
                <a:cubicBezTo>
                  <a:pt x="10459" y="9073"/>
                  <a:pt x="10361" y="8988"/>
                  <a:pt x="10255" y="8858"/>
                </a:cubicBezTo>
                <a:cubicBezTo>
                  <a:pt x="10174" y="8759"/>
                  <a:pt x="10092" y="8663"/>
                  <a:pt x="10001" y="8572"/>
                </a:cubicBezTo>
                <a:cubicBezTo>
                  <a:pt x="9943" y="8514"/>
                  <a:pt x="9878" y="8469"/>
                  <a:pt x="9811" y="8414"/>
                </a:cubicBezTo>
                <a:cubicBezTo>
                  <a:pt x="9811" y="8382"/>
                  <a:pt x="9811" y="8371"/>
                  <a:pt x="9779" y="8382"/>
                </a:cubicBezTo>
              </a:path>
              <a:path w="19051" h="2732">
                <a:moveTo>
                  <a:pt x="20256" y="8731"/>
                </a:moveTo>
                <a:cubicBezTo>
                  <a:pt x="20179" y="8793"/>
                  <a:pt x="20136" y="8848"/>
                  <a:pt x="20066" y="8922"/>
                </a:cubicBezTo>
                <a:cubicBezTo>
                  <a:pt x="19960" y="9033"/>
                  <a:pt x="19845" y="9152"/>
                  <a:pt x="19748" y="9271"/>
                </a:cubicBezTo>
                <a:cubicBezTo>
                  <a:pt x="19638" y="9406"/>
                  <a:pt x="19523" y="9528"/>
                  <a:pt x="19399" y="9652"/>
                </a:cubicBezTo>
                <a:cubicBezTo>
                  <a:pt x="19278" y="9773"/>
                  <a:pt x="19179" y="9889"/>
                  <a:pt x="19050" y="10001"/>
                </a:cubicBezTo>
                <a:cubicBezTo>
                  <a:pt x="18976" y="10065"/>
                  <a:pt x="18929" y="10152"/>
                  <a:pt x="18860" y="10224"/>
                </a:cubicBezTo>
                <a:cubicBezTo>
                  <a:pt x="18828" y="10255"/>
                  <a:pt x="18817" y="10266"/>
                  <a:pt x="18796" y="10287"/>
                </a:cubicBezTo>
                <a:cubicBezTo>
                  <a:pt x="18836" y="10269"/>
                  <a:pt x="18907" y="10231"/>
                  <a:pt x="18955" y="10224"/>
                </a:cubicBezTo>
                <a:cubicBezTo>
                  <a:pt x="19059" y="10209"/>
                  <a:pt x="19167" y="10196"/>
                  <a:pt x="19272" y="10192"/>
                </a:cubicBezTo>
                <a:cubicBezTo>
                  <a:pt x="19415" y="10187"/>
                  <a:pt x="19544" y="10220"/>
                  <a:pt x="19685" y="10224"/>
                </a:cubicBezTo>
                <a:cubicBezTo>
                  <a:pt x="19860" y="10229"/>
                  <a:pt x="20022" y="10251"/>
                  <a:pt x="20193" y="10255"/>
                </a:cubicBezTo>
                <a:cubicBezTo>
                  <a:pt x="20504" y="10263"/>
                  <a:pt x="20808" y="10257"/>
                  <a:pt x="21114" y="10287"/>
                </a:cubicBezTo>
                <a:cubicBezTo>
                  <a:pt x="21288" y="10304"/>
                  <a:pt x="21460" y="10274"/>
                  <a:pt x="21622" y="10255"/>
                </a:cubicBezTo>
                <a:cubicBezTo>
                  <a:pt x="21699" y="10246"/>
                  <a:pt x="21717" y="10245"/>
                  <a:pt x="21780" y="10224"/>
                </a:cubicBezTo>
                <a:cubicBezTo>
                  <a:pt x="21757" y="10197"/>
                  <a:pt x="21723" y="10138"/>
                  <a:pt x="21685" y="10096"/>
                </a:cubicBezTo>
                <a:cubicBezTo>
                  <a:pt x="21597" y="9999"/>
                  <a:pt x="21502" y="9921"/>
                  <a:pt x="21431" y="9811"/>
                </a:cubicBezTo>
                <a:cubicBezTo>
                  <a:pt x="21327" y="9652"/>
                  <a:pt x="21189" y="9525"/>
                  <a:pt x="21082" y="9366"/>
                </a:cubicBezTo>
                <a:cubicBezTo>
                  <a:pt x="20990" y="9229"/>
                  <a:pt x="20882" y="9124"/>
                  <a:pt x="20764" y="9017"/>
                </a:cubicBezTo>
                <a:cubicBezTo>
                  <a:pt x="20668" y="8931"/>
                  <a:pt x="20576" y="8843"/>
                  <a:pt x="20479" y="8763"/>
                </a:cubicBezTo>
                <a:cubicBezTo>
                  <a:pt x="20413" y="8709"/>
                  <a:pt x="20389" y="8699"/>
                  <a:pt x="20320" y="8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5"/>
          <p:cNvSpPr/>
          <p:nvPr/>
        </p:nvSpPr>
        <p:spPr>
          <a:xfrm>
            <a:off x="2835360" y="2114640"/>
            <a:ext cx="1257120" cy="914400"/>
          </a:xfrm>
          <a:custGeom>
            <a:avLst/>
            <a:gdLst/>
            <a:ahLst/>
            <a:rect l="l" t="t" r="r" b="b"/>
            <a:pathLst>
              <a:path w="3493" h="2541">
                <a:moveTo>
                  <a:pt x="7969" y="6414"/>
                </a:moveTo>
                <a:cubicBezTo>
                  <a:pt x="7988" y="6497"/>
                  <a:pt x="8011" y="6544"/>
                  <a:pt x="8001" y="6636"/>
                </a:cubicBezTo>
                <a:cubicBezTo>
                  <a:pt x="7989" y="6749"/>
                  <a:pt x="7969" y="6862"/>
                  <a:pt x="7969" y="6985"/>
                </a:cubicBezTo>
                <a:cubicBezTo>
                  <a:pt x="7969" y="7429"/>
                  <a:pt x="7960" y="7886"/>
                  <a:pt x="8001" y="8318"/>
                </a:cubicBezTo>
                <a:cubicBezTo>
                  <a:pt x="8001" y="8361"/>
                  <a:pt x="8001" y="8382"/>
                  <a:pt x="8001" y="8414"/>
                </a:cubicBezTo>
                <a:cubicBezTo>
                  <a:pt x="8028" y="8387"/>
                  <a:pt x="8048" y="8344"/>
                  <a:pt x="8096" y="8318"/>
                </a:cubicBezTo>
                <a:cubicBezTo>
                  <a:pt x="8161" y="8283"/>
                  <a:pt x="8212" y="8264"/>
                  <a:pt x="8287" y="8255"/>
                </a:cubicBezTo>
                <a:cubicBezTo>
                  <a:pt x="8369" y="8245"/>
                  <a:pt x="8465" y="8230"/>
                  <a:pt x="8541" y="8223"/>
                </a:cubicBezTo>
                <a:cubicBezTo>
                  <a:pt x="8742" y="8203"/>
                  <a:pt x="8946" y="8214"/>
                  <a:pt x="9144" y="8192"/>
                </a:cubicBezTo>
                <a:cubicBezTo>
                  <a:pt x="9302" y="8175"/>
                  <a:pt x="9465" y="8177"/>
                  <a:pt x="9620" y="8160"/>
                </a:cubicBezTo>
                <a:cubicBezTo>
                  <a:pt x="9745" y="8146"/>
                  <a:pt x="9876" y="8148"/>
                  <a:pt x="10001" y="8128"/>
                </a:cubicBezTo>
                <a:cubicBezTo>
                  <a:pt x="10136" y="8107"/>
                  <a:pt x="10282" y="8121"/>
                  <a:pt x="10414" y="8096"/>
                </a:cubicBezTo>
                <a:cubicBezTo>
                  <a:pt x="10535" y="8073"/>
                  <a:pt x="10637" y="8064"/>
                  <a:pt x="10763" y="8064"/>
                </a:cubicBezTo>
                <a:cubicBezTo>
                  <a:pt x="10865" y="8064"/>
                  <a:pt x="10945" y="8093"/>
                  <a:pt x="11049" y="8096"/>
                </a:cubicBezTo>
                <a:cubicBezTo>
                  <a:pt x="11091" y="8097"/>
                  <a:pt x="11134" y="8096"/>
                  <a:pt x="11176" y="8096"/>
                </a:cubicBezTo>
                <a:cubicBezTo>
                  <a:pt x="11166" y="8045"/>
                  <a:pt x="11137" y="8072"/>
                  <a:pt x="11144" y="8001"/>
                </a:cubicBezTo>
                <a:cubicBezTo>
                  <a:pt x="11147" y="7963"/>
                  <a:pt x="11167" y="7863"/>
                  <a:pt x="11176" y="7810"/>
                </a:cubicBezTo>
                <a:cubicBezTo>
                  <a:pt x="11194" y="7699"/>
                  <a:pt x="11227" y="7576"/>
                  <a:pt x="11240" y="7461"/>
                </a:cubicBezTo>
                <a:cubicBezTo>
                  <a:pt x="11256" y="7315"/>
                  <a:pt x="11257" y="7162"/>
                  <a:pt x="11271" y="7017"/>
                </a:cubicBezTo>
                <a:cubicBezTo>
                  <a:pt x="11286" y="6863"/>
                  <a:pt x="11278" y="6693"/>
                  <a:pt x="11303" y="6540"/>
                </a:cubicBezTo>
                <a:cubicBezTo>
                  <a:pt x="11323" y="6414"/>
                  <a:pt x="11316" y="6286"/>
                  <a:pt x="11335" y="6160"/>
                </a:cubicBezTo>
                <a:cubicBezTo>
                  <a:pt x="11349" y="6065"/>
                  <a:pt x="11342" y="6018"/>
                  <a:pt x="11335" y="5937"/>
                </a:cubicBezTo>
                <a:cubicBezTo>
                  <a:pt x="11335" y="5906"/>
                  <a:pt x="11335" y="5895"/>
                  <a:pt x="11335" y="5874"/>
                </a:cubicBezTo>
                <a:cubicBezTo>
                  <a:pt x="11298" y="5894"/>
                  <a:pt x="11292" y="5911"/>
                  <a:pt x="11240" y="5937"/>
                </a:cubicBezTo>
                <a:cubicBezTo>
                  <a:pt x="11183" y="5966"/>
                  <a:pt x="11147" y="5954"/>
                  <a:pt x="11081" y="5969"/>
                </a:cubicBezTo>
                <a:cubicBezTo>
                  <a:pt x="10979" y="5991"/>
                  <a:pt x="10906" y="6001"/>
                  <a:pt x="10795" y="6001"/>
                </a:cubicBezTo>
                <a:cubicBezTo>
                  <a:pt x="10506" y="6001"/>
                  <a:pt x="10222" y="6008"/>
                  <a:pt x="9938" y="6032"/>
                </a:cubicBezTo>
                <a:cubicBezTo>
                  <a:pt x="9769" y="6046"/>
                  <a:pt x="9597" y="6050"/>
                  <a:pt x="9430" y="6064"/>
                </a:cubicBezTo>
                <a:cubicBezTo>
                  <a:pt x="9258" y="6078"/>
                  <a:pt x="9091" y="6090"/>
                  <a:pt x="8922" y="6128"/>
                </a:cubicBezTo>
                <a:cubicBezTo>
                  <a:pt x="8759" y="6165"/>
                  <a:pt x="8581" y="6202"/>
                  <a:pt x="8414" y="6223"/>
                </a:cubicBezTo>
                <a:cubicBezTo>
                  <a:pt x="8287" y="6239"/>
                  <a:pt x="8159" y="6272"/>
                  <a:pt x="8033" y="6286"/>
                </a:cubicBezTo>
                <a:cubicBezTo>
                  <a:pt x="7981" y="6292"/>
                  <a:pt x="7927" y="6282"/>
                  <a:pt x="7874" y="6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6"/>
          <p:cNvSpPr/>
          <p:nvPr/>
        </p:nvSpPr>
        <p:spPr>
          <a:xfrm>
            <a:off x="560520" y="3921120"/>
            <a:ext cx="2388960" cy="765360"/>
          </a:xfrm>
          <a:custGeom>
            <a:avLst/>
            <a:gdLst/>
            <a:ahLst/>
            <a:rect l="l" t="t" r="r" b="b"/>
            <a:pathLst>
              <a:path w="6637" h="2129">
                <a:moveTo>
                  <a:pt x="1683" y="11176"/>
                </a:moveTo>
                <a:cubicBezTo>
                  <a:pt x="1697" y="11132"/>
                  <a:pt x="1732" y="11138"/>
                  <a:pt x="1746" y="11112"/>
                </a:cubicBezTo>
                <a:cubicBezTo>
                  <a:pt x="1766" y="11074"/>
                  <a:pt x="1791" y="11009"/>
                  <a:pt x="1842" y="10986"/>
                </a:cubicBezTo>
                <a:cubicBezTo>
                  <a:pt x="1895" y="10963"/>
                  <a:pt x="1946" y="10908"/>
                  <a:pt x="2000" y="10890"/>
                </a:cubicBezTo>
                <a:cubicBezTo>
                  <a:pt x="2024" y="10882"/>
                  <a:pt x="2070" y="10890"/>
                  <a:pt x="2096" y="10890"/>
                </a:cubicBezTo>
                <a:cubicBezTo>
                  <a:pt x="2096" y="10970"/>
                  <a:pt x="2083" y="11006"/>
                  <a:pt x="2064" y="11081"/>
                </a:cubicBezTo>
                <a:cubicBezTo>
                  <a:pt x="2045" y="11157"/>
                  <a:pt x="1985" y="11227"/>
                  <a:pt x="1968" y="11303"/>
                </a:cubicBezTo>
                <a:cubicBezTo>
                  <a:pt x="1947" y="11395"/>
                  <a:pt x="1888" y="11465"/>
                  <a:pt x="1842" y="11557"/>
                </a:cubicBezTo>
                <a:cubicBezTo>
                  <a:pt x="1808" y="11625"/>
                  <a:pt x="1777" y="11734"/>
                  <a:pt x="1714" y="11779"/>
                </a:cubicBezTo>
                <a:cubicBezTo>
                  <a:pt x="1655" y="11821"/>
                  <a:pt x="1504" y="11855"/>
                  <a:pt x="1556" y="11906"/>
                </a:cubicBezTo>
                <a:cubicBezTo>
                  <a:pt x="1589" y="11938"/>
                  <a:pt x="1609" y="11863"/>
                  <a:pt x="1651" y="11843"/>
                </a:cubicBezTo>
                <a:cubicBezTo>
                  <a:pt x="1717" y="11811"/>
                  <a:pt x="1822" y="11857"/>
                  <a:pt x="1873" y="11874"/>
                </a:cubicBezTo>
                <a:cubicBezTo>
                  <a:pt x="1917" y="11888"/>
                  <a:pt x="1912" y="11919"/>
                  <a:pt x="1968" y="11938"/>
                </a:cubicBezTo>
                <a:cubicBezTo>
                  <a:pt x="1980" y="11942"/>
                  <a:pt x="2092" y="11965"/>
                  <a:pt x="2096" y="11970"/>
                </a:cubicBezTo>
                <a:cubicBezTo>
                  <a:pt x="2125" y="12006"/>
                  <a:pt x="2134" y="12021"/>
                  <a:pt x="2191" y="11970"/>
                </a:cubicBezTo>
                <a:cubicBezTo>
                  <a:pt x="2201" y="11959"/>
                  <a:pt x="2212" y="11949"/>
                  <a:pt x="2222" y="11938"/>
                </a:cubicBezTo>
              </a:path>
              <a:path w="6637" h="2129">
                <a:moveTo>
                  <a:pt x="2476" y="11208"/>
                </a:moveTo>
                <a:cubicBezTo>
                  <a:pt x="2542" y="11273"/>
                  <a:pt x="2535" y="11314"/>
                  <a:pt x="2572" y="11398"/>
                </a:cubicBezTo>
                <a:cubicBezTo>
                  <a:pt x="2617" y="11499"/>
                  <a:pt x="2623" y="11610"/>
                  <a:pt x="2667" y="11716"/>
                </a:cubicBezTo>
                <a:cubicBezTo>
                  <a:pt x="2703" y="11803"/>
                  <a:pt x="2770" y="11895"/>
                  <a:pt x="2826" y="11970"/>
                </a:cubicBezTo>
                <a:cubicBezTo>
                  <a:pt x="2857" y="12012"/>
                  <a:pt x="2867" y="12067"/>
                  <a:pt x="2889" y="12002"/>
                </a:cubicBezTo>
              </a:path>
              <a:path w="6637" h="2129">
                <a:moveTo>
                  <a:pt x="2826" y="11366"/>
                </a:moveTo>
                <a:cubicBezTo>
                  <a:pt x="2805" y="11469"/>
                  <a:pt x="2742" y="11486"/>
                  <a:pt x="2699" y="11557"/>
                </a:cubicBezTo>
                <a:cubicBezTo>
                  <a:pt x="2644" y="11649"/>
                  <a:pt x="2593" y="11749"/>
                  <a:pt x="2540" y="11843"/>
                </a:cubicBezTo>
                <a:cubicBezTo>
                  <a:pt x="2501" y="11913"/>
                  <a:pt x="2412" y="11965"/>
                  <a:pt x="2381" y="12033"/>
                </a:cubicBezTo>
                <a:cubicBezTo>
                  <a:pt x="2381" y="12065"/>
                  <a:pt x="2381" y="12075"/>
                  <a:pt x="2350" y="12065"/>
                </a:cubicBezTo>
              </a:path>
              <a:path w="6637" h="2129">
                <a:moveTo>
                  <a:pt x="3302" y="11303"/>
                </a:moveTo>
                <a:cubicBezTo>
                  <a:pt x="3302" y="11472"/>
                  <a:pt x="3302" y="11642"/>
                  <a:pt x="3302" y="11811"/>
                </a:cubicBezTo>
              </a:path>
              <a:path w="6637" h="2129">
                <a:moveTo>
                  <a:pt x="3080" y="11494"/>
                </a:moveTo>
                <a:cubicBezTo>
                  <a:pt x="3139" y="11537"/>
                  <a:pt x="3171" y="11533"/>
                  <a:pt x="3238" y="11557"/>
                </a:cubicBezTo>
                <a:cubicBezTo>
                  <a:pt x="3353" y="11598"/>
                  <a:pt x="3381" y="11576"/>
                  <a:pt x="3492" y="11557"/>
                </a:cubicBezTo>
                <a:cubicBezTo>
                  <a:pt x="3571" y="11544"/>
                  <a:pt x="3563" y="11549"/>
                  <a:pt x="3620" y="11494"/>
                </a:cubicBezTo>
              </a:path>
              <a:path w="6637" h="2129">
                <a:moveTo>
                  <a:pt x="3778" y="10986"/>
                </a:moveTo>
                <a:cubicBezTo>
                  <a:pt x="3825" y="11108"/>
                  <a:pt x="3793" y="11145"/>
                  <a:pt x="3778" y="11271"/>
                </a:cubicBezTo>
                <a:cubicBezTo>
                  <a:pt x="3761" y="11417"/>
                  <a:pt x="3750" y="11570"/>
                  <a:pt x="3746" y="11716"/>
                </a:cubicBezTo>
                <a:cubicBezTo>
                  <a:pt x="3741" y="11880"/>
                  <a:pt x="3726" y="12031"/>
                  <a:pt x="3715" y="12192"/>
                </a:cubicBezTo>
              </a:path>
              <a:path w="6637" h="2129">
                <a:moveTo>
                  <a:pt x="4254" y="11589"/>
                </a:moveTo>
                <a:cubicBezTo>
                  <a:pt x="4295" y="11558"/>
                  <a:pt x="4359" y="11539"/>
                  <a:pt x="4413" y="11525"/>
                </a:cubicBezTo>
                <a:cubicBezTo>
                  <a:pt x="4469" y="11511"/>
                  <a:pt x="4548" y="11498"/>
                  <a:pt x="4604" y="11494"/>
                </a:cubicBezTo>
                <a:cubicBezTo>
                  <a:pt x="4677" y="11489"/>
                  <a:pt x="4752" y="11494"/>
                  <a:pt x="4826" y="11494"/>
                </a:cubicBezTo>
              </a:path>
              <a:path w="6637" h="2129">
                <a:moveTo>
                  <a:pt x="4223" y="11843"/>
                </a:moveTo>
                <a:cubicBezTo>
                  <a:pt x="4233" y="11843"/>
                  <a:pt x="4244" y="11843"/>
                  <a:pt x="4254" y="11843"/>
                </a:cubicBezTo>
                <a:cubicBezTo>
                  <a:pt x="4271" y="11791"/>
                  <a:pt x="4317" y="11811"/>
                  <a:pt x="4382" y="11811"/>
                </a:cubicBezTo>
                <a:cubicBezTo>
                  <a:pt x="4459" y="11811"/>
                  <a:pt x="4740" y="11846"/>
                  <a:pt x="4762" y="11779"/>
                </a:cubicBezTo>
              </a:path>
              <a:path w="6637" h="2129">
                <a:moveTo>
                  <a:pt x="5016" y="11240"/>
                </a:moveTo>
                <a:cubicBezTo>
                  <a:pt x="5006" y="11240"/>
                  <a:pt x="4995" y="11240"/>
                  <a:pt x="4985" y="11240"/>
                </a:cubicBezTo>
                <a:cubicBezTo>
                  <a:pt x="5032" y="11256"/>
                  <a:pt x="5012" y="11271"/>
                  <a:pt x="5080" y="11271"/>
                </a:cubicBezTo>
                <a:cubicBezTo>
                  <a:pt x="5175" y="11271"/>
                  <a:pt x="5271" y="11271"/>
                  <a:pt x="5366" y="11271"/>
                </a:cubicBezTo>
              </a:path>
              <a:path w="6637" h="2129">
                <a:moveTo>
                  <a:pt x="6064" y="11049"/>
                </a:moveTo>
                <a:cubicBezTo>
                  <a:pt x="6075" y="11060"/>
                  <a:pt x="6085" y="11070"/>
                  <a:pt x="6096" y="11081"/>
                </a:cubicBezTo>
                <a:cubicBezTo>
                  <a:pt x="6000" y="11081"/>
                  <a:pt x="5819" y="11048"/>
                  <a:pt x="5747" y="11112"/>
                </a:cubicBezTo>
                <a:cubicBezTo>
                  <a:pt x="5692" y="11161"/>
                  <a:pt x="5711" y="11214"/>
                  <a:pt x="5683" y="11271"/>
                </a:cubicBezTo>
                <a:cubicBezTo>
                  <a:pt x="5655" y="11327"/>
                  <a:pt x="5627" y="11393"/>
                  <a:pt x="5620" y="11462"/>
                </a:cubicBezTo>
                <a:cubicBezTo>
                  <a:pt x="5616" y="11503"/>
                  <a:pt x="5620" y="11547"/>
                  <a:pt x="5620" y="11589"/>
                </a:cubicBezTo>
                <a:cubicBezTo>
                  <a:pt x="5693" y="11565"/>
                  <a:pt x="5608" y="11529"/>
                  <a:pt x="5652" y="11494"/>
                </a:cubicBezTo>
                <a:cubicBezTo>
                  <a:pt x="5671" y="11479"/>
                  <a:pt x="5750" y="11410"/>
                  <a:pt x="5778" y="11398"/>
                </a:cubicBezTo>
                <a:cubicBezTo>
                  <a:pt x="5834" y="11373"/>
                  <a:pt x="5954" y="11398"/>
                  <a:pt x="6001" y="11430"/>
                </a:cubicBezTo>
                <a:cubicBezTo>
                  <a:pt x="6040" y="11456"/>
                  <a:pt x="6117" y="11573"/>
                  <a:pt x="6128" y="11620"/>
                </a:cubicBezTo>
                <a:cubicBezTo>
                  <a:pt x="6146" y="11698"/>
                  <a:pt x="6129" y="11783"/>
                  <a:pt x="6096" y="11843"/>
                </a:cubicBezTo>
                <a:cubicBezTo>
                  <a:pt x="6063" y="11904"/>
                  <a:pt x="5981" y="11984"/>
                  <a:pt x="5906" y="12002"/>
                </a:cubicBezTo>
                <a:cubicBezTo>
                  <a:pt x="5856" y="12014"/>
                  <a:pt x="5735" y="12058"/>
                  <a:pt x="5683" y="12033"/>
                </a:cubicBezTo>
                <a:cubicBezTo>
                  <a:pt x="5626" y="12005"/>
                  <a:pt x="5620" y="12000"/>
                  <a:pt x="5620" y="11938"/>
                </a:cubicBezTo>
                <a:cubicBezTo>
                  <a:pt x="5620" y="11906"/>
                  <a:pt x="5620" y="11895"/>
                  <a:pt x="5620" y="11874"/>
                </a:cubicBezTo>
              </a:path>
              <a:path w="6637" h="2129">
                <a:moveTo>
                  <a:pt x="6223" y="11398"/>
                </a:moveTo>
                <a:cubicBezTo>
                  <a:pt x="6260" y="11448"/>
                  <a:pt x="6286" y="11497"/>
                  <a:pt x="6318" y="11557"/>
                </a:cubicBezTo>
                <a:cubicBezTo>
                  <a:pt x="6372" y="11657"/>
                  <a:pt x="6392" y="11775"/>
                  <a:pt x="6445" y="11874"/>
                </a:cubicBezTo>
                <a:cubicBezTo>
                  <a:pt x="6482" y="11942"/>
                  <a:pt x="6571" y="12082"/>
                  <a:pt x="6636" y="12128"/>
                </a:cubicBezTo>
                <a:cubicBezTo>
                  <a:pt x="6688" y="12154"/>
                  <a:pt x="6696" y="12165"/>
                  <a:pt x="6731" y="12160"/>
                </a:cubicBezTo>
              </a:path>
              <a:path w="6637" h="2129">
                <a:moveTo>
                  <a:pt x="6699" y="11430"/>
                </a:moveTo>
                <a:cubicBezTo>
                  <a:pt x="6679" y="11511"/>
                  <a:pt x="6632" y="11536"/>
                  <a:pt x="6572" y="11589"/>
                </a:cubicBezTo>
                <a:cubicBezTo>
                  <a:pt x="6490" y="11661"/>
                  <a:pt x="6421" y="11784"/>
                  <a:pt x="6350" y="11874"/>
                </a:cubicBezTo>
                <a:cubicBezTo>
                  <a:pt x="6274" y="11971"/>
                  <a:pt x="6211" y="12070"/>
                  <a:pt x="6128" y="12160"/>
                </a:cubicBezTo>
                <a:cubicBezTo>
                  <a:pt x="6093" y="12198"/>
                  <a:pt x="6095" y="12215"/>
                  <a:pt x="6064" y="12256"/>
                </a:cubicBezTo>
              </a:path>
              <a:path w="6637" h="2129">
                <a:moveTo>
                  <a:pt x="6794" y="11779"/>
                </a:moveTo>
                <a:cubicBezTo>
                  <a:pt x="6858" y="11742"/>
                  <a:pt x="6907" y="11748"/>
                  <a:pt x="6985" y="11748"/>
                </a:cubicBezTo>
                <a:cubicBezTo>
                  <a:pt x="7070" y="11748"/>
                  <a:pt x="7154" y="11748"/>
                  <a:pt x="7239" y="11748"/>
                </a:cubicBezTo>
              </a:path>
              <a:path w="6637" h="2129">
                <a:moveTo>
                  <a:pt x="7620" y="11176"/>
                </a:moveTo>
                <a:cubicBezTo>
                  <a:pt x="7620" y="11253"/>
                  <a:pt x="7607" y="11326"/>
                  <a:pt x="7588" y="11398"/>
                </a:cubicBezTo>
                <a:cubicBezTo>
                  <a:pt x="7553" y="11532"/>
                  <a:pt x="7525" y="11605"/>
                  <a:pt x="7525" y="11748"/>
                </a:cubicBezTo>
                <a:cubicBezTo>
                  <a:pt x="7525" y="11856"/>
                  <a:pt x="7573" y="11939"/>
                  <a:pt x="7620" y="12033"/>
                </a:cubicBezTo>
                <a:cubicBezTo>
                  <a:pt x="7659" y="12111"/>
                  <a:pt x="7719" y="12172"/>
                  <a:pt x="7810" y="12192"/>
                </a:cubicBezTo>
                <a:cubicBezTo>
                  <a:pt x="7888" y="12210"/>
                  <a:pt x="7972" y="12193"/>
                  <a:pt x="8033" y="12160"/>
                </a:cubicBezTo>
                <a:cubicBezTo>
                  <a:pt x="8101" y="12123"/>
                  <a:pt x="8166" y="12047"/>
                  <a:pt x="8192" y="11970"/>
                </a:cubicBezTo>
                <a:cubicBezTo>
                  <a:pt x="8217" y="11896"/>
                  <a:pt x="8175" y="11830"/>
                  <a:pt x="8128" y="11779"/>
                </a:cubicBezTo>
                <a:cubicBezTo>
                  <a:pt x="8096" y="11744"/>
                  <a:pt x="7987" y="11728"/>
                  <a:pt x="7938" y="11748"/>
                </a:cubicBezTo>
                <a:cubicBezTo>
                  <a:pt x="7850" y="11784"/>
                  <a:pt x="7819" y="11857"/>
                  <a:pt x="7779" y="11938"/>
                </a:cubicBezTo>
                <a:cubicBezTo>
                  <a:pt x="7729" y="12039"/>
                  <a:pt x="7715" y="12114"/>
                  <a:pt x="7715" y="12224"/>
                </a:cubicBezTo>
              </a:path>
              <a:path w="6637" h="2129">
                <a:moveTo>
                  <a:pt x="5334" y="12382"/>
                </a:moveTo>
                <a:cubicBezTo>
                  <a:pt x="5334" y="12372"/>
                  <a:pt x="5334" y="12361"/>
                  <a:pt x="5334" y="12351"/>
                </a:cubicBezTo>
                <a:cubicBezTo>
                  <a:pt x="5353" y="12423"/>
                  <a:pt x="5342" y="12406"/>
                  <a:pt x="5334" y="12478"/>
                </a:cubicBezTo>
                <a:cubicBezTo>
                  <a:pt x="5319" y="12612"/>
                  <a:pt x="5334" y="12755"/>
                  <a:pt x="5334" y="12890"/>
                </a:cubicBezTo>
              </a:path>
              <a:path w="6637" h="2129">
                <a:moveTo>
                  <a:pt x="5144" y="12605"/>
                </a:moveTo>
                <a:cubicBezTo>
                  <a:pt x="5192" y="12641"/>
                  <a:pt x="5209" y="12636"/>
                  <a:pt x="5270" y="12636"/>
                </a:cubicBezTo>
                <a:cubicBezTo>
                  <a:pt x="5356" y="12636"/>
                  <a:pt x="5391" y="12628"/>
                  <a:pt x="5461" y="12605"/>
                </a:cubicBezTo>
                <a:cubicBezTo>
                  <a:pt x="5472" y="12605"/>
                  <a:pt x="5482" y="12605"/>
                  <a:pt x="5493" y="12605"/>
                </a:cubicBezTo>
              </a:path>
              <a:path w="6637" h="2129">
                <a:moveTo>
                  <a:pt x="6064" y="12319"/>
                </a:moveTo>
                <a:cubicBezTo>
                  <a:pt x="6149" y="12319"/>
                  <a:pt x="6016" y="12319"/>
                  <a:pt x="6001" y="12319"/>
                </a:cubicBezTo>
                <a:cubicBezTo>
                  <a:pt x="5928" y="12319"/>
                  <a:pt x="5901" y="12331"/>
                  <a:pt x="5842" y="12351"/>
                </a:cubicBezTo>
                <a:cubicBezTo>
                  <a:pt x="5788" y="12369"/>
                  <a:pt x="5770" y="12343"/>
                  <a:pt x="5747" y="12414"/>
                </a:cubicBezTo>
                <a:cubicBezTo>
                  <a:pt x="5734" y="12453"/>
                  <a:pt x="5719" y="12503"/>
                  <a:pt x="5715" y="12541"/>
                </a:cubicBezTo>
                <a:cubicBezTo>
                  <a:pt x="5712" y="12572"/>
                  <a:pt x="5715" y="12605"/>
                  <a:pt x="5715" y="12636"/>
                </a:cubicBezTo>
                <a:cubicBezTo>
                  <a:pt x="5726" y="12603"/>
                  <a:pt x="5739" y="12578"/>
                  <a:pt x="5778" y="12573"/>
                </a:cubicBezTo>
                <a:cubicBezTo>
                  <a:pt x="5865" y="12562"/>
                  <a:pt x="5931" y="12581"/>
                  <a:pt x="6001" y="12605"/>
                </a:cubicBezTo>
                <a:cubicBezTo>
                  <a:pt x="6037" y="12617"/>
                  <a:pt x="6058" y="12649"/>
                  <a:pt x="6064" y="12700"/>
                </a:cubicBezTo>
                <a:cubicBezTo>
                  <a:pt x="6074" y="12794"/>
                  <a:pt x="6058" y="12877"/>
                  <a:pt x="6032" y="12954"/>
                </a:cubicBezTo>
                <a:cubicBezTo>
                  <a:pt x="6020" y="12991"/>
                  <a:pt x="5989" y="13012"/>
                  <a:pt x="5937" y="13018"/>
                </a:cubicBezTo>
                <a:cubicBezTo>
                  <a:pt x="5873" y="13025"/>
                  <a:pt x="5860" y="13003"/>
                  <a:pt x="5810" y="12986"/>
                </a:cubicBezTo>
                <a:cubicBezTo>
                  <a:pt x="5801" y="12983"/>
                  <a:pt x="5721" y="12942"/>
                  <a:pt x="5747" y="12922"/>
                </a:cubicBezTo>
                <a:cubicBezTo>
                  <a:pt x="5757" y="12922"/>
                  <a:pt x="5768" y="12922"/>
                  <a:pt x="5778" y="12922"/>
                </a:cubicBezTo>
              </a:path>
              <a:path w="6637" h="2129">
                <a:moveTo>
                  <a:pt x="6350" y="12382"/>
                </a:moveTo>
                <a:cubicBezTo>
                  <a:pt x="6350" y="12428"/>
                  <a:pt x="6359" y="12476"/>
                  <a:pt x="6382" y="12510"/>
                </a:cubicBezTo>
                <a:cubicBezTo>
                  <a:pt x="6421" y="12568"/>
                  <a:pt x="6437" y="12618"/>
                  <a:pt x="6477" y="12668"/>
                </a:cubicBezTo>
                <a:cubicBezTo>
                  <a:pt x="6518" y="12719"/>
                  <a:pt x="6569" y="12773"/>
                  <a:pt x="6604" y="12827"/>
                </a:cubicBezTo>
                <a:cubicBezTo>
                  <a:pt x="6625" y="12859"/>
                  <a:pt x="6694" y="12944"/>
                  <a:pt x="6699" y="12954"/>
                </a:cubicBezTo>
                <a:cubicBezTo>
                  <a:pt x="6726" y="13009"/>
                  <a:pt x="6675" y="12942"/>
                  <a:pt x="6668" y="12922"/>
                </a:cubicBezTo>
              </a:path>
              <a:path w="6637" h="2129">
                <a:moveTo>
                  <a:pt x="6668" y="12351"/>
                </a:moveTo>
                <a:cubicBezTo>
                  <a:pt x="6644" y="12367"/>
                  <a:pt x="6603" y="12430"/>
                  <a:pt x="6572" y="12478"/>
                </a:cubicBezTo>
                <a:cubicBezTo>
                  <a:pt x="6514" y="12567"/>
                  <a:pt x="6456" y="12654"/>
                  <a:pt x="6382" y="12732"/>
                </a:cubicBezTo>
                <a:cubicBezTo>
                  <a:pt x="6311" y="12807"/>
                  <a:pt x="6252" y="12874"/>
                  <a:pt x="6191" y="12954"/>
                </a:cubicBezTo>
                <a:cubicBezTo>
                  <a:pt x="6181" y="12965"/>
                  <a:pt x="6170" y="12975"/>
                  <a:pt x="6160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7"/>
          <p:cNvSpPr/>
          <p:nvPr/>
        </p:nvSpPr>
        <p:spPr>
          <a:xfrm>
            <a:off x="446040" y="4422600"/>
            <a:ext cx="536760" cy="331920"/>
          </a:xfrm>
          <a:custGeom>
            <a:avLst/>
            <a:gdLst/>
            <a:ahLst/>
            <a:rect l="l" t="t" r="r" b="b"/>
            <a:pathLst>
              <a:path w="1493" h="922">
                <a:moveTo>
                  <a:pt x="1365" y="12478"/>
                </a:moveTo>
                <a:cubicBezTo>
                  <a:pt x="1376" y="12478"/>
                  <a:pt x="1386" y="12478"/>
                  <a:pt x="1397" y="12478"/>
                </a:cubicBezTo>
                <a:cubicBezTo>
                  <a:pt x="1397" y="12546"/>
                  <a:pt x="1371" y="12567"/>
                  <a:pt x="1365" y="12636"/>
                </a:cubicBezTo>
                <a:cubicBezTo>
                  <a:pt x="1360" y="12696"/>
                  <a:pt x="1351" y="12800"/>
                  <a:pt x="1334" y="12859"/>
                </a:cubicBezTo>
                <a:cubicBezTo>
                  <a:pt x="1315" y="12926"/>
                  <a:pt x="1310" y="12997"/>
                  <a:pt x="1270" y="13049"/>
                </a:cubicBezTo>
              </a:path>
              <a:path w="1493" h="922">
                <a:moveTo>
                  <a:pt x="1238" y="12605"/>
                </a:moveTo>
                <a:cubicBezTo>
                  <a:pt x="1286" y="12640"/>
                  <a:pt x="1304" y="12636"/>
                  <a:pt x="1365" y="12636"/>
                </a:cubicBezTo>
                <a:cubicBezTo>
                  <a:pt x="1418" y="12636"/>
                  <a:pt x="1471" y="12636"/>
                  <a:pt x="1524" y="12636"/>
                </a:cubicBezTo>
              </a:path>
              <a:path w="1493" h="922">
                <a:moveTo>
                  <a:pt x="2159" y="12287"/>
                </a:moveTo>
                <a:cubicBezTo>
                  <a:pt x="2102" y="12298"/>
                  <a:pt x="2060" y="12319"/>
                  <a:pt x="2000" y="12319"/>
                </a:cubicBezTo>
                <a:cubicBezTo>
                  <a:pt x="1952" y="12319"/>
                  <a:pt x="1868" y="12299"/>
                  <a:pt x="1842" y="12351"/>
                </a:cubicBezTo>
                <a:cubicBezTo>
                  <a:pt x="1825" y="12386"/>
                  <a:pt x="1826" y="12441"/>
                  <a:pt x="1810" y="12478"/>
                </a:cubicBezTo>
                <a:cubicBezTo>
                  <a:pt x="1789" y="12526"/>
                  <a:pt x="1771" y="12598"/>
                  <a:pt x="1746" y="12636"/>
                </a:cubicBezTo>
                <a:cubicBezTo>
                  <a:pt x="1735" y="12647"/>
                  <a:pt x="1725" y="12657"/>
                  <a:pt x="1714" y="12668"/>
                </a:cubicBezTo>
                <a:cubicBezTo>
                  <a:pt x="1730" y="12619"/>
                  <a:pt x="1742" y="12632"/>
                  <a:pt x="1778" y="12605"/>
                </a:cubicBezTo>
                <a:cubicBezTo>
                  <a:pt x="1827" y="12569"/>
                  <a:pt x="1843" y="12573"/>
                  <a:pt x="1905" y="12573"/>
                </a:cubicBezTo>
                <a:cubicBezTo>
                  <a:pt x="1969" y="12573"/>
                  <a:pt x="2018" y="12595"/>
                  <a:pt x="2064" y="12636"/>
                </a:cubicBezTo>
                <a:cubicBezTo>
                  <a:pt x="2121" y="12686"/>
                  <a:pt x="2133" y="12730"/>
                  <a:pt x="2159" y="12795"/>
                </a:cubicBezTo>
                <a:cubicBezTo>
                  <a:pt x="2181" y="12851"/>
                  <a:pt x="2232" y="12940"/>
                  <a:pt x="2159" y="12986"/>
                </a:cubicBezTo>
                <a:cubicBezTo>
                  <a:pt x="2143" y="12996"/>
                  <a:pt x="2020" y="13052"/>
                  <a:pt x="2000" y="13049"/>
                </a:cubicBezTo>
                <a:cubicBezTo>
                  <a:pt x="1962" y="13043"/>
                  <a:pt x="1873" y="13011"/>
                  <a:pt x="1842" y="12986"/>
                </a:cubicBezTo>
                <a:cubicBezTo>
                  <a:pt x="1792" y="12946"/>
                  <a:pt x="1800" y="12936"/>
                  <a:pt x="1842" y="12922"/>
                </a:cubicBezTo>
              </a:path>
              <a:path w="1493" h="922">
                <a:moveTo>
                  <a:pt x="2445" y="12414"/>
                </a:moveTo>
                <a:cubicBezTo>
                  <a:pt x="2426" y="12414"/>
                  <a:pt x="2417" y="12426"/>
                  <a:pt x="2445" y="12478"/>
                </a:cubicBezTo>
                <a:cubicBezTo>
                  <a:pt x="2482" y="12547"/>
                  <a:pt x="2506" y="12622"/>
                  <a:pt x="2540" y="12700"/>
                </a:cubicBezTo>
                <a:cubicBezTo>
                  <a:pt x="2582" y="12798"/>
                  <a:pt x="2604" y="12889"/>
                  <a:pt x="2635" y="12986"/>
                </a:cubicBezTo>
                <a:cubicBezTo>
                  <a:pt x="2652" y="13040"/>
                  <a:pt x="2695" y="13101"/>
                  <a:pt x="2730" y="13113"/>
                </a:cubicBezTo>
              </a:path>
              <a:path w="1493" h="922">
                <a:moveTo>
                  <a:pt x="2730" y="12573"/>
                </a:moveTo>
                <a:cubicBezTo>
                  <a:pt x="2669" y="12635"/>
                  <a:pt x="2632" y="12701"/>
                  <a:pt x="2572" y="12764"/>
                </a:cubicBezTo>
                <a:cubicBezTo>
                  <a:pt x="2497" y="12843"/>
                  <a:pt x="2449" y="12936"/>
                  <a:pt x="2381" y="13018"/>
                </a:cubicBezTo>
                <a:cubicBezTo>
                  <a:pt x="2325" y="13085"/>
                  <a:pt x="2294" y="13129"/>
                  <a:pt x="2254" y="13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8"/>
          <p:cNvSpPr/>
          <p:nvPr/>
        </p:nvSpPr>
        <p:spPr>
          <a:xfrm>
            <a:off x="650880" y="4846680"/>
            <a:ext cx="1521000" cy="457200"/>
          </a:xfrm>
          <a:custGeom>
            <a:avLst/>
            <a:gdLst/>
            <a:ahLst/>
            <a:rect l="l" t="t" r="r" b="b"/>
            <a:pathLst>
              <a:path w="4223" h="1271">
                <a:moveTo>
                  <a:pt x="1810" y="13684"/>
                </a:moveTo>
                <a:cubicBezTo>
                  <a:pt x="1935" y="13684"/>
                  <a:pt x="2042" y="13682"/>
                  <a:pt x="2159" y="13652"/>
                </a:cubicBezTo>
                <a:cubicBezTo>
                  <a:pt x="2251" y="13629"/>
                  <a:pt x="2416" y="13563"/>
                  <a:pt x="2381" y="13652"/>
                </a:cubicBezTo>
                <a:cubicBezTo>
                  <a:pt x="2368" y="13686"/>
                  <a:pt x="2354" y="13746"/>
                  <a:pt x="2350" y="13780"/>
                </a:cubicBezTo>
                <a:cubicBezTo>
                  <a:pt x="2342" y="13857"/>
                  <a:pt x="2299" y="13927"/>
                  <a:pt x="2286" y="14002"/>
                </a:cubicBezTo>
                <a:cubicBezTo>
                  <a:pt x="2272" y="14085"/>
                  <a:pt x="2259" y="14174"/>
                  <a:pt x="2254" y="14256"/>
                </a:cubicBezTo>
                <a:cubicBezTo>
                  <a:pt x="2250" y="14328"/>
                  <a:pt x="2229" y="14378"/>
                  <a:pt x="2222" y="14446"/>
                </a:cubicBezTo>
                <a:cubicBezTo>
                  <a:pt x="2221" y="14460"/>
                  <a:pt x="2222" y="14596"/>
                  <a:pt x="2222" y="14510"/>
                </a:cubicBezTo>
              </a:path>
              <a:path w="4223" h="1271">
                <a:moveTo>
                  <a:pt x="2667" y="13780"/>
                </a:moveTo>
                <a:cubicBezTo>
                  <a:pt x="2680" y="13829"/>
                  <a:pt x="2710" y="13888"/>
                  <a:pt x="2730" y="13938"/>
                </a:cubicBezTo>
                <a:cubicBezTo>
                  <a:pt x="2764" y="14024"/>
                  <a:pt x="2791" y="14103"/>
                  <a:pt x="2826" y="14192"/>
                </a:cubicBezTo>
                <a:cubicBezTo>
                  <a:pt x="2859" y="14277"/>
                  <a:pt x="2857" y="14365"/>
                  <a:pt x="2889" y="14446"/>
                </a:cubicBezTo>
                <a:cubicBezTo>
                  <a:pt x="2913" y="14506"/>
                  <a:pt x="2939" y="14549"/>
                  <a:pt x="2953" y="14605"/>
                </a:cubicBezTo>
              </a:path>
              <a:path w="4223" h="1271">
                <a:moveTo>
                  <a:pt x="2953" y="13938"/>
                </a:moveTo>
                <a:cubicBezTo>
                  <a:pt x="2904" y="13987"/>
                  <a:pt x="2861" y="14039"/>
                  <a:pt x="2826" y="14097"/>
                </a:cubicBezTo>
                <a:cubicBezTo>
                  <a:pt x="2771" y="14188"/>
                  <a:pt x="2693" y="14246"/>
                  <a:pt x="2635" y="14319"/>
                </a:cubicBezTo>
                <a:cubicBezTo>
                  <a:pt x="2578" y="14391"/>
                  <a:pt x="2501" y="14445"/>
                  <a:pt x="2445" y="14510"/>
                </a:cubicBezTo>
                <a:cubicBezTo>
                  <a:pt x="2434" y="14531"/>
                  <a:pt x="2424" y="14552"/>
                  <a:pt x="2413" y="14573"/>
                </a:cubicBezTo>
              </a:path>
              <a:path w="4223" h="1271">
                <a:moveTo>
                  <a:pt x="3334" y="13780"/>
                </a:moveTo>
                <a:cubicBezTo>
                  <a:pt x="3347" y="13829"/>
                  <a:pt x="3366" y="13849"/>
                  <a:pt x="3366" y="13906"/>
                </a:cubicBezTo>
                <a:cubicBezTo>
                  <a:pt x="3366" y="13977"/>
                  <a:pt x="3345" y="14013"/>
                  <a:pt x="3334" y="14065"/>
                </a:cubicBezTo>
                <a:cubicBezTo>
                  <a:pt x="3318" y="14141"/>
                  <a:pt x="3334" y="14241"/>
                  <a:pt x="3334" y="14319"/>
                </a:cubicBezTo>
              </a:path>
              <a:path w="4223" h="1271">
                <a:moveTo>
                  <a:pt x="3207" y="14034"/>
                </a:moveTo>
                <a:cubicBezTo>
                  <a:pt x="3196" y="14034"/>
                  <a:pt x="3186" y="14034"/>
                  <a:pt x="3175" y="14034"/>
                </a:cubicBezTo>
                <a:cubicBezTo>
                  <a:pt x="3223" y="14069"/>
                  <a:pt x="3241" y="14065"/>
                  <a:pt x="3302" y="14065"/>
                </a:cubicBezTo>
                <a:cubicBezTo>
                  <a:pt x="3360" y="14065"/>
                  <a:pt x="3400" y="14097"/>
                  <a:pt x="3461" y="14097"/>
                </a:cubicBezTo>
                <a:cubicBezTo>
                  <a:pt x="3537" y="14097"/>
                  <a:pt x="3537" y="14084"/>
                  <a:pt x="3588" y="14034"/>
                </a:cubicBezTo>
              </a:path>
              <a:path w="4223" h="1271">
                <a:moveTo>
                  <a:pt x="3937" y="13462"/>
                </a:moveTo>
                <a:cubicBezTo>
                  <a:pt x="3937" y="13535"/>
                  <a:pt x="3916" y="13585"/>
                  <a:pt x="3905" y="13652"/>
                </a:cubicBezTo>
                <a:cubicBezTo>
                  <a:pt x="3890" y="13743"/>
                  <a:pt x="3884" y="13852"/>
                  <a:pt x="3874" y="13938"/>
                </a:cubicBezTo>
                <a:cubicBezTo>
                  <a:pt x="3859" y="14063"/>
                  <a:pt x="3848" y="14194"/>
                  <a:pt x="3842" y="14319"/>
                </a:cubicBezTo>
                <a:cubicBezTo>
                  <a:pt x="3838" y="14408"/>
                  <a:pt x="3810" y="14483"/>
                  <a:pt x="3810" y="14573"/>
                </a:cubicBezTo>
                <a:cubicBezTo>
                  <a:pt x="3810" y="14605"/>
                  <a:pt x="3810" y="14616"/>
                  <a:pt x="3810" y="14637"/>
                </a:cubicBezTo>
              </a:path>
              <a:path w="4223" h="1271">
                <a:moveTo>
                  <a:pt x="4286" y="14002"/>
                </a:moveTo>
                <a:cubicBezTo>
                  <a:pt x="4350" y="14018"/>
                  <a:pt x="4368" y="14034"/>
                  <a:pt x="4445" y="14034"/>
                </a:cubicBezTo>
                <a:cubicBezTo>
                  <a:pt x="4553" y="14034"/>
                  <a:pt x="4640" y="14035"/>
                  <a:pt x="4731" y="14065"/>
                </a:cubicBezTo>
                <a:cubicBezTo>
                  <a:pt x="4762" y="14065"/>
                  <a:pt x="4773" y="14065"/>
                  <a:pt x="4794" y="14065"/>
                </a:cubicBezTo>
              </a:path>
              <a:path w="4223" h="1271">
                <a:moveTo>
                  <a:pt x="4286" y="14256"/>
                </a:moveTo>
                <a:cubicBezTo>
                  <a:pt x="4344" y="14270"/>
                  <a:pt x="4376" y="14288"/>
                  <a:pt x="4445" y="14288"/>
                </a:cubicBezTo>
                <a:cubicBezTo>
                  <a:pt x="4536" y="14288"/>
                  <a:pt x="4585" y="14312"/>
                  <a:pt x="4667" y="14319"/>
                </a:cubicBezTo>
                <a:cubicBezTo>
                  <a:pt x="4719" y="14323"/>
                  <a:pt x="4736" y="14351"/>
                  <a:pt x="4794" y="14351"/>
                </a:cubicBezTo>
                <a:cubicBezTo>
                  <a:pt x="4805" y="14351"/>
                  <a:pt x="4815" y="14351"/>
                  <a:pt x="4826" y="14351"/>
                </a:cubicBezTo>
              </a:path>
              <a:path w="4223" h="1271">
                <a:moveTo>
                  <a:pt x="4985" y="13684"/>
                </a:moveTo>
                <a:cubicBezTo>
                  <a:pt x="5049" y="13684"/>
                  <a:pt x="5060" y="13699"/>
                  <a:pt x="5112" y="13716"/>
                </a:cubicBezTo>
                <a:cubicBezTo>
                  <a:pt x="5155" y="13730"/>
                  <a:pt x="5229" y="13745"/>
                  <a:pt x="5270" y="13748"/>
                </a:cubicBezTo>
                <a:cubicBezTo>
                  <a:pt x="5350" y="13754"/>
                  <a:pt x="5339" y="13736"/>
                  <a:pt x="5398" y="13780"/>
                </a:cubicBezTo>
                <a:cubicBezTo>
                  <a:pt x="5442" y="13746"/>
                  <a:pt x="5437" y="13748"/>
                  <a:pt x="5493" y="13748"/>
                </a:cubicBezTo>
              </a:path>
              <a:path w="4223" h="1271">
                <a:moveTo>
                  <a:pt x="5715" y="13557"/>
                </a:moveTo>
                <a:cubicBezTo>
                  <a:pt x="5702" y="13609"/>
                  <a:pt x="5679" y="13637"/>
                  <a:pt x="5652" y="13684"/>
                </a:cubicBezTo>
                <a:cubicBezTo>
                  <a:pt x="5605" y="13768"/>
                  <a:pt x="5580" y="13815"/>
                  <a:pt x="5556" y="13906"/>
                </a:cubicBezTo>
                <a:cubicBezTo>
                  <a:pt x="5523" y="14032"/>
                  <a:pt x="5493" y="14091"/>
                  <a:pt x="5493" y="14224"/>
                </a:cubicBezTo>
                <a:cubicBezTo>
                  <a:pt x="5493" y="14334"/>
                  <a:pt x="5508" y="14409"/>
                  <a:pt x="5556" y="14510"/>
                </a:cubicBezTo>
                <a:cubicBezTo>
                  <a:pt x="5605" y="14612"/>
                  <a:pt x="5630" y="14636"/>
                  <a:pt x="5715" y="14700"/>
                </a:cubicBezTo>
                <a:cubicBezTo>
                  <a:pt x="5788" y="14755"/>
                  <a:pt x="5835" y="14721"/>
                  <a:pt x="5906" y="14668"/>
                </a:cubicBezTo>
                <a:cubicBezTo>
                  <a:pt x="5972" y="14619"/>
                  <a:pt x="6028" y="14489"/>
                  <a:pt x="6032" y="14414"/>
                </a:cubicBezTo>
                <a:cubicBezTo>
                  <a:pt x="6036" y="14347"/>
                  <a:pt x="6005" y="14255"/>
                  <a:pt x="5937" y="14224"/>
                </a:cubicBezTo>
                <a:cubicBezTo>
                  <a:pt x="5858" y="14188"/>
                  <a:pt x="5814" y="14276"/>
                  <a:pt x="5778" y="14319"/>
                </a:cubicBezTo>
                <a:cubicBezTo>
                  <a:pt x="5714" y="14396"/>
                  <a:pt x="5680" y="14493"/>
                  <a:pt x="5620" y="14573"/>
                </a:cubicBezTo>
                <a:cubicBezTo>
                  <a:pt x="5589" y="14614"/>
                  <a:pt x="5587" y="14628"/>
                  <a:pt x="5556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9"/>
          <p:cNvSpPr/>
          <p:nvPr/>
        </p:nvSpPr>
        <p:spPr>
          <a:xfrm>
            <a:off x="3668760" y="4915080"/>
            <a:ext cx="1452600" cy="560160"/>
          </a:xfrm>
          <a:custGeom>
            <a:avLst/>
            <a:gdLst/>
            <a:ahLst/>
            <a:rect l="l" t="t" r="r" b="b"/>
            <a:pathLst>
              <a:path w="4033" h="1557">
                <a:moveTo>
                  <a:pt x="10414" y="14478"/>
                </a:moveTo>
                <a:cubicBezTo>
                  <a:pt x="10425" y="14478"/>
                  <a:pt x="10435" y="14478"/>
                  <a:pt x="10446" y="14478"/>
                </a:cubicBezTo>
              </a:path>
              <a:path w="4033" h="1557">
                <a:moveTo>
                  <a:pt x="10192" y="14478"/>
                </a:moveTo>
                <a:cubicBezTo>
                  <a:pt x="10192" y="14489"/>
                  <a:pt x="10192" y="14499"/>
                  <a:pt x="10192" y="14510"/>
                </a:cubicBezTo>
                <a:cubicBezTo>
                  <a:pt x="10257" y="14510"/>
                  <a:pt x="10267" y="14496"/>
                  <a:pt x="10319" y="14478"/>
                </a:cubicBezTo>
                <a:cubicBezTo>
                  <a:pt x="10386" y="14455"/>
                  <a:pt x="10622" y="14467"/>
                  <a:pt x="10636" y="14510"/>
                </a:cubicBezTo>
                <a:cubicBezTo>
                  <a:pt x="10636" y="14499"/>
                  <a:pt x="10636" y="14489"/>
                  <a:pt x="10636" y="14478"/>
                </a:cubicBezTo>
              </a:path>
              <a:path w="4033" h="1557">
                <a:moveTo>
                  <a:pt x="10890" y="13906"/>
                </a:moveTo>
                <a:cubicBezTo>
                  <a:pt x="10902" y="13941"/>
                  <a:pt x="10942" y="13946"/>
                  <a:pt x="10922" y="14002"/>
                </a:cubicBezTo>
                <a:cubicBezTo>
                  <a:pt x="10890" y="14090"/>
                  <a:pt x="10872" y="14194"/>
                  <a:pt x="10858" y="14288"/>
                </a:cubicBezTo>
                <a:cubicBezTo>
                  <a:pt x="10849" y="14351"/>
                  <a:pt x="10831" y="14418"/>
                  <a:pt x="10827" y="14478"/>
                </a:cubicBezTo>
                <a:cubicBezTo>
                  <a:pt x="10824" y="14530"/>
                  <a:pt x="10827" y="14585"/>
                  <a:pt x="10827" y="14637"/>
                </a:cubicBezTo>
                <a:cubicBezTo>
                  <a:pt x="10882" y="14623"/>
                  <a:pt x="10911" y="14584"/>
                  <a:pt x="10954" y="14542"/>
                </a:cubicBezTo>
                <a:cubicBezTo>
                  <a:pt x="10996" y="14500"/>
                  <a:pt x="11024" y="14510"/>
                  <a:pt x="11081" y="14510"/>
                </a:cubicBezTo>
                <a:cubicBezTo>
                  <a:pt x="11139" y="14510"/>
                  <a:pt x="11156" y="14536"/>
                  <a:pt x="11208" y="14542"/>
                </a:cubicBezTo>
                <a:cubicBezTo>
                  <a:pt x="11244" y="14542"/>
                  <a:pt x="11258" y="14539"/>
                  <a:pt x="11271" y="14510"/>
                </a:cubicBezTo>
              </a:path>
              <a:path w="4033" h="1557">
                <a:moveTo>
                  <a:pt x="11240" y="13652"/>
                </a:moveTo>
                <a:cubicBezTo>
                  <a:pt x="11240" y="13816"/>
                  <a:pt x="11223" y="13971"/>
                  <a:pt x="11208" y="14129"/>
                </a:cubicBezTo>
                <a:cubicBezTo>
                  <a:pt x="11193" y="14284"/>
                  <a:pt x="11123" y="15131"/>
                  <a:pt x="11240" y="15208"/>
                </a:cubicBezTo>
              </a:path>
              <a:path w="4033" h="1557">
                <a:moveTo>
                  <a:pt x="11652" y="14288"/>
                </a:moveTo>
                <a:cubicBezTo>
                  <a:pt x="11603" y="14272"/>
                  <a:pt x="11626" y="14256"/>
                  <a:pt x="11557" y="14256"/>
                </a:cubicBezTo>
                <a:cubicBezTo>
                  <a:pt x="11487" y="14256"/>
                  <a:pt x="11487" y="14261"/>
                  <a:pt x="11462" y="14319"/>
                </a:cubicBezTo>
                <a:cubicBezTo>
                  <a:pt x="11424" y="14407"/>
                  <a:pt x="11402" y="14508"/>
                  <a:pt x="11398" y="14605"/>
                </a:cubicBezTo>
                <a:cubicBezTo>
                  <a:pt x="11395" y="14670"/>
                  <a:pt x="11359" y="14919"/>
                  <a:pt x="11430" y="14954"/>
                </a:cubicBezTo>
                <a:cubicBezTo>
                  <a:pt x="11464" y="14971"/>
                  <a:pt x="11540" y="14956"/>
                  <a:pt x="11557" y="14922"/>
                </a:cubicBezTo>
                <a:cubicBezTo>
                  <a:pt x="11586" y="14864"/>
                  <a:pt x="11599" y="14796"/>
                  <a:pt x="11620" y="14732"/>
                </a:cubicBezTo>
                <a:cubicBezTo>
                  <a:pt x="11643" y="14664"/>
                  <a:pt x="11681" y="14554"/>
                  <a:pt x="11652" y="14478"/>
                </a:cubicBezTo>
                <a:cubicBezTo>
                  <a:pt x="11634" y="14430"/>
                  <a:pt x="11620" y="14412"/>
                  <a:pt x="11620" y="14351"/>
                </a:cubicBezTo>
                <a:cubicBezTo>
                  <a:pt x="11620" y="14423"/>
                  <a:pt x="11643" y="14477"/>
                  <a:pt x="11652" y="14542"/>
                </a:cubicBezTo>
                <a:cubicBezTo>
                  <a:pt x="11667" y="14654"/>
                  <a:pt x="11693" y="14751"/>
                  <a:pt x="11716" y="14859"/>
                </a:cubicBezTo>
                <a:cubicBezTo>
                  <a:pt x="11729" y="14917"/>
                  <a:pt x="11769" y="14965"/>
                  <a:pt x="11779" y="14986"/>
                </a:cubicBezTo>
                <a:cubicBezTo>
                  <a:pt x="11779" y="14997"/>
                  <a:pt x="11779" y="15007"/>
                  <a:pt x="11779" y="15018"/>
                </a:cubicBezTo>
                <a:cubicBezTo>
                  <a:pt x="11798" y="15012"/>
                  <a:pt x="11864" y="14959"/>
                  <a:pt x="11874" y="14922"/>
                </a:cubicBezTo>
                <a:cubicBezTo>
                  <a:pt x="11874" y="14856"/>
                  <a:pt x="11875" y="14833"/>
                  <a:pt x="11906" y="14796"/>
                </a:cubicBezTo>
              </a:path>
              <a:path w="4033" h="1557">
                <a:moveTo>
                  <a:pt x="11970" y="14414"/>
                </a:moveTo>
                <a:cubicBezTo>
                  <a:pt x="12003" y="14422"/>
                  <a:pt x="12056" y="14469"/>
                  <a:pt x="12097" y="14446"/>
                </a:cubicBezTo>
                <a:cubicBezTo>
                  <a:pt x="12144" y="14419"/>
                  <a:pt x="12179" y="14415"/>
                  <a:pt x="12224" y="14383"/>
                </a:cubicBezTo>
              </a:path>
              <a:path w="4033" h="1557">
                <a:moveTo>
                  <a:pt x="12414" y="13716"/>
                </a:moveTo>
                <a:cubicBezTo>
                  <a:pt x="12433" y="13792"/>
                  <a:pt x="12461" y="13843"/>
                  <a:pt x="12446" y="13938"/>
                </a:cubicBezTo>
                <a:cubicBezTo>
                  <a:pt x="12418" y="14112"/>
                  <a:pt x="12414" y="14268"/>
                  <a:pt x="12414" y="14446"/>
                </a:cubicBezTo>
                <a:cubicBezTo>
                  <a:pt x="12414" y="14658"/>
                  <a:pt x="12414" y="14869"/>
                  <a:pt x="12414" y="15081"/>
                </a:cubicBezTo>
              </a:path>
              <a:path w="4033" h="1557">
                <a:moveTo>
                  <a:pt x="12605" y="14446"/>
                </a:moveTo>
                <a:cubicBezTo>
                  <a:pt x="12669" y="14446"/>
                  <a:pt x="12680" y="14461"/>
                  <a:pt x="12732" y="14478"/>
                </a:cubicBezTo>
                <a:cubicBezTo>
                  <a:pt x="12808" y="14503"/>
                  <a:pt x="12935" y="14478"/>
                  <a:pt x="13018" y="14478"/>
                </a:cubicBezTo>
              </a:path>
              <a:path w="4033" h="1557">
                <a:moveTo>
                  <a:pt x="12732" y="14764"/>
                </a:moveTo>
                <a:cubicBezTo>
                  <a:pt x="12804" y="14764"/>
                  <a:pt x="12832" y="14752"/>
                  <a:pt x="12890" y="14732"/>
                </a:cubicBezTo>
                <a:cubicBezTo>
                  <a:pt x="12945" y="14713"/>
                  <a:pt x="13053" y="14732"/>
                  <a:pt x="13113" y="14732"/>
                </a:cubicBezTo>
              </a:path>
              <a:path w="4033" h="1557">
                <a:moveTo>
                  <a:pt x="13938" y="13843"/>
                </a:moveTo>
                <a:cubicBezTo>
                  <a:pt x="13856" y="13822"/>
                  <a:pt x="13887" y="13817"/>
                  <a:pt x="13811" y="13843"/>
                </a:cubicBezTo>
                <a:cubicBezTo>
                  <a:pt x="13734" y="13869"/>
                  <a:pt x="13737" y="13874"/>
                  <a:pt x="13684" y="13938"/>
                </a:cubicBezTo>
                <a:cubicBezTo>
                  <a:pt x="13621" y="14014"/>
                  <a:pt x="13589" y="14098"/>
                  <a:pt x="13557" y="14192"/>
                </a:cubicBezTo>
                <a:cubicBezTo>
                  <a:pt x="13510" y="14328"/>
                  <a:pt x="13494" y="14430"/>
                  <a:pt x="13494" y="14573"/>
                </a:cubicBezTo>
                <a:cubicBezTo>
                  <a:pt x="13494" y="14691"/>
                  <a:pt x="13504" y="14754"/>
                  <a:pt x="13557" y="14859"/>
                </a:cubicBezTo>
                <a:cubicBezTo>
                  <a:pt x="13594" y="14932"/>
                  <a:pt x="13667" y="14972"/>
                  <a:pt x="13748" y="14986"/>
                </a:cubicBezTo>
                <a:cubicBezTo>
                  <a:pt x="13828" y="15000"/>
                  <a:pt x="13914" y="14943"/>
                  <a:pt x="13970" y="14891"/>
                </a:cubicBezTo>
                <a:cubicBezTo>
                  <a:pt x="14093" y="14777"/>
                  <a:pt x="14114" y="14665"/>
                  <a:pt x="14160" y="14510"/>
                </a:cubicBezTo>
                <a:cubicBezTo>
                  <a:pt x="14203" y="14365"/>
                  <a:pt x="14252" y="14219"/>
                  <a:pt x="14224" y="14065"/>
                </a:cubicBezTo>
                <a:cubicBezTo>
                  <a:pt x="14210" y="13986"/>
                  <a:pt x="14160" y="13807"/>
                  <a:pt x="14097" y="13748"/>
                </a:cubicBezTo>
                <a:cubicBezTo>
                  <a:pt x="14042" y="13696"/>
                  <a:pt x="13951" y="13663"/>
                  <a:pt x="13875" y="13684"/>
                </a:cubicBezTo>
                <a:cubicBezTo>
                  <a:pt x="13775" y="13712"/>
                  <a:pt x="13775" y="13733"/>
                  <a:pt x="13716" y="13811"/>
                </a:cubicBezTo>
                <a:cubicBezTo>
                  <a:pt x="13705" y="13822"/>
                  <a:pt x="13695" y="13832"/>
                  <a:pt x="13684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0"/>
          <p:cNvSpPr/>
          <p:nvPr/>
        </p:nvSpPr>
        <p:spPr>
          <a:xfrm>
            <a:off x="7429680" y="5246640"/>
            <a:ext cx="285480" cy="308160"/>
          </a:xfrm>
          <a:custGeom>
            <a:avLst/>
            <a:gdLst/>
            <a:ahLst/>
            <a:rect l="l" t="t" r="r" b="b"/>
            <a:pathLst>
              <a:path w="794" h="858">
                <a:moveTo>
                  <a:pt x="20733" y="14732"/>
                </a:moveTo>
                <a:cubicBezTo>
                  <a:pt x="20733" y="14802"/>
                  <a:pt x="20761" y="14851"/>
                  <a:pt x="20764" y="14922"/>
                </a:cubicBezTo>
                <a:cubicBezTo>
                  <a:pt x="20768" y="15014"/>
                  <a:pt x="20806" y="15406"/>
                  <a:pt x="20733" y="15430"/>
                </a:cubicBezTo>
              </a:path>
              <a:path w="794" h="858">
                <a:moveTo>
                  <a:pt x="20638" y="15113"/>
                </a:moveTo>
                <a:cubicBezTo>
                  <a:pt x="20703" y="15113"/>
                  <a:pt x="20746" y="15124"/>
                  <a:pt x="20796" y="15081"/>
                </a:cubicBezTo>
                <a:cubicBezTo>
                  <a:pt x="20830" y="15052"/>
                  <a:pt x="20860" y="15018"/>
                  <a:pt x="20892" y="14986"/>
                </a:cubicBezTo>
              </a:path>
              <a:path w="794" h="858">
                <a:moveTo>
                  <a:pt x="21114" y="14732"/>
                </a:moveTo>
                <a:cubicBezTo>
                  <a:pt x="21114" y="14743"/>
                  <a:pt x="21114" y="14753"/>
                  <a:pt x="21114" y="14764"/>
                </a:cubicBezTo>
                <a:cubicBezTo>
                  <a:pt x="21181" y="14808"/>
                  <a:pt x="21119" y="14822"/>
                  <a:pt x="21114" y="14891"/>
                </a:cubicBezTo>
                <a:cubicBezTo>
                  <a:pt x="21109" y="14953"/>
                  <a:pt x="21114" y="15018"/>
                  <a:pt x="21114" y="15081"/>
                </a:cubicBezTo>
                <a:cubicBezTo>
                  <a:pt x="21154" y="15052"/>
                  <a:pt x="21192" y="15024"/>
                  <a:pt x="21241" y="15018"/>
                </a:cubicBezTo>
                <a:cubicBezTo>
                  <a:pt x="21298" y="15012"/>
                  <a:pt x="21287" y="15023"/>
                  <a:pt x="21336" y="14986"/>
                </a:cubicBezTo>
              </a:path>
              <a:path w="794" h="858">
                <a:moveTo>
                  <a:pt x="21400" y="14573"/>
                </a:moveTo>
                <a:cubicBezTo>
                  <a:pt x="21400" y="14800"/>
                  <a:pt x="21322" y="15213"/>
                  <a:pt x="21431" y="15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1"/>
          <p:cNvSpPr/>
          <p:nvPr/>
        </p:nvSpPr>
        <p:spPr>
          <a:xfrm>
            <a:off x="8023320" y="5108400"/>
            <a:ext cx="230040" cy="401760"/>
          </a:xfrm>
          <a:custGeom>
            <a:avLst/>
            <a:gdLst/>
            <a:ahLst/>
            <a:rect l="l" t="t" r="r" b="b"/>
            <a:pathLst>
              <a:path w="637" h="1113">
                <a:moveTo>
                  <a:pt x="22352" y="14351"/>
                </a:moveTo>
                <a:cubicBezTo>
                  <a:pt x="22352" y="14454"/>
                  <a:pt x="22336" y="14541"/>
                  <a:pt x="22320" y="14637"/>
                </a:cubicBezTo>
                <a:cubicBezTo>
                  <a:pt x="22307" y="14716"/>
                  <a:pt x="22320" y="14810"/>
                  <a:pt x="22320" y="14891"/>
                </a:cubicBezTo>
              </a:path>
              <a:path w="637" h="1113">
                <a:moveTo>
                  <a:pt x="22288" y="14700"/>
                </a:moveTo>
                <a:cubicBezTo>
                  <a:pt x="22288" y="14711"/>
                  <a:pt x="22288" y="14721"/>
                  <a:pt x="22288" y="14732"/>
                </a:cubicBezTo>
                <a:cubicBezTo>
                  <a:pt x="22343" y="14732"/>
                  <a:pt x="22337" y="14745"/>
                  <a:pt x="22352" y="14700"/>
                </a:cubicBezTo>
                <a:cubicBezTo>
                  <a:pt x="22404" y="14687"/>
                  <a:pt x="22427" y="14650"/>
                  <a:pt x="22479" y="14637"/>
                </a:cubicBezTo>
              </a:path>
              <a:path w="637" h="1113">
                <a:moveTo>
                  <a:pt x="22670" y="14224"/>
                </a:moveTo>
                <a:cubicBezTo>
                  <a:pt x="22670" y="14370"/>
                  <a:pt x="22661" y="14500"/>
                  <a:pt x="22638" y="14637"/>
                </a:cubicBezTo>
                <a:cubicBezTo>
                  <a:pt x="22628" y="14697"/>
                  <a:pt x="22638" y="14766"/>
                  <a:pt x="22638" y="14827"/>
                </a:cubicBezTo>
                <a:cubicBezTo>
                  <a:pt x="22651" y="14775"/>
                  <a:pt x="22675" y="14738"/>
                  <a:pt x="22733" y="14732"/>
                </a:cubicBezTo>
                <a:cubicBezTo>
                  <a:pt x="22793" y="14725"/>
                  <a:pt x="22916" y="14762"/>
                  <a:pt x="22924" y="14700"/>
                </a:cubicBezTo>
                <a:cubicBezTo>
                  <a:pt x="22924" y="14689"/>
                  <a:pt x="22924" y="14679"/>
                  <a:pt x="22924" y="14668"/>
                </a:cubicBezTo>
              </a:path>
              <a:path w="637" h="1113">
                <a:moveTo>
                  <a:pt x="22892" y="14192"/>
                </a:moveTo>
                <a:cubicBezTo>
                  <a:pt x="22874" y="14284"/>
                  <a:pt x="22860" y="14346"/>
                  <a:pt x="22860" y="14446"/>
                </a:cubicBezTo>
                <a:cubicBezTo>
                  <a:pt x="22860" y="14705"/>
                  <a:pt x="22867" y="14954"/>
                  <a:pt x="22892" y="15208"/>
                </a:cubicBezTo>
                <a:cubicBezTo>
                  <a:pt x="22892" y="15240"/>
                  <a:pt x="22892" y="15272"/>
                  <a:pt x="22892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12"/>
          <p:cNvSpPr/>
          <p:nvPr/>
        </p:nvSpPr>
        <p:spPr>
          <a:xfrm>
            <a:off x="846000" y="4937040"/>
            <a:ext cx="2365560" cy="1532160"/>
          </a:xfrm>
          <a:custGeom>
            <a:avLst/>
            <a:gdLst/>
            <a:ahLst/>
            <a:rect l="l" t="t" r="r" b="b"/>
            <a:pathLst>
              <a:path w="6573" h="4255">
                <a:moveTo>
                  <a:pt x="3238" y="14954"/>
                </a:moveTo>
                <a:cubicBezTo>
                  <a:pt x="3249" y="14954"/>
                  <a:pt x="3259" y="14954"/>
                  <a:pt x="3270" y="14954"/>
                </a:cubicBezTo>
                <a:cubicBezTo>
                  <a:pt x="3280" y="14983"/>
                  <a:pt x="3325" y="15004"/>
                  <a:pt x="3366" y="15018"/>
                </a:cubicBezTo>
                <a:cubicBezTo>
                  <a:pt x="3399" y="15029"/>
                  <a:pt x="3457" y="15018"/>
                  <a:pt x="3492" y="15018"/>
                </a:cubicBezTo>
              </a:path>
              <a:path w="6573" h="4255">
                <a:moveTo>
                  <a:pt x="3746" y="14859"/>
                </a:moveTo>
                <a:cubicBezTo>
                  <a:pt x="3746" y="14945"/>
                  <a:pt x="3729" y="15001"/>
                  <a:pt x="3715" y="15081"/>
                </a:cubicBezTo>
                <a:cubicBezTo>
                  <a:pt x="3700" y="15169"/>
                  <a:pt x="3683" y="15242"/>
                  <a:pt x="3683" y="15335"/>
                </a:cubicBezTo>
                <a:cubicBezTo>
                  <a:pt x="3683" y="15377"/>
                  <a:pt x="3683" y="15420"/>
                  <a:pt x="3683" y="15462"/>
                </a:cubicBezTo>
              </a:path>
              <a:path w="6573" h="4255">
                <a:moveTo>
                  <a:pt x="5016" y="14954"/>
                </a:moveTo>
                <a:cubicBezTo>
                  <a:pt x="5066" y="14967"/>
                  <a:pt x="5087" y="14986"/>
                  <a:pt x="5144" y="14986"/>
                </a:cubicBezTo>
                <a:cubicBezTo>
                  <a:pt x="5194" y="14986"/>
                  <a:pt x="5213" y="15018"/>
                  <a:pt x="5270" y="15018"/>
                </a:cubicBezTo>
              </a:path>
              <a:path w="6573" h="4255">
                <a:moveTo>
                  <a:pt x="5620" y="14922"/>
                </a:moveTo>
                <a:cubicBezTo>
                  <a:pt x="5620" y="14997"/>
                  <a:pt x="5598" y="15044"/>
                  <a:pt x="5588" y="15113"/>
                </a:cubicBezTo>
                <a:cubicBezTo>
                  <a:pt x="5574" y="15211"/>
                  <a:pt x="5572" y="15306"/>
                  <a:pt x="5556" y="15399"/>
                </a:cubicBezTo>
                <a:cubicBezTo>
                  <a:pt x="5546" y="15458"/>
                  <a:pt x="5556" y="15529"/>
                  <a:pt x="5556" y="15589"/>
                </a:cubicBezTo>
              </a:path>
              <a:path w="6573" h="4255">
                <a:moveTo>
                  <a:pt x="2350" y="15875"/>
                </a:moveTo>
                <a:cubicBezTo>
                  <a:pt x="2376" y="15848"/>
                  <a:pt x="2308" y="15860"/>
                  <a:pt x="2381" y="15843"/>
                </a:cubicBezTo>
                <a:cubicBezTo>
                  <a:pt x="2610" y="15790"/>
                  <a:pt x="2891" y="15855"/>
                  <a:pt x="3112" y="15812"/>
                </a:cubicBezTo>
                <a:cubicBezTo>
                  <a:pt x="3178" y="15799"/>
                  <a:pt x="3239" y="15810"/>
                  <a:pt x="3302" y="15780"/>
                </a:cubicBezTo>
                <a:cubicBezTo>
                  <a:pt x="3349" y="15758"/>
                  <a:pt x="3345" y="15737"/>
                  <a:pt x="3366" y="15716"/>
                </a:cubicBezTo>
                <a:cubicBezTo>
                  <a:pt x="3359" y="15768"/>
                  <a:pt x="3354" y="15798"/>
                  <a:pt x="3334" y="15843"/>
                </a:cubicBezTo>
                <a:cubicBezTo>
                  <a:pt x="3299" y="15921"/>
                  <a:pt x="3246" y="15988"/>
                  <a:pt x="3207" y="16066"/>
                </a:cubicBezTo>
                <a:cubicBezTo>
                  <a:pt x="3162" y="16157"/>
                  <a:pt x="3167" y="16256"/>
                  <a:pt x="3143" y="16351"/>
                </a:cubicBezTo>
                <a:cubicBezTo>
                  <a:pt x="3114" y="16463"/>
                  <a:pt x="3112" y="16552"/>
                  <a:pt x="3112" y="16669"/>
                </a:cubicBezTo>
                <a:cubicBezTo>
                  <a:pt x="3112" y="16719"/>
                  <a:pt x="3104" y="16851"/>
                  <a:pt x="3143" y="16891"/>
                </a:cubicBezTo>
                <a:cubicBezTo>
                  <a:pt x="3143" y="16859"/>
                  <a:pt x="3143" y="16849"/>
                  <a:pt x="3143" y="16828"/>
                </a:cubicBezTo>
              </a:path>
              <a:path w="6573" h="4255">
                <a:moveTo>
                  <a:pt x="3588" y="15938"/>
                </a:moveTo>
                <a:cubicBezTo>
                  <a:pt x="3588" y="16015"/>
                  <a:pt x="3607" y="16057"/>
                  <a:pt x="3620" y="16129"/>
                </a:cubicBezTo>
                <a:cubicBezTo>
                  <a:pt x="3640" y="16238"/>
                  <a:pt x="3679" y="16341"/>
                  <a:pt x="3715" y="16446"/>
                </a:cubicBezTo>
                <a:cubicBezTo>
                  <a:pt x="3754" y="16559"/>
                  <a:pt x="3773" y="16691"/>
                  <a:pt x="3810" y="16796"/>
                </a:cubicBezTo>
                <a:cubicBezTo>
                  <a:pt x="3815" y="16810"/>
                  <a:pt x="3893" y="16917"/>
                  <a:pt x="3905" y="16923"/>
                </a:cubicBezTo>
                <a:cubicBezTo>
                  <a:pt x="3942" y="16942"/>
                  <a:pt x="3959" y="16851"/>
                  <a:pt x="3969" y="16828"/>
                </a:cubicBezTo>
              </a:path>
              <a:path w="6573" h="4255">
                <a:moveTo>
                  <a:pt x="4064" y="16097"/>
                </a:moveTo>
                <a:cubicBezTo>
                  <a:pt x="4011" y="16115"/>
                  <a:pt x="4041" y="16162"/>
                  <a:pt x="4000" y="16224"/>
                </a:cubicBezTo>
                <a:cubicBezTo>
                  <a:pt x="3947" y="16304"/>
                  <a:pt x="3871" y="16403"/>
                  <a:pt x="3810" y="16478"/>
                </a:cubicBezTo>
                <a:cubicBezTo>
                  <a:pt x="3731" y="16575"/>
                  <a:pt x="3637" y="16669"/>
                  <a:pt x="3556" y="16764"/>
                </a:cubicBezTo>
                <a:cubicBezTo>
                  <a:pt x="3494" y="16837"/>
                  <a:pt x="3429" y="16884"/>
                  <a:pt x="3366" y="16954"/>
                </a:cubicBezTo>
                <a:cubicBezTo>
                  <a:pt x="3332" y="16992"/>
                  <a:pt x="3333" y="17009"/>
                  <a:pt x="3302" y="17050"/>
                </a:cubicBezTo>
              </a:path>
              <a:path w="6573" h="4255">
                <a:moveTo>
                  <a:pt x="4382" y="16351"/>
                </a:moveTo>
                <a:cubicBezTo>
                  <a:pt x="4382" y="16341"/>
                  <a:pt x="4382" y="16330"/>
                  <a:pt x="4382" y="16320"/>
                </a:cubicBezTo>
                <a:cubicBezTo>
                  <a:pt x="4486" y="16320"/>
                  <a:pt x="4569" y="16327"/>
                  <a:pt x="4667" y="16351"/>
                </a:cubicBezTo>
                <a:cubicBezTo>
                  <a:pt x="4723" y="16365"/>
                  <a:pt x="4799" y="16351"/>
                  <a:pt x="4858" y="16351"/>
                </a:cubicBezTo>
              </a:path>
              <a:path w="6573" h="4255">
                <a:moveTo>
                  <a:pt x="4413" y="16637"/>
                </a:moveTo>
                <a:cubicBezTo>
                  <a:pt x="4500" y="16637"/>
                  <a:pt x="4565" y="16655"/>
                  <a:pt x="4636" y="16669"/>
                </a:cubicBezTo>
                <a:cubicBezTo>
                  <a:pt x="4723" y="16686"/>
                  <a:pt x="4832" y="16669"/>
                  <a:pt x="4921" y="16669"/>
                </a:cubicBezTo>
              </a:path>
              <a:path w="6573" h="4255">
                <a:moveTo>
                  <a:pt x="4985" y="16002"/>
                </a:moveTo>
                <a:cubicBezTo>
                  <a:pt x="5016" y="16002"/>
                  <a:pt x="5027" y="16002"/>
                  <a:pt x="5048" y="16002"/>
                </a:cubicBezTo>
                <a:cubicBezTo>
                  <a:pt x="5060" y="16039"/>
                  <a:pt x="5092" y="16060"/>
                  <a:pt x="5144" y="16066"/>
                </a:cubicBezTo>
                <a:cubicBezTo>
                  <a:pt x="5185" y="16071"/>
                  <a:pt x="5229" y="16066"/>
                  <a:pt x="5270" y="16066"/>
                </a:cubicBezTo>
              </a:path>
              <a:path w="6573" h="4255">
                <a:moveTo>
                  <a:pt x="5461" y="15875"/>
                </a:moveTo>
                <a:cubicBezTo>
                  <a:pt x="5527" y="15846"/>
                  <a:pt x="5612" y="15819"/>
                  <a:pt x="5683" y="15812"/>
                </a:cubicBezTo>
                <a:cubicBezTo>
                  <a:pt x="5747" y="15806"/>
                  <a:pt x="5765" y="15780"/>
                  <a:pt x="5842" y="15780"/>
                </a:cubicBezTo>
                <a:cubicBezTo>
                  <a:pt x="5874" y="15780"/>
                  <a:pt x="5905" y="15780"/>
                  <a:pt x="5937" y="15780"/>
                </a:cubicBezTo>
                <a:cubicBezTo>
                  <a:pt x="5926" y="15836"/>
                  <a:pt x="5922" y="15916"/>
                  <a:pt x="5906" y="15970"/>
                </a:cubicBezTo>
                <a:cubicBezTo>
                  <a:pt x="5879" y="16060"/>
                  <a:pt x="5829" y="16131"/>
                  <a:pt x="5810" y="16224"/>
                </a:cubicBezTo>
                <a:cubicBezTo>
                  <a:pt x="5790" y="16325"/>
                  <a:pt x="5759" y="16443"/>
                  <a:pt x="5747" y="16542"/>
                </a:cubicBezTo>
                <a:cubicBezTo>
                  <a:pt x="5736" y="16628"/>
                  <a:pt x="5741" y="16746"/>
                  <a:pt x="5715" y="16828"/>
                </a:cubicBezTo>
                <a:cubicBezTo>
                  <a:pt x="5694" y="16893"/>
                  <a:pt x="5683" y="16892"/>
                  <a:pt x="5683" y="16954"/>
                </a:cubicBezTo>
              </a:path>
              <a:path w="6573" h="4255">
                <a:moveTo>
                  <a:pt x="4128" y="17177"/>
                </a:moveTo>
                <a:lnTo>
                  <a:pt x="4128" y="17177"/>
                </a:lnTo>
              </a:path>
              <a:path w="6573" h="4255">
                <a:moveTo>
                  <a:pt x="4128" y="17177"/>
                </a:moveTo>
                <a:cubicBezTo>
                  <a:pt x="4117" y="17166"/>
                  <a:pt x="4107" y="17156"/>
                  <a:pt x="4096" y="17145"/>
                </a:cubicBezTo>
              </a:path>
              <a:path w="6573" h="4255">
                <a:moveTo>
                  <a:pt x="4096" y="17145"/>
                </a:moveTo>
                <a:cubicBezTo>
                  <a:pt x="3951" y="17145"/>
                  <a:pt x="3823" y="17157"/>
                  <a:pt x="3683" y="17177"/>
                </a:cubicBezTo>
                <a:cubicBezTo>
                  <a:pt x="3595" y="17190"/>
                  <a:pt x="3514" y="17186"/>
                  <a:pt x="3429" y="17208"/>
                </a:cubicBezTo>
                <a:cubicBezTo>
                  <a:pt x="3339" y="17232"/>
                  <a:pt x="3232" y="17260"/>
                  <a:pt x="3143" y="17272"/>
                </a:cubicBezTo>
                <a:cubicBezTo>
                  <a:pt x="3030" y="17287"/>
                  <a:pt x="2964" y="17312"/>
                  <a:pt x="2858" y="17336"/>
                </a:cubicBezTo>
                <a:cubicBezTo>
                  <a:pt x="2788" y="17352"/>
                  <a:pt x="2760" y="17379"/>
                  <a:pt x="2699" y="17399"/>
                </a:cubicBezTo>
                <a:cubicBezTo>
                  <a:pt x="2688" y="17399"/>
                  <a:pt x="2678" y="17399"/>
                  <a:pt x="2667" y="17399"/>
                </a:cubicBezTo>
              </a:path>
              <a:path w="6573" h="4255">
                <a:moveTo>
                  <a:pt x="3302" y="17399"/>
                </a:moveTo>
                <a:cubicBezTo>
                  <a:pt x="3361" y="17399"/>
                  <a:pt x="3377" y="17373"/>
                  <a:pt x="3429" y="17367"/>
                </a:cubicBezTo>
                <a:cubicBezTo>
                  <a:pt x="3470" y="17362"/>
                  <a:pt x="3515" y="17367"/>
                  <a:pt x="3556" y="17367"/>
                </a:cubicBezTo>
                <a:cubicBezTo>
                  <a:pt x="3571" y="17412"/>
                  <a:pt x="3565" y="17399"/>
                  <a:pt x="3620" y="17399"/>
                </a:cubicBezTo>
                <a:cubicBezTo>
                  <a:pt x="3582" y="17449"/>
                  <a:pt x="3580" y="17503"/>
                  <a:pt x="3556" y="17558"/>
                </a:cubicBezTo>
                <a:cubicBezTo>
                  <a:pt x="3522" y="17636"/>
                  <a:pt x="3487" y="17674"/>
                  <a:pt x="3461" y="17748"/>
                </a:cubicBezTo>
                <a:cubicBezTo>
                  <a:pt x="3441" y="17804"/>
                  <a:pt x="3414" y="17858"/>
                  <a:pt x="3397" y="17907"/>
                </a:cubicBezTo>
                <a:cubicBezTo>
                  <a:pt x="3397" y="17939"/>
                  <a:pt x="3397" y="17949"/>
                  <a:pt x="3397" y="17970"/>
                </a:cubicBezTo>
              </a:path>
              <a:path w="6573" h="4255">
                <a:moveTo>
                  <a:pt x="4921" y="17018"/>
                </a:moveTo>
                <a:cubicBezTo>
                  <a:pt x="5102" y="17018"/>
                  <a:pt x="5301" y="17034"/>
                  <a:pt x="5461" y="16986"/>
                </a:cubicBezTo>
                <a:cubicBezTo>
                  <a:pt x="5545" y="16961"/>
                  <a:pt x="5648" y="16998"/>
                  <a:pt x="5715" y="17018"/>
                </a:cubicBezTo>
                <a:cubicBezTo>
                  <a:pt x="5753" y="17029"/>
                  <a:pt x="5744" y="16998"/>
                  <a:pt x="5778" y="16986"/>
                </a:cubicBezTo>
              </a:path>
              <a:path w="6573" h="4255">
                <a:moveTo>
                  <a:pt x="5239" y="17304"/>
                </a:moveTo>
                <a:cubicBezTo>
                  <a:pt x="5297" y="17304"/>
                  <a:pt x="5314" y="17330"/>
                  <a:pt x="5366" y="17336"/>
                </a:cubicBezTo>
                <a:cubicBezTo>
                  <a:pt x="5381" y="17338"/>
                  <a:pt x="5476" y="17313"/>
                  <a:pt x="5493" y="17304"/>
                </a:cubicBezTo>
                <a:cubicBezTo>
                  <a:pt x="5540" y="17277"/>
                  <a:pt x="5567" y="17253"/>
                  <a:pt x="5620" y="17240"/>
                </a:cubicBezTo>
                <a:cubicBezTo>
                  <a:pt x="5609" y="17297"/>
                  <a:pt x="5566" y="17352"/>
                  <a:pt x="5556" y="17399"/>
                </a:cubicBezTo>
                <a:cubicBezTo>
                  <a:pt x="5539" y="17478"/>
                  <a:pt x="5524" y="17532"/>
                  <a:pt x="5524" y="17621"/>
                </a:cubicBezTo>
                <a:cubicBezTo>
                  <a:pt x="5524" y="17694"/>
                  <a:pt x="5551" y="17745"/>
                  <a:pt x="5556" y="17812"/>
                </a:cubicBezTo>
                <a:cubicBezTo>
                  <a:pt x="5561" y="17880"/>
                  <a:pt x="5569" y="17890"/>
                  <a:pt x="5620" y="17907"/>
                </a:cubicBezTo>
              </a:path>
              <a:path w="6573" h="4255">
                <a:moveTo>
                  <a:pt x="6636" y="14446"/>
                </a:moveTo>
                <a:cubicBezTo>
                  <a:pt x="6636" y="14508"/>
                  <a:pt x="6650" y="14581"/>
                  <a:pt x="6668" y="14637"/>
                </a:cubicBezTo>
                <a:cubicBezTo>
                  <a:pt x="6699" y="14731"/>
                  <a:pt x="6755" y="14831"/>
                  <a:pt x="6794" y="14922"/>
                </a:cubicBezTo>
                <a:cubicBezTo>
                  <a:pt x="6864" y="15086"/>
                  <a:pt x="6898" y="15267"/>
                  <a:pt x="6953" y="15430"/>
                </a:cubicBezTo>
                <a:cubicBezTo>
                  <a:pt x="6987" y="15531"/>
                  <a:pt x="6995" y="15461"/>
                  <a:pt x="7017" y="15526"/>
                </a:cubicBezTo>
              </a:path>
              <a:path w="6573" h="4255">
                <a:moveTo>
                  <a:pt x="7048" y="14605"/>
                </a:moveTo>
                <a:cubicBezTo>
                  <a:pt x="7005" y="14664"/>
                  <a:pt x="6965" y="14731"/>
                  <a:pt x="6922" y="14796"/>
                </a:cubicBezTo>
                <a:cubicBezTo>
                  <a:pt x="6858" y="14892"/>
                  <a:pt x="6779" y="15008"/>
                  <a:pt x="6731" y="15113"/>
                </a:cubicBezTo>
                <a:cubicBezTo>
                  <a:pt x="6683" y="15217"/>
                  <a:pt x="6639" y="15334"/>
                  <a:pt x="6572" y="15430"/>
                </a:cubicBezTo>
                <a:cubicBezTo>
                  <a:pt x="6540" y="15462"/>
                  <a:pt x="6530" y="15472"/>
                  <a:pt x="6509" y="15494"/>
                </a:cubicBezTo>
              </a:path>
              <a:path w="6573" h="4255">
                <a:moveTo>
                  <a:pt x="7271" y="14922"/>
                </a:moveTo>
                <a:cubicBezTo>
                  <a:pt x="7377" y="14922"/>
                  <a:pt x="7482" y="14922"/>
                  <a:pt x="7588" y="14922"/>
                </a:cubicBezTo>
              </a:path>
              <a:path w="6573" h="4255">
                <a:moveTo>
                  <a:pt x="7271" y="15208"/>
                </a:moveTo>
                <a:cubicBezTo>
                  <a:pt x="7218" y="15208"/>
                  <a:pt x="7313" y="15208"/>
                  <a:pt x="7366" y="15208"/>
                </a:cubicBezTo>
                <a:cubicBezTo>
                  <a:pt x="7451" y="15208"/>
                  <a:pt x="7535" y="15208"/>
                  <a:pt x="7620" y="15208"/>
                </a:cubicBezTo>
              </a:path>
              <a:path w="6573" h="4255">
                <a:moveTo>
                  <a:pt x="7747" y="14700"/>
                </a:moveTo>
                <a:cubicBezTo>
                  <a:pt x="7815" y="14700"/>
                  <a:pt x="7849" y="14728"/>
                  <a:pt x="7906" y="14732"/>
                </a:cubicBezTo>
                <a:cubicBezTo>
                  <a:pt x="7978" y="14737"/>
                  <a:pt x="7993" y="14754"/>
                  <a:pt x="8064" y="14764"/>
                </a:cubicBezTo>
              </a:path>
              <a:path w="6573" h="4255">
                <a:moveTo>
                  <a:pt x="8287" y="14351"/>
                </a:moveTo>
                <a:cubicBezTo>
                  <a:pt x="8287" y="14406"/>
                  <a:pt x="8273" y="14461"/>
                  <a:pt x="8255" y="14510"/>
                </a:cubicBezTo>
                <a:cubicBezTo>
                  <a:pt x="8216" y="14620"/>
                  <a:pt x="8249" y="14716"/>
                  <a:pt x="8223" y="14827"/>
                </a:cubicBezTo>
                <a:cubicBezTo>
                  <a:pt x="8205" y="14906"/>
                  <a:pt x="8214" y="15004"/>
                  <a:pt x="8192" y="15081"/>
                </a:cubicBezTo>
                <a:cubicBezTo>
                  <a:pt x="8181" y="15102"/>
                  <a:pt x="8171" y="15124"/>
                  <a:pt x="8160" y="15145"/>
                </a:cubicBezTo>
              </a:path>
              <a:path w="6573" h="4255">
                <a:moveTo>
                  <a:pt x="6890" y="15748"/>
                </a:moveTo>
                <a:cubicBezTo>
                  <a:pt x="6929" y="15774"/>
                  <a:pt x="6912" y="15757"/>
                  <a:pt x="6953" y="15780"/>
                </a:cubicBezTo>
                <a:cubicBezTo>
                  <a:pt x="7006" y="15810"/>
                  <a:pt x="7048" y="15851"/>
                  <a:pt x="7112" y="15875"/>
                </a:cubicBezTo>
                <a:cubicBezTo>
                  <a:pt x="7176" y="15899"/>
                  <a:pt x="7298" y="15929"/>
                  <a:pt x="7366" y="15938"/>
                </a:cubicBezTo>
                <a:cubicBezTo>
                  <a:pt x="7472" y="15951"/>
                  <a:pt x="7579" y="15961"/>
                  <a:pt x="7684" y="15970"/>
                </a:cubicBezTo>
                <a:cubicBezTo>
                  <a:pt x="7810" y="15981"/>
                  <a:pt x="7943" y="15960"/>
                  <a:pt x="8064" y="15938"/>
                </a:cubicBezTo>
                <a:cubicBezTo>
                  <a:pt x="8243" y="15905"/>
                  <a:pt x="8295" y="15824"/>
                  <a:pt x="8446" y="15748"/>
                </a:cubicBezTo>
                <a:cubicBezTo>
                  <a:pt x="8585" y="15678"/>
                  <a:pt x="8629" y="15581"/>
                  <a:pt x="8731" y="15462"/>
                </a:cubicBezTo>
                <a:cubicBezTo>
                  <a:pt x="8836" y="15340"/>
                  <a:pt x="8842" y="15204"/>
                  <a:pt x="8890" y="15050"/>
                </a:cubicBezTo>
                <a:cubicBezTo>
                  <a:pt x="8933" y="14913"/>
                  <a:pt x="8931" y="14805"/>
                  <a:pt x="8890" y="14668"/>
                </a:cubicBezTo>
                <a:cubicBezTo>
                  <a:pt x="8851" y="14538"/>
                  <a:pt x="8820" y="14419"/>
                  <a:pt x="8731" y="14319"/>
                </a:cubicBezTo>
                <a:cubicBezTo>
                  <a:pt x="8655" y="14234"/>
                  <a:pt x="8544" y="14118"/>
                  <a:pt x="8446" y="14065"/>
                </a:cubicBezTo>
                <a:cubicBezTo>
                  <a:pt x="8326" y="14000"/>
                  <a:pt x="8189" y="13931"/>
                  <a:pt x="8064" y="13875"/>
                </a:cubicBezTo>
                <a:cubicBezTo>
                  <a:pt x="7938" y="13819"/>
                  <a:pt x="7757" y="13766"/>
                  <a:pt x="7620" y="13748"/>
                </a:cubicBezTo>
                <a:cubicBezTo>
                  <a:pt x="7471" y="13728"/>
                  <a:pt x="7328" y="13716"/>
                  <a:pt x="7176" y="13716"/>
                </a:cubicBezTo>
                <a:cubicBezTo>
                  <a:pt x="7054" y="13716"/>
                  <a:pt x="6875" y="13726"/>
                  <a:pt x="6763" y="13780"/>
                </a:cubicBezTo>
                <a:cubicBezTo>
                  <a:pt x="6652" y="13834"/>
                  <a:pt x="6550" y="13905"/>
                  <a:pt x="6445" y="13970"/>
                </a:cubicBezTo>
                <a:cubicBezTo>
                  <a:pt x="6338" y="14036"/>
                  <a:pt x="6242" y="14093"/>
                  <a:pt x="6160" y="14192"/>
                </a:cubicBezTo>
                <a:cubicBezTo>
                  <a:pt x="6098" y="14267"/>
                  <a:pt x="6042" y="14355"/>
                  <a:pt x="6001" y="14446"/>
                </a:cubicBezTo>
                <a:cubicBezTo>
                  <a:pt x="5950" y="14561"/>
                  <a:pt x="5943" y="14641"/>
                  <a:pt x="5937" y="14764"/>
                </a:cubicBezTo>
                <a:cubicBezTo>
                  <a:pt x="5931" y="14889"/>
                  <a:pt x="5959" y="14965"/>
                  <a:pt x="6001" y="15081"/>
                </a:cubicBezTo>
                <a:cubicBezTo>
                  <a:pt x="6043" y="15199"/>
                  <a:pt x="6109" y="15295"/>
                  <a:pt x="6160" y="15399"/>
                </a:cubicBezTo>
                <a:cubicBezTo>
                  <a:pt x="6220" y="15520"/>
                  <a:pt x="6284" y="15586"/>
                  <a:pt x="6382" y="15684"/>
                </a:cubicBezTo>
                <a:cubicBezTo>
                  <a:pt x="6459" y="15761"/>
                  <a:pt x="6565" y="15835"/>
                  <a:pt x="6668" y="15875"/>
                </a:cubicBezTo>
                <a:cubicBezTo>
                  <a:pt x="6764" y="15912"/>
                  <a:pt x="6849" y="15907"/>
                  <a:pt x="6953" y="15907"/>
                </a:cubicBezTo>
                <a:cubicBezTo>
                  <a:pt x="7088" y="15907"/>
                  <a:pt x="7251" y="15884"/>
                  <a:pt x="7366" y="15938"/>
                </a:cubicBezTo>
                <a:cubicBezTo>
                  <a:pt x="7377" y="15949"/>
                  <a:pt x="7387" y="15959"/>
                  <a:pt x="7398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13"/>
          <p:cNvSpPr/>
          <p:nvPr/>
        </p:nvSpPr>
        <p:spPr>
          <a:xfrm>
            <a:off x="3565440" y="3840120"/>
            <a:ext cx="1967040" cy="1041480"/>
          </a:xfrm>
          <a:custGeom>
            <a:avLst/>
            <a:gdLst/>
            <a:ahLst/>
            <a:rect l="l" t="t" r="r" b="b"/>
            <a:pathLst>
              <a:path w="5462" h="2890">
                <a:moveTo>
                  <a:pt x="11398" y="11494"/>
                </a:moveTo>
                <a:cubicBezTo>
                  <a:pt x="11398" y="11483"/>
                  <a:pt x="11398" y="11473"/>
                  <a:pt x="11398" y="11462"/>
                </a:cubicBezTo>
                <a:cubicBezTo>
                  <a:pt x="11328" y="11439"/>
                  <a:pt x="11394" y="11404"/>
                  <a:pt x="11366" y="11335"/>
                </a:cubicBezTo>
                <a:cubicBezTo>
                  <a:pt x="11344" y="11281"/>
                  <a:pt x="11331" y="11228"/>
                  <a:pt x="11303" y="11176"/>
                </a:cubicBezTo>
                <a:cubicBezTo>
                  <a:pt x="11292" y="11155"/>
                  <a:pt x="11282" y="11133"/>
                  <a:pt x="11271" y="11112"/>
                </a:cubicBezTo>
              </a:path>
              <a:path w="5462" h="2890">
                <a:moveTo>
                  <a:pt x="11240" y="11049"/>
                </a:moveTo>
                <a:cubicBezTo>
                  <a:pt x="11194" y="10985"/>
                  <a:pt x="11187" y="10975"/>
                  <a:pt x="11112" y="10954"/>
                </a:cubicBezTo>
                <a:cubicBezTo>
                  <a:pt x="11059" y="10939"/>
                  <a:pt x="11014" y="10974"/>
                  <a:pt x="10986" y="11017"/>
                </a:cubicBezTo>
                <a:cubicBezTo>
                  <a:pt x="10929" y="11106"/>
                  <a:pt x="10899" y="11208"/>
                  <a:pt x="10858" y="11303"/>
                </a:cubicBezTo>
                <a:cubicBezTo>
                  <a:pt x="10816" y="11402"/>
                  <a:pt x="10807" y="11545"/>
                  <a:pt x="10795" y="11652"/>
                </a:cubicBezTo>
                <a:cubicBezTo>
                  <a:pt x="10781" y="11773"/>
                  <a:pt x="10841" y="11889"/>
                  <a:pt x="10858" y="12002"/>
                </a:cubicBezTo>
                <a:cubicBezTo>
                  <a:pt x="10870" y="12078"/>
                  <a:pt x="10894" y="12138"/>
                  <a:pt x="10986" y="12160"/>
                </a:cubicBezTo>
                <a:cubicBezTo>
                  <a:pt x="11037" y="12172"/>
                  <a:pt x="11111" y="12171"/>
                  <a:pt x="11144" y="12128"/>
                </a:cubicBezTo>
                <a:cubicBezTo>
                  <a:pt x="11204" y="12051"/>
                  <a:pt x="11264" y="12005"/>
                  <a:pt x="11303" y="11906"/>
                </a:cubicBezTo>
                <a:cubicBezTo>
                  <a:pt x="11348" y="11791"/>
                  <a:pt x="11381" y="11678"/>
                  <a:pt x="11398" y="11557"/>
                </a:cubicBezTo>
                <a:cubicBezTo>
                  <a:pt x="11410" y="11468"/>
                  <a:pt x="11430" y="11397"/>
                  <a:pt x="11430" y="11303"/>
                </a:cubicBezTo>
                <a:cubicBezTo>
                  <a:pt x="11430" y="11272"/>
                  <a:pt x="11430" y="11302"/>
                  <a:pt x="11430" y="11271"/>
                </a:cubicBezTo>
                <a:cubicBezTo>
                  <a:pt x="11430" y="11382"/>
                  <a:pt x="11449" y="11485"/>
                  <a:pt x="11462" y="11589"/>
                </a:cubicBezTo>
                <a:cubicBezTo>
                  <a:pt x="11478" y="11719"/>
                  <a:pt x="11473" y="11846"/>
                  <a:pt x="11494" y="11970"/>
                </a:cubicBezTo>
                <a:cubicBezTo>
                  <a:pt x="11505" y="12033"/>
                  <a:pt x="11479" y="12094"/>
                  <a:pt x="11557" y="12128"/>
                </a:cubicBezTo>
                <a:cubicBezTo>
                  <a:pt x="11568" y="12128"/>
                  <a:pt x="11578" y="12128"/>
                  <a:pt x="11589" y="12128"/>
                </a:cubicBezTo>
                <a:cubicBezTo>
                  <a:pt x="11609" y="12108"/>
                  <a:pt x="11647" y="12070"/>
                  <a:pt x="11684" y="12033"/>
                </a:cubicBezTo>
                <a:cubicBezTo>
                  <a:pt x="11748" y="11970"/>
                  <a:pt x="11788" y="11910"/>
                  <a:pt x="11843" y="11843"/>
                </a:cubicBezTo>
              </a:path>
              <a:path w="5462" h="2890">
                <a:moveTo>
                  <a:pt x="11874" y="11462"/>
                </a:moveTo>
                <a:cubicBezTo>
                  <a:pt x="11939" y="11462"/>
                  <a:pt x="11949" y="11448"/>
                  <a:pt x="12002" y="11430"/>
                </a:cubicBezTo>
                <a:cubicBezTo>
                  <a:pt x="12039" y="11418"/>
                  <a:pt x="12093" y="11401"/>
                  <a:pt x="12128" y="11398"/>
                </a:cubicBezTo>
                <a:cubicBezTo>
                  <a:pt x="12149" y="11398"/>
                  <a:pt x="12171" y="11398"/>
                  <a:pt x="12192" y="11398"/>
                </a:cubicBezTo>
                <a:cubicBezTo>
                  <a:pt x="12208" y="11446"/>
                  <a:pt x="12230" y="11430"/>
                  <a:pt x="12287" y="11430"/>
                </a:cubicBezTo>
                <a:cubicBezTo>
                  <a:pt x="12319" y="11430"/>
                  <a:pt x="12330" y="11430"/>
                  <a:pt x="12351" y="11430"/>
                </a:cubicBezTo>
              </a:path>
              <a:path w="5462" h="2890">
                <a:moveTo>
                  <a:pt x="12636" y="10763"/>
                </a:moveTo>
                <a:cubicBezTo>
                  <a:pt x="12636" y="10958"/>
                  <a:pt x="12624" y="11143"/>
                  <a:pt x="12605" y="11335"/>
                </a:cubicBezTo>
                <a:cubicBezTo>
                  <a:pt x="12578" y="11615"/>
                  <a:pt x="12605" y="11911"/>
                  <a:pt x="12605" y="12192"/>
                </a:cubicBezTo>
              </a:path>
              <a:path w="5462" h="2890">
                <a:moveTo>
                  <a:pt x="12890" y="11335"/>
                </a:moveTo>
                <a:cubicBezTo>
                  <a:pt x="12950" y="11335"/>
                  <a:pt x="12971" y="11313"/>
                  <a:pt x="13018" y="11303"/>
                </a:cubicBezTo>
                <a:cubicBezTo>
                  <a:pt x="13091" y="11287"/>
                  <a:pt x="13165" y="11291"/>
                  <a:pt x="13240" y="11271"/>
                </a:cubicBezTo>
                <a:cubicBezTo>
                  <a:pt x="13321" y="11249"/>
                  <a:pt x="13375" y="11240"/>
                  <a:pt x="13462" y="11240"/>
                </a:cubicBezTo>
                <a:cubicBezTo>
                  <a:pt x="13502" y="11240"/>
                  <a:pt x="13519" y="11262"/>
                  <a:pt x="13557" y="11271"/>
                </a:cubicBezTo>
              </a:path>
              <a:path w="5462" h="2890">
                <a:moveTo>
                  <a:pt x="13081" y="11620"/>
                </a:moveTo>
                <a:cubicBezTo>
                  <a:pt x="13165" y="11620"/>
                  <a:pt x="13119" y="11597"/>
                  <a:pt x="13208" y="11589"/>
                </a:cubicBezTo>
                <a:cubicBezTo>
                  <a:pt x="13333" y="11578"/>
                  <a:pt x="13463" y="11589"/>
                  <a:pt x="13589" y="11589"/>
                </a:cubicBezTo>
              </a:path>
              <a:path w="5462" h="2890">
                <a:moveTo>
                  <a:pt x="14573" y="10668"/>
                </a:moveTo>
                <a:cubicBezTo>
                  <a:pt x="14525" y="10675"/>
                  <a:pt x="14485" y="10676"/>
                  <a:pt x="14446" y="10700"/>
                </a:cubicBezTo>
                <a:cubicBezTo>
                  <a:pt x="14384" y="10738"/>
                  <a:pt x="14316" y="10756"/>
                  <a:pt x="14256" y="10795"/>
                </a:cubicBezTo>
                <a:cubicBezTo>
                  <a:pt x="14201" y="10831"/>
                  <a:pt x="14164" y="10827"/>
                  <a:pt x="14097" y="10827"/>
                </a:cubicBezTo>
                <a:cubicBezTo>
                  <a:pt x="14012" y="10827"/>
                  <a:pt x="13979" y="10825"/>
                  <a:pt x="13938" y="10858"/>
                </a:cubicBezTo>
                <a:cubicBezTo>
                  <a:pt x="13888" y="10897"/>
                  <a:pt x="13906" y="10959"/>
                  <a:pt x="13906" y="11017"/>
                </a:cubicBezTo>
                <a:cubicBezTo>
                  <a:pt x="13906" y="11104"/>
                  <a:pt x="13879" y="11183"/>
                  <a:pt x="13875" y="11271"/>
                </a:cubicBezTo>
                <a:cubicBezTo>
                  <a:pt x="13873" y="11309"/>
                  <a:pt x="13876" y="11409"/>
                  <a:pt x="13906" y="11430"/>
                </a:cubicBezTo>
                <a:cubicBezTo>
                  <a:pt x="13944" y="11457"/>
                  <a:pt x="14010" y="11418"/>
                  <a:pt x="14034" y="11398"/>
                </a:cubicBezTo>
                <a:cubicBezTo>
                  <a:pt x="14087" y="11355"/>
                  <a:pt x="14115" y="11279"/>
                  <a:pt x="14160" y="11240"/>
                </a:cubicBezTo>
                <a:cubicBezTo>
                  <a:pt x="14205" y="11202"/>
                  <a:pt x="14303" y="11154"/>
                  <a:pt x="14351" y="11144"/>
                </a:cubicBezTo>
                <a:cubicBezTo>
                  <a:pt x="14410" y="11132"/>
                  <a:pt x="14507" y="11191"/>
                  <a:pt x="14542" y="11240"/>
                </a:cubicBezTo>
                <a:cubicBezTo>
                  <a:pt x="14586" y="11301"/>
                  <a:pt x="14602" y="11421"/>
                  <a:pt x="14605" y="11494"/>
                </a:cubicBezTo>
                <a:cubicBezTo>
                  <a:pt x="14610" y="11605"/>
                  <a:pt x="14601" y="11739"/>
                  <a:pt x="14573" y="11843"/>
                </a:cubicBezTo>
                <a:cubicBezTo>
                  <a:pt x="14544" y="11950"/>
                  <a:pt x="14469" y="12041"/>
                  <a:pt x="14414" y="12128"/>
                </a:cubicBezTo>
                <a:cubicBezTo>
                  <a:pt x="14377" y="12187"/>
                  <a:pt x="14297" y="12268"/>
                  <a:pt x="14224" y="12287"/>
                </a:cubicBezTo>
                <a:cubicBezTo>
                  <a:pt x="14164" y="12303"/>
                  <a:pt x="14112" y="12276"/>
                  <a:pt x="14065" y="12256"/>
                </a:cubicBezTo>
                <a:cubicBezTo>
                  <a:pt x="13984" y="12222"/>
                  <a:pt x="14000" y="12175"/>
                  <a:pt x="13970" y="12097"/>
                </a:cubicBezTo>
              </a:path>
              <a:path w="5462" h="2890">
                <a:moveTo>
                  <a:pt x="15050" y="11494"/>
                </a:moveTo>
                <a:cubicBezTo>
                  <a:pt x="15037" y="11443"/>
                  <a:pt x="14986" y="11351"/>
                  <a:pt x="14954" y="11303"/>
                </a:cubicBezTo>
                <a:cubicBezTo>
                  <a:pt x="14925" y="11260"/>
                  <a:pt x="14875" y="11213"/>
                  <a:pt x="14827" y="11208"/>
                </a:cubicBezTo>
                <a:cubicBezTo>
                  <a:pt x="14777" y="11202"/>
                  <a:pt x="14723" y="11220"/>
                  <a:pt x="14700" y="11271"/>
                </a:cubicBezTo>
                <a:cubicBezTo>
                  <a:pt x="14667" y="11345"/>
                  <a:pt x="14684" y="11417"/>
                  <a:pt x="14668" y="11494"/>
                </a:cubicBezTo>
                <a:cubicBezTo>
                  <a:pt x="14641" y="11621"/>
                  <a:pt x="14661" y="11657"/>
                  <a:pt x="14668" y="11779"/>
                </a:cubicBezTo>
                <a:cubicBezTo>
                  <a:pt x="14673" y="11863"/>
                  <a:pt x="14710" y="11904"/>
                  <a:pt x="14732" y="11970"/>
                </a:cubicBezTo>
                <a:cubicBezTo>
                  <a:pt x="14732" y="11981"/>
                  <a:pt x="14732" y="11991"/>
                  <a:pt x="14732" y="12002"/>
                </a:cubicBezTo>
                <a:cubicBezTo>
                  <a:pt x="14803" y="11984"/>
                  <a:pt x="14824" y="11941"/>
                  <a:pt x="14859" y="11874"/>
                </a:cubicBezTo>
                <a:cubicBezTo>
                  <a:pt x="14907" y="11784"/>
                  <a:pt x="14966" y="11658"/>
                  <a:pt x="14986" y="11557"/>
                </a:cubicBezTo>
                <a:cubicBezTo>
                  <a:pt x="14999" y="11489"/>
                  <a:pt x="14991" y="11418"/>
                  <a:pt x="15050" y="11398"/>
                </a:cubicBezTo>
                <a:cubicBezTo>
                  <a:pt x="15050" y="11500"/>
                  <a:pt x="15040" y="11591"/>
                  <a:pt x="15081" y="11684"/>
                </a:cubicBezTo>
                <a:cubicBezTo>
                  <a:pt x="15108" y="11745"/>
                  <a:pt x="15104" y="11842"/>
                  <a:pt x="15176" y="11874"/>
                </a:cubicBezTo>
                <a:cubicBezTo>
                  <a:pt x="15233" y="11899"/>
                  <a:pt x="15258" y="11850"/>
                  <a:pt x="15272" y="11843"/>
                </a:cubicBezTo>
                <a:cubicBezTo>
                  <a:pt x="15317" y="11821"/>
                  <a:pt x="15332" y="11722"/>
                  <a:pt x="15335" y="11652"/>
                </a:cubicBezTo>
                <a:cubicBezTo>
                  <a:pt x="15339" y="11549"/>
                  <a:pt x="15367" y="11471"/>
                  <a:pt x="15367" y="11366"/>
                </a:cubicBezTo>
              </a:path>
              <a:path w="5462" h="2890">
                <a:moveTo>
                  <a:pt x="13303" y="12732"/>
                </a:moveTo>
                <a:cubicBezTo>
                  <a:pt x="13335" y="12732"/>
                  <a:pt x="13366" y="12732"/>
                  <a:pt x="13398" y="12732"/>
                </a:cubicBezTo>
                <a:cubicBezTo>
                  <a:pt x="13414" y="12684"/>
                  <a:pt x="13437" y="12700"/>
                  <a:pt x="13494" y="12700"/>
                </a:cubicBezTo>
                <a:cubicBezTo>
                  <a:pt x="13526" y="12700"/>
                  <a:pt x="13557" y="12700"/>
                  <a:pt x="13589" y="12700"/>
                </a:cubicBezTo>
              </a:path>
              <a:path w="5462" h="2890">
                <a:moveTo>
                  <a:pt x="14288" y="12446"/>
                </a:moveTo>
                <a:cubicBezTo>
                  <a:pt x="14240" y="12462"/>
                  <a:pt x="14261" y="12478"/>
                  <a:pt x="14192" y="12478"/>
                </a:cubicBezTo>
                <a:cubicBezTo>
                  <a:pt x="14141" y="12478"/>
                  <a:pt x="14123" y="12510"/>
                  <a:pt x="14065" y="12510"/>
                </a:cubicBezTo>
                <a:cubicBezTo>
                  <a:pt x="14014" y="12510"/>
                  <a:pt x="13902" y="12486"/>
                  <a:pt x="13875" y="12541"/>
                </a:cubicBezTo>
                <a:cubicBezTo>
                  <a:pt x="13850" y="12592"/>
                  <a:pt x="13858" y="12737"/>
                  <a:pt x="13843" y="12795"/>
                </a:cubicBezTo>
                <a:cubicBezTo>
                  <a:pt x="13836" y="12822"/>
                  <a:pt x="13843" y="12862"/>
                  <a:pt x="13843" y="12890"/>
                </a:cubicBezTo>
                <a:cubicBezTo>
                  <a:pt x="13840" y="12889"/>
                  <a:pt x="13810" y="12821"/>
                  <a:pt x="13843" y="12795"/>
                </a:cubicBezTo>
                <a:cubicBezTo>
                  <a:pt x="13861" y="12781"/>
                  <a:pt x="13902" y="12744"/>
                  <a:pt x="13938" y="12732"/>
                </a:cubicBezTo>
                <a:cubicBezTo>
                  <a:pt x="13995" y="12713"/>
                  <a:pt x="14089" y="12729"/>
                  <a:pt x="14129" y="12764"/>
                </a:cubicBezTo>
                <a:cubicBezTo>
                  <a:pt x="14174" y="12804"/>
                  <a:pt x="14197" y="12849"/>
                  <a:pt x="14224" y="12890"/>
                </a:cubicBezTo>
                <a:cubicBezTo>
                  <a:pt x="14258" y="12941"/>
                  <a:pt x="14256" y="12954"/>
                  <a:pt x="14256" y="13018"/>
                </a:cubicBezTo>
                <a:cubicBezTo>
                  <a:pt x="14256" y="13103"/>
                  <a:pt x="14245" y="13137"/>
                  <a:pt x="14192" y="13208"/>
                </a:cubicBezTo>
                <a:cubicBezTo>
                  <a:pt x="14162" y="13248"/>
                  <a:pt x="14107" y="13308"/>
                  <a:pt x="14065" y="13335"/>
                </a:cubicBezTo>
                <a:cubicBezTo>
                  <a:pt x="14007" y="13373"/>
                  <a:pt x="13970" y="13367"/>
                  <a:pt x="13906" y="13367"/>
                </a:cubicBezTo>
                <a:cubicBezTo>
                  <a:pt x="13839" y="13367"/>
                  <a:pt x="13843" y="13325"/>
                  <a:pt x="13843" y="13272"/>
                </a:cubicBezTo>
              </a:path>
              <a:path w="5462" h="2890">
                <a:moveTo>
                  <a:pt x="14668" y="12859"/>
                </a:moveTo>
                <a:cubicBezTo>
                  <a:pt x="14648" y="12831"/>
                  <a:pt x="14618" y="12770"/>
                  <a:pt x="14605" y="12764"/>
                </a:cubicBezTo>
                <a:cubicBezTo>
                  <a:pt x="14562" y="12743"/>
                  <a:pt x="14546" y="12705"/>
                  <a:pt x="14510" y="12700"/>
                </a:cubicBezTo>
                <a:cubicBezTo>
                  <a:pt x="14453" y="12693"/>
                  <a:pt x="14431" y="12741"/>
                  <a:pt x="14414" y="12764"/>
                </a:cubicBezTo>
                <a:cubicBezTo>
                  <a:pt x="14379" y="12811"/>
                  <a:pt x="14323" y="12864"/>
                  <a:pt x="14319" y="12922"/>
                </a:cubicBezTo>
                <a:cubicBezTo>
                  <a:pt x="14315" y="12977"/>
                  <a:pt x="14292" y="13115"/>
                  <a:pt x="14351" y="13144"/>
                </a:cubicBezTo>
                <a:cubicBezTo>
                  <a:pt x="14376" y="13156"/>
                  <a:pt x="14442" y="13196"/>
                  <a:pt x="14478" y="13176"/>
                </a:cubicBezTo>
                <a:cubicBezTo>
                  <a:pt x="14535" y="13144"/>
                  <a:pt x="14580" y="13123"/>
                  <a:pt x="14605" y="13049"/>
                </a:cubicBezTo>
                <a:cubicBezTo>
                  <a:pt x="14625" y="12989"/>
                  <a:pt x="14618" y="12917"/>
                  <a:pt x="14637" y="12859"/>
                </a:cubicBezTo>
                <a:cubicBezTo>
                  <a:pt x="14654" y="12807"/>
                  <a:pt x="14723" y="12764"/>
                  <a:pt x="14668" y="12764"/>
                </a:cubicBezTo>
                <a:cubicBezTo>
                  <a:pt x="14630" y="12764"/>
                  <a:pt x="14668" y="12762"/>
                  <a:pt x="14668" y="12827"/>
                </a:cubicBezTo>
                <a:cubicBezTo>
                  <a:pt x="14668" y="12877"/>
                  <a:pt x="14689" y="13012"/>
                  <a:pt x="14732" y="13049"/>
                </a:cubicBezTo>
                <a:cubicBezTo>
                  <a:pt x="14747" y="13062"/>
                  <a:pt x="14829" y="13098"/>
                  <a:pt x="14859" y="13081"/>
                </a:cubicBezTo>
                <a:cubicBezTo>
                  <a:pt x="14910" y="13052"/>
                  <a:pt x="14923" y="12995"/>
                  <a:pt x="14954" y="12954"/>
                </a:cubicBezTo>
              </a:path>
              <a:path w="5462" h="2890">
                <a:moveTo>
                  <a:pt x="9938" y="12922"/>
                </a:moveTo>
                <a:cubicBezTo>
                  <a:pt x="9927" y="12922"/>
                  <a:pt x="9917" y="12922"/>
                  <a:pt x="9906" y="12922"/>
                </a:cubicBezTo>
                <a:cubicBezTo>
                  <a:pt x="9954" y="12938"/>
                  <a:pt x="9933" y="12954"/>
                  <a:pt x="10001" y="12954"/>
                </a:cubicBezTo>
                <a:cubicBezTo>
                  <a:pt x="10074" y="12954"/>
                  <a:pt x="10101" y="12942"/>
                  <a:pt x="10160" y="12922"/>
                </a:cubicBezTo>
                <a:cubicBezTo>
                  <a:pt x="10192" y="12922"/>
                  <a:pt x="10203" y="12922"/>
                  <a:pt x="10224" y="12922"/>
                </a:cubicBezTo>
              </a:path>
              <a:path w="5462" h="2890">
                <a:moveTo>
                  <a:pt x="11017" y="12510"/>
                </a:moveTo>
                <a:cubicBezTo>
                  <a:pt x="10975" y="12541"/>
                  <a:pt x="10964" y="12584"/>
                  <a:pt x="10922" y="12605"/>
                </a:cubicBezTo>
                <a:cubicBezTo>
                  <a:pt x="10867" y="12632"/>
                  <a:pt x="10831" y="12668"/>
                  <a:pt x="10763" y="12668"/>
                </a:cubicBezTo>
                <a:cubicBezTo>
                  <a:pt x="10698" y="12668"/>
                  <a:pt x="10695" y="12649"/>
                  <a:pt x="10668" y="12636"/>
                </a:cubicBezTo>
                <a:cubicBezTo>
                  <a:pt x="10657" y="12636"/>
                  <a:pt x="10647" y="12636"/>
                  <a:pt x="10636" y="12636"/>
                </a:cubicBezTo>
                <a:cubicBezTo>
                  <a:pt x="10599" y="12648"/>
                  <a:pt x="10579" y="12680"/>
                  <a:pt x="10573" y="12732"/>
                </a:cubicBezTo>
                <a:cubicBezTo>
                  <a:pt x="10561" y="12845"/>
                  <a:pt x="10573" y="12967"/>
                  <a:pt x="10573" y="13081"/>
                </a:cubicBezTo>
                <a:cubicBezTo>
                  <a:pt x="10600" y="13072"/>
                  <a:pt x="10623" y="13026"/>
                  <a:pt x="10636" y="12986"/>
                </a:cubicBezTo>
                <a:cubicBezTo>
                  <a:pt x="10647" y="12954"/>
                  <a:pt x="10675" y="12844"/>
                  <a:pt x="10700" y="12827"/>
                </a:cubicBezTo>
                <a:cubicBezTo>
                  <a:pt x="10768" y="12782"/>
                  <a:pt x="10781" y="12808"/>
                  <a:pt x="10858" y="12827"/>
                </a:cubicBezTo>
                <a:cubicBezTo>
                  <a:pt x="10893" y="12836"/>
                  <a:pt x="10973" y="12877"/>
                  <a:pt x="10986" y="12922"/>
                </a:cubicBezTo>
                <a:cubicBezTo>
                  <a:pt x="11004" y="12986"/>
                  <a:pt x="11037" y="13078"/>
                  <a:pt x="11049" y="13144"/>
                </a:cubicBezTo>
                <a:cubicBezTo>
                  <a:pt x="11064" y="13227"/>
                  <a:pt x="10996" y="13300"/>
                  <a:pt x="10986" y="13367"/>
                </a:cubicBezTo>
                <a:cubicBezTo>
                  <a:pt x="10977" y="13427"/>
                  <a:pt x="10976" y="13533"/>
                  <a:pt x="10890" y="13557"/>
                </a:cubicBezTo>
                <a:cubicBezTo>
                  <a:pt x="10816" y="13578"/>
                  <a:pt x="10786" y="13544"/>
                  <a:pt x="10732" y="13526"/>
                </a:cubicBezTo>
                <a:cubicBezTo>
                  <a:pt x="10689" y="13512"/>
                  <a:pt x="10703" y="13508"/>
                  <a:pt x="10668" y="13462"/>
                </a:cubicBezTo>
              </a:path>
              <a:path w="5462" h="2890">
                <a:moveTo>
                  <a:pt x="11398" y="12795"/>
                </a:moveTo>
                <a:cubicBezTo>
                  <a:pt x="11394" y="12784"/>
                  <a:pt x="11326" y="12727"/>
                  <a:pt x="11303" y="12732"/>
                </a:cubicBezTo>
                <a:cubicBezTo>
                  <a:pt x="11221" y="12750"/>
                  <a:pt x="11236" y="12803"/>
                  <a:pt x="11208" y="12859"/>
                </a:cubicBezTo>
                <a:cubicBezTo>
                  <a:pt x="11180" y="12913"/>
                  <a:pt x="11149" y="12981"/>
                  <a:pt x="11144" y="13049"/>
                </a:cubicBezTo>
                <a:cubicBezTo>
                  <a:pt x="11137" y="13155"/>
                  <a:pt x="11168" y="13236"/>
                  <a:pt x="11176" y="13335"/>
                </a:cubicBezTo>
                <a:cubicBezTo>
                  <a:pt x="11180" y="13393"/>
                  <a:pt x="11205" y="13419"/>
                  <a:pt x="11240" y="13462"/>
                </a:cubicBezTo>
                <a:cubicBezTo>
                  <a:pt x="11254" y="13420"/>
                  <a:pt x="11273" y="13390"/>
                  <a:pt x="11303" y="13335"/>
                </a:cubicBezTo>
                <a:cubicBezTo>
                  <a:pt x="11345" y="13257"/>
                  <a:pt x="11384" y="13165"/>
                  <a:pt x="11398" y="13081"/>
                </a:cubicBezTo>
                <a:cubicBezTo>
                  <a:pt x="11402" y="13056"/>
                  <a:pt x="11412" y="12905"/>
                  <a:pt x="11430" y="12890"/>
                </a:cubicBezTo>
                <a:cubicBezTo>
                  <a:pt x="11441" y="12890"/>
                  <a:pt x="11451" y="12890"/>
                  <a:pt x="11462" y="12890"/>
                </a:cubicBezTo>
                <a:cubicBezTo>
                  <a:pt x="11462" y="12947"/>
                  <a:pt x="11473" y="13034"/>
                  <a:pt x="11494" y="13081"/>
                </a:cubicBezTo>
                <a:cubicBezTo>
                  <a:pt x="11501" y="13096"/>
                  <a:pt x="11553" y="13205"/>
                  <a:pt x="11557" y="13208"/>
                </a:cubicBezTo>
                <a:cubicBezTo>
                  <a:pt x="11568" y="13208"/>
                  <a:pt x="11578" y="13208"/>
                  <a:pt x="11589" y="13208"/>
                </a:cubicBezTo>
                <a:cubicBezTo>
                  <a:pt x="11611" y="13200"/>
                  <a:pt x="11667" y="13151"/>
                  <a:pt x="11684" y="13113"/>
                </a:cubicBezTo>
                <a:cubicBezTo>
                  <a:pt x="11710" y="13054"/>
                  <a:pt x="11765" y="12955"/>
                  <a:pt x="11779" y="12890"/>
                </a:cubicBezTo>
                <a:cubicBezTo>
                  <a:pt x="11779" y="12869"/>
                  <a:pt x="11779" y="12848"/>
                  <a:pt x="11779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14"/>
          <p:cNvSpPr/>
          <p:nvPr/>
        </p:nvSpPr>
        <p:spPr>
          <a:xfrm>
            <a:off x="6915240" y="1347840"/>
            <a:ext cx="2171520" cy="1806480"/>
          </a:xfrm>
          <a:custGeom>
            <a:avLst/>
            <a:gdLst/>
            <a:ahLst/>
            <a:rect l="l" t="t" r="r" b="b"/>
            <a:pathLst>
              <a:path w="6033" h="5018">
                <a:moveTo>
                  <a:pt x="19336" y="6191"/>
                </a:moveTo>
                <a:cubicBezTo>
                  <a:pt x="19345" y="6298"/>
                  <a:pt x="19342" y="6375"/>
                  <a:pt x="19336" y="6477"/>
                </a:cubicBezTo>
                <a:cubicBezTo>
                  <a:pt x="19325" y="6658"/>
                  <a:pt x="19285" y="6837"/>
                  <a:pt x="19272" y="7017"/>
                </a:cubicBezTo>
                <a:cubicBezTo>
                  <a:pt x="19257" y="7229"/>
                  <a:pt x="19223" y="7440"/>
                  <a:pt x="19209" y="7652"/>
                </a:cubicBezTo>
                <a:cubicBezTo>
                  <a:pt x="19196" y="7859"/>
                  <a:pt x="19192" y="8088"/>
                  <a:pt x="19240" y="8287"/>
                </a:cubicBezTo>
                <a:cubicBezTo>
                  <a:pt x="19258" y="8362"/>
                  <a:pt x="19252" y="8450"/>
                  <a:pt x="19304" y="8509"/>
                </a:cubicBezTo>
                <a:cubicBezTo>
                  <a:pt x="19362" y="8575"/>
                  <a:pt x="19375" y="8526"/>
                  <a:pt x="19431" y="8509"/>
                </a:cubicBezTo>
                <a:cubicBezTo>
                  <a:pt x="19504" y="8487"/>
                  <a:pt x="19551" y="8444"/>
                  <a:pt x="19622" y="8414"/>
                </a:cubicBezTo>
                <a:cubicBezTo>
                  <a:pt x="19736" y="8366"/>
                  <a:pt x="19853" y="8326"/>
                  <a:pt x="19971" y="8287"/>
                </a:cubicBezTo>
                <a:cubicBezTo>
                  <a:pt x="20098" y="8245"/>
                  <a:pt x="20219" y="8255"/>
                  <a:pt x="20352" y="8255"/>
                </a:cubicBezTo>
                <a:cubicBezTo>
                  <a:pt x="20507" y="8255"/>
                  <a:pt x="20617" y="8297"/>
                  <a:pt x="20764" y="8318"/>
                </a:cubicBezTo>
                <a:cubicBezTo>
                  <a:pt x="20881" y="8335"/>
                  <a:pt x="21001" y="8354"/>
                  <a:pt x="21114" y="8382"/>
                </a:cubicBezTo>
                <a:cubicBezTo>
                  <a:pt x="21174" y="8397"/>
                  <a:pt x="21247" y="8427"/>
                  <a:pt x="21304" y="8446"/>
                </a:cubicBezTo>
                <a:cubicBezTo>
                  <a:pt x="21315" y="8393"/>
                  <a:pt x="21331" y="8339"/>
                  <a:pt x="21336" y="8287"/>
                </a:cubicBezTo>
                <a:cubicBezTo>
                  <a:pt x="21367" y="7972"/>
                  <a:pt x="21342" y="7647"/>
                  <a:pt x="21368" y="7334"/>
                </a:cubicBezTo>
                <a:cubicBezTo>
                  <a:pt x="21387" y="7109"/>
                  <a:pt x="21354" y="6887"/>
                  <a:pt x="21336" y="6668"/>
                </a:cubicBezTo>
                <a:cubicBezTo>
                  <a:pt x="21324" y="6528"/>
                  <a:pt x="21335" y="6391"/>
                  <a:pt x="21304" y="6255"/>
                </a:cubicBezTo>
                <a:cubicBezTo>
                  <a:pt x="21285" y="6172"/>
                  <a:pt x="21256" y="6073"/>
                  <a:pt x="21241" y="6001"/>
                </a:cubicBezTo>
                <a:cubicBezTo>
                  <a:pt x="21241" y="5990"/>
                  <a:pt x="21241" y="5980"/>
                  <a:pt x="21241" y="5969"/>
                </a:cubicBezTo>
                <a:cubicBezTo>
                  <a:pt x="21196" y="5984"/>
                  <a:pt x="21157" y="5982"/>
                  <a:pt x="21114" y="6001"/>
                </a:cubicBezTo>
                <a:cubicBezTo>
                  <a:pt x="21017" y="6043"/>
                  <a:pt x="20902" y="6060"/>
                  <a:pt x="20796" y="6064"/>
                </a:cubicBezTo>
                <a:cubicBezTo>
                  <a:pt x="20642" y="6069"/>
                  <a:pt x="20473" y="6077"/>
                  <a:pt x="20320" y="6096"/>
                </a:cubicBezTo>
                <a:cubicBezTo>
                  <a:pt x="20133" y="6119"/>
                  <a:pt x="19949" y="6175"/>
                  <a:pt x="19780" y="6255"/>
                </a:cubicBezTo>
                <a:cubicBezTo>
                  <a:pt x="19661" y="6314"/>
                  <a:pt x="19626" y="6330"/>
                  <a:pt x="19558" y="6382"/>
                </a:cubicBezTo>
              </a:path>
              <a:path w="6033" h="5018">
                <a:moveTo>
                  <a:pt x="22479" y="4159"/>
                </a:moveTo>
                <a:cubicBezTo>
                  <a:pt x="22452" y="4125"/>
                  <a:pt x="22403" y="4073"/>
                  <a:pt x="22384" y="4032"/>
                </a:cubicBezTo>
                <a:cubicBezTo>
                  <a:pt x="22354" y="3969"/>
                  <a:pt x="22342" y="3928"/>
                  <a:pt x="22288" y="3874"/>
                </a:cubicBezTo>
                <a:cubicBezTo>
                  <a:pt x="22238" y="3824"/>
                  <a:pt x="22230" y="3814"/>
                  <a:pt x="22162" y="3810"/>
                </a:cubicBezTo>
                <a:cubicBezTo>
                  <a:pt x="22095" y="3806"/>
                  <a:pt x="22081" y="3827"/>
                  <a:pt x="22034" y="3874"/>
                </a:cubicBezTo>
                <a:cubicBezTo>
                  <a:pt x="21974" y="3934"/>
                  <a:pt x="21921" y="4045"/>
                  <a:pt x="21908" y="4128"/>
                </a:cubicBezTo>
                <a:cubicBezTo>
                  <a:pt x="21894" y="4219"/>
                  <a:pt x="21835" y="4394"/>
                  <a:pt x="21844" y="4477"/>
                </a:cubicBezTo>
                <a:cubicBezTo>
                  <a:pt x="21850" y="4535"/>
                  <a:pt x="21892" y="4688"/>
                  <a:pt x="21939" y="4731"/>
                </a:cubicBezTo>
                <a:cubicBezTo>
                  <a:pt x="21957" y="4748"/>
                  <a:pt x="22032" y="4773"/>
                  <a:pt x="22066" y="4762"/>
                </a:cubicBezTo>
                <a:cubicBezTo>
                  <a:pt x="22128" y="4742"/>
                  <a:pt x="22173" y="4623"/>
                  <a:pt x="22193" y="4572"/>
                </a:cubicBezTo>
                <a:cubicBezTo>
                  <a:pt x="22234" y="4466"/>
                  <a:pt x="22280" y="4360"/>
                  <a:pt x="22320" y="4254"/>
                </a:cubicBezTo>
                <a:cubicBezTo>
                  <a:pt x="22343" y="4194"/>
                  <a:pt x="22378" y="4047"/>
                  <a:pt x="22416" y="4000"/>
                </a:cubicBezTo>
                <a:cubicBezTo>
                  <a:pt x="22426" y="4000"/>
                  <a:pt x="22437" y="4000"/>
                  <a:pt x="22447" y="4000"/>
                </a:cubicBezTo>
                <a:cubicBezTo>
                  <a:pt x="22460" y="4035"/>
                  <a:pt x="22479" y="4111"/>
                  <a:pt x="22479" y="4191"/>
                </a:cubicBezTo>
                <a:cubicBezTo>
                  <a:pt x="22479" y="4469"/>
                  <a:pt x="22479" y="4749"/>
                  <a:pt x="22511" y="5016"/>
                </a:cubicBezTo>
                <a:cubicBezTo>
                  <a:pt x="22515" y="5050"/>
                  <a:pt x="22482" y="5335"/>
                  <a:pt x="22542" y="5334"/>
                </a:cubicBezTo>
                <a:cubicBezTo>
                  <a:pt x="22542" y="5323"/>
                  <a:pt x="22542" y="5313"/>
                  <a:pt x="22542" y="5302"/>
                </a:cubicBezTo>
              </a:path>
              <a:path w="6033" h="5018">
                <a:moveTo>
                  <a:pt x="22701" y="4413"/>
                </a:moveTo>
                <a:cubicBezTo>
                  <a:pt x="22714" y="4505"/>
                  <a:pt x="22714" y="4600"/>
                  <a:pt x="22733" y="4699"/>
                </a:cubicBezTo>
                <a:cubicBezTo>
                  <a:pt x="22754" y="4812"/>
                  <a:pt x="22804" y="4909"/>
                  <a:pt x="22828" y="5016"/>
                </a:cubicBezTo>
                <a:cubicBezTo>
                  <a:pt x="22848" y="5107"/>
                  <a:pt x="22856" y="5139"/>
                  <a:pt x="22924" y="5207"/>
                </a:cubicBezTo>
                <a:cubicBezTo>
                  <a:pt x="22981" y="5134"/>
                  <a:pt x="22959" y="5108"/>
                  <a:pt x="22987" y="5016"/>
                </a:cubicBezTo>
                <a:cubicBezTo>
                  <a:pt x="23025" y="4890"/>
                  <a:pt x="23019" y="4772"/>
                  <a:pt x="23019" y="4636"/>
                </a:cubicBezTo>
                <a:cubicBezTo>
                  <a:pt x="23019" y="4597"/>
                  <a:pt x="23019" y="4249"/>
                  <a:pt x="23019" y="4413"/>
                </a:cubicBezTo>
                <a:cubicBezTo>
                  <a:pt x="23060" y="4581"/>
                  <a:pt x="23048" y="4753"/>
                  <a:pt x="23082" y="4921"/>
                </a:cubicBezTo>
                <a:cubicBezTo>
                  <a:pt x="23114" y="5081"/>
                  <a:pt x="23146" y="5200"/>
                  <a:pt x="23146" y="5366"/>
                </a:cubicBezTo>
                <a:cubicBezTo>
                  <a:pt x="23146" y="5509"/>
                  <a:pt x="23154" y="5640"/>
                  <a:pt x="23114" y="5778"/>
                </a:cubicBezTo>
                <a:cubicBezTo>
                  <a:pt x="23088" y="5869"/>
                  <a:pt x="23051" y="5962"/>
                  <a:pt x="22987" y="6032"/>
                </a:cubicBezTo>
                <a:cubicBezTo>
                  <a:pt x="22949" y="6074"/>
                  <a:pt x="22884" y="6078"/>
                  <a:pt x="22828" y="6064"/>
                </a:cubicBezTo>
                <a:cubicBezTo>
                  <a:pt x="22761" y="6047"/>
                  <a:pt x="22752" y="5923"/>
                  <a:pt x="22733" y="5874"/>
                </a:cubicBezTo>
              </a:path>
              <a:path w="6033" h="5018">
                <a:moveTo>
                  <a:pt x="23241" y="4540"/>
                </a:moveTo>
                <a:cubicBezTo>
                  <a:pt x="23297" y="4582"/>
                  <a:pt x="23325" y="4572"/>
                  <a:pt x="23400" y="4572"/>
                </a:cubicBezTo>
                <a:cubicBezTo>
                  <a:pt x="23428" y="4572"/>
                  <a:pt x="23533" y="4553"/>
                  <a:pt x="23558" y="4540"/>
                </a:cubicBezTo>
                <a:cubicBezTo>
                  <a:pt x="23608" y="4515"/>
                  <a:pt x="23594" y="4508"/>
                  <a:pt x="23654" y="4508"/>
                </a:cubicBezTo>
              </a:path>
              <a:path w="6033" h="5018">
                <a:moveTo>
                  <a:pt x="23273" y="4953"/>
                </a:moveTo>
                <a:cubicBezTo>
                  <a:pt x="23351" y="4953"/>
                  <a:pt x="23401" y="4934"/>
                  <a:pt x="23463" y="4921"/>
                </a:cubicBezTo>
                <a:cubicBezTo>
                  <a:pt x="23534" y="4906"/>
                  <a:pt x="23560" y="4879"/>
                  <a:pt x="23622" y="4858"/>
                </a:cubicBezTo>
                <a:cubicBezTo>
                  <a:pt x="23646" y="4850"/>
                  <a:pt x="23691" y="4858"/>
                  <a:pt x="23717" y="4858"/>
                </a:cubicBezTo>
              </a:path>
              <a:path w="6033" h="5018">
                <a:moveTo>
                  <a:pt x="23812" y="4159"/>
                </a:moveTo>
                <a:cubicBezTo>
                  <a:pt x="23812" y="4170"/>
                  <a:pt x="23812" y="4180"/>
                  <a:pt x="23812" y="4191"/>
                </a:cubicBezTo>
                <a:cubicBezTo>
                  <a:pt x="23899" y="4191"/>
                  <a:pt x="23999" y="4210"/>
                  <a:pt x="24066" y="4159"/>
                </a:cubicBezTo>
              </a:path>
              <a:path w="6033" h="5018">
                <a:moveTo>
                  <a:pt x="24194" y="3969"/>
                </a:moveTo>
                <a:cubicBezTo>
                  <a:pt x="24194" y="3925"/>
                  <a:pt x="24200" y="3808"/>
                  <a:pt x="24225" y="3778"/>
                </a:cubicBezTo>
                <a:cubicBezTo>
                  <a:pt x="24254" y="3744"/>
                  <a:pt x="24319" y="3756"/>
                  <a:pt x="24352" y="3778"/>
                </a:cubicBezTo>
                <a:cubicBezTo>
                  <a:pt x="24403" y="3812"/>
                  <a:pt x="24401" y="3973"/>
                  <a:pt x="24384" y="4032"/>
                </a:cubicBezTo>
                <a:cubicBezTo>
                  <a:pt x="24359" y="4122"/>
                  <a:pt x="24334" y="4205"/>
                  <a:pt x="24289" y="4286"/>
                </a:cubicBezTo>
                <a:cubicBezTo>
                  <a:pt x="24277" y="4308"/>
                  <a:pt x="24147" y="4460"/>
                  <a:pt x="24225" y="4382"/>
                </a:cubicBezTo>
                <a:cubicBezTo>
                  <a:pt x="24273" y="4334"/>
                  <a:pt x="24284" y="4318"/>
                  <a:pt x="24352" y="4318"/>
                </a:cubicBezTo>
                <a:cubicBezTo>
                  <a:pt x="24420" y="4318"/>
                  <a:pt x="24451" y="4392"/>
                  <a:pt x="24479" y="4445"/>
                </a:cubicBezTo>
                <a:cubicBezTo>
                  <a:pt x="24523" y="4528"/>
                  <a:pt x="24532" y="4670"/>
                  <a:pt x="24511" y="4762"/>
                </a:cubicBezTo>
                <a:cubicBezTo>
                  <a:pt x="24484" y="4882"/>
                  <a:pt x="24414" y="4983"/>
                  <a:pt x="24352" y="5080"/>
                </a:cubicBezTo>
                <a:cubicBezTo>
                  <a:pt x="24312" y="5143"/>
                  <a:pt x="24238" y="5229"/>
                  <a:pt x="24162" y="5239"/>
                </a:cubicBezTo>
                <a:cubicBezTo>
                  <a:pt x="24093" y="5248"/>
                  <a:pt x="24043" y="5248"/>
                  <a:pt x="24035" y="5175"/>
                </a:cubicBezTo>
                <a:cubicBezTo>
                  <a:pt x="24026" y="5097"/>
                  <a:pt x="24095" y="5038"/>
                  <a:pt x="24162" y="5016"/>
                </a:cubicBezTo>
                <a:cubicBezTo>
                  <a:pt x="24236" y="4991"/>
                  <a:pt x="24279" y="4968"/>
                  <a:pt x="24352" y="5016"/>
                </a:cubicBezTo>
                <a:cubicBezTo>
                  <a:pt x="24390" y="5054"/>
                  <a:pt x="24405" y="5073"/>
                  <a:pt x="24416" y="5112"/>
                </a:cubicBezTo>
              </a:path>
              <a:path w="6033" h="5018">
                <a:moveTo>
                  <a:pt x="22320" y="5524"/>
                </a:moveTo>
                <a:cubicBezTo>
                  <a:pt x="22309" y="5535"/>
                  <a:pt x="22299" y="5545"/>
                  <a:pt x="22288" y="5556"/>
                </a:cubicBezTo>
                <a:cubicBezTo>
                  <a:pt x="22356" y="5556"/>
                  <a:pt x="22383" y="5535"/>
                  <a:pt x="22447" y="5524"/>
                </a:cubicBezTo>
                <a:cubicBezTo>
                  <a:pt x="22541" y="5507"/>
                  <a:pt x="22637" y="5472"/>
                  <a:pt x="22733" y="5461"/>
                </a:cubicBezTo>
                <a:cubicBezTo>
                  <a:pt x="22858" y="5446"/>
                  <a:pt x="22958" y="5465"/>
                  <a:pt x="23082" y="5429"/>
                </a:cubicBezTo>
                <a:cubicBezTo>
                  <a:pt x="23173" y="5402"/>
                  <a:pt x="23278" y="5381"/>
                  <a:pt x="23368" y="5366"/>
                </a:cubicBezTo>
                <a:cubicBezTo>
                  <a:pt x="23421" y="5366"/>
                  <a:pt x="23431" y="5366"/>
                  <a:pt x="23463" y="5366"/>
                </a:cubicBezTo>
              </a:path>
              <a:path w="6033" h="5018">
                <a:moveTo>
                  <a:pt x="22987" y="5969"/>
                </a:moveTo>
                <a:cubicBezTo>
                  <a:pt x="23032" y="5935"/>
                  <a:pt x="23036" y="5948"/>
                  <a:pt x="23050" y="5906"/>
                </a:cubicBezTo>
                <a:cubicBezTo>
                  <a:pt x="23013" y="5893"/>
                  <a:pt x="22995" y="5851"/>
                  <a:pt x="22955" y="5810"/>
                </a:cubicBezTo>
                <a:cubicBezTo>
                  <a:pt x="22903" y="5757"/>
                  <a:pt x="22901" y="5701"/>
                  <a:pt x="22828" y="5683"/>
                </a:cubicBezTo>
                <a:cubicBezTo>
                  <a:pt x="22753" y="5702"/>
                  <a:pt x="22760" y="5743"/>
                  <a:pt x="22733" y="5810"/>
                </a:cubicBezTo>
                <a:cubicBezTo>
                  <a:pt x="22686" y="5927"/>
                  <a:pt x="22707" y="5984"/>
                  <a:pt x="22733" y="6096"/>
                </a:cubicBezTo>
                <a:cubicBezTo>
                  <a:pt x="22740" y="6128"/>
                  <a:pt x="22775" y="6214"/>
                  <a:pt x="22828" y="6191"/>
                </a:cubicBezTo>
                <a:cubicBezTo>
                  <a:pt x="22882" y="6168"/>
                  <a:pt x="22958" y="6044"/>
                  <a:pt x="22987" y="6001"/>
                </a:cubicBezTo>
                <a:cubicBezTo>
                  <a:pt x="23045" y="5914"/>
                  <a:pt x="23013" y="5833"/>
                  <a:pt x="23082" y="5747"/>
                </a:cubicBezTo>
                <a:cubicBezTo>
                  <a:pt x="23082" y="5913"/>
                  <a:pt x="23089" y="6067"/>
                  <a:pt x="23114" y="6223"/>
                </a:cubicBezTo>
                <a:cubicBezTo>
                  <a:pt x="23127" y="6306"/>
                  <a:pt x="23125" y="6374"/>
                  <a:pt x="23146" y="6445"/>
                </a:cubicBezTo>
                <a:cubicBezTo>
                  <a:pt x="23146" y="6456"/>
                  <a:pt x="23146" y="6466"/>
                  <a:pt x="23146" y="6477"/>
                </a:cubicBezTo>
              </a:path>
              <a:path w="6033" h="5018">
                <a:moveTo>
                  <a:pt x="23622" y="5556"/>
                </a:moveTo>
                <a:cubicBezTo>
                  <a:pt x="23683" y="5510"/>
                  <a:pt x="23741" y="5517"/>
                  <a:pt x="23812" y="5493"/>
                </a:cubicBezTo>
                <a:cubicBezTo>
                  <a:pt x="23926" y="5455"/>
                  <a:pt x="24043" y="5438"/>
                  <a:pt x="24162" y="5398"/>
                </a:cubicBezTo>
                <a:cubicBezTo>
                  <a:pt x="24279" y="5359"/>
                  <a:pt x="24397" y="5367"/>
                  <a:pt x="24511" y="5334"/>
                </a:cubicBezTo>
                <a:cubicBezTo>
                  <a:pt x="24595" y="5310"/>
                  <a:pt x="24580" y="5302"/>
                  <a:pt x="24670" y="5302"/>
                </a:cubicBezTo>
              </a:path>
              <a:path w="6033" h="5018">
                <a:moveTo>
                  <a:pt x="24416" y="5683"/>
                </a:moveTo>
                <a:cubicBezTo>
                  <a:pt x="24407" y="5618"/>
                  <a:pt x="24392" y="5552"/>
                  <a:pt x="24352" y="5493"/>
                </a:cubicBezTo>
                <a:cubicBezTo>
                  <a:pt x="24341" y="5482"/>
                  <a:pt x="24331" y="5472"/>
                  <a:pt x="24320" y="5461"/>
                </a:cubicBezTo>
                <a:cubicBezTo>
                  <a:pt x="24230" y="5484"/>
                  <a:pt x="24245" y="5541"/>
                  <a:pt x="24225" y="5620"/>
                </a:cubicBezTo>
                <a:cubicBezTo>
                  <a:pt x="24199" y="5721"/>
                  <a:pt x="24194" y="5802"/>
                  <a:pt x="24194" y="5906"/>
                </a:cubicBezTo>
                <a:cubicBezTo>
                  <a:pt x="24194" y="5916"/>
                  <a:pt x="24194" y="5927"/>
                  <a:pt x="24194" y="5937"/>
                </a:cubicBezTo>
                <a:cubicBezTo>
                  <a:pt x="24277" y="5937"/>
                  <a:pt x="24280" y="5918"/>
                  <a:pt x="24320" y="5842"/>
                </a:cubicBezTo>
                <a:cubicBezTo>
                  <a:pt x="24348" y="5789"/>
                  <a:pt x="24390" y="5654"/>
                  <a:pt x="24416" y="5620"/>
                </a:cubicBezTo>
                <a:cubicBezTo>
                  <a:pt x="24427" y="5620"/>
                  <a:pt x="24437" y="5620"/>
                  <a:pt x="24448" y="5620"/>
                </a:cubicBezTo>
                <a:cubicBezTo>
                  <a:pt x="24448" y="5743"/>
                  <a:pt x="24430" y="5856"/>
                  <a:pt x="24416" y="5969"/>
                </a:cubicBezTo>
                <a:cubicBezTo>
                  <a:pt x="24402" y="6081"/>
                  <a:pt x="24416" y="6205"/>
                  <a:pt x="24416" y="6318"/>
                </a:cubicBezTo>
              </a:path>
              <a:path w="6033" h="5018">
                <a:moveTo>
                  <a:pt x="22606" y="6953"/>
                </a:moveTo>
                <a:cubicBezTo>
                  <a:pt x="22581" y="7040"/>
                  <a:pt x="22600" y="7030"/>
                  <a:pt x="22606" y="7144"/>
                </a:cubicBezTo>
                <a:cubicBezTo>
                  <a:pt x="22613" y="7278"/>
                  <a:pt x="22600" y="7395"/>
                  <a:pt x="22638" y="7525"/>
                </a:cubicBezTo>
                <a:cubicBezTo>
                  <a:pt x="22644" y="7546"/>
                  <a:pt x="22717" y="7735"/>
                  <a:pt x="22733" y="7747"/>
                </a:cubicBezTo>
                <a:cubicBezTo>
                  <a:pt x="22765" y="7747"/>
                  <a:pt x="22775" y="7747"/>
                  <a:pt x="22796" y="7747"/>
                </a:cubicBezTo>
                <a:cubicBezTo>
                  <a:pt x="22867" y="7677"/>
                  <a:pt x="22891" y="7622"/>
                  <a:pt x="22924" y="7525"/>
                </a:cubicBezTo>
                <a:cubicBezTo>
                  <a:pt x="22965" y="7406"/>
                  <a:pt x="22982" y="7269"/>
                  <a:pt x="22987" y="7144"/>
                </a:cubicBezTo>
                <a:cubicBezTo>
                  <a:pt x="22987" y="7059"/>
                  <a:pt x="22987" y="7038"/>
                  <a:pt x="22987" y="6985"/>
                </a:cubicBezTo>
                <a:cubicBezTo>
                  <a:pt x="22987" y="7049"/>
                  <a:pt x="22973" y="7050"/>
                  <a:pt x="22987" y="7112"/>
                </a:cubicBezTo>
                <a:cubicBezTo>
                  <a:pt x="23015" y="7239"/>
                  <a:pt x="23026" y="7366"/>
                  <a:pt x="23050" y="7493"/>
                </a:cubicBezTo>
                <a:cubicBezTo>
                  <a:pt x="23082" y="7665"/>
                  <a:pt x="23114" y="7791"/>
                  <a:pt x="23114" y="7969"/>
                </a:cubicBezTo>
                <a:cubicBezTo>
                  <a:pt x="23114" y="8115"/>
                  <a:pt x="23101" y="8242"/>
                  <a:pt x="23082" y="8382"/>
                </a:cubicBezTo>
                <a:cubicBezTo>
                  <a:pt x="23065" y="8509"/>
                  <a:pt x="23042" y="8573"/>
                  <a:pt x="22955" y="8668"/>
                </a:cubicBezTo>
                <a:cubicBezTo>
                  <a:pt x="22905" y="8723"/>
                  <a:pt x="22808" y="8759"/>
                  <a:pt x="22733" y="8731"/>
                </a:cubicBezTo>
                <a:cubicBezTo>
                  <a:pt x="22639" y="8696"/>
                  <a:pt x="22603" y="8557"/>
                  <a:pt x="22574" y="8477"/>
                </a:cubicBezTo>
              </a:path>
              <a:path w="6033" h="5018">
                <a:moveTo>
                  <a:pt x="23432" y="7112"/>
                </a:moveTo>
                <a:cubicBezTo>
                  <a:pt x="23506" y="7112"/>
                  <a:pt x="23580" y="7112"/>
                  <a:pt x="23654" y="7112"/>
                </a:cubicBezTo>
              </a:path>
              <a:path w="6033" h="5018">
                <a:moveTo>
                  <a:pt x="23400" y="7461"/>
                </a:moveTo>
                <a:cubicBezTo>
                  <a:pt x="23480" y="7461"/>
                  <a:pt x="23524" y="7451"/>
                  <a:pt x="23590" y="7430"/>
                </a:cubicBezTo>
                <a:cubicBezTo>
                  <a:pt x="23601" y="7430"/>
                  <a:pt x="23611" y="7430"/>
                  <a:pt x="23622" y="7430"/>
                </a:cubicBezTo>
              </a:path>
              <a:path w="6033" h="5018">
                <a:moveTo>
                  <a:pt x="23844" y="6731"/>
                </a:moveTo>
                <a:cubicBezTo>
                  <a:pt x="23844" y="6742"/>
                  <a:pt x="23844" y="6752"/>
                  <a:pt x="23844" y="6763"/>
                </a:cubicBezTo>
                <a:cubicBezTo>
                  <a:pt x="23908" y="6763"/>
                  <a:pt x="23971" y="6763"/>
                  <a:pt x="24035" y="6763"/>
                </a:cubicBezTo>
              </a:path>
              <a:path w="6033" h="5018">
                <a:moveTo>
                  <a:pt x="24257" y="6414"/>
                </a:moveTo>
                <a:cubicBezTo>
                  <a:pt x="24257" y="6530"/>
                  <a:pt x="24271" y="6623"/>
                  <a:pt x="24289" y="6731"/>
                </a:cubicBezTo>
                <a:cubicBezTo>
                  <a:pt x="24311" y="6860"/>
                  <a:pt x="24289" y="7013"/>
                  <a:pt x="24289" y="7144"/>
                </a:cubicBezTo>
              </a:path>
              <a:path w="6033" h="5018">
                <a:moveTo>
                  <a:pt x="24670" y="6286"/>
                </a:moveTo>
                <a:cubicBezTo>
                  <a:pt x="24630" y="6313"/>
                  <a:pt x="24625" y="6437"/>
                  <a:pt x="24606" y="6509"/>
                </a:cubicBezTo>
                <a:cubicBezTo>
                  <a:pt x="24553" y="6713"/>
                  <a:pt x="24524" y="6909"/>
                  <a:pt x="24479" y="7112"/>
                </a:cubicBezTo>
                <a:cubicBezTo>
                  <a:pt x="24444" y="7271"/>
                  <a:pt x="24447" y="7431"/>
                  <a:pt x="24416" y="7588"/>
                </a:cubicBezTo>
                <a:cubicBezTo>
                  <a:pt x="24394" y="7699"/>
                  <a:pt x="24384" y="7791"/>
                  <a:pt x="24384" y="7906"/>
                </a:cubicBezTo>
                <a:cubicBezTo>
                  <a:pt x="24384" y="7948"/>
                  <a:pt x="24384" y="7991"/>
                  <a:pt x="24384" y="8033"/>
                </a:cubicBezTo>
              </a:path>
              <a:path w="6033" h="5018">
                <a:moveTo>
                  <a:pt x="24702" y="7207"/>
                </a:moveTo>
                <a:cubicBezTo>
                  <a:pt x="24714" y="7157"/>
                  <a:pt x="24756" y="7131"/>
                  <a:pt x="24765" y="7112"/>
                </a:cubicBezTo>
                <a:cubicBezTo>
                  <a:pt x="24789" y="7064"/>
                  <a:pt x="24794" y="7024"/>
                  <a:pt x="24860" y="7017"/>
                </a:cubicBezTo>
                <a:cubicBezTo>
                  <a:pt x="24871" y="7017"/>
                  <a:pt x="24881" y="7017"/>
                  <a:pt x="24892" y="7017"/>
                </a:cubicBezTo>
                <a:cubicBezTo>
                  <a:pt x="24892" y="7112"/>
                  <a:pt x="24866" y="7182"/>
                  <a:pt x="24828" y="7271"/>
                </a:cubicBezTo>
                <a:cubicBezTo>
                  <a:pt x="24791" y="7357"/>
                  <a:pt x="24747" y="7481"/>
                  <a:pt x="24702" y="7556"/>
                </a:cubicBezTo>
                <a:cubicBezTo>
                  <a:pt x="24691" y="7567"/>
                  <a:pt x="24681" y="7577"/>
                  <a:pt x="24670" y="7588"/>
                </a:cubicBezTo>
                <a:cubicBezTo>
                  <a:pt x="24683" y="7550"/>
                  <a:pt x="24696" y="7535"/>
                  <a:pt x="24733" y="7493"/>
                </a:cubicBezTo>
                <a:cubicBezTo>
                  <a:pt x="24756" y="7466"/>
                  <a:pt x="24822" y="7440"/>
                  <a:pt x="24860" y="7461"/>
                </a:cubicBezTo>
                <a:cubicBezTo>
                  <a:pt x="24908" y="7488"/>
                  <a:pt x="24920" y="7573"/>
                  <a:pt x="24924" y="7620"/>
                </a:cubicBezTo>
                <a:cubicBezTo>
                  <a:pt x="24932" y="7713"/>
                  <a:pt x="24908" y="7769"/>
                  <a:pt x="24892" y="7842"/>
                </a:cubicBezTo>
                <a:cubicBezTo>
                  <a:pt x="24877" y="7912"/>
                  <a:pt x="24866" y="7956"/>
                  <a:pt x="24797" y="8001"/>
                </a:cubicBezTo>
                <a:cubicBezTo>
                  <a:pt x="24750" y="8031"/>
                  <a:pt x="24690" y="8042"/>
                  <a:pt x="24638" y="8064"/>
                </a:cubicBezTo>
              </a:path>
              <a:path w="6033" h="5018">
                <a:moveTo>
                  <a:pt x="22987" y="8763"/>
                </a:moveTo>
                <a:cubicBezTo>
                  <a:pt x="23141" y="8763"/>
                  <a:pt x="23284" y="8743"/>
                  <a:pt x="23432" y="8731"/>
                </a:cubicBezTo>
                <a:cubicBezTo>
                  <a:pt x="23562" y="8721"/>
                  <a:pt x="23655" y="8710"/>
                  <a:pt x="23781" y="8668"/>
                </a:cubicBezTo>
                <a:cubicBezTo>
                  <a:pt x="23898" y="8629"/>
                  <a:pt x="24012" y="8611"/>
                  <a:pt x="24130" y="8572"/>
                </a:cubicBezTo>
                <a:cubicBezTo>
                  <a:pt x="24229" y="8539"/>
                  <a:pt x="24318" y="8509"/>
                  <a:pt x="24416" y="8477"/>
                </a:cubicBezTo>
                <a:cubicBezTo>
                  <a:pt x="24501" y="8450"/>
                  <a:pt x="24566" y="8439"/>
                  <a:pt x="24638" y="8382"/>
                </a:cubicBezTo>
                <a:cubicBezTo>
                  <a:pt x="24719" y="8319"/>
                  <a:pt x="24777" y="8232"/>
                  <a:pt x="24828" y="8160"/>
                </a:cubicBezTo>
                <a:cubicBezTo>
                  <a:pt x="24872" y="8098"/>
                  <a:pt x="24950" y="8034"/>
                  <a:pt x="24987" y="7969"/>
                </a:cubicBezTo>
                <a:cubicBezTo>
                  <a:pt x="25017" y="7915"/>
                  <a:pt x="25110" y="7828"/>
                  <a:pt x="25051" y="7810"/>
                </a:cubicBezTo>
                <a:cubicBezTo>
                  <a:pt x="24882" y="7789"/>
                  <a:pt x="24712" y="7768"/>
                  <a:pt x="24543" y="7747"/>
                </a:cubicBezTo>
                <a:cubicBezTo>
                  <a:pt x="25604" y="7515"/>
                  <a:pt x="24941" y="7813"/>
                  <a:pt x="25178" y="7525"/>
                </a:cubicBezTo>
                <a:cubicBezTo>
                  <a:pt x="25199" y="7500"/>
                  <a:pt x="25236" y="7310"/>
                  <a:pt x="25241" y="7271"/>
                </a:cubicBezTo>
                <a:cubicBezTo>
                  <a:pt x="25260" y="7125"/>
                  <a:pt x="25246" y="6962"/>
                  <a:pt x="25210" y="6826"/>
                </a:cubicBezTo>
                <a:cubicBezTo>
                  <a:pt x="25193" y="6761"/>
                  <a:pt x="25145" y="6705"/>
                  <a:pt x="25114" y="6636"/>
                </a:cubicBezTo>
                <a:cubicBezTo>
                  <a:pt x="25084" y="6570"/>
                  <a:pt x="25092" y="6510"/>
                  <a:pt x="25051" y="6445"/>
                </a:cubicBezTo>
                <a:cubicBezTo>
                  <a:pt x="25017" y="6392"/>
                  <a:pt x="24965" y="6334"/>
                  <a:pt x="24924" y="6286"/>
                </a:cubicBezTo>
                <a:cubicBezTo>
                  <a:pt x="24873" y="6227"/>
                  <a:pt x="24801" y="6162"/>
                  <a:pt x="24733" y="6128"/>
                </a:cubicBezTo>
                <a:cubicBezTo>
                  <a:pt x="24689" y="6106"/>
                  <a:pt x="24563" y="6070"/>
                  <a:pt x="24511" y="6064"/>
                </a:cubicBezTo>
                <a:cubicBezTo>
                  <a:pt x="24422" y="6054"/>
                  <a:pt x="24344" y="6040"/>
                  <a:pt x="24257" y="6032"/>
                </a:cubicBezTo>
                <a:cubicBezTo>
                  <a:pt x="24159" y="6022"/>
                  <a:pt x="24071" y="6061"/>
                  <a:pt x="23971" y="6064"/>
                </a:cubicBezTo>
                <a:cubicBezTo>
                  <a:pt x="23858" y="6068"/>
                  <a:pt x="23763" y="6098"/>
                  <a:pt x="23654" y="6128"/>
                </a:cubicBezTo>
                <a:cubicBezTo>
                  <a:pt x="23558" y="6154"/>
                  <a:pt x="23465" y="6189"/>
                  <a:pt x="23368" y="6223"/>
                </a:cubicBezTo>
                <a:cubicBezTo>
                  <a:pt x="23261" y="6261"/>
                  <a:pt x="23151" y="6298"/>
                  <a:pt x="23050" y="6350"/>
                </a:cubicBezTo>
                <a:cubicBezTo>
                  <a:pt x="22935" y="6409"/>
                  <a:pt x="22855" y="6482"/>
                  <a:pt x="22765" y="6572"/>
                </a:cubicBezTo>
                <a:cubicBezTo>
                  <a:pt x="22651" y="6686"/>
                  <a:pt x="22550" y="6801"/>
                  <a:pt x="22447" y="6922"/>
                </a:cubicBezTo>
                <a:cubicBezTo>
                  <a:pt x="22361" y="7023"/>
                  <a:pt x="22304" y="7144"/>
                  <a:pt x="22257" y="7271"/>
                </a:cubicBezTo>
                <a:cubicBezTo>
                  <a:pt x="22213" y="7390"/>
                  <a:pt x="22170" y="7496"/>
                  <a:pt x="22162" y="7620"/>
                </a:cubicBezTo>
                <a:cubicBezTo>
                  <a:pt x="22154" y="7744"/>
                  <a:pt x="22167" y="7883"/>
                  <a:pt x="22193" y="8001"/>
                </a:cubicBezTo>
                <a:cubicBezTo>
                  <a:pt x="22215" y="8101"/>
                  <a:pt x="22269" y="8229"/>
                  <a:pt x="22320" y="8318"/>
                </a:cubicBezTo>
                <a:cubicBezTo>
                  <a:pt x="22375" y="8414"/>
                  <a:pt x="22440" y="8470"/>
                  <a:pt x="22511" y="8541"/>
                </a:cubicBezTo>
                <a:cubicBezTo>
                  <a:pt x="22589" y="8619"/>
                  <a:pt x="22657" y="8695"/>
                  <a:pt x="22765" y="8731"/>
                </a:cubicBezTo>
                <a:cubicBezTo>
                  <a:pt x="22863" y="8764"/>
                  <a:pt x="22945" y="8763"/>
                  <a:pt x="23050" y="8763"/>
                </a:cubicBezTo>
                <a:cubicBezTo>
                  <a:pt x="23167" y="8763"/>
                  <a:pt x="23283" y="8763"/>
                  <a:pt x="23400" y="8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15"/>
          <p:cNvSpPr/>
          <p:nvPr/>
        </p:nvSpPr>
        <p:spPr>
          <a:xfrm>
            <a:off x="3817800" y="4892760"/>
            <a:ext cx="2229120" cy="1646280"/>
          </a:xfrm>
          <a:custGeom>
            <a:avLst/>
            <a:gdLst/>
            <a:ahLst/>
            <a:rect l="l" t="t" r="r" b="b"/>
            <a:pathLst>
              <a:path w="6193" h="4573">
                <a:moveTo>
                  <a:pt x="11843" y="15558"/>
                </a:moveTo>
                <a:cubicBezTo>
                  <a:pt x="11843" y="15661"/>
                  <a:pt x="11857" y="15747"/>
                  <a:pt x="11874" y="15843"/>
                </a:cubicBezTo>
                <a:cubicBezTo>
                  <a:pt x="11882" y="15891"/>
                  <a:pt x="11874" y="15952"/>
                  <a:pt x="11874" y="16002"/>
                </a:cubicBezTo>
              </a:path>
              <a:path w="6193" h="4573">
                <a:moveTo>
                  <a:pt x="11716" y="15812"/>
                </a:moveTo>
                <a:cubicBezTo>
                  <a:pt x="11705" y="15812"/>
                  <a:pt x="11695" y="15812"/>
                  <a:pt x="11684" y="15812"/>
                </a:cubicBezTo>
                <a:cubicBezTo>
                  <a:pt x="11749" y="15812"/>
                  <a:pt x="11794" y="15824"/>
                  <a:pt x="11843" y="15780"/>
                </a:cubicBezTo>
                <a:cubicBezTo>
                  <a:pt x="11880" y="15742"/>
                  <a:pt x="11899" y="15727"/>
                  <a:pt x="11938" y="15716"/>
                </a:cubicBezTo>
              </a:path>
              <a:path w="6193" h="4573">
                <a:moveTo>
                  <a:pt x="12160" y="15367"/>
                </a:moveTo>
                <a:cubicBezTo>
                  <a:pt x="12192" y="15378"/>
                  <a:pt x="12215" y="15442"/>
                  <a:pt x="12224" y="15494"/>
                </a:cubicBezTo>
                <a:cubicBezTo>
                  <a:pt x="12254" y="15662"/>
                  <a:pt x="12224" y="15863"/>
                  <a:pt x="12224" y="16034"/>
                </a:cubicBezTo>
              </a:path>
              <a:path w="6193" h="4573">
                <a:moveTo>
                  <a:pt x="13113" y="15367"/>
                </a:moveTo>
                <a:cubicBezTo>
                  <a:pt x="13113" y="15473"/>
                  <a:pt x="13113" y="15578"/>
                  <a:pt x="13113" y="15684"/>
                </a:cubicBezTo>
              </a:path>
              <a:path w="6193" h="4573">
                <a:moveTo>
                  <a:pt x="13018" y="15589"/>
                </a:moveTo>
                <a:cubicBezTo>
                  <a:pt x="13065" y="15589"/>
                  <a:pt x="13139" y="15577"/>
                  <a:pt x="13176" y="15558"/>
                </a:cubicBezTo>
                <a:cubicBezTo>
                  <a:pt x="13219" y="15515"/>
                  <a:pt x="13240" y="15494"/>
                  <a:pt x="13272" y="15462"/>
                </a:cubicBezTo>
              </a:path>
              <a:path w="6193" h="4573">
                <a:moveTo>
                  <a:pt x="13494" y="15145"/>
                </a:moveTo>
                <a:cubicBezTo>
                  <a:pt x="13507" y="15246"/>
                  <a:pt x="13526" y="15323"/>
                  <a:pt x="13526" y="15430"/>
                </a:cubicBezTo>
                <a:cubicBezTo>
                  <a:pt x="13526" y="15557"/>
                  <a:pt x="13526" y="15685"/>
                  <a:pt x="13526" y="15812"/>
                </a:cubicBezTo>
              </a:path>
              <a:path w="6193" h="4573">
                <a:moveTo>
                  <a:pt x="10604" y="16796"/>
                </a:moveTo>
                <a:cubicBezTo>
                  <a:pt x="10677" y="16796"/>
                  <a:pt x="10704" y="16784"/>
                  <a:pt x="10763" y="16764"/>
                </a:cubicBezTo>
                <a:cubicBezTo>
                  <a:pt x="10812" y="16747"/>
                  <a:pt x="10842" y="16704"/>
                  <a:pt x="10890" y="16669"/>
                </a:cubicBezTo>
              </a:path>
              <a:path w="6193" h="4573">
                <a:moveTo>
                  <a:pt x="11112" y="16478"/>
                </a:moveTo>
                <a:cubicBezTo>
                  <a:pt x="11112" y="16467"/>
                  <a:pt x="11112" y="16457"/>
                  <a:pt x="11112" y="16446"/>
                </a:cubicBezTo>
              </a:path>
              <a:path w="6193" h="4573">
                <a:moveTo>
                  <a:pt x="11112" y="16478"/>
                </a:moveTo>
                <a:lnTo>
                  <a:pt x="11112" y="16478"/>
                </a:lnTo>
              </a:path>
              <a:path w="6193" h="4573">
                <a:moveTo>
                  <a:pt x="11144" y="16478"/>
                </a:moveTo>
                <a:cubicBezTo>
                  <a:pt x="11144" y="16603"/>
                  <a:pt x="11132" y="16711"/>
                  <a:pt x="11112" y="16828"/>
                </a:cubicBezTo>
                <a:cubicBezTo>
                  <a:pt x="11100" y="16897"/>
                  <a:pt x="11118" y="16962"/>
                  <a:pt x="11081" y="17018"/>
                </a:cubicBezTo>
                <a:cubicBezTo>
                  <a:pt x="11032" y="17091"/>
                  <a:pt x="11029" y="17057"/>
                  <a:pt x="11081" y="17050"/>
                </a:cubicBezTo>
                <a:cubicBezTo>
                  <a:pt x="11165" y="17039"/>
                  <a:pt x="11225" y="17041"/>
                  <a:pt x="11271" y="17018"/>
                </a:cubicBezTo>
                <a:cubicBezTo>
                  <a:pt x="11297" y="17005"/>
                  <a:pt x="11368" y="17018"/>
                  <a:pt x="11398" y="17018"/>
                </a:cubicBezTo>
              </a:path>
              <a:path w="6193" h="4573">
                <a:moveTo>
                  <a:pt x="11398" y="16288"/>
                </a:moveTo>
                <a:cubicBezTo>
                  <a:pt x="11356" y="16358"/>
                  <a:pt x="11366" y="16423"/>
                  <a:pt x="11366" y="16510"/>
                </a:cubicBezTo>
                <a:cubicBezTo>
                  <a:pt x="11366" y="16902"/>
                  <a:pt x="11366" y="17293"/>
                  <a:pt x="11366" y="17685"/>
                </a:cubicBezTo>
              </a:path>
              <a:path w="6193" h="4573">
                <a:moveTo>
                  <a:pt x="11811" y="16764"/>
                </a:moveTo>
                <a:cubicBezTo>
                  <a:pt x="11719" y="16764"/>
                  <a:pt x="11756" y="16708"/>
                  <a:pt x="11684" y="16669"/>
                </a:cubicBezTo>
                <a:cubicBezTo>
                  <a:pt x="11652" y="16669"/>
                  <a:pt x="11641" y="16669"/>
                  <a:pt x="11620" y="16669"/>
                </a:cubicBezTo>
                <a:cubicBezTo>
                  <a:pt x="11606" y="16738"/>
                  <a:pt x="11575" y="16794"/>
                  <a:pt x="11557" y="16859"/>
                </a:cubicBezTo>
                <a:cubicBezTo>
                  <a:pt x="11528" y="16962"/>
                  <a:pt x="11525" y="17038"/>
                  <a:pt x="11525" y="17145"/>
                </a:cubicBezTo>
                <a:cubicBezTo>
                  <a:pt x="11525" y="17213"/>
                  <a:pt x="11522" y="17284"/>
                  <a:pt x="11557" y="17336"/>
                </a:cubicBezTo>
                <a:cubicBezTo>
                  <a:pt x="11568" y="17346"/>
                  <a:pt x="11578" y="17357"/>
                  <a:pt x="11589" y="17367"/>
                </a:cubicBezTo>
                <a:cubicBezTo>
                  <a:pt x="11643" y="17367"/>
                  <a:pt x="11665" y="17360"/>
                  <a:pt x="11684" y="17304"/>
                </a:cubicBezTo>
                <a:cubicBezTo>
                  <a:pt x="11703" y="17248"/>
                  <a:pt x="11738" y="17163"/>
                  <a:pt x="11748" y="17113"/>
                </a:cubicBezTo>
                <a:cubicBezTo>
                  <a:pt x="11762" y="17045"/>
                  <a:pt x="11748" y="16961"/>
                  <a:pt x="11748" y="16891"/>
                </a:cubicBezTo>
                <a:cubicBezTo>
                  <a:pt x="11811" y="16913"/>
                  <a:pt x="11758" y="16954"/>
                  <a:pt x="11779" y="17018"/>
                </a:cubicBezTo>
                <a:cubicBezTo>
                  <a:pt x="11812" y="17117"/>
                  <a:pt x="11801" y="17244"/>
                  <a:pt x="11843" y="17336"/>
                </a:cubicBezTo>
                <a:cubicBezTo>
                  <a:pt x="11869" y="17392"/>
                  <a:pt x="11891" y="17386"/>
                  <a:pt x="11906" y="17431"/>
                </a:cubicBezTo>
                <a:cubicBezTo>
                  <a:pt x="11962" y="17417"/>
                  <a:pt x="11990" y="17379"/>
                  <a:pt x="12033" y="17336"/>
                </a:cubicBezTo>
              </a:path>
              <a:path w="6193" h="4573">
                <a:moveTo>
                  <a:pt x="12128" y="16700"/>
                </a:moveTo>
                <a:cubicBezTo>
                  <a:pt x="12206" y="16818"/>
                  <a:pt x="12173" y="16719"/>
                  <a:pt x="12287" y="16700"/>
                </a:cubicBezTo>
                <a:cubicBezTo>
                  <a:pt x="12338" y="16691"/>
                  <a:pt x="12373" y="16668"/>
                  <a:pt x="12414" y="16637"/>
                </a:cubicBezTo>
              </a:path>
              <a:path w="6193" h="4573">
                <a:moveTo>
                  <a:pt x="12256" y="16954"/>
                </a:moveTo>
                <a:cubicBezTo>
                  <a:pt x="12256" y="16965"/>
                  <a:pt x="12256" y="16975"/>
                  <a:pt x="12256" y="16986"/>
                </a:cubicBezTo>
                <a:cubicBezTo>
                  <a:pt x="12328" y="16986"/>
                  <a:pt x="12355" y="16974"/>
                  <a:pt x="12414" y="16954"/>
                </a:cubicBezTo>
                <a:cubicBezTo>
                  <a:pt x="12446" y="16954"/>
                  <a:pt x="12457" y="16954"/>
                  <a:pt x="12478" y="16954"/>
                </a:cubicBezTo>
              </a:path>
              <a:path w="6193" h="4573">
                <a:moveTo>
                  <a:pt x="12732" y="16097"/>
                </a:moveTo>
                <a:cubicBezTo>
                  <a:pt x="12746" y="16154"/>
                  <a:pt x="12750" y="16193"/>
                  <a:pt x="12764" y="16256"/>
                </a:cubicBezTo>
                <a:cubicBezTo>
                  <a:pt x="12795" y="16397"/>
                  <a:pt x="12795" y="16522"/>
                  <a:pt x="12795" y="16669"/>
                </a:cubicBezTo>
                <a:cubicBezTo>
                  <a:pt x="12795" y="16826"/>
                  <a:pt x="12802" y="17021"/>
                  <a:pt x="12827" y="17177"/>
                </a:cubicBezTo>
                <a:cubicBezTo>
                  <a:pt x="12838" y="17209"/>
                  <a:pt x="12848" y="17240"/>
                  <a:pt x="12859" y="17272"/>
                </a:cubicBezTo>
              </a:path>
              <a:path w="6193" h="4573">
                <a:moveTo>
                  <a:pt x="11144" y="18034"/>
                </a:moveTo>
                <a:cubicBezTo>
                  <a:pt x="11217" y="17961"/>
                  <a:pt x="11275" y="17893"/>
                  <a:pt x="11335" y="17812"/>
                </a:cubicBezTo>
                <a:cubicBezTo>
                  <a:pt x="11386" y="17744"/>
                  <a:pt x="11432" y="17683"/>
                  <a:pt x="11494" y="17621"/>
                </a:cubicBezTo>
                <a:cubicBezTo>
                  <a:pt x="11560" y="17555"/>
                  <a:pt x="11612" y="17515"/>
                  <a:pt x="11684" y="17462"/>
                </a:cubicBezTo>
                <a:cubicBezTo>
                  <a:pt x="11740" y="17421"/>
                  <a:pt x="11793" y="17386"/>
                  <a:pt x="11843" y="17336"/>
                </a:cubicBezTo>
                <a:cubicBezTo>
                  <a:pt x="11878" y="17300"/>
                  <a:pt x="11898" y="17302"/>
                  <a:pt x="11938" y="17272"/>
                </a:cubicBezTo>
              </a:path>
              <a:path w="6193" h="4573">
                <a:moveTo>
                  <a:pt x="11303" y="18161"/>
                </a:moveTo>
                <a:cubicBezTo>
                  <a:pt x="11314" y="18161"/>
                  <a:pt x="11324" y="18161"/>
                  <a:pt x="11335" y="18161"/>
                </a:cubicBezTo>
                <a:cubicBezTo>
                  <a:pt x="11347" y="18123"/>
                  <a:pt x="11361" y="18108"/>
                  <a:pt x="11398" y="18066"/>
                </a:cubicBezTo>
                <a:cubicBezTo>
                  <a:pt x="11434" y="18026"/>
                  <a:pt x="11450" y="18019"/>
                  <a:pt x="11462" y="17970"/>
                </a:cubicBezTo>
              </a:path>
              <a:path w="6193" h="4573">
                <a:moveTo>
                  <a:pt x="11620" y="17716"/>
                </a:moveTo>
                <a:cubicBezTo>
                  <a:pt x="11634" y="17774"/>
                  <a:pt x="11652" y="17806"/>
                  <a:pt x="11652" y="17875"/>
                </a:cubicBezTo>
                <a:cubicBezTo>
                  <a:pt x="11652" y="17949"/>
                  <a:pt x="11652" y="18024"/>
                  <a:pt x="11652" y="18098"/>
                </a:cubicBezTo>
                <a:cubicBezTo>
                  <a:pt x="11666" y="18057"/>
                  <a:pt x="11696" y="18047"/>
                  <a:pt x="11748" y="18034"/>
                </a:cubicBezTo>
                <a:cubicBezTo>
                  <a:pt x="11764" y="17984"/>
                  <a:pt x="11798" y="18000"/>
                  <a:pt x="11843" y="17970"/>
                </a:cubicBezTo>
                <a:cubicBezTo>
                  <a:pt x="11853" y="17960"/>
                  <a:pt x="11864" y="17949"/>
                  <a:pt x="11874" y="17939"/>
                </a:cubicBezTo>
              </a:path>
              <a:path w="6193" h="4573">
                <a:moveTo>
                  <a:pt x="11843" y="17590"/>
                </a:moveTo>
                <a:cubicBezTo>
                  <a:pt x="11843" y="17679"/>
                  <a:pt x="11861" y="17725"/>
                  <a:pt x="11874" y="17812"/>
                </a:cubicBezTo>
                <a:cubicBezTo>
                  <a:pt x="11888" y="17909"/>
                  <a:pt x="11917" y="17974"/>
                  <a:pt x="11938" y="18066"/>
                </a:cubicBezTo>
                <a:cubicBezTo>
                  <a:pt x="11938" y="18123"/>
                  <a:pt x="11934" y="18140"/>
                  <a:pt x="11970" y="18161"/>
                </a:cubicBezTo>
              </a:path>
              <a:path w="6193" h="4573">
                <a:moveTo>
                  <a:pt x="12414" y="17526"/>
                </a:moveTo>
                <a:cubicBezTo>
                  <a:pt x="12449" y="17500"/>
                  <a:pt x="12501" y="17449"/>
                  <a:pt x="12541" y="17431"/>
                </a:cubicBezTo>
                <a:cubicBezTo>
                  <a:pt x="12580" y="17414"/>
                  <a:pt x="12629" y="17347"/>
                  <a:pt x="12668" y="17336"/>
                </a:cubicBezTo>
                <a:cubicBezTo>
                  <a:pt x="12689" y="17336"/>
                  <a:pt x="12711" y="17336"/>
                  <a:pt x="12732" y="17336"/>
                </a:cubicBezTo>
              </a:path>
              <a:path w="6193" h="4573">
                <a:moveTo>
                  <a:pt x="12764" y="17304"/>
                </a:moveTo>
                <a:cubicBezTo>
                  <a:pt x="12774" y="17304"/>
                  <a:pt x="12785" y="17304"/>
                  <a:pt x="12795" y="17304"/>
                </a:cubicBezTo>
              </a:path>
              <a:path w="6193" h="4573">
                <a:moveTo>
                  <a:pt x="12510" y="17748"/>
                </a:moveTo>
                <a:cubicBezTo>
                  <a:pt x="12541" y="17748"/>
                  <a:pt x="12552" y="17748"/>
                  <a:pt x="12573" y="17748"/>
                </a:cubicBezTo>
                <a:cubicBezTo>
                  <a:pt x="12586" y="17697"/>
                  <a:pt x="12585" y="17698"/>
                  <a:pt x="12636" y="17685"/>
                </a:cubicBezTo>
              </a:path>
              <a:path w="6193" h="4573">
                <a:moveTo>
                  <a:pt x="12764" y="17399"/>
                </a:moveTo>
                <a:cubicBezTo>
                  <a:pt x="12764" y="17479"/>
                  <a:pt x="12782" y="17518"/>
                  <a:pt x="12795" y="17590"/>
                </a:cubicBezTo>
                <a:cubicBezTo>
                  <a:pt x="12810" y="17675"/>
                  <a:pt x="12786" y="17744"/>
                  <a:pt x="12764" y="17812"/>
                </a:cubicBezTo>
                <a:cubicBezTo>
                  <a:pt x="12756" y="17836"/>
                  <a:pt x="12764" y="17881"/>
                  <a:pt x="12764" y="17907"/>
                </a:cubicBezTo>
                <a:cubicBezTo>
                  <a:pt x="12808" y="17892"/>
                  <a:pt x="12802" y="17838"/>
                  <a:pt x="12859" y="17812"/>
                </a:cubicBezTo>
                <a:cubicBezTo>
                  <a:pt x="12895" y="17796"/>
                  <a:pt x="12978" y="17812"/>
                  <a:pt x="13018" y="17812"/>
                </a:cubicBezTo>
              </a:path>
              <a:path w="6193" h="4573">
                <a:moveTo>
                  <a:pt x="12986" y="17336"/>
                </a:moveTo>
                <a:cubicBezTo>
                  <a:pt x="12986" y="17414"/>
                  <a:pt x="13015" y="17480"/>
                  <a:pt x="13018" y="17558"/>
                </a:cubicBezTo>
                <a:cubicBezTo>
                  <a:pt x="13023" y="17672"/>
                  <a:pt x="13041" y="17798"/>
                  <a:pt x="13081" y="17907"/>
                </a:cubicBezTo>
                <a:cubicBezTo>
                  <a:pt x="13113" y="17970"/>
                  <a:pt x="13124" y="17991"/>
                  <a:pt x="13144" y="18034"/>
                </a:cubicBezTo>
              </a:path>
              <a:path w="6193" h="4573">
                <a:moveTo>
                  <a:pt x="14542" y="15558"/>
                </a:moveTo>
                <a:cubicBezTo>
                  <a:pt x="14532" y="15529"/>
                  <a:pt x="14487" y="15508"/>
                  <a:pt x="14446" y="15494"/>
                </a:cubicBezTo>
                <a:cubicBezTo>
                  <a:pt x="14416" y="15484"/>
                  <a:pt x="14358" y="15440"/>
                  <a:pt x="14319" y="15462"/>
                </a:cubicBezTo>
                <a:cubicBezTo>
                  <a:pt x="14264" y="15493"/>
                  <a:pt x="14227" y="15531"/>
                  <a:pt x="14192" y="15589"/>
                </a:cubicBezTo>
                <a:cubicBezTo>
                  <a:pt x="14136" y="15681"/>
                  <a:pt x="14084" y="15802"/>
                  <a:pt x="14065" y="15907"/>
                </a:cubicBezTo>
                <a:cubicBezTo>
                  <a:pt x="14044" y="16022"/>
                  <a:pt x="14048" y="16085"/>
                  <a:pt x="14065" y="16192"/>
                </a:cubicBezTo>
                <a:cubicBezTo>
                  <a:pt x="14077" y="16267"/>
                  <a:pt x="14039" y="16269"/>
                  <a:pt x="14097" y="16288"/>
                </a:cubicBezTo>
                <a:cubicBezTo>
                  <a:pt x="14156" y="16288"/>
                  <a:pt x="14189" y="16278"/>
                  <a:pt x="14224" y="16224"/>
                </a:cubicBezTo>
                <a:cubicBezTo>
                  <a:pt x="14293" y="16118"/>
                  <a:pt x="14288" y="16020"/>
                  <a:pt x="14319" y="15907"/>
                </a:cubicBezTo>
                <a:cubicBezTo>
                  <a:pt x="14345" y="15810"/>
                  <a:pt x="14392" y="15717"/>
                  <a:pt x="14414" y="15621"/>
                </a:cubicBezTo>
                <a:cubicBezTo>
                  <a:pt x="14420" y="15593"/>
                  <a:pt x="14414" y="15554"/>
                  <a:pt x="14414" y="15526"/>
                </a:cubicBezTo>
                <a:cubicBezTo>
                  <a:pt x="14414" y="15729"/>
                  <a:pt x="14398" y="15937"/>
                  <a:pt x="14446" y="16129"/>
                </a:cubicBezTo>
                <a:cubicBezTo>
                  <a:pt x="14459" y="16179"/>
                  <a:pt x="14487" y="16161"/>
                  <a:pt x="14542" y="16161"/>
                </a:cubicBezTo>
                <a:cubicBezTo>
                  <a:pt x="14602" y="16161"/>
                  <a:pt x="14667" y="16117"/>
                  <a:pt x="14700" y="16066"/>
                </a:cubicBezTo>
                <a:cubicBezTo>
                  <a:pt x="14732" y="16002"/>
                  <a:pt x="14743" y="15981"/>
                  <a:pt x="14764" y="15938"/>
                </a:cubicBezTo>
              </a:path>
              <a:path w="6193" h="4573">
                <a:moveTo>
                  <a:pt x="14827" y="15430"/>
                </a:moveTo>
                <a:cubicBezTo>
                  <a:pt x="14817" y="15430"/>
                  <a:pt x="14806" y="15430"/>
                  <a:pt x="14796" y="15430"/>
                </a:cubicBezTo>
                <a:cubicBezTo>
                  <a:pt x="14841" y="15430"/>
                  <a:pt x="14888" y="15422"/>
                  <a:pt x="14922" y="15399"/>
                </a:cubicBezTo>
                <a:cubicBezTo>
                  <a:pt x="14951" y="15370"/>
                  <a:pt x="14957" y="15359"/>
                  <a:pt x="14986" y="15367"/>
                </a:cubicBezTo>
              </a:path>
              <a:path w="6193" h="4573">
                <a:moveTo>
                  <a:pt x="14764" y="15716"/>
                </a:moveTo>
                <a:cubicBezTo>
                  <a:pt x="14753" y="15716"/>
                  <a:pt x="14743" y="15716"/>
                  <a:pt x="14732" y="15716"/>
                </a:cubicBezTo>
                <a:cubicBezTo>
                  <a:pt x="14794" y="15716"/>
                  <a:pt x="14810" y="15711"/>
                  <a:pt x="14859" y="15748"/>
                </a:cubicBezTo>
                <a:cubicBezTo>
                  <a:pt x="14913" y="15707"/>
                  <a:pt x="14960" y="15719"/>
                  <a:pt x="15018" y="15684"/>
                </a:cubicBezTo>
              </a:path>
              <a:path w="6193" h="4573">
                <a:moveTo>
                  <a:pt x="15208" y="14954"/>
                </a:moveTo>
                <a:cubicBezTo>
                  <a:pt x="15264" y="14954"/>
                  <a:pt x="15259" y="14956"/>
                  <a:pt x="15304" y="14922"/>
                </a:cubicBezTo>
              </a:path>
              <a:path w="6193" h="4573">
                <a:moveTo>
                  <a:pt x="15716" y="14002"/>
                </a:moveTo>
                <a:cubicBezTo>
                  <a:pt x="15716" y="14082"/>
                  <a:pt x="15693" y="14152"/>
                  <a:pt x="15684" y="14224"/>
                </a:cubicBezTo>
                <a:cubicBezTo>
                  <a:pt x="15660" y="14418"/>
                  <a:pt x="15684" y="14631"/>
                  <a:pt x="15684" y="14827"/>
                </a:cubicBezTo>
              </a:path>
              <a:path w="6193" h="4573">
                <a:moveTo>
                  <a:pt x="15335" y="15050"/>
                </a:moveTo>
                <a:cubicBezTo>
                  <a:pt x="15421" y="15050"/>
                  <a:pt x="15479" y="15032"/>
                  <a:pt x="15558" y="15018"/>
                </a:cubicBezTo>
                <a:cubicBezTo>
                  <a:pt x="15614" y="15008"/>
                  <a:pt x="15720" y="14961"/>
                  <a:pt x="15780" y="14986"/>
                </a:cubicBezTo>
                <a:cubicBezTo>
                  <a:pt x="15791" y="14997"/>
                  <a:pt x="15801" y="15007"/>
                  <a:pt x="15812" y="15018"/>
                </a:cubicBezTo>
              </a:path>
              <a:path w="6193" h="4573">
                <a:moveTo>
                  <a:pt x="15494" y="15272"/>
                </a:moveTo>
                <a:cubicBezTo>
                  <a:pt x="15483" y="15272"/>
                  <a:pt x="15473" y="15272"/>
                  <a:pt x="15462" y="15272"/>
                </a:cubicBezTo>
                <a:cubicBezTo>
                  <a:pt x="15462" y="15352"/>
                  <a:pt x="15500" y="15693"/>
                  <a:pt x="15430" y="15716"/>
                </a:cubicBezTo>
                <a:cubicBezTo>
                  <a:pt x="15525" y="15716"/>
                  <a:pt x="15621" y="15716"/>
                  <a:pt x="15716" y="15716"/>
                </a:cubicBezTo>
                <a:cubicBezTo>
                  <a:pt x="15733" y="15665"/>
                  <a:pt x="15731" y="15703"/>
                  <a:pt x="15748" y="15653"/>
                </a:cubicBezTo>
              </a:path>
              <a:path w="6193" h="4573">
                <a:moveTo>
                  <a:pt x="15780" y="15145"/>
                </a:moveTo>
                <a:cubicBezTo>
                  <a:pt x="15780" y="15239"/>
                  <a:pt x="15752" y="15304"/>
                  <a:pt x="15748" y="15399"/>
                </a:cubicBezTo>
                <a:cubicBezTo>
                  <a:pt x="15743" y="15534"/>
                  <a:pt x="15768" y="15651"/>
                  <a:pt x="15780" y="15780"/>
                </a:cubicBezTo>
                <a:cubicBezTo>
                  <a:pt x="15791" y="15897"/>
                  <a:pt x="15761" y="15998"/>
                  <a:pt x="15812" y="16097"/>
                </a:cubicBezTo>
              </a:path>
              <a:path w="6193" h="4573">
                <a:moveTo>
                  <a:pt x="14446" y="16446"/>
                </a:moveTo>
                <a:cubicBezTo>
                  <a:pt x="14484" y="16515"/>
                  <a:pt x="14479" y="16535"/>
                  <a:pt x="14542" y="16574"/>
                </a:cubicBezTo>
                <a:cubicBezTo>
                  <a:pt x="14610" y="16616"/>
                  <a:pt x="14684" y="16616"/>
                  <a:pt x="14764" y="16637"/>
                </a:cubicBezTo>
                <a:cubicBezTo>
                  <a:pt x="14859" y="16661"/>
                  <a:pt x="14949" y="16667"/>
                  <a:pt x="15050" y="16669"/>
                </a:cubicBezTo>
                <a:cubicBezTo>
                  <a:pt x="15195" y="16672"/>
                  <a:pt x="15323" y="16653"/>
                  <a:pt x="15462" y="16637"/>
                </a:cubicBezTo>
                <a:cubicBezTo>
                  <a:pt x="15571" y="16625"/>
                  <a:pt x="15710" y="16624"/>
                  <a:pt x="15812" y="16574"/>
                </a:cubicBezTo>
                <a:cubicBezTo>
                  <a:pt x="15925" y="16519"/>
                  <a:pt x="16033" y="16458"/>
                  <a:pt x="16129" y="16383"/>
                </a:cubicBezTo>
                <a:cubicBezTo>
                  <a:pt x="16250" y="16288"/>
                  <a:pt x="16331" y="16160"/>
                  <a:pt x="16415" y="16034"/>
                </a:cubicBezTo>
                <a:cubicBezTo>
                  <a:pt x="16511" y="15889"/>
                  <a:pt x="16563" y="15738"/>
                  <a:pt x="16637" y="15589"/>
                </a:cubicBezTo>
                <a:cubicBezTo>
                  <a:pt x="16728" y="15407"/>
                  <a:pt x="16729" y="15278"/>
                  <a:pt x="16764" y="15081"/>
                </a:cubicBezTo>
                <a:cubicBezTo>
                  <a:pt x="16791" y="14931"/>
                  <a:pt x="16796" y="14793"/>
                  <a:pt x="16796" y="14637"/>
                </a:cubicBezTo>
                <a:cubicBezTo>
                  <a:pt x="16796" y="14488"/>
                  <a:pt x="16753" y="14363"/>
                  <a:pt x="16700" y="14224"/>
                </a:cubicBezTo>
                <a:cubicBezTo>
                  <a:pt x="16661" y="14121"/>
                  <a:pt x="16613" y="14021"/>
                  <a:pt x="16542" y="13938"/>
                </a:cubicBezTo>
                <a:cubicBezTo>
                  <a:pt x="16468" y="13851"/>
                  <a:pt x="16382" y="13776"/>
                  <a:pt x="16288" y="13716"/>
                </a:cubicBezTo>
                <a:cubicBezTo>
                  <a:pt x="16180" y="13647"/>
                  <a:pt x="16032" y="13602"/>
                  <a:pt x="15907" y="13589"/>
                </a:cubicBezTo>
                <a:cubicBezTo>
                  <a:pt x="15802" y="13578"/>
                  <a:pt x="15689" y="13601"/>
                  <a:pt x="15589" y="13621"/>
                </a:cubicBezTo>
                <a:cubicBezTo>
                  <a:pt x="15452" y="13649"/>
                  <a:pt x="15325" y="13710"/>
                  <a:pt x="15208" y="13780"/>
                </a:cubicBezTo>
                <a:cubicBezTo>
                  <a:pt x="15090" y="13851"/>
                  <a:pt x="14974" y="13925"/>
                  <a:pt x="14859" y="14002"/>
                </a:cubicBezTo>
                <a:cubicBezTo>
                  <a:pt x="14732" y="14087"/>
                  <a:pt x="14607" y="14200"/>
                  <a:pt x="14510" y="14319"/>
                </a:cubicBezTo>
                <a:cubicBezTo>
                  <a:pt x="14400" y="14453"/>
                  <a:pt x="14292" y="14589"/>
                  <a:pt x="14192" y="14732"/>
                </a:cubicBezTo>
                <a:cubicBezTo>
                  <a:pt x="14076" y="14898"/>
                  <a:pt x="14011" y="15061"/>
                  <a:pt x="13938" y="15240"/>
                </a:cubicBezTo>
                <a:cubicBezTo>
                  <a:pt x="13875" y="15395"/>
                  <a:pt x="13814" y="15525"/>
                  <a:pt x="13780" y="15684"/>
                </a:cubicBezTo>
                <a:cubicBezTo>
                  <a:pt x="13755" y="15802"/>
                  <a:pt x="13715" y="15974"/>
                  <a:pt x="13748" y="16097"/>
                </a:cubicBezTo>
                <a:cubicBezTo>
                  <a:pt x="13782" y="16223"/>
                  <a:pt x="13843" y="16328"/>
                  <a:pt x="13938" y="16415"/>
                </a:cubicBezTo>
                <a:cubicBezTo>
                  <a:pt x="14001" y="16472"/>
                  <a:pt x="14083" y="16539"/>
                  <a:pt x="14160" y="16574"/>
                </a:cubicBezTo>
                <a:cubicBezTo>
                  <a:pt x="14244" y="16612"/>
                  <a:pt x="14327" y="16615"/>
                  <a:pt x="14414" y="16637"/>
                </a:cubicBezTo>
                <a:cubicBezTo>
                  <a:pt x="14500" y="16658"/>
                  <a:pt x="14573" y="16684"/>
                  <a:pt x="14668" y="16669"/>
                </a:cubicBezTo>
                <a:cubicBezTo>
                  <a:pt x="14689" y="16658"/>
                  <a:pt x="14711" y="16648"/>
                  <a:pt x="14732" y="16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6"/>
          <p:cNvSpPr/>
          <p:nvPr/>
        </p:nvSpPr>
        <p:spPr>
          <a:xfrm>
            <a:off x="6332400" y="3772080"/>
            <a:ext cx="2435400" cy="1153800"/>
          </a:xfrm>
          <a:custGeom>
            <a:avLst/>
            <a:gdLst/>
            <a:ahLst/>
            <a:rect l="l" t="t" r="r" b="b"/>
            <a:pathLst>
              <a:path w="6763" h="3207">
                <a:moveTo>
                  <a:pt x="18224" y="11176"/>
                </a:moveTo>
                <a:cubicBezTo>
                  <a:pt x="18259" y="11269"/>
                  <a:pt x="18307" y="11393"/>
                  <a:pt x="18320" y="11494"/>
                </a:cubicBezTo>
                <a:cubicBezTo>
                  <a:pt x="18343" y="11673"/>
                  <a:pt x="18365" y="11859"/>
                  <a:pt x="18415" y="12033"/>
                </a:cubicBezTo>
                <a:cubicBezTo>
                  <a:pt x="18439" y="12116"/>
                  <a:pt x="18476" y="12246"/>
                  <a:pt x="18510" y="12319"/>
                </a:cubicBezTo>
                <a:cubicBezTo>
                  <a:pt x="18517" y="12334"/>
                  <a:pt x="18570" y="12379"/>
                  <a:pt x="18574" y="12382"/>
                </a:cubicBezTo>
                <a:cubicBezTo>
                  <a:pt x="18583" y="12314"/>
                  <a:pt x="18604" y="12261"/>
                  <a:pt x="18606" y="12192"/>
                </a:cubicBezTo>
                <a:cubicBezTo>
                  <a:pt x="18615" y="11934"/>
                  <a:pt x="18603" y="11682"/>
                  <a:pt x="18637" y="11430"/>
                </a:cubicBezTo>
                <a:cubicBezTo>
                  <a:pt x="18647" y="11351"/>
                  <a:pt x="18659" y="11301"/>
                  <a:pt x="18701" y="11240"/>
                </a:cubicBezTo>
                <a:cubicBezTo>
                  <a:pt x="18750" y="11281"/>
                  <a:pt x="18776" y="11277"/>
                  <a:pt x="18796" y="11366"/>
                </a:cubicBezTo>
                <a:cubicBezTo>
                  <a:pt x="18819" y="11470"/>
                  <a:pt x="18872" y="11576"/>
                  <a:pt x="18891" y="11684"/>
                </a:cubicBezTo>
                <a:cubicBezTo>
                  <a:pt x="18911" y="11795"/>
                  <a:pt x="18926" y="11925"/>
                  <a:pt x="18955" y="12033"/>
                </a:cubicBezTo>
                <a:cubicBezTo>
                  <a:pt x="18977" y="12117"/>
                  <a:pt x="19005" y="12247"/>
                  <a:pt x="19050" y="12319"/>
                </a:cubicBezTo>
                <a:cubicBezTo>
                  <a:pt x="19084" y="12374"/>
                  <a:pt x="19100" y="12382"/>
                  <a:pt x="19145" y="12414"/>
                </a:cubicBezTo>
                <a:cubicBezTo>
                  <a:pt x="19145" y="12119"/>
                  <a:pt x="19117" y="11814"/>
                  <a:pt x="19177" y="11525"/>
                </a:cubicBezTo>
                <a:cubicBezTo>
                  <a:pt x="19202" y="11403"/>
                  <a:pt x="19203" y="11260"/>
                  <a:pt x="19240" y="11144"/>
                </a:cubicBezTo>
                <a:cubicBezTo>
                  <a:pt x="19258" y="11087"/>
                  <a:pt x="19274" y="11061"/>
                  <a:pt x="19304" y="11017"/>
                </a:cubicBezTo>
              </a:path>
              <a:path w="6763" h="3207">
                <a:moveTo>
                  <a:pt x="19336" y="11652"/>
                </a:moveTo>
                <a:cubicBezTo>
                  <a:pt x="19376" y="11642"/>
                  <a:pt x="19454" y="11636"/>
                  <a:pt x="19494" y="11620"/>
                </a:cubicBezTo>
                <a:cubicBezTo>
                  <a:pt x="19550" y="11597"/>
                  <a:pt x="19619" y="11574"/>
                  <a:pt x="19685" y="11557"/>
                </a:cubicBezTo>
                <a:cubicBezTo>
                  <a:pt x="19749" y="11541"/>
                  <a:pt x="19840" y="11557"/>
                  <a:pt x="19907" y="11557"/>
                </a:cubicBezTo>
              </a:path>
              <a:path w="6763" h="3207">
                <a:moveTo>
                  <a:pt x="20225" y="10763"/>
                </a:moveTo>
                <a:cubicBezTo>
                  <a:pt x="20225" y="10886"/>
                  <a:pt x="20206" y="10994"/>
                  <a:pt x="20193" y="11112"/>
                </a:cubicBezTo>
                <a:cubicBezTo>
                  <a:pt x="20182" y="11209"/>
                  <a:pt x="20166" y="11304"/>
                  <a:pt x="20161" y="11398"/>
                </a:cubicBezTo>
                <a:cubicBezTo>
                  <a:pt x="20157" y="11461"/>
                  <a:pt x="20161" y="11526"/>
                  <a:pt x="20161" y="11589"/>
                </a:cubicBezTo>
                <a:cubicBezTo>
                  <a:pt x="20165" y="11588"/>
                  <a:pt x="20253" y="11561"/>
                  <a:pt x="20256" y="11557"/>
                </a:cubicBezTo>
                <a:cubicBezTo>
                  <a:pt x="20285" y="11520"/>
                  <a:pt x="20285" y="11525"/>
                  <a:pt x="20352" y="11525"/>
                </a:cubicBezTo>
                <a:cubicBezTo>
                  <a:pt x="20424" y="11525"/>
                  <a:pt x="20452" y="11537"/>
                  <a:pt x="20510" y="11557"/>
                </a:cubicBezTo>
                <a:cubicBezTo>
                  <a:pt x="20563" y="11575"/>
                  <a:pt x="20626" y="11562"/>
                  <a:pt x="20638" y="11525"/>
                </a:cubicBezTo>
              </a:path>
              <a:path w="6763" h="3207">
                <a:moveTo>
                  <a:pt x="20606" y="10668"/>
                </a:moveTo>
                <a:cubicBezTo>
                  <a:pt x="20606" y="10749"/>
                  <a:pt x="20582" y="10812"/>
                  <a:pt x="20574" y="10890"/>
                </a:cubicBezTo>
                <a:cubicBezTo>
                  <a:pt x="20556" y="11071"/>
                  <a:pt x="20532" y="11320"/>
                  <a:pt x="20542" y="11494"/>
                </a:cubicBezTo>
                <a:cubicBezTo>
                  <a:pt x="20551" y="11663"/>
                  <a:pt x="20574" y="11828"/>
                  <a:pt x="20574" y="12002"/>
                </a:cubicBezTo>
                <a:cubicBezTo>
                  <a:pt x="20574" y="12161"/>
                  <a:pt x="20574" y="12319"/>
                  <a:pt x="20574" y="12478"/>
                </a:cubicBezTo>
              </a:path>
              <a:path w="6763" h="3207">
                <a:moveTo>
                  <a:pt x="21018" y="11303"/>
                </a:moveTo>
                <a:cubicBezTo>
                  <a:pt x="21144" y="11303"/>
                  <a:pt x="21259" y="11304"/>
                  <a:pt x="21368" y="11271"/>
                </a:cubicBezTo>
                <a:cubicBezTo>
                  <a:pt x="21418" y="11256"/>
                  <a:pt x="21420" y="11270"/>
                  <a:pt x="21431" y="11303"/>
                </a:cubicBezTo>
              </a:path>
              <a:path w="6763" h="3207">
                <a:moveTo>
                  <a:pt x="20987" y="11811"/>
                </a:moveTo>
                <a:cubicBezTo>
                  <a:pt x="21037" y="11798"/>
                  <a:pt x="21057" y="11779"/>
                  <a:pt x="21114" y="11779"/>
                </a:cubicBezTo>
                <a:cubicBezTo>
                  <a:pt x="21159" y="11779"/>
                  <a:pt x="21208" y="11770"/>
                  <a:pt x="21241" y="11748"/>
                </a:cubicBezTo>
                <a:cubicBezTo>
                  <a:pt x="21288" y="11716"/>
                  <a:pt x="21278" y="11716"/>
                  <a:pt x="21336" y="11716"/>
                </a:cubicBezTo>
              </a:path>
              <a:path w="6763" h="3207">
                <a:moveTo>
                  <a:pt x="21590" y="10858"/>
                </a:moveTo>
                <a:cubicBezTo>
                  <a:pt x="21590" y="10787"/>
                  <a:pt x="21615" y="10815"/>
                  <a:pt x="21622" y="10763"/>
                </a:cubicBezTo>
                <a:cubicBezTo>
                  <a:pt x="21627" y="10720"/>
                  <a:pt x="21649" y="10632"/>
                  <a:pt x="21685" y="10604"/>
                </a:cubicBezTo>
                <a:cubicBezTo>
                  <a:pt x="21738" y="10563"/>
                  <a:pt x="21780" y="10541"/>
                  <a:pt x="21844" y="10541"/>
                </a:cubicBezTo>
                <a:cubicBezTo>
                  <a:pt x="21901" y="10541"/>
                  <a:pt x="21934" y="10538"/>
                  <a:pt x="21939" y="10604"/>
                </a:cubicBezTo>
                <a:cubicBezTo>
                  <a:pt x="21945" y="10694"/>
                  <a:pt x="21943" y="10775"/>
                  <a:pt x="21908" y="10858"/>
                </a:cubicBezTo>
                <a:cubicBezTo>
                  <a:pt x="21871" y="10947"/>
                  <a:pt x="21844" y="11040"/>
                  <a:pt x="21780" y="11112"/>
                </a:cubicBezTo>
                <a:cubicBezTo>
                  <a:pt x="21761" y="11134"/>
                  <a:pt x="21699" y="11212"/>
                  <a:pt x="21749" y="11176"/>
                </a:cubicBezTo>
                <a:cubicBezTo>
                  <a:pt x="21789" y="11147"/>
                  <a:pt x="21825" y="11118"/>
                  <a:pt x="21876" y="11112"/>
                </a:cubicBezTo>
                <a:cubicBezTo>
                  <a:pt x="21944" y="11104"/>
                  <a:pt x="21986" y="11135"/>
                  <a:pt x="22003" y="11208"/>
                </a:cubicBezTo>
                <a:cubicBezTo>
                  <a:pt x="22023" y="11293"/>
                  <a:pt x="22034" y="11372"/>
                  <a:pt x="22034" y="11462"/>
                </a:cubicBezTo>
                <a:cubicBezTo>
                  <a:pt x="22034" y="11567"/>
                  <a:pt x="22012" y="11683"/>
                  <a:pt x="21971" y="11779"/>
                </a:cubicBezTo>
                <a:cubicBezTo>
                  <a:pt x="21943" y="11846"/>
                  <a:pt x="21888" y="11977"/>
                  <a:pt x="21812" y="12002"/>
                </a:cubicBezTo>
                <a:cubicBezTo>
                  <a:pt x="21762" y="12019"/>
                  <a:pt x="21709" y="12033"/>
                  <a:pt x="21654" y="12033"/>
                </a:cubicBezTo>
                <a:cubicBezTo>
                  <a:pt x="21616" y="12033"/>
                  <a:pt x="21593" y="11981"/>
                  <a:pt x="21590" y="11938"/>
                </a:cubicBezTo>
                <a:cubicBezTo>
                  <a:pt x="21590" y="11917"/>
                  <a:pt x="21590" y="11895"/>
                  <a:pt x="21590" y="11874"/>
                </a:cubicBezTo>
              </a:path>
              <a:path w="6763" h="3207">
                <a:moveTo>
                  <a:pt x="22162" y="11208"/>
                </a:moveTo>
                <a:cubicBezTo>
                  <a:pt x="22207" y="11254"/>
                  <a:pt x="22273" y="11300"/>
                  <a:pt x="22288" y="11366"/>
                </a:cubicBezTo>
                <a:cubicBezTo>
                  <a:pt x="22309" y="11458"/>
                  <a:pt x="22337" y="11560"/>
                  <a:pt x="22352" y="11652"/>
                </a:cubicBezTo>
                <a:cubicBezTo>
                  <a:pt x="22365" y="11731"/>
                  <a:pt x="22354" y="11799"/>
                  <a:pt x="22384" y="11874"/>
                </a:cubicBezTo>
                <a:cubicBezTo>
                  <a:pt x="22395" y="11895"/>
                  <a:pt x="22405" y="11917"/>
                  <a:pt x="22416" y="11938"/>
                </a:cubicBezTo>
                <a:cubicBezTo>
                  <a:pt x="22445" y="11928"/>
                  <a:pt x="22472" y="11860"/>
                  <a:pt x="22479" y="11811"/>
                </a:cubicBezTo>
                <a:cubicBezTo>
                  <a:pt x="22493" y="11708"/>
                  <a:pt x="22499" y="11592"/>
                  <a:pt x="22511" y="11494"/>
                </a:cubicBezTo>
                <a:cubicBezTo>
                  <a:pt x="22518" y="11436"/>
                  <a:pt x="22516" y="11307"/>
                  <a:pt x="22574" y="11271"/>
                </a:cubicBezTo>
                <a:cubicBezTo>
                  <a:pt x="22585" y="11271"/>
                  <a:pt x="22595" y="11271"/>
                  <a:pt x="22606" y="11271"/>
                </a:cubicBezTo>
                <a:cubicBezTo>
                  <a:pt x="22638" y="11282"/>
                  <a:pt x="22661" y="11346"/>
                  <a:pt x="22670" y="11398"/>
                </a:cubicBezTo>
                <a:cubicBezTo>
                  <a:pt x="22685" y="11483"/>
                  <a:pt x="22674" y="11570"/>
                  <a:pt x="22701" y="11652"/>
                </a:cubicBezTo>
                <a:cubicBezTo>
                  <a:pt x="22721" y="11712"/>
                  <a:pt x="22756" y="11798"/>
                  <a:pt x="22796" y="11843"/>
                </a:cubicBezTo>
                <a:cubicBezTo>
                  <a:pt x="22825" y="11871"/>
                  <a:pt x="22831" y="11881"/>
                  <a:pt x="22860" y="11874"/>
                </a:cubicBezTo>
                <a:cubicBezTo>
                  <a:pt x="22954" y="11851"/>
                  <a:pt x="22929" y="11794"/>
                  <a:pt x="22955" y="11716"/>
                </a:cubicBezTo>
                <a:cubicBezTo>
                  <a:pt x="22988" y="11616"/>
                  <a:pt x="23004" y="11504"/>
                  <a:pt x="23019" y="11398"/>
                </a:cubicBezTo>
                <a:cubicBezTo>
                  <a:pt x="23030" y="11316"/>
                  <a:pt x="23046" y="11252"/>
                  <a:pt x="23082" y="11176"/>
                </a:cubicBezTo>
                <a:cubicBezTo>
                  <a:pt x="23093" y="11155"/>
                  <a:pt x="23103" y="11133"/>
                  <a:pt x="23114" y="11112"/>
                </a:cubicBezTo>
              </a:path>
              <a:path w="6763" h="3207">
                <a:moveTo>
                  <a:pt x="23432" y="10986"/>
                </a:moveTo>
                <a:cubicBezTo>
                  <a:pt x="23432" y="11171"/>
                  <a:pt x="23435" y="11349"/>
                  <a:pt x="23463" y="11525"/>
                </a:cubicBezTo>
                <a:cubicBezTo>
                  <a:pt x="23478" y="11615"/>
                  <a:pt x="23463" y="11719"/>
                  <a:pt x="23463" y="11811"/>
                </a:cubicBezTo>
              </a:path>
              <a:path w="6763" h="3207">
                <a:moveTo>
                  <a:pt x="23304" y="11462"/>
                </a:moveTo>
                <a:cubicBezTo>
                  <a:pt x="23410" y="11462"/>
                  <a:pt x="23500" y="11448"/>
                  <a:pt x="23590" y="11430"/>
                </a:cubicBezTo>
                <a:cubicBezTo>
                  <a:pt x="23661" y="11416"/>
                  <a:pt x="23723" y="11412"/>
                  <a:pt x="23781" y="11366"/>
                </a:cubicBezTo>
                <a:cubicBezTo>
                  <a:pt x="23791" y="11356"/>
                  <a:pt x="23802" y="11345"/>
                  <a:pt x="23812" y="11335"/>
                </a:cubicBezTo>
              </a:path>
              <a:path w="6763" h="3207">
                <a:moveTo>
                  <a:pt x="23940" y="10636"/>
                </a:moveTo>
                <a:cubicBezTo>
                  <a:pt x="23991" y="10706"/>
                  <a:pt x="23945" y="10740"/>
                  <a:pt x="23940" y="10827"/>
                </a:cubicBezTo>
                <a:cubicBezTo>
                  <a:pt x="23935" y="10910"/>
                  <a:pt x="23930" y="11032"/>
                  <a:pt x="23908" y="11112"/>
                </a:cubicBezTo>
                <a:cubicBezTo>
                  <a:pt x="23888" y="11183"/>
                  <a:pt x="23876" y="11228"/>
                  <a:pt x="23876" y="11303"/>
                </a:cubicBezTo>
                <a:cubicBezTo>
                  <a:pt x="23935" y="11303"/>
                  <a:pt x="23951" y="11275"/>
                  <a:pt x="24003" y="11271"/>
                </a:cubicBezTo>
                <a:cubicBezTo>
                  <a:pt x="24093" y="11265"/>
                  <a:pt x="24140" y="11261"/>
                  <a:pt x="24225" y="11240"/>
                </a:cubicBezTo>
                <a:cubicBezTo>
                  <a:pt x="24286" y="11225"/>
                  <a:pt x="24369" y="11281"/>
                  <a:pt x="24320" y="11208"/>
                </a:cubicBezTo>
              </a:path>
              <a:path w="6763" h="3207">
                <a:moveTo>
                  <a:pt x="24320" y="10478"/>
                </a:moveTo>
                <a:cubicBezTo>
                  <a:pt x="24300" y="10557"/>
                  <a:pt x="24289" y="10604"/>
                  <a:pt x="24289" y="10700"/>
                </a:cubicBezTo>
                <a:cubicBezTo>
                  <a:pt x="24289" y="10948"/>
                  <a:pt x="24297" y="11187"/>
                  <a:pt x="24320" y="11430"/>
                </a:cubicBezTo>
                <a:cubicBezTo>
                  <a:pt x="24334" y="11577"/>
                  <a:pt x="24347" y="11728"/>
                  <a:pt x="24352" y="11874"/>
                </a:cubicBezTo>
                <a:cubicBezTo>
                  <a:pt x="24355" y="11963"/>
                  <a:pt x="24360" y="11998"/>
                  <a:pt x="24320" y="12065"/>
                </a:cubicBezTo>
              </a:path>
              <a:path w="6763" h="3207">
                <a:moveTo>
                  <a:pt x="21241" y="12636"/>
                </a:moveTo>
                <a:cubicBezTo>
                  <a:pt x="21319" y="12636"/>
                  <a:pt x="21357" y="12623"/>
                  <a:pt x="21431" y="12605"/>
                </a:cubicBezTo>
                <a:cubicBezTo>
                  <a:pt x="21491" y="12590"/>
                  <a:pt x="21537" y="12591"/>
                  <a:pt x="21590" y="12573"/>
                </a:cubicBezTo>
                <a:cubicBezTo>
                  <a:pt x="21601" y="12573"/>
                  <a:pt x="21611" y="12573"/>
                  <a:pt x="21622" y="12573"/>
                </a:cubicBezTo>
              </a:path>
              <a:path w="6763" h="3207">
                <a:moveTo>
                  <a:pt x="21876" y="12351"/>
                </a:moveTo>
                <a:cubicBezTo>
                  <a:pt x="21890" y="12293"/>
                  <a:pt x="21907" y="12280"/>
                  <a:pt x="21939" y="12256"/>
                </a:cubicBezTo>
                <a:cubicBezTo>
                  <a:pt x="21957" y="12243"/>
                  <a:pt x="22031" y="12148"/>
                  <a:pt x="22066" y="12192"/>
                </a:cubicBezTo>
                <a:cubicBezTo>
                  <a:pt x="22090" y="12222"/>
                  <a:pt x="22098" y="12233"/>
                  <a:pt x="22098" y="12287"/>
                </a:cubicBezTo>
                <a:cubicBezTo>
                  <a:pt x="22098" y="12374"/>
                  <a:pt x="22086" y="12435"/>
                  <a:pt x="22034" y="12510"/>
                </a:cubicBezTo>
                <a:cubicBezTo>
                  <a:pt x="22020" y="12531"/>
                  <a:pt x="21982" y="12629"/>
                  <a:pt x="21971" y="12636"/>
                </a:cubicBezTo>
                <a:cubicBezTo>
                  <a:pt x="21960" y="12636"/>
                  <a:pt x="21950" y="12636"/>
                  <a:pt x="21939" y="12636"/>
                </a:cubicBezTo>
                <a:cubicBezTo>
                  <a:pt x="21973" y="12592"/>
                  <a:pt x="21972" y="12548"/>
                  <a:pt x="22034" y="12541"/>
                </a:cubicBezTo>
                <a:cubicBezTo>
                  <a:pt x="22100" y="12534"/>
                  <a:pt x="22117" y="12560"/>
                  <a:pt x="22162" y="12605"/>
                </a:cubicBezTo>
                <a:cubicBezTo>
                  <a:pt x="22208" y="12651"/>
                  <a:pt x="22193" y="12699"/>
                  <a:pt x="22193" y="12764"/>
                </a:cubicBezTo>
                <a:cubicBezTo>
                  <a:pt x="22193" y="12844"/>
                  <a:pt x="22211" y="12924"/>
                  <a:pt x="22162" y="12986"/>
                </a:cubicBezTo>
                <a:cubicBezTo>
                  <a:pt x="22122" y="13037"/>
                  <a:pt x="22094" y="13093"/>
                  <a:pt x="22034" y="13113"/>
                </a:cubicBezTo>
                <a:cubicBezTo>
                  <a:pt x="21976" y="13133"/>
                  <a:pt x="21958" y="13106"/>
                  <a:pt x="21939" y="13081"/>
                </a:cubicBezTo>
                <a:cubicBezTo>
                  <a:pt x="21904" y="13032"/>
                  <a:pt x="21908" y="13015"/>
                  <a:pt x="21908" y="12954"/>
                </a:cubicBezTo>
              </a:path>
              <a:path w="6763" h="3207">
                <a:moveTo>
                  <a:pt x="22384" y="12446"/>
                </a:moveTo>
                <a:cubicBezTo>
                  <a:pt x="22436" y="12463"/>
                  <a:pt x="22416" y="12508"/>
                  <a:pt x="22416" y="12573"/>
                </a:cubicBezTo>
                <a:cubicBezTo>
                  <a:pt x="22416" y="12646"/>
                  <a:pt x="22447" y="12714"/>
                  <a:pt x="22447" y="12795"/>
                </a:cubicBezTo>
                <a:cubicBezTo>
                  <a:pt x="22447" y="12847"/>
                  <a:pt x="22485" y="12911"/>
                  <a:pt x="22511" y="12954"/>
                </a:cubicBezTo>
                <a:cubicBezTo>
                  <a:pt x="22511" y="12810"/>
                  <a:pt x="22511" y="12677"/>
                  <a:pt x="22542" y="12541"/>
                </a:cubicBezTo>
                <a:cubicBezTo>
                  <a:pt x="22549" y="12509"/>
                  <a:pt x="22583" y="12398"/>
                  <a:pt x="22606" y="12382"/>
                </a:cubicBezTo>
                <a:cubicBezTo>
                  <a:pt x="22638" y="12382"/>
                  <a:pt x="22649" y="12382"/>
                  <a:pt x="22670" y="12382"/>
                </a:cubicBezTo>
                <a:cubicBezTo>
                  <a:pt x="22703" y="12427"/>
                  <a:pt x="22729" y="12480"/>
                  <a:pt x="22733" y="12541"/>
                </a:cubicBezTo>
                <a:cubicBezTo>
                  <a:pt x="22738" y="12619"/>
                  <a:pt x="22776" y="12664"/>
                  <a:pt x="22796" y="12732"/>
                </a:cubicBezTo>
                <a:cubicBezTo>
                  <a:pt x="22809" y="12778"/>
                  <a:pt x="22822" y="12789"/>
                  <a:pt x="22860" y="12827"/>
                </a:cubicBezTo>
                <a:cubicBezTo>
                  <a:pt x="22876" y="12778"/>
                  <a:pt x="22892" y="12801"/>
                  <a:pt x="22892" y="12732"/>
                </a:cubicBezTo>
                <a:cubicBezTo>
                  <a:pt x="22892" y="12586"/>
                  <a:pt x="22892" y="12456"/>
                  <a:pt x="22924" y="12319"/>
                </a:cubicBezTo>
                <a:cubicBezTo>
                  <a:pt x="22924" y="12277"/>
                  <a:pt x="22924" y="12256"/>
                  <a:pt x="22924" y="12224"/>
                </a:cubicBezTo>
              </a:path>
              <a:path w="6763" h="3207">
                <a:moveTo>
                  <a:pt x="17590" y="13240"/>
                </a:moveTo>
                <a:cubicBezTo>
                  <a:pt x="17637" y="13240"/>
                  <a:pt x="17710" y="13227"/>
                  <a:pt x="17748" y="13208"/>
                </a:cubicBezTo>
                <a:cubicBezTo>
                  <a:pt x="17813" y="13175"/>
                  <a:pt x="17863" y="13150"/>
                  <a:pt x="17939" y="13144"/>
                </a:cubicBezTo>
                <a:cubicBezTo>
                  <a:pt x="17949" y="13144"/>
                  <a:pt x="17960" y="13144"/>
                  <a:pt x="17970" y="13144"/>
                </a:cubicBezTo>
              </a:path>
              <a:path w="6763" h="3207">
                <a:moveTo>
                  <a:pt x="18256" y="12954"/>
                </a:moveTo>
                <a:lnTo>
                  <a:pt x="18256" y="12954"/>
                </a:lnTo>
              </a:path>
              <a:path w="6763" h="3207">
                <a:moveTo>
                  <a:pt x="18256" y="12954"/>
                </a:moveTo>
                <a:cubicBezTo>
                  <a:pt x="18267" y="12933"/>
                  <a:pt x="18277" y="12911"/>
                  <a:pt x="18288" y="12890"/>
                </a:cubicBezTo>
              </a:path>
              <a:path w="6763" h="3207">
                <a:moveTo>
                  <a:pt x="18288" y="12890"/>
                </a:moveTo>
                <a:cubicBezTo>
                  <a:pt x="18299" y="12880"/>
                  <a:pt x="18309" y="12869"/>
                  <a:pt x="18320" y="12859"/>
                </a:cubicBezTo>
              </a:path>
              <a:path w="6763" h="3207">
                <a:moveTo>
                  <a:pt x="18606" y="12668"/>
                </a:moveTo>
                <a:cubicBezTo>
                  <a:pt x="18606" y="12679"/>
                  <a:pt x="18606" y="12689"/>
                  <a:pt x="18606" y="12700"/>
                </a:cubicBezTo>
              </a:path>
              <a:path w="6763" h="3207">
                <a:moveTo>
                  <a:pt x="18606" y="12668"/>
                </a:moveTo>
                <a:cubicBezTo>
                  <a:pt x="18606" y="12721"/>
                  <a:pt x="18606" y="12774"/>
                  <a:pt x="18606" y="12827"/>
                </a:cubicBezTo>
              </a:path>
              <a:path w="6763" h="3207">
                <a:moveTo>
                  <a:pt x="18606" y="12827"/>
                </a:moveTo>
                <a:cubicBezTo>
                  <a:pt x="18566" y="12892"/>
                  <a:pt x="18549" y="12972"/>
                  <a:pt x="18510" y="13049"/>
                </a:cubicBezTo>
                <a:cubicBezTo>
                  <a:pt x="18477" y="13115"/>
                  <a:pt x="18478" y="13129"/>
                  <a:pt x="18415" y="13144"/>
                </a:cubicBezTo>
                <a:cubicBezTo>
                  <a:pt x="18425" y="13104"/>
                  <a:pt x="18464" y="13038"/>
                  <a:pt x="18510" y="13018"/>
                </a:cubicBezTo>
                <a:cubicBezTo>
                  <a:pt x="18591" y="12983"/>
                  <a:pt x="18604" y="12996"/>
                  <a:pt x="18669" y="13018"/>
                </a:cubicBezTo>
                <a:cubicBezTo>
                  <a:pt x="18749" y="13045"/>
                  <a:pt x="18740" y="13108"/>
                  <a:pt x="18764" y="13176"/>
                </a:cubicBezTo>
                <a:cubicBezTo>
                  <a:pt x="18796" y="13266"/>
                  <a:pt x="18792" y="13333"/>
                  <a:pt x="18764" y="13430"/>
                </a:cubicBezTo>
                <a:cubicBezTo>
                  <a:pt x="18746" y="13494"/>
                  <a:pt x="18680" y="13573"/>
                  <a:pt x="18637" y="13621"/>
                </a:cubicBezTo>
                <a:cubicBezTo>
                  <a:pt x="18607" y="13655"/>
                  <a:pt x="18529" y="13713"/>
                  <a:pt x="18478" y="13684"/>
                </a:cubicBezTo>
                <a:cubicBezTo>
                  <a:pt x="18437" y="13661"/>
                  <a:pt x="18424" y="13627"/>
                  <a:pt x="18415" y="13589"/>
                </a:cubicBezTo>
              </a:path>
              <a:path w="6763" h="3207">
                <a:moveTo>
                  <a:pt x="18860" y="12859"/>
                </a:moveTo>
                <a:cubicBezTo>
                  <a:pt x="18914" y="12877"/>
                  <a:pt x="18919" y="12950"/>
                  <a:pt x="18923" y="13018"/>
                </a:cubicBezTo>
                <a:cubicBezTo>
                  <a:pt x="18928" y="13110"/>
                  <a:pt x="18966" y="13184"/>
                  <a:pt x="18986" y="13272"/>
                </a:cubicBezTo>
                <a:cubicBezTo>
                  <a:pt x="19005" y="13355"/>
                  <a:pt x="18980" y="13419"/>
                  <a:pt x="19018" y="13494"/>
                </a:cubicBezTo>
                <a:cubicBezTo>
                  <a:pt x="19018" y="13368"/>
                  <a:pt x="19030" y="13261"/>
                  <a:pt x="19050" y="13144"/>
                </a:cubicBezTo>
                <a:cubicBezTo>
                  <a:pt x="19062" y="13071"/>
                  <a:pt x="19066" y="13009"/>
                  <a:pt x="19114" y="12954"/>
                </a:cubicBezTo>
                <a:cubicBezTo>
                  <a:pt x="19124" y="12943"/>
                  <a:pt x="19135" y="12933"/>
                  <a:pt x="19145" y="12922"/>
                </a:cubicBezTo>
                <a:cubicBezTo>
                  <a:pt x="19200" y="12991"/>
                  <a:pt x="19207" y="13047"/>
                  <a:pt x="19240" y="13113"/>
                </a:cubicBezTo>
                <a:cubicBezTo>
                  <a:pt x="19272" y="13176"/>
                  <a:pt x="19317" y="13240"/>
                  <a:pt x="19336" y="13303"/>
                </a:cubicBezTo>
                <a:cubicBezTo>
                  <a:pt x="19351" y="13351"/>
                  <a:pt x="19358" y="13420"/>
                  <a:pt x="19399" y="13430"/>
                </a:cubicBezTo>
                <a:cubicBezTo>
                  <a:pt x="19410" y="13430"/>
                  <a:pt x="19420" y="13430"/>
                  <a:pt x="19431" y="13430"/>
                </a:cubicBezTo>
                <a:cubicBezTo>
                  <a:pt x="19431" y="13181"/>
                  <a:pt x="19377" y="12866"/>
                  <a:pt x="19463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7"/>
          <p:cNvSpPr/>
          <p:nvPr/>
        </p:nvSpPr>
        <p:spPr>
          <a:xfrm>
            <a:off x="6697800" y="4675320"/>
            <a:ext cx="1566720" cy="685800"/>
          </a:xfrm>
          <a:custGeom>
            <a:avLst/>
            <a:gdLst/>
            <a:ahLst/>
            <a:rect l="l" t="t" r="r" b="b"/>
            <a:pathLst>
              <a:path w="4350" h="1906">
                <a:moveTo>
                  <a:pt x="18637" y="14383"/>
                </a:moveTo>
                <a:cubicBezTo>
                  <a:pt x="18627" y="14383"/>
                  <a:pt x="18616" y="14383"/>
                  <a:pt x="18606" y="14383"/>
                </a:cubicBezTo>
              </a:path>
              <a:path w="4350" h="1906">
                <a:moveTo>
                  <a:pt x="18637" y="14383"/>
                </a:moveTo>
                <a:cubicBezTo>
                  <a:pt x="18648" y="14383"/>
                  <a:pt x="18658" y="14383"/>
                  <a:pt x="18669" y="14383"/>
                </a:cubicBezTo>
              </a:path>
              <a:path w="4350" h="1906">
                <a:moveTo>
                  <a:pt x="18669" y="14383"/>
                </a:moveTo>
                <a:cubicBezTo>
                  <a:pt x="18727" y="14383"/>
                  <a:pt x="18744" y="14357"/>
                  <a:pt x="18796" y="14351"/>
                </a:cubicBezTo>
                <a:cubicBezTo>
                  <a:pt x="18878" y="14342"/>
                  <a:pt x="18988" y="14337"/>
                  <a:pt x="19050" y="14383"/>
                </a:cubicBezTo>
              </a:path>
              <a:path w="4350" h="1906">
                <a:moveTo>
                  <a:pt x="19145" y="14034"/>
                </a:moveTo>
                <a:cubicBezTo>
                  <a:pt x="19198" y="13981"/>
                  <a:pt x="19250" y="13941"/>
                  <a:pt x="19304" y="13906"/>
                </a:cubicBezTo>
                <a:cubicBezTo>
                  <a:pt x="19334" y="13887"/>
                  <a:pt x="19387" y="13851"/>
                  <a:pt x="19431" y="13875"/>
                </a:cubicBezTo>
                <a:cubicBezTo>
                  <a:pt x="19474" y="13898"/>
                  <a:pt x="19475" y="13993"/>
                  <a:pt x="19463" y="14034"/>
                </a:cubicBezTo>
                <a:cubicBezTo>
                  <a:pt x="19435" y="14130"/>
                  <a:pt x="19404" y="14222"/>
                  <a:pt x="19368" y="14319"/>
                </a:cubicBezTo>
                <a:cubicBezTo>
                  <a:pt x="19331" y="14416"/>
                  <a:pt x="19313" y="14550"/>
                  <a:pt x="19272" y="14637"/>
                </a:cubicBezTo>
                <a:cubicBezTo>
                  <a:pt x="19250" y="14684"/>
                  <a:pt x="19237" y="14754"/>
                  <a:pt x="19209" y="14796"/>
                </a:cubicBezTo>
                <a:cubicBezTo>
                  <a:pt x="19198" y="14806"/>
                  <a:pt x="19188" y="14817"/>
                  <a:pt x="19177" y="14827"/>
                </a:cubicBezTo>
                <a:cubicBezTo>
                  <a:pt x="19221" y="14813"/>
                  <a:pt x="19214" y="14777"/>
                  <a:pt x="19240" y="14764"/>
                </a:cubicBezTo>
                <a:cubicBezTo>
                  <a:pt x="19281" y="14743"/>
                  <a:pt x="19317" y="14732"/>
                  <a:pt x="19368" y="14732"/>
                </a:cubicBezTo>
                <a:cubicBezTo>
                  <a:pt x="19420" y="14732"/>
                  <a:pt x="19469" y="14739"/>
                  <a:pt x="19494" y="14796"/>
                </a:cubicBezTo>
                <a:cubicBezTo>
                  <a:pt x="19509" y="14831"/>
                  <a:pt x="19547" y="14837"/>
                  <a:pt x="19558" y="14859"/>
                </a:cubicBezTo>
                <a:cubicBezTo>
                  <a:pt x="19577" y="14897"/>
                  <a:pt x="19572" y="14912"/>
                  <a:pt x="19590" y="14859"/>
                </a:cubicBezTo>
              </a:path>
              <a:path w="4350" h="1906">
                <a:moveTo>
                  <a:pt x="19717" y="14129"/>
                </a:moveTo>
                <a:cubicBezTo>
                  <a:pt x="19729" y="14179"/>
                  <a:pt x="19732" y="14235"/>
                  <a:pt x="19748" y="14288"/>
                </a:cubicBezTo>
                <a:cubicBezTo>
                  <a:pt x="19770" y="14361"/>
                  <a:pt x="19807" y="14434"/>
                  <a:pt x="19812" y="14510"/>
                </a:cubicBezTo>
                <a:cubicBezTo>
                  <a:pt x="19816" y="14577"/>
                  <a:pt x="19825" y="14620"/>
                  <a:pt x="19876" y="14637"/>
                </a:cubicBezTo>
                <a:cubicBezTo>
                  <a:pt x="19876" y="14502"/>
                  <a:pt x="19878" y="14383"/>
                  <a:pt x="19907" y="14256"/>
                </a:cubicBezTo>
                <a:cubicBezTo>
                  <a:pt x="19918" y="14206"/>
                  <a:pt x="19939" y="14186"/>
                  <a:pt x="19939" y="14129"/>
                </a:cubicBezTo>
                <a:cubicBezTo>
                  <a:pt x="19990" y="14129"/>
                  <a:pt x="20041" y="14136"/>
                  <a:pt x="20066" y="14192"/>
                </a:cubicBezTo>
                <a:cubicBezTo>
                  <a:pt x="20101" y="14271"/>
                  <a:pt x="20123" y="14365"/>
                  <a:pt x="20161" y="14446"/>
                </a:cubicBezTo>
                <a:cubicBezTo>
                  <a:pt x="20190" y="14507"/>
                  <a:pt x="20189" y="14526"/>
                  <a:pt x="20225" y="14573"/>
                </a:cubicBezTo>
                <a:cubicBezTo>
                  <a:pt x="20281" y="14554"/>
                  <a:pt x="20256" y="14480"/>
                  <a:pt x="20256" y="14414"/>
                </a:cubicBezTo>
                <a:cubicBezTo>
                  <a:pt x="20256" y="14252"/>
                  <a:pt x="20241" y="14079"/>
                  <a:pt x="20288" y="13938"/>
                </a:cubicBezTo>
                <a:cubicBezTo>
                  <a:pt x="20288" y="13902"/>
                  <a:pt x="20291" y="13888"/>
                  <a:pt x="20320" y="13875"/>
                </a:cubicBezTo>
              </a:path>
              <a:path w="4350" h="1906">
                <a:moveTo>
                  <a:pt x="20510" y="14160"/>
                </a:moveTo>
                <a:cubicBezTo>
                  <a:pt x="20582" y="14160"/>
                  <a:pt x="20611" y="14148"/>
                  <a:pt x="20669" y="14129"/>
                </a:cubicBezTo>
                <a:cubicBezTo>
                  <a:pt x="20722" y="14112"/>
                  <a:pt x="20777" y="14080"/>
                  <a:pt x="20828" y="14065"/>
                </a:cubicBezTo>
                <a:cubicBezTo>
                  <a:pt x="20839" y="14065"/>
                  <a:pt x="20849" y="14065"/>
                  <a:pt x="20860" y="14065"/>
                </a:cubicBezTo>
              </a:path>
              <a:path w="4350" h="1906">
                <a:moveTo>
                  <a:pt x="20955" y="13621"/>
                </a:moveTo>
                <a:cubicBezTo>
                  <a:pt x="20997" y="13676"/>
                  <a:pt x="20987" y="13706"/>
                  <a:pt x="20987" y="13780"/>
                </a:cubicBezTo>
                <a:cubicBezTo>
                  <a:pt x="20987" y="13869"/>
                  <a:pt x="21018" y="13941"/>
                  <a:pt x="21018" y="14034"/>
                </a:cubicBezTo>
                <a:cubicBezTo>
                  <a:pt x="21018" y="14119"/>
                  <a:pt x="21018" y="14203"/>
                  <a:pt x="21018" y="14288"/>
                </a:cubicBezTo>
                <a:cubicBezTo>
                  <a:pt x="21032" y="14245"/>
                  <a:pt x="21069" y="14250"/>
                  <a:pt x="21082" y="14224"/>
                </a:cubicBezTo>
                <a:cubicBezTo>
                  <a:pt x="21094" y="14201"/>
                  <a:pt x="21129" y="14165"/>
                  <a:pt x="21177" y="14192"/>
                </a:cubicBezTo>
                <a:cubicBezTo>
                  <a:pt x="21226" y="14220"/>
                  <a:pt x="21291" y="14226"/>
                  <a:pt x="21336" y="14256"/>
                </a:cubicBezTo>
                <a:cubicBezTo>
                  <a:pt x="21368" y="14288"/>
                  <a:pt x="21379" y="14299"/>
                  <a:pt x="21400" y="14256"/>
                </a:cubicBezTo>
              </a:path>
              <a:path w="4350" h="1906">
                <a:moveTo>
                  <a:pt x="21368" y="13462"/>
                </a:moveTo>
                <a:cubicBezTo>
                  <a:pt x="21381" y="13563"/>
                  <a:pt x="21400" y="13640"/>
                  <a:pt x="21400" y="13748"/>
                </a:cubicBezTo>
                <a:cubicBezTo>
                  <a:pt x="21400" y="13955"/>
                  <a:pt x="21390" y="14151"/>
                  <a:pt x="21368" y="14351"/>
                </a:cubicBezTo>
                <a:cubicBezTo>
                  <a:pt x="21357" y="14447"/>
                  <a:pt x="21343" y="14593"/>
                  <a:pt x="21400" y="14668"/>
                </a:cubicBezTo>
              </a:path>
              <a:path w="4350" h="1906">
                <a:moveTo>
                  <a:pt x="21717" y="13906"/>
                </a:moveTo>
                <a:cubicBezTo>
                  <a:pt x="21758" y="13876"/>
                  <a:pt x="21823" y="13856"/>
                  <a:pt x="21876" y="13843"/>
                </a:cubicBezTo>
                <a:cubicBezTo>
                  <a:pt x="21935" y="13828"/>
                  <a:pt x="22013" y="13815"/>
                  <a:pt x="22066" y="13780"/>
                </a:cubicBezTo>
                <a:cubicBezTo>
                  <a:pt x="22107" y="13753"/>
                  <a:pt x="22123" y="13745"/>
                  <a:pt x="22162" y="13716"/>
                </a:cubicBezTo>
              </a:path>
              <a:path w="4350" h="1906">
                <a:moveTo>
                  <a:pt x="21812" y="14160"/>
                </a:moveTo>
                <a:cubicBezTo>
                  <a:pt x="21879" y="14160"/>
                  <a:pt x="21903" y="14135"/>
                  <a:pt x="21971" y="14129"/>
                </a:cubicBezTo>
                <a:cubicBezTo>
                  <a:pt x="22028" y="14124"/>
                  <a:pt x="22079" y="14080"/>
                  <a:pt x="22130" y="14065"/>
                </a:cubicBezTo>
                <a:cubicBezTo>
                  <a:pt x="22166" y="14065"/>
                  <a:pt x="22179" y="14062"/>
                  <a:pt x="22193" y="14034"/>
                </a:cubicBezTo>
              </a:path>
              <a:path w="4350" h="1906">
                <a:moveTo>
                  <a:pt x="22542" y="13208"/>
                </a:moveTo>
                <a:cubicBezTo>
                  <a:pt x="22542" y="13353"/>
                  <a:pt x="22533" y="13485"/>
                  <a:pt x="22511" y="13621"/>
                </a:cubicBezTo>
                <a:cubicBezTo>
                  <a:pt x="22501" y="13680"/>
                  <a:pt x="22511" y="13751"/>
                  <a:pt x="22511" y="13811"/>
                </a:cubicBezTo>
                <a:cubicBezTo>
                  <a:pt x="22552" y="13770"/>
                  <a:pt x="22582" y="13722"/>
                  <a:pt x="22638" y="13716"/>
                </a:cubicBezTo>
                <a:cubicBezTo>
                  <a:pt x="22677" y="13712"/>
                  <a:pt x="22720" y="13659"/>
                  <a:pt x="22765" y="13684"/>
                </a:cubicBezTo>
                <a:cubicBezTo>
                  <a:pt x="22818" y="13714"/>
                  <a:pt x="22827" y="13716"/>
                  <a:pt x="22892" y="13716"/>
                </a:cubicBezTo>
                <a:cubicBezTo>
                  <a:pt x="22947" y="13716"/>
                  <a:pt x="22944" y="13696"/>
                  <a:pt x="22955" y="13652"/>
                </a:cubicBezTo>
              </a:path>
              <a:path w="4350" h="1906">
                <a:moveTo>
                  <a:pt x="22892" y="12986"/>
                </a:moveTo>
                <a:cubicBezTo>
                  <a:pt x="22892" y="13243"/>
                  <a:pt x="22878" y="13496"/>
                  <a:pt x="22860" y="13748"/>
                </a:cubicBezTo>
                <a:cubicBezTo>
                  <a:pt x="22840" y="14020"/>
                  <a:pt x="22860" y="14300"/>
                  <a:pt x="22860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8"/>
          <p:cNvSpPr/>
          <p:nvPr/>
        </p:nvSpPr>
        <p:spPr>
          <a:xfrm>
            <a:off x="7165800" y="5829480"/>
            <a:ext cx="70200" cy="34920"/>
          </a:xfrm>
          <a:custGeom>
            <a:avLst/>
            <a:gdLst/>
            <a:ahLst/>
            <a:rect l="l" t="t" r="r" b="b"/>
            <a:pathLst>
              <a:path w="192" h="97">
                <a:moveTo>
                  <a:pt x="19939" y="16288"/>
                </a:moveTo>
                <a:cubicBezTo>
                  <a:pt x="19928" y="16288"/>
                  <a:pt x="19918" y="16288"/>
                  <a:pt x="19907" y="16288"/>
                </a:cubicBezTo>
                <a:cubicBezTo>
                  <a:pt x="19960" y="16275"/>
                  <a:pt x="19987" y="16251"/>
                  <a:pt x="20034" y="16224"/>
                </a:cubicBezTo>
                <a:cubicBezTo>
                  <a:pt x="20055" y="16213"/>
                  <a:pt x="20077" y="16203"/>
                  <a:pt x="20098" y="16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9"/>
          <p:cNvSpPr/>
          <p:nvPr/>
        </p:nvSpPr>
        <p:spPr>
          <a:xfrm>
            <a:off x="7350120" y="5510160"/>
            <a:ext cx="811080" cy="468360"/>
          </a:xfrm>
          <a:custGeom>
            <a:avLst/>
            <a:gdLst/>
            <a:ahLst/>
            <a:rect l="l" t="t" r="r" b="b"/>
            <a:pathLst>
              <a:path w="2256" h="1302">
                <a:moveTo>
                  <a:pt x="20415" y="16034"/>
                </a:moveTo>
                <a:cubicBezTo>
                  <a:pt x="20425" y="16004"/>
                  <a:pt x="20456" y="15973"/>
                  <a:pt x="20479" y="15938"/>
                </a:cubicBezTo>
                <a:cubicBezTo>
                  <a:pt x="20525" y="15868"/>
                  <a:pt x="20610" y="15819"/>
                  <a:pt x="20669" y="15780"/>
                </a:cubicBezTo>
                <a:cubicBezTo>
                  <a:pt x="20680" y="15769"/>
                  <a:pt x="20690" y="15759"/>
                  <a:pt x="20701" y="15748"/>
                </a:cubicBezTo>
                <a:cubicBezTo>
                  <a:pt x="20769" y="15799"/>
                  <a:pt x="20764" y="15777"/>
                  <a:pt x="20764" y="15875"/>
                </a:cubicBezTo>
                <a:cubicBezTo>
                  <a:pt x="20764" y="15962"/>
                  <a:pt x="20771" y="16026"/>
                  <a:pt x="20733" y="16097"/>
                </a:cubicBezTo>
                <a:cubicBezTo>
                  <a:pt x="20684" y="16190"/>
                  <a:pt x="20688" y="16284"/>
                  <a:pt x="20638" y="16383"/>
                </a:cubicBezTo>
                <a:cubicBezTo>
                  <a:pt x="20606" y="16447"/>
                  <a:pt x="20609" y="16522"/>
                  <a:pt x="20574" y="16574"/>
                </a:cubicBezTo>
                <a:cubicBezTo>
                  <a:pt x="20545" y="16602"/>
                  <a:pt x="20535" y="16617"/>
                  <a:pt x="20542" y="16574"/>
                </a:cubicBezTo>
                <a:cubicBezTo>
                  <a:pt x="20598" y="16574"/>
                  <a:pt x="20607" y="16566"/>
                  <a:pt x="20638" y="16542"/>
                </a:cubicBezTo>
                <a:cubicBezTo>
                  <a:pt x="20666" y="16521"/>
                  <a:pt x="20721" y="16486"/>
                  <a:pt x="20764" y="16510"/>
                </a:cubicBezTo>
                <a:cubicBezTo>
                  <a:pt x="20817" y="16540"/>
                  <a:pt x="20827" y="16542"/>
                  <a:pt x="20892" y="16542"/>
                </a:cubicBezTo>
                <a:cubicBezTo>
                  <a:pt x="20946" y="16542"/>
                  <a:pt x="20940" y="16555"/>
                  <a:pt x="20955" y="16510"/>
                </a:cubicBezTo>
              </a:path>
              <a:path w="2256" h="1302">
                <a:moveTo>
                  <a:pt x="21050" y="15938"/>
                </a:moveTo>
                <a:cubicBezTo>
                  <a:pt x="21092" y="16007"/>
                  <a:pt x="21088" y="16083"/>
                  <a:pt x="21114" y="16161"/>
                </a:cubicBezTo>
                <a:cubicBezTo>
                  <a:pt x="21136" y="16225"/>
                  <a:pt x="21144" y="16328"/>
                  <a:pt x="21177" y="16383"/>
                </a:cubicBezTo>
                <a:cubicBezTo>
                  <a:pt x="21201" y="16423"/>
                  <a:pt x="21220" y="16520"/>
                  <a:pt x="21241" y="16478"/>
                </a:cubicBezTo>
                <a:cubicBezTo>
                  <a:pt x="21293" y="16373"/>
                  <a:pt x="21243" y="16154"/>
                  <a:pt x="21272" y="16034"/>
                </a:cubicBezTo>
                <a:cubicBezTo>
                  <a:pt x="21272" y="16002"/>
                  <a:pt x="21272" y="15991"/>
                  <a:pt x="21272" y="15970"/>
                </a:cubicBezTo>
                <a:cubicBezTo>
                  <a:pt x="21349" y="15970"/>
                  <a:pt x="21334" y="15982"/>
                  <a:pt x="21368" y="16034"/>
                </a:cubicBezTo>
                <a:cubicBezTo>
                  <a:pt x="21403" y="16087"/>
                  <a:pt x="21471" y="16133"/>
                  <a:pt x="21495" y="16192"/>
                </a:cubicBezTo>
                <a:cubicBezTo>
                  <a:pt x="21515" y="16242"/>
                  <a:pt x="21525" y="16281"/>
                  <a:pt x="21590" y="16288"/>
                </a:cubicBezTo>
                <a:cubicBezTo>
                  <a:pt x="21601" y="16288"/>
                  <a:pt x="21611" y="16288"/>
                  <a:pt x="21622" y="16288"/>
                </a:cubicBezTo>
                <a:cubicBezTo>
                  <a:pt x="21622" y="16133"/>
                  <a:pt x="21563" y="15838"/>
                  <a:pt x="21654" y="15716"/>
                </a:cubicBezTo>
              </a:path>
              <a:path w="2256" h="1302">
                <a:moveTo>
                  <a:pt x="21812" y="15907"/>
                </a:moveTo>
                <a:cubicBezTo>
                  <a:pt x="21861" y="15870"/>
                  <a:pt x="21877" y="15875"/>
                  <a:pt x="21939" y="15875"/>
                </a:cubicBezTo>
              </a:path>
              <a:path w="2256" h="1302">
                <a:moveTo>
                  <a:pt x="22003" y="15875"/>
                </a:moveTo>
                <a:cubicBezTo>
                  <a:pt x="22013" y="15875"/>
                  <a:pt x="22024" y="15875"/>
                  <a:pt x="22034" y="15875"/>
                </a:cubicBezTo>
              </a:path>
              <a:path w="2256" h="1302">
                <a:moveTo>
                  <a:pt x="21908" y="16129"/>
                </a:moveTo>
                <a:cubicBezTo>
                  <a:pt x="21957" y="16142"/>
                  <a:pt x="21977" y="16161"/>
                  <a:pt x="22034" y="16161"/>
                </a:cubicBezTo>
                <a:cubicBezTo>
                  <a:pt x="22080" y="16161"/>
                  <a:pt x="22118" y="16138"/>
                  <a:pt x="22162" y="16129"/>
                </a:cubicBezTo>
              </a:path>
              <a:path w="2256" h="1302">
                <a:moveTo>
                  <a:pt x="22574" y="15494"/>
                </a:moveTo>
                <a:cubicBezTo>
                  <a:pt x="22574" y="15483"/>
                  <a:pt x="22574" y="15473"/>
                  <a:pt x="22574" y="15462"/>
                </a:cubicBezTo>
              </a:path>
              <a:path w="2256" h="1302">
                <a:moveTo>
                  <a:pt x="22574" y="15494"/>
                </a:moveTo>
                <a:cubicBezTo>
                  <a:pt x="22563" y="15462"/>
                  <a:pt x="22553" y="15431"/>
                  <a:pt x="22542" y="15399"/>
                </a:cubicBezTo>
              </a:path>
              <a:path w="2256" h="1302">
                <a:moveTo>
                  <a:pt x="22542" y="15399"/>
                </a:moveTo>
                <a:cubicBezTo>
                  <a:pt x="22484" y="15399"/>
                  <a:pt x="22460" y="15391"/>
                  <a:pt x="22416" y="15430"/>
                </a:cubicBezTo>
                <a:cubicBezTo>
                  <a:pt x="22360" y="15480"/>
                  <a:pt x="22318" y="15469"/>
                  <a:pt x="22288" y="15558"/>
                </a:cubicBezTo>
                <a:cubicBezTo>
                  <a:pt x="22272" y="15604"/>
                  <a:pt x="22235" y="15694"/>
                  <a:pt x="22257" y="15748"/>
                </a:cubicBezTo>
                <a:cubicBezTo>
                  <a:pt x="22272" y="15785"/>
                  <a:pt x="22352" y="15833"/>
                  <a:pt x="22384" y="15843"/>
                </a:cubicBezTo>
                <a:cubicBezTo>
                  <a:pt x="22440" y="15861"/>
                  <a:pt x="22494" y="15895"/>
                  <a:pt x="22542" y="15938"/>
                </a:cubicBezTo>
                <a:cubicBezTo>
                  <a:pt x="22590" y="15982"/>
                  <a:pt x="22622" y="16067"/>
                  <a:pt x="22638" y="16129"/>
                </a:cubicBezTo>
                <a:cubicBezTo>
                  <a:pt x="22660" y="16218"/>
                  <a:pt x="22662" y="16216"/>
                  <a:pt x="22638" y="16288"/>
                </a:cubicBezTo>
                <a:cubicBezTo>
                  <a:pt x="22638" y="16299"/>
                  <a:pt x="22638" y="16309"/>
                  <a:pt x="22638" y="16320"/>
                </a:cubicBezTo>
                <a:cubicBezTo>
                  <a:pt x="22588" y="16320"/>
                  <a:pt x="22554" y="16313"/>
                  <a:pt x="22542" y="16256"/>
                </a:cubicBezTo>
                <a:cubicBezTo>
                  <a:pt x="22521" y="16158"/>
                  <a:pt x="22511" y="16074"/>
                  <a:pt x="22511" y="15970"/>
                </a:cubicBezTo>
                <a:cubicBezTo>
                  <a:pt x="22511" y="15843"/>
                  <a:pt x="22515" y="15711"/>
                  <a:pt x="22542" y="15589"/>
                </a:cubicBezTo>
                <a:cubicBezTo>
                  <a:pt x="22564" y="15491"/>
                  <a:pt x="22581" y="15402"/>
                  <a:pt x="2260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20"/>
          <p:cNvSpPr/>
          <p:nvPr/>
        </p:nvSpPr>
        <p:spPr>
          <a:xfrm>
            <a:off x="4091040" y="1382760"/>
            <a:ext cx="276120" cy="34920"/>
          </a:xfrm>
          <a:custGeom>
            <a:avLst/>
            <a:gdLst/>
            <a:ahLst/>
            <a:rect l="l" t="t" r="r" b="b"/>
            <a:pathLst>
              <a:path w="763" h="96">
                <a:moveTo>
                  <a:pt x="11366" y="3937"/>
                </a:moveTo>
                <a:cubicBezTo>
                  <a:pt x="11439" y="3937"/>
                  <a:pt x="11466" y="3925"/>
                  <a:pt x="11525" y="3905"/>
                </a:cubicBezTo>
                <a:cubicBezTo>
                  <a:pt x="11636" y="3868"/>
                  <a:pt x="11790" y="3902"/>
                  <a:pt x="11906" y="3874"/>
                </a:cubicBezTo>
                <a:cubicBezTo>
                  <a:pt x="11976" y="3857"/>
                  <a:pt x="12034" y="3863"/>
                  <a:pt x="12097" y="3842"/>
                </a:cubicBezTo>
                <a:cubicBezTo>
                  <a:pt x="12107" y="3842"/>
                  <a:pt x="12118" y="3842"/>
                  <a:pt x="12128" y="3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21"/>
          <p:cNvSpPr/>
          <p:nvPr/>
        </p:nvSpPr>
        <p:spPr>
          <a:xfrm>
            <a:off x="4606920" y="1417680"/>
            <a:ext cx="228600" cy="11160"/>
          </a:xfrm>
          <a:custGeom>
            <a:avLst/>
            <a:gdLst/>
            <a:ahLst/>
            <a:rect l="l" t="t" r="r" b="b"/>
            <a:pathLst>
              <a:path w="636" h="33">
                <a:moveTo>
                  <a:pt x="12795" y="3969"/>
                </a:moveTo>
                <a:cubicBezTo>
                  <a:pt x="12806" y="3969"/>
                  <a:pt x="12816" y="3969"/>
                  <a:pt x="12827" y="3969"/>
                </a:cubicBezTo>
                <a:cubicBezTo>
                  <a:pt x="12742" y="3969"/>
                  <a:pt x="12875" y="3969"/>
                  <a:pt x="12890" y="3969"/>
                </a:cubicBezTo>
                <a:cubicBezTo>
                  <a:pt x="13035" y="3969"/>
                  <a:pt x="13167" y="3971"/>
                  <a:pt x="13303" y="3937"/>
                </a:cubicBezTo>
                <a:cubicBezTo>
                  <a:pt x="13345" y="3926"/>
                  <a:pt x="13389" y="3961"/>
                  <a:pt x="13430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22"/>
          <p:cNvSpPr/>
          <p:nvPr/>
        </p:nvSpPr>
        <p:spPr>
          <a:xfrm>
            <a:off x="5086440" y="1406520"/>
            <a:ext cx="228600" cy="22320"/>
          </a:xfrm>
          <a:custGeom>
            <a:avLst/>
            <a:gdLst/>
            <a:ahLst/>
            <a:rect l="l" t="t" r="r" b="b"/>
            <a:pathLst>
              <a:path w="636" h="65">
                <a:moveTo>
                  <a:pt x="14129" y="3905"/>
                </a:moveTo>
                <a:lnTo>
                  <a:pt x="14129" y="3905"/>
                </a:lnTo>
              </a:path>
              <a:path w="636" h="65">
                <a:moveTo>
                  <a:pt x="14129" y="3905"/>
                </a:moveTo>
                <a:cubicBezTo>
                  <a:pt x="14139" y="3905"/>
                  <a:pt x="14150" y="3905"/>
                  <a:pt x="14160" y="3905"/>
                </a:cubicBezTo>
              </a:path>
              <a:path w="636" h="65">
                <a:moveTo>
                  <a:pt x="14160" y="3905"/>
                </a:moveTo>
                <a:cubicBezTo>
                  <a:pt x="14324" y="3905"/>
                  <a:pt x="14482" y="3898"/>
                  <a:pt x="14637" y="3937"/>
                </a:cubicBezTo>
                <a:cubicBezTo>
                  <a:pt x="14695" y="3952"/>
                  <a:pt x="14697" y="3940"/>
                  <a:pt x="14764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23"/>
          <p:cNvSpPr/>
          <p:nvPr/>
        </p:nvSpPr>
        <p:spPr>
          <a:xfrm>
            <a:off x="6207120" y="1382760"/>
            <a:ext cx="250920" cy="23760"/>
          </a:xfrm>
          <a:custGeom>
            <a:avLst/>
            <a:gdLst/>
            <a:ahLst/>
            <a:rect l="l" t="t" r="r" b="b"/>
            <a:pathLst>
              <a:path w="700" h="64">
                <a:moveTo>
                  <a:pt x="17240" y="3905"/>
                </a:moveTo>
                <a:lnTo>
                  <a:pt x="17240" y="3905"/>
                </a:lnTo>
              </a:path>
              <a:path w="700" h="64">
                <a:moveTo>
                  <a:pt x="17240" y="3905"/>
                </a:moveTo>
                <a:lnTo>
                  <a:pt x="17240" y="3905"/>
                </a:lnTo>
              </a:path>
              <a:path w="700" h="64">
                <a:moveTo>
                  <a:pt x="17272" y="3905"/>
                </a:moveTo>
                <a:cubicBezTo>
                  <a:pt x="17317" y="3878"/>
                  <a:pt x="17405" y="3852"/>
                  <a:pt x="17462" y="3842"/>
                </a:cubicBezTo>
                <a:cubicBezTo>
                  <a:pt x="17609" y="3816"/>
                  <a:pt x="17789" y="3842"/>
                  <a:pt x="17939" y="3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24"/>
          <p:cNvSpPr/>
          <p:nvPr/>
        </p:nvSpPr>
        <p:spPr>
          <a:xfrm>
            <a:off x="7383600" y="5303880"/>
            <a:ext cx="1749240" cy="1120680"/>
          </a:xfrm>
          <a:custGeom>
            <a:avLst/>
            <a:gdLst/>
            <a:ahLst/>
            <a:rect l="l" t="t" r="r" b="b"/>
            <a:pathLst>
              <a:path w="4859" h="3113">
                <a:moveTo>
                  <a:pt x="20510" y="16923"/>
                </a:moveTo>
                <a:cubicBezTo>
                  <a:pt x="20566" y="16923"/>
                  <a:pt x="20619" y="16911"/>
                  <a:pt x="20669" y="16891"/>
                </a:cubicBezTo>
                <a:cubicBezTo>
                  <a:pt x="20745" y="16860"/>
                  <a:pt x="20817" y="16834"/>
                  <a:pt x="20892" y="16796"/>
                </a:cubicBezTo>
                <a:cubicBezTo>
                  <a:pt x="21000" y="16742"/>
                  <a:pt x="21077" y="16640"/>
                  <a:pt x="21177" y="16574"/>
                </a:cubicBezTo>
                <a:cubicBezTo>
                  <a:pt x="21260" y="16519"/>
                  <a:pt x="21349" y="16472"/>
                  <a:pt x="21431" y="16415"/>
                </a:cubicBezTo>
                <a:cubicBezTo>
                  <a:pt x="21446" y="16404"/>
                  <a:pt x="21532" y="16350"/>
                  <a:pt x="21558" y="16383"/>
                </a:cubicBezTo>
                <a:cubicBezTo>
                  <a:pt x="21558" y="16394"/>
                  <a:pt x="21558" y="16404"/>
                  <a:pt x="21558" y="16415"/>
                </a:cubicBezTo>
              </a:path>
              <a:path w="4859" h="3113">
                <a:moveTo>
                  <a:pt x="20701" y="17304"/>
                </a:moveTo>
                <a:cubicBezTo>
                  <a:pt x="20752" y="17291"/>
                  <a:pt x="20785" y="17272"/>
                  <a:pt x="20828" y="17240"/>
                </a:cubicBezTo>
              </a:path>
              <a:path w="4859" h="3113">
                <a:moveTo>
                  <a:pt x="21050" y="17018"/>
                </a:moveTo>
                <a:cubicBezTo>
                  <a:pt x="21099" y="17002"/>
                  <a:pt x="21087" y="16989"/>
                  <a:pt x="21114" y="16954"/>
                </a:cubicBezTo>
                <a:cubicBezTo>
                  <a:pt x="21140" y="16920"/>
                  <a:pt x="21191" y="16868"/>
                  <a:pt x="21209" y="16828"/>
                </a:cubicBezTo>
                <a:cubicBezTo>
                  <a:pt x="21225" y="16793"/>
                  <a:pt x="21250" y="16770"/>
                  <a:pt x="21304" y="16764"/>
                </a:cubicBezTo>
                <a:cubicBezTo>
                  <a:pt x="21350" y="16759"/>
                  <a:pt x="21366" y="16845"/>
                  <a:pt x="21368" y="16891"/>
                </a:cubicBezTo>
                <a:cubicBezTo>
                  <a:pt x="21374" y="17007"/>
                  <a:pt x="21353" y="17102"/>
                  <a:pt x="21336" y="17208"/>
                </a:cubicBezTo>
                <a:cubicBezTo>
                  <a:pt x="21323" y="17290"/>
                  <a:pt x="21353" y="17334"/>
                  <a:pt x="21304" y="17399"/>
                </a:cubicBezTo>
                <a:cubicBezTo>
                  <a:pt x="21316" y="17353"/>
                  <a:pt x="21338" y="17285"/>
                  <a:pt x="21368" y="17240"/>
                </a:cubicBezTo>
                <a:cubicBezTo>
                  <a:pt x="21390" y="17207"/>
                  <a:pt x="21461" y="17152"/>
                  <a:pt x="21495" y="17145"/>
                </a:cubicBezTo>
                <a:cubicBezTo>
                  <a:pt x="21570" y="17129"/>
                  <a:pt x="21591" y="17118"/>
                  <a:pt x="21654" y="17082"/>
                </a:cubicBezTo>
                <a:cubicBezTo>
                  <a:pt x="21709" y="17054"/>
                  <a:pt x="21724" y="17049"/>
                  <a:pt x="21749" y="17018"/>
                </a:cubicBezTo>
              </a:path>
              <a:path w="4859" h="3113">
                <a:moveTo>
                  <a:pt x="22225" y="16383"/>
                </a:moveTo>
                <a:cubicBezTo>
                  <a:pt x="22271" y="16371"/>
                  <a:pt x="22339" y="16349"/>
                  <a:pt x="22384" y="16320"/>
                </a:cubicBezTo>
                <a:cubicBezTo>
                  <a:pt x="22448" y="16278"/>
                  <a:pt x="22505" y="16228"/>
                  <a:pt x="22574" y="16192"/>
                </a:cubicBezTo>
                <a:cubicBezTo>
                  <a:pt x="22653" y="16151"/>
                  <a:pt x="22710" y="16117"/>
                  <a:pt x="22796" y="16097"/>
                </a:cubicBezTo>
                <a:cubicBezTo>
                  <a:pt x="22835" y="16088"/>
                  <a:pt x="22883" y="16097"/>
                  <a:pt x="22924" y="16097"/>
                </a:cubicBezTo>
              </a:path>
              <a:path w="4859" h="3113">
                <a:moveTo>
                  <a:pt x="22384" y="16796"/>
                </a:moveTo>
                <a:cubicBezTo>
                  <a:pt x="22373" y="16796"/>
                  <a:pt x="22363" y="16796"/>
                  <a:pt x="22352" y="16796"/>
                </a:cubicBezTo>
                <a:cubicBezTo>
                  <a:pt x="22403" y="16779"/>
                  <a:pt x="22365" y="16781"/>
                  <a:pt x="22416" y="16764"/>
                </a:cubicBezTo>
                <a:cubicBezTo>
                  <a:pt x="22427" y="16686"/>
                  <a:pt x="22432" y="16657"/>
                  <a:pt x="22511" y="16637"/>
                </a:cubicBezTo>
              </a:path>
              <a:path w="4859" h="3113">
                <a:moveTo>
                  <a:pt x="22606" y="16542"/>
                </a:moveTo>
                <a:cubicBezTo>
                  <a:pt x="22634" y="16505"/>
                  <a:pt x="22651" y="16437"/>
                  <a:pt x="22701" y="16415"/>
                </a:cubicBezTo>
                <a:cubicBezTo>
                  <a:pt x="22747" y="16395"/>
                  <a:pt x="22717" y="16399"/>
                  <a:pt x="22765" y="16383"/>
                </a:cubicBezTo>
                <a:cubicBezTo>
                  <a:pt x="22820" y="16402"/>
                  <a:pt x="22796" y="16475"/>
                  <a:pt x="22796" y="16542"/>
                </a:cubicBezTo>
                <a:cubicBezTo>
                  <a:pt x="22796" y="16666"/>
                  <a:pt x="22784" y="16775"/>
                  <a:pt x="22765" y="16891"/>
                </a:cubicBezTo>
                <a:cubicBezTo>
                  <a:pt x="22765" y="16944"/>
                  <a:pt x="22765" y="16954"/>
                  <a:pt x="22765" y="16986"/>
                </a:cubicBezTo>
                <a:cubicBezTo>
                  <a:pt x="22800" y="16939"/>
                  <a:pt x="22814" y="16904"/>
                  <a:pt x="22860" y="16859"/>
                </a:cubicBezTo>
                <a:cubicBezTo>
                  <a:pt x="22907" y="16813"/>
                  <a:pt x="22940" y="16818"/>
                  <a:pt x="22987" y="16859"/>
                </a:cubicBezTo>
                <a:cubicBezTo>
                  <a:pt x="23027" y="16894"/>
                  <a:pt x="23033" y="16911"/>
                  <a:pt x="23082" y="16923"/>
                </a:cubicBezTo>
              </a:path>
              <a:path w="4859" h="3113">
                <a:moveTo>
                  <a:pt x="23273" y="17050"/>
                </a:moveTo>
                <a:cubicBezTo>
                  <a:pt x="23273" y="17120"/>
                  <a:pt x="23293" y="17139"/>
                  <a:pt x="23304" y="17208"/>
                </a:cubicBezTo>
                <a:cubicBezTo>
                  <a:pt x="23319" y="17299"/>
                  <a:pt x="23340" y="17407"/>
                  <a:pt x="23368" y="17494"/>
                </a:cubicBezTo>
                <a:cubicBezTo>
                  <a:pt x="23395" y="17578"/>
                  <a:pt x="23436" y="17667"/>
                  <a:pt x="23463" y="17748"/>
                </a:cubicBezTo>
                <a:cubicBezTo>
                  <a:pt x="23491" y="17804"/>
                  <a:pt x="23496" y="17819"/>
                  <a:pt x="23527" y="17844"/>
                </a:cubicBezTo>
                <a:cubicBezTo>
                  <a:pt x="23527" y="17730"/>
                  <a:pt x="23508" y="17636"/>
                  <a:pt x="23495" y="17526"/>
                </a:cubicBezTo>
                <a:cubicBezTo>
                  <a:pt x="23475" y="17355"/>
                  <a:pt x="23468" y="17039"/>
                  <a:pt x="23527" y="16923"/>
                </a:cubicBezTo>
                <a:cubicBezTo>
                  <a:pt x="23578" y="16966"/>
                  <a:pt x="23585" y="16981"/>
                  <a:pt x="23622" y="17050"/>
                </a:cubicBezTo>
                <a:cubicBezTo>
                  <a:pt x="23669" y="17138"/>
                  <a:pt x="23678" y="17217"/>
                  <a:pt x="23717" y="17304"/>
                </a:cubicBezTo>
                <a:cubicBezTo>
                  <a:pt x="23749" y="17375"/>
                  <a:pt x="23788" y="17422"/>
                  <a:pt x="23812" y="17462"/>
                </a:cubicBezTo>
                <a:cubicBezTo>
                  <a:pt x="23812" y="17473"/>
                  <a:pt x="23812" y="17483"/>
                  <a:pt x="23812" y="17494"/>
                </a:cubicBezTo>
                <a:cubicBezTo>
                  <a:pt x="23847" y="17436"/>
                  <a:pt x="23823" y="17439"/>
                  <a:pt x="23812" y="17367"/>
                </a:cubicBezTo>
                <a:cubicBezTo>
                  <a:pt x="23793" y="17242"/>
                  <a:pt x="23814" y="17108"/>
                  <a:pt x="23781" y="16986"/>
                </a:cubicBezTo>
                <a:cubicBezTo>
                  <a:pt x="23748" y="16866"/>
                  <a:pt x="23749" y="16766"/>
                  <a:pt x="23749" y="16637"/>
                </a:cubicBezTo>
                <a:cubicBezTo>
                  <a:pt x="23749" y="16568"/>
                  <a:pt x="23756" y="16417"/>
                  <a:pt x="23781" y="16351"/>
                </a:cubicBezTo>
                <a:cubicBezTo>
                  <a:pt x="23809" y="16323"/>
                  <a:pt x="23820" y="16316"/>
                  <a:pt x="23812" y="16288"/>
                </a:cubicBezTo>
              </a:path>
              <a:path w="4859" h="3113">
                <a:moveTo>
                  <a:pt x="24003" y="16510"/>
                </a:moveTo>
                <a:cubicBezTo>
                  <a:pt x="24014" y="16510"/>
                  <a:pt x="24024" y="16510"/>
                  <a:pt x="24035" y="16510"/>
                </a:cubicBezTo>
                <a:cubicBezTo>
                  <a:pt x="24054" y="16432"/>
                  <a:pt x="24100" y="16475"/>
                  <a:pt x="24130" y="16415"/>
                </a:cubicBezTo>
                <a:cubicBezTo>
                  <a:pt x="24149" y="16377"/>
                  <a:pt x="24174" y="16311"/>
                  <a:pt x="24225" y="16288"/>
                </a:cubicBezTo>
                <a:cubicBezTo>
                  <a:pt x="24257" y="16288"/>
                  <a:pt x="24268" y="16288"/>
                  <a:pt x="24289" y="16288"/>
                </a:cubicBezTo>
              </a:path>
              <a:path w="4859" h="3113">
                <a:moveTo>
                  <a:pt x="24130" y="16796"/>
                </a:moveTo>
                <a:cubicBezTo>
                  <a:pt x="24141" y="16796"/>
                  <a:pt x="24151" y="16796"/>
                  <a:pt x="24162" y="16796"/>
                </a:cubicBezTo>
                <a:cubicBezTo>
                  <a:pt x="24174" y="16759"/>
                  <a:pt x="24216" y="16714"/>
                  <a:pt x="24257" y="16669"/>
                </a:cubicBezTo>
                <a:cubicBezTo>
                  <a:pt x="24294" y="16628"/>
                  <a:pt x="24340" y="16617"/>
                  <a:pt x="24384" y="16574"/>
                </a:cubicBezTo>
              </a:path>
              <a:path w="4859" h="3113">
                <a:moveTo>
                  <a:pt x="24384" y="16002"/>
                </a:moveTo>
                <a:cubicBezTo>
                  <a:pt x="24384" y="15991"/>
                  <a:pt x="24384" y="15981"/>
                  <a:pt x="24384" y="15970"/>
                </a:cubicBezTo>
                <a:cubicBezTo>
                  <a:pt x="24439" y="15970"/>
                  <a:pt x="24433" y="15983"/>
                  <a:pt x="24448" y="15938"/>
                </a:cubicBezTo>
                <a:cubicBezTo>
                  <a:pt x="24516" y="15921"/>
                  <a:pt x="24512" y="15890"/>
                  <a:pt x="24543" y="15843"/>
                </a:cubicBezTo>
                <a:cubicBezTo>
                  <a:pt x="24582" y="15785"/>
                  <a:pt x="24606" y="15790"/>
                  <a:pt x="24606" y="15716"/>
                </a:cubicBezTo>
              </a:path>
              <a:path w="4859" h="3113">
                <a:moveTo>
                  <a:pt x="24638" y="15526"/>
                </a:moveTo>
                <a:cubicBezTo>
                  <a:pt x="24638" y="15603"/>
                  <a:pt x="24657" y="15644"/>
                  <a:pt x="24670" y="15716"/>
                </a:cubicBezTo>
                <a:cubicBezTo>
                  <a:pt x="24685" y="15799"/>
                  <a:pt x="24689" y="15890"/>
                  <a:pt x="24702" y="15970"/>
                </a:cubicBezTo>
                <a:cubicBezTo>
                  <a:pt x="24717" y="16058"/>
                  <a:pt x="24714" y="16138"/>
                  <a:pt x="24733" y="16224"/>
                </a:cubicBezTo>
                <a:cubicBezTo>
                  <a:pt x="24745" y="16279"/>
                  <a:pt x="24761" y="16199"/>
                  <a:pt x="24765" y="16161"/>
                </a:cubicBezTo>
                <a:cubicBezTo>
                  <a:pt x="24770" y="16115"/>
                  <a:pt x="24790" y="16071"/>
                  <a:pt x="24828" y="16066"/>
                </a:cubicBezTo>
                <a:cubicBezTo>
                  <a:pt x="24887" y="16059"/>
                  <a:pt x="24904" y="16091"/>
                  <a:pt x="24956" y="16097"/>
                </a:cubicBezTo>
                <a:cubicBezTo>
                  <a:pt x="25014" y="16103"/>
                  <a:pt x="25013" y="15985"/>
                  <a:pt x="25019" y="15938"/>
                </a:cubicBezTo>
              </a:path>
              <a:path w="4859" h="3113">
                <a:moveTo>
                  <a:pt x="24860" y="15335"/>
                </a:moveTo>
                <a:cubicBezTo>
                  <a:pt x="24813" y="15398"/>
                  <a:pt x="24828" y="15439"/>
                  <a:pt x="24828" y="15526"/>
                </a:cubicBezTo>
                <a:cubicBezTo>
                  <a:pt x="24828" y="15687"/>
                  <a:pt x="24876" y="15843"/>
                  <a:pt x="24892" y="16002"/>
                </a:cubicBezTo>
                <a:cubicBezTo>
                  <a:pt x="24905" y="16135"/>
                  <a:pt x="24922" y="16288"/>
                  <a:pt x="24956" y="16415"/>
                </a:cubicBezTo>
                <a:cubicBezTo>
                  <a:pt x="24971" y="16472"/>
                  <a:pt x="25007" y="16516"/>
                  <a:pt x="25019" y="16574"/>
                </a:cubicBezTo>
              </a:path>
              <a:path w="4859" h="3113">
                <a:moveTo>
                  <a:pt x="24733" y="16891"/>
                </a:moveTo>
                <a:cubicBezTo>
                  <a:pt x="24723" y="16902"/>
                  <a:pt x="24712" y="16912"/>
                  <a:pt x="24702" y="16923"/>
                </a:cubicBezTo>
                <a:cubicBezTo>
                  <a:pt x="24784" y="16929"/>
                  <a:pt x="24750" y="16955"/>
                  <a:pt x="24828" y="16923"/>
                </a:cubicBezTo>
                <a:cubicBezTo>
                  <a:pt x="24948" y="16875"/>
                  <a:pt x="24953" y="16793"/>
                  <a:pt x="25019" y="16700"/>
                </a:cubicBezTo>
                <a:cubicBezTo>
                  <a:pt x="25092" y="16597"/>
                  <a:pt x="25182" y="16533"/>
                  <a:pt x="25241" y="16415"/>
                </a:cubicBezTo>
                <a:cubicBezTo>
                  <a:pt x="25378" y="16142"/>
                  <a:pt x="25372" y="15826"/>
                  <a:pt x="25368" y="15526"/>
                </a:cubicBezTo>
                <a:cubicBezTo>
                  <a:pt x="25366" y="15385"/>
                  <a:pt x="25257" y="15185"/>
                  <a:pt x="25178" y="15081"/>
                </a:cubicBezTo>
                <a:cubicBezTo>
                  <a:pt x="25118" y="15002"/>
                  <a:pt x="25059" y="14931"/>
                  <a:pt x="24987" y="14859"/>
                </a:cubicBezTo>
                <a:cubicBezTo>
                  <a:pt x="24905" y="14777"/>
                  <a:pt x="24842" y="14750"/>
                  <a:pt x="24733" y="14732"/>
                </a:cubicBezTo>
                <a:cubicBezTo>
                  <a:pt x="24633" y="14715"/>
                  <a:pt x="24539" y="14742"/>
                  <a:pt x="24448" y="14764"/>
                </a:cubicBezTo>
                <a:cubicBezTo>
                  <a:pt x="24349" y="14787"/>
                  <a:pt x="24196" y="14877"/>
                  <a:pt x="24130" y="14954"/>
                </a:cubicBezTo>
                <a:cubicBezTo>
                  <a:pt x="24022" y="15079"/>
                  <a:pt x="23950" y="15206"/>
                  <a:pt x="23844" y="15335"/>
                </a:cubicBezTo>
                <a:cubicBezTo>
                  <a:pt x="23733" y="15470"/>
                  <a:pt x="23631" y="15585"/>
                  <a:pt x="23558" y="15748"/>
                </a:cubicBezTo>
                <a:cubicBezTo>
                  <a:pt x="23473" y="15937"/>
                  <a:pt x="23410" y="16127"/>
                  <a:pt x="23336" y="16320"/>
                </a:cubicBezTo>
                <a:cubicBezTo>
                  <a:pt x="23241" y="16565"/>
                  <a:pt x="23225" y="16798"/>
                  <a:pt x="23178" y="17050"/>
                </a:cubicBezTo>
                <a:cubicBezTo>
                  <a:pt x="23148" y="17208"/>
                  <a:pt x="23147" y="17280"/>
                  <a:pt x="23209" y="17431"/>
                </a:cubicBezTo>
                <a:cubicBezTo>
                  <a:pt x="23251" y="17534"/>
                  <a:pt x="23289" y="17574"/>
                  <a:pt x="23368" y="17653"/>
                </a:cubicBezTo>
                <a:cubicBezTo>
                  <a:pt x="23453" y="17738"/>
                  <a:pt x="23479" y="17739"/>
                  <a:pt x="23590" y="17780"/>
                </a:cubicBezTo>
                <a:cubicBezTo>
                  <a:pt x="23719" y="17828"/>
                  <a:pt x="23779" y="17807"/>
                  <a:pt x="23908" y="17780"/>
                </a:cubicBezTo>
                <a:cubicBezTo>
                  <a:pt x="24022" y="17756"/>
                  <a:pt x="24128" y="17722"/>
                  <a:pt x="24225" y="17653"/>
                </a:cubicBezTo>
                <a:cubicBezTo>
                  <a:pt x="24329" y="17579"/>
                  <a:pt x="24444" y="17502"/>
                  <a:pt x="24543" y="17431"/>
                </a:cubicBezTo>
                <a:cubicBezTo>
                  <a:pt x="24635" y="17365"/>
                  <a:pt x="24723" y="17252"/>
                  <a:pt x="24797" y="17177"/>
                </a:cubicBezTo>
                <a:cubicBezTo>
                  <a:pt x="24880" y="17093"/>
                  <a:pt x="24919" y="17013"/>
                  <a:pt x="24987" y="16923"/>
                </a:cubicBezTo>
                <a:cubicBezTo>
                  <a:pt x="25072" y="16809"/>
                  <a:pt x="25081" y="16797"/>
                  <a:pt x="25114" y="16669"/>
                </a:cubicBezTo>
                <a:cubicBezTo>
                  <a:pt x="25130" y="16608"/>
                  <a:pt x="25140" y="16587"/>
                  <a:pt x="25146" y="16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consecutive integers whose sum is 1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3"/>
          <p:cNvSpPr/>
          <p:nvPr/>
        </p:nvSpPr>
        <p:spPr>
          <a:xfrm>
            <a:off x="1679400" y="1679400"/>
            <a:ext cx="2733840" cy="1109880"/>
          </a:xfrm>
          <a:custGeom>
            <a:avLst/>
            <a:gdLst/>
            <a:ahLst/>
            <a:rect l="l" t="t" r="r" b="b"/>
            <a:pathLst>
              <a:path w="7590" h="3081">
                <a:moveTo>
                  <a:pt x="4858" y="5747"/>
                </a:moveTo>
                <a:cubicBezTo>
                  <a:pt x="4858" y="5842"/>
                  <a:pt x="4837" y="5915"/>
                  <a:pt x="4826" y="6001"/>
                </a:cubicBezTo>
                <a:cubicBezTo>
                  <a:pt x="4809" y="6130"/>
                  <a:pt x="4794" y="6250"/>
                  <a:pt x="4794" y="6382"/>
                </a:cubicBezTo>
                <a:cubicBezTo>
                  <a:pt x="4794" y="6509"/>
                  <a:pt x="4784" y="6669"/>
                  <a:pt x="4762" y="6794"/>
                </a:cubicBezTo>
                <a:cubicBezTo>
                  <a:pt x="4744" y="6900"/>
                  <a:pt x="4715" y="7010"/>
                  <a:pt x="4699" y="7112"/>
                </a:cubicBezTo>
                <a:cubicBezTo>
                  <a:pt x="4685" y="7203"/>
                  <a:pt x="4696" y="7182"/>
                  <a:pt x="4667" y="7239"/>
                </a:cubicBezTo>
                <a:cubicBezTo>
                  <a:pt x="4667" y="7147"/>
                  <a:pt x="4689" y="7074"/>
                  <a:pt x="4699" y="6985"/>
                </a:cubicBezTo>
                <a:cubicBezTo>
                  <a:pt x="4716" y="6837"/>
                  <a:pt x="4724" y="6720"/>
                  <a:pt x="4762" y="6572"/>
                </a:cubicBezTo>
                <a:cubicBezTo>
                  <a:pt x="4814" y="6371"/>
                  <a:pt x="4861" y="6168"/>
                  <a:pt x="4921" y="5969"/>
                </a:cubicBezTo>
                <a:cubicBezTo>
                  <a:pt x="4964" y="5827"/>
                  <a:pt x="5040" y="5714"/>
                  <a:pt x="5112" y="5588"/>
                </a:cubicBezTo>
                <a:cubicBezTo>
                  <a:pt x="5169" y="5489"/>
                  <a:pt x="5222" y="5448"/>
                  <a:pt x="5334" y="5429"/>
                </a:cubicBezTo>
                <a:cubicBezTo>
                  <a:pt x="5413" y="5416"/>
                  <a:pt x="5498" y="5435"/>
                  <a:pt x="5556" y="5493"/>
                </a:cubicBezTo>
                <a:cubicBezTo>
                  <a:pt x="5654" y="5591"/>
                  <a:pt x="5620" y="5786"/>
                  <a:pt x="5620" y="5906"/>
                </a:cubicBezTo>
                <a:cubicBezTo>
                  <a:pt x="5620" y="6138"/>
                  <a:pt x="5573" y="6343"/>
                  <a:pt x="5556" y="6572"/>
                </a:cubicBezTo>
                <a:cubicBezTo>
                  <a:pt x="5537" y="6825"/>
                  <a:pt x="5454" y="7111"/>
                  <a:pt x="5493" y="7366"/>
                </a:cubicBezTo>
                <a:cubicBezTo>
                  <a:pt x="5511" y="7481"/>
                  <a:pt x="5579" y="7651"/>
                  <a:pt x="5683" y="7715"/>
                </a:cubicBezTo>
                <a:cubicBezTo>
                  <a:pt x="5770" y="7768"/>
                  <a:pt x="5965" y="7765"/>
                  <a:pt x="6064" y="7747"/>
                </a:cubicBezTo>
                <a:cubicBezTo>
                  <a:pt x="6150" y="7718"/>
                  <a:pt x="6173" y="7712"/>
                  <a:pt x="6223" y="7684"/>
                </a:cubicBezTo>
              </a:path>
              <a:path w="7590" h="3081">
                <a:moveTo>
                  <a:pt x="6668" y="4667"/>
                </a:moveTo>
                <a:cubicBezTo>
                  <a:pt x="6704" y="4704"/>
                  <a:pt x="6681" y="4720"/>
                  <a:pt x="6731" y="4731"/>
                </a:cubicBezTo>
                <a:cubicBezTo>
                  <a:pt x="6777" y="4741"/>
                  <a:pt x="6858" y="4758"/>
                  <a:pt x="6890" y="4762"/>
                </a:cubicBezTo>
                <a:cubicBezTo>
                  <a:pt x="7036" y="4778"/>
                  <a:pt x="7195" y="4780"/>
                  <a:pt x="7334" y="4794"/>
                </a:cubicBezTo>
                <a:cubicBezTo>
                  <a:pt x="7543" y="4815"/>
                  <a:pt x="7832" y="4837"/>
                  <a:pt x="8033" y="4826"/>
                </a:cubicBezTo>
                <a:cubicBezTo>
                  <a:pt x="8161" y="4819"/>
                  <a:pt x="8252" y="4821"/>
                  <a:pt x="8382" y="4826"/>
                </a:cubicBezTo>
                <a:cubicBezTo>
                  <a:pt x="9632" y="4873"/>
                  <a:pt x="10936" y="4726"/>
                  <a:pt x="12160" y="4858"/>
                </a:cubicBezTo>
                <a:cubicBezTo>
                  <a:pt x="12213" y="4858"/>
                  <a:pt x="12224" y="4858"/>
                  <a:pt x="12256" y="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4"/>
          <p:cNvSpPr/>
          <p:nvPr/>
        </p:nvSpPr>
        <p:spPr>
          <a:xfrm>
            <a:off x="1382760" y="2011320"/>
            <a:ext cx="1212840" cy="2503440"/>
          </a:xfrm>
          <a:custGeom>
            <a:avLst/>
            <a:gdLst/>
            <a:ahLst/>
            <a:rect l="l" t="t" r="r" b="b"/>
            <a:pathLst>
              <a:path w="3366" h="6954">
                <a:moveTo>
                  <a:pt x="3969" y="8700"/>
                </a:moveTo>
                <a:cubicBezTo>
                  <a:pt x="3977" y="8754"/>
                  <a:pt x="4012" y="8804"/>
                  <a:pt x="4000" y="8858"/>
                </a:cubicBezTo>
                <a:cubicBezTo>
                  <a:pt x="3970" y="8987"/>
                  <a:pt x="3951" y="9135"/>
                  <a:pt x="3937" y="9271"/>
                </a:cubicBezTo>
                <a:cubicBezTo>
                  <a:pt x="3922" y="9422"/>
                  <a:pt x="3925" y="9568"/>
                  <a:pt x="3905" y="9716"/>
                </a:cubicBezTo>
                <a:cubicBezTo>
                  <a:pt x="3894" y="9794"/>
                  <a:pt x="3902" y="9830"/>
                  <a:pt x="3874" y="9906"/>
                </a:cubicBezTo>
                <a:cubicBezTo>
                  <a:pt x="3857" y="9805"/>
                  <a:pt x="3854" y="9729"/>
                  <a:pt x="3874" y="9620"/>
                </a:cubicBezTo>
                <a:cubicBezTo>
                  <a:pt x="3915" y="9398"/>
                  <a:pt x="3992" y="9189"/>
                  <a:pt x="4064" y="8985"/>
                </a:cubicBezTo>
                <a:cubicBezTo>
                  <a:pt x="4133" y="8791"/>
                  <a:pt x="4166" y="8733"/>
                  <a:pt x="4318" y="8604"/>
                </a:cubicBezTo>
                <a:cubicBezTo>
                  <a:pt x="4434" y="8505"/>
                  <a:pt x="4354" y="8568"/>
                  <a:pt x="4477" y="8541"/>
                </a:cubicBezTo>
                <a:cubicBezTo>
                  <a:pt x="4558" y="8622"/>
                  <a:pt x="4540" y="8680"/>
                  <a:pt x="4540" y="8795"/>
                </a:cubicBezTo>
                <a:cubicBezTo>
                  <a:pt x="4540" y="9102"/>
                  <a:pt x="4453" y="9560"/>
                  <a:pt x="4572" y="9842"/>
                </a:cubicBezTo>
                <a:cubicBezTo>
                  <a:pt x="4592" y="9889"/>
                  <a:pt x="4599" y="9922"/>
                  <a:pt x="4667" y="9906"/>
                </a:cubicBezTo>
                <a:cubicBezTo>
                  <a:pt x="4688" y="9895"/>
                  <a:pt x="4710" y="9885"/>
                  <a:pt x="4731" y="9874"/>
                </a:cubicBezTo>
              </a:path>
              <a:path w="3366" h="6954">
                <a:moveTo>
                  <a:pt x="5144" y="8763"/>
                </a:moveTo>
                <a:cubicBezTo>
                  <a:pt x="5172" y="8772"/>
                  <a:pt x="5241" y="8873"/>
                  <a:pt x="5239" y="8922"/>
                </a:cubicBezTo>
                <a:cubicBezTo>
                  <a:pt x="5233" y="9061"/>
                  <a:pt x="5197" y="9226"/>
                  <a:pt x="5175" y="9366"/>
                </a:cubicBezTo>
                <a:cubicBezTo>
                  <a:pt x="5155" y="9496"/>
                  <a:pt x="5122" y="9621"/>
                  <a:pt x="5112" y="9747"/>
                </a:cubicBezTo>
                <a:cubicBezTo>
                  <a:pt x="5112" y="9779"/>
                  <a:pt x="5112" y="9790"/>
                  <a:pt x="5112" y="9811"/>
                </a:cubicBezTo>
              </a:path>
              <a:path w="3366" h="6954">
                <a:moveTo>
                  <a:pt x="4953" y="9176"/>
                </a:moveTo>
                <a:cubicBezTo>
                  <a:pt x="5038" y="9159"/>
                  <a:pt x="5112" y="9126"/>
                  <a:pt x="5207" y="9144"/>
                </a:cubicBezTo>
                <a:cubicBezTo>
                  <a:pt x="5313" y="9165"/>
                  <a:pt x="5443" y="9203"/>
                  <a:pt x="5556" y="9176"/>
                </a:cubicBezTo>
                <a:cubicBezTo>
                  <a:pt x="5577" y="9165"/>
                  <a:pt x="5599" y="9155"/>
                  <a:pt x="5620" y="9144"/>
                </a:cubicBezTo>
              </a:path>
              <a:path w="3366" h="6954">
                <a:moveTo>
                  <a:pt x="6032" y="8382"/>
                </a:moveTo>
                <a:cubicBezTo>
                  <a:pt x="6032" y="8515"/>
                  <a:pt x="6032" y="8634"/>
                  <a:pt x="6001" y="8763"/>
                </a:cubicBezTo>
                <a:cubicBezTo>
                  <a:pt x="5958" y="8942"/>
                  <a:pt x="5922" y="9150"/>
                  <a:pt x="5906" y="9334"/>
                </a:cubicBezTo>
                <a:cubicBezTo>
                  <a:pt x="5888" y="9543"/>
                  <a:pt x="5879" y="9761"/>
                  <a:pt x="5874" y="9970"/>
                </a:cubicBezTo>
                <a:cubicBezTo>
                  <a:pt x="5874" y="10118"/>
                  <a:pt x="5874" y="10160"/>
                  <a:pt x="5874" y="10255"/>
                </a:cubicBezTo>
              </a:path>
              <a:path w="3366" h="6954">
                <a:moveTo>
                  <a:pt x="6509" y="5588"/>
                </a:moveTo>
                <a:cubicBezTo>
                  <a:pt x="6514" y="5639"/>
                  <a:pt x="6498" y="5723"/>
                  <a:pt x="6540" y="5810"/>
                </a:cubicBezTo>
                <a:cubicBezTo>
                  <a:pt x="6594" y="5920"/>
                  <a:pt x="6646" y="6014"/>
                  <a:pt x="6699" y="6128"/>
                </a:cubicBezTo>
                <a:cubicBezTo>
                  <a:pt x="6768" y="6278"/>
                  <a:pt x="6844" y="6409"/>
                  <a:pt x="6890" y="6572"/>
                </a:cubicBezTo>
                <a:cubicBezTo>
                  <a:pt x="6937" y="6739"/>
                  <a:pt x="6922" y="6908"/>
                  <a:pt x="6922" y="7080"/>
                </a:cubicBezTo>
                <a:cubicBezTo>
                  <a:pt x="6922" y="7244"/>
                  <a:pt x="6884" y="7402"/>
                  <a:pt x="6826" y="7556"/>
                </a:cubicBezTo>
                <a:cubicBezTo>
                  <a:pt x="6798" y="7630"/>
                  <a:pt x="6759" y="7709"/>
                  <a:pt x="6731" y="7779"/>
                </a:cubicBezTo>
                <a:cubicBezTo>
                  <a:pt x="6809" y="7784"/>
                  <a:pt x="6920" y="7772"/>
                  <a:pt x="6985" y="7810"/>
                </a:cubicBezTo>
                <a:cubicBezTo>
                  <a:pt x="7046" y="7845"/>
                  <a:pt x="7086" y="7885"/>
                  <a:pt x="7112" y="7969"/>
                </a:cubicBezTo>
                <a:cubicBezTo>
                  <a:pt x="7163" y="8138"/>
                  <a:pt x="7062" y="8338"/>
                  <a:pt x="6985" y="8477"/>
                </a:cubicBezTo>
                <a:cubicBezTo>
                  <a:pt x="6919" y="8596"/>
                  <a:pt x="6834" y="8712"/>
                  <a:pt x="6763" y="8826"/>
                </a:cubicBezTo>
                <a:cubicBezTo>
                  <a:pt x="6806" y="8837"/>
                  <a:pt x="6855" y="8849"/>
                  <a:pt x="6890" y="8858"/>
                </a:cubicBezTo>
                <a:cubicBezTo>
                  <a:pt x="6953" y="8874"/>
                  <a:pt x="6998" y="8861"/>
                  <a:pt x="7048" y="8922"/>
                </a:cubicBezTo>
                <a:cubicBezTo>
                  <a:pt x="7129" y="9021"/>
                  <a:pt x="7118" y="9159"/>
                  <a:pt x="7144" y="9271"/>
                </a:cubicBezTo>
                <a:cubicBezTo>
                  <a:pt x="7198" y="9500"/>
                  <a:pt x="7202" y="9766"/>
                  <a:pt x="7207" y="10001"/>
                </a:cubicBezTo>
                <a:cubicBezTo>
                  <a:pt x="7212" y="10239"/>
                  <a:pt x="7190" y="10465"/>
                  <a:pt x="7176" y="10700"/>
                </a:cubicBezTo>
                <a:cubicBezTo>
                  <a:pt x="7161" y="10948"/>
                  <a:pt x="7084" y="11198"/>
                  <a:pt x="6985" y="11430"/>
                </a:cubicBezTo>
                <a:cubicBezTo>
                  <a:pt x="6881" y="11675"/>
                  <a:pt x="6715" y="11927"/>
                  <a:pt x="6540" y="12128"/>
                </a:cubicBezTo>
                <a:cubicBezTo>
                  <a:pt x="6412" y="12275"/>
                  <a:pt x="6234" y="12413"/>
                  <a:pt x="6064" y="12510"/>
                </a:cubicBezTo>
                <a:cubicBezTo>
                  <a:pt x="6032" y="12520"/>
                  <a:pt x="6001" y="12531"/>
                  <a:pt x="5969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5"/>
          <p:cNvSpPr/>
          <p:nvPr/>
        </p:nvSpPr>
        <p:spPr>
          <a:xfrm>
            <a:off x="3246480" y="1965240"/>
            <a:ext cx="4251240" cy="1189080"/>
          </a:xfrm>
          <a:custGeom>
            <a:avLst/>
            <a:gdLst/>
            <a:ahLst/>
            <a:rect l="l" t="t" r="r" b="b"/>
            <a:pathLst>
              <a:path w="11812" h="3303">
                <a:moveTo>
                  <a:pt x="9652" y="6382"/>
                </a:moveTo>
                <a:cubicBezTo>
                  <a:pt x="9629" y="6420"/>
                  <a:pt x="9620" y="6455"/>
                  <a:pt x="9620" y="6540"/>
                </a:cubicBezTo>
                <a:cubicBezTo>
                  <a:pt x="9620" y="6777"/>
                  <a:pt x="9609" y="7008"/>
                  <a:pt x="9588" y="7239"/>
                </a:cubicBezTo>
                <a:cubicBezTo>
                  <a:pt x="9560" y="7549"/>
                  <a:pt x="9664" y="7931"/>
                  <a:pt x="9557" y="8223"/>
                </a:cubicBezTo>
                <a:cubicBezTo>
                  <a:pt x="9557" y="8170"/>
                  <a:pt x="9557" y="8181"/>
                  <a:pt x="9557" y="8128"/>
                </a:cubicBezTo>
                <a:cubicBezTo>
                  <a:pt x="9557" y="7787"/>
                  <a:pt x="9561" y="7449"/>
                  <a:pt x="9588" y="7112"/>
                </a:cubicBezTo>
                <a:cubicBezTo>
                  <a:pt x="9600" y="6964"/>
                  <a:pt x="9620" y="6811"/>
                  <a:pt x="9652" y="6668"/>
                </a:cubicBezTo>
                <a:cubicBezTo>
                  <a:pt x="9682" y="6536"/>
                  <a:pt x="9772" y="6455"/>
                  <a:pt x="9842" y="6350"/>
                </a:cubicBezTo>
                <a:cubicBezTo>
                  <a:pt x="9885" y="6285"/>
                  <a:pt x="9943" y="6209"/>
                  <a:pt x="10033" y="6223"/>
                </a:cubicBezTo>
                <a:cubicBezTo>
                  <a:pt x="10087" y="6232"/>
                  <a:pt x="10200" y="6339"/>
                  <a:pt x="10224" y="6382"/>
                </a:cubicBezTo>
                <a:cubicBezTo>
                  <a:pt x="10291" y="6501"/>
                  <a:pt x="10284" y="6725"/>
                  <a:pt x="10287" y="6858"/>
                </a:cubicBezTo>
                <a:cubicBezTo>
                  <a:pt x="10296" y="7231"/>
                  <a:pt x="10284" y="7601"/>
                  <a:pt x="10319" y="7969"/>
                </a:cubicBezTo>
                <a:cubicBezTo>
                  <a:pt x="10331" y="8091"/>
                  <a:pt x="10342" y="8242"/>
                  <a:pt x="10414" y="8350"/>
                </a:cubicBezTo>
                <a:cubicBezTo>
                  <a:pt x="10460" y="8419"/>
                  <a:pt x="10540" y="8461"/>
                  <a:pt x="10604" y="8509"/>
                </a:cubicBezTo>
              </a:path>
              <a:path w="11812" h="3303">
                <a:moveTo>
                  <a:pt x="11081" y="6668"/>
                </a:moveTo>
                <a:cubicBezTo>
                  <a:pt x="11081" y="6956"/>
                  <a:pt x="11087" y="7243"/>
                  <a:pt x="11112" y="7525"/>
                </a:cubicBezTo>
                <a:cubicBezTo>
                  <a:pt x="11124" y="7662"/>
                  <a:pt x="11108" y="7806"/>
                  <a:pt x="11144" y="7938"/>
                </a:cubicBezTo>
                <a:cubicBezTo>
                  <a:pt x="11161" y="8001"/>
                  <a:pt x="11212" y="8042"/>
                  <a:pt x="11144" y="8064"/>
                </a:cubicBezTo>
              </a:path>
              <a:path w="11812" h="3303">
                <a:moveTo>
                  <a:pt x="10858" y="7588"/>
                </a:moveTo>
                <a:cubicBezTo>
                  <a:pt x="10906" y="7572"/>
                  <a:pt x="10885" y="7556"/>
                  <a:pt x="10954" y="7556"/>
                </a:cubicBezTo>
                <a:cubicBezTo>
                  <a:pt x="11046" y="7556"/>
                  <a:pt x="11117" y="7511"/>
                  <a:pt x="11208" y="7493"/>
                </a:cubicBezTo>
                <a:cubicBezTo>
                  <a:pt x="11284" y="7478"/>
                  <a:pt x="11356" y="7478"/>
                  <a:pt x="11430" y="7461"/>
                </a:cubicBezTo>
                <a:cubicBezTo>
                  <a:pt x="11475" y="7461"/>
                  <a:pt x="11497" y="7467"/>
                  <a:pt x="11525" y="7493"/>
                </a:cubicBezTo>
              </a:path>
              <a:path w="11812" h="3303">
                <a:moveTo>
                  <a:pt x="11843" y="6731"/>
                </a:moveTo>
                <a:cubicBezTo>
                  <a:pt x="11809" y="6798"/>
                  <a:pt x="11811" y="6837"/>
                  <a:pt x="11811" y="6922"/>
                </a:cubicBezTo>
                <a:cubicBezTo>
                  <a:pt x="11811" y="7071"/>
                  <a:pt x="11843" y="7212"/>
                  <a:pt x="11843" y="7366"/>
                </a:cubicBezTo>
                <a:cubicBezTo>
                  <a:pt x="11843" y="7519"/>
                  <a:pt x="11861" y="7663"/>
                  <a:pt x="11874" y="7810"/>
                </a:cubicBezTo>
                <a:cubicBezTo>
                  <a:pt x="11881" y="7887"/>
                  <a:pt x="11874" y="8221"/>
                  <a:pt x="11874" y="8192"/>
                </a:cubicBezTo>
                <a:cubicBezTo>
                  <a:pt x="11874" y="8066"/>
                  <a:pt x="11861" y="7906"/>
                  <a:pt x="11843" y="7779"/>
                </a:cubicBezTo>
                <a:cubicBezTo>
                  <a:pt x="11813" y="7567"/>
                  <a:pt x="11838" y="7390"/>
                  <a:pt x="11843" y="7176"/>
                </a:cubicBezTo>
                <a:cubicBezTo>
                  <a:pt x="11847" y="6994"/>
                  <a:pt x="11882" y="6842"/>
                  <a:pt x="11938" y="6668"/>
                </a:cubicBezTo>
                <a:cubicBezTo>
                  <a:pt x="11974" y="6558"/>
                  <a:pt x="11978" y="6539"/>
                  <a:pt x="12065" y="6477"/>
                </a:cubicBezTo>
                <a:cubicBezTo>
                  <a:pt x="12117" y="6485"/>
                  <a:pt x="12163" y="6479"/>
                  <a:pt x="12192" y="6540"/>
                </a:cubicBezTo>
                <a:cubicBezTo>
                  <a:pt x="12252" y="6666"/>
                  <a:pt x="12237" y="6820"/>
                  <a:pt x="12256" y="6953"/>
                </a:cubicBezTo>
                <a:cubicBezTo>
                  <a:pt x="12294" y="7216"/>
                  <a:pt x="12279" y="7485"/>
                  <a:pt x="12319" y="7747"/>
                </a:cubicBezTo>
                <a:cubicBezTo>
                  <a:pt x="12336" y="7857"/>
                  <a:pt x="12327" y="8032"/>
                  <a:pt x="12382" y="8128"/>
                </a:cubicBezTo>
                <a:cubicBezTo>
                  <a:pt x="12411" y="8157"/>
                  <a:pt x="12417" y="8168"/>
                  <a:pt x="12446" y="8160"/>
                </a:cubicBezTo>
              </a:path>
              <a:path w="11812" h="3303">
                <a:moveTo>
                  <a:pt x="12668" y="6668"/>
                </a:moveTo>
                <a:cubicBezTo>
                  <a:pt x="12668" y="6757"/>
                  <a:pt x="12698" y="6831"/>
                  <a:pt x="12700" y="6922"/>
                </a:cubicBezTo>
                <a:cubicBezTo>
                  <a:pt x="12706" y="7127"/>
                  <a:pt x="12748" y="7322"/>
                  <a:pt x="12764" y="7525"/>
                </a:cubicBezTo>
                <a:cubicBezTo>
                  <a:pt x="12775" y="7671"/>
                  <a:pt x="12764" y="7822"/>
                  <a:pt x="12764" y="7969"/>
                </a:cubicBezTo>
              </a:path>
              <a:path w="11812" h="3303">
                <a:moveTo>
                  <a:pt x="12446" y="7525"/>
                </a:moveTo>
                <a:cubicBezTo>
                  <a:pt x="12501" y="7484"/>
                  <a:pt x="12532" y="7465"/>
                  <a:pt x="12605" y="7461"/>
                </a:cubicBezTo>
                <a:cubicBezTo>
                  <a:pt x="12696" y="7456"/>
                  <a:pt x="12772" y="7409"/>
                  <a:pt x="12859" y="7398"/>
                </a:cubicBezTo>
                <a:cubicBezTo>
                  <a:pt x="12996" y="7380"/>
                  <a:pt x="13015" y="7368"/>
                  <a:pt x="13113" y="7271"/>
                </a:cubicBezTo>
              </a:path>
              <a:path w="11812" h="3303">
                <a:moveTo>
                  <a:pt x="13303" y="5906"/>
                </a:moveTo>
                <a:cubicBezTo>
                  <a:pt x="13352" y="6035"/>
                  <a:pt x="13348" y="6147"/>
                  <a:pt x="13367" y="6286"/>
                </a:cubicBezTo>
                <a:cubicBezTo>
                  <a:pt x="13397" y="6508"/>
                  <a:pt x="13402" y="6732"/>
                  <a:pt x="13430" y="6953"/>
                </a:cubicBezTo>
                <a:cubicBezTo>
                  <a:pt x="13461" y="7196"/>
                  <a:pt x="13464" y="7442"/>
                  <a:pt x="13494" y="7684"/>
                </a:cubicBezTo>
                <a:cubicBezTo>
                  <a:pt x="13518" y="7876"/>
                  <a:pt x="13522" y="8066"/>
                  <a:pt x="13557" y="8255"/>
                </a:cubicBezTo>
              </a:path>
              <a:path w="11812" h="3303">
                <a:moveTo>
                  <a:pt x="14002" y="6445"/>
                </a:moveTo>
                <a:cubicBezTo>
                  <a:pt x="14002" y="6588"/>
                  <a:pt x="13983" y="6721"/>
                  <a:pt x="13970" y="6858"/>
                </a:cubicBezTo>
                <a:cubicBezTo>
                  <a:pt x="13954" y="7023"/>
                  <a:pt x="13997" y="7173"/>
                  <a:pt x="14002" y="7334"/>
                </a:cubicBezTo>
                <a:cubicBezTo>
                  <a:pt x="14007" y="7482"/>
                  <a:pt x="14002" y="7631"/>
                  <a:pt x="14002" y="7779"/>
                </a:cubicBezTo>
              </a:path>
              <a:path w="11812" h="3303">
                <a:moveTo>
                  <a:pt x="13652" y="7366"/>
                </a:moveTo>
                <a:cubicBezTo>
                  <a:pt x="13669" y="7314"/>
                  <a:pt x="13715" y="7334"/>
                  <a:pt x="13780" y="7334"/>
                </a:cubicBezTo>
                <a:cubicBezTo>
                  <a:pt x="13873" y="7334"/>
                  <a:pt x="13978" y="7326"/>
                  <a:pt x="14065" y="7302"/>
                </a:cubicBezTo>
                <a:cubicBezTo>
                  <a:pt x="14143" y="7280"/>
                  <a:pt x="14226" y="7224"/>
                  <a:pt x="14288" y="7176"/>
                </a:cubicBezTo>
              </a:path>
              <a:path w="11812" h="3303">
                <a:moveTo>
                  <a:pt x="14446" y="6414"/>
                </a:moveTo>
                <a:cubicBezTo>
                  <a:pt x="14446" y="6530"/>
                  <a:pt x="14459" y="6651"/>
                  <a:pt x="14478" y="6763"/>
                </a:cubicBezTo>
                <a:cubicBezTo>
                  <a:pt x="14509" y="6944"/>
                  <a:pt x="14560" y="7119"/>
                  <a:pt x="14573" y="7302"/>
                </a:cubicBezTo>
                <a:cubicBezTo>
                  <a:pt x="14584" y="7465"/>
                  <a:pt x="14626" y="7683"/>
                  <a:pt x="14605" y="7842"/>
                </a:cubicBezTo>
                <a:cubicBezTo>
                  <a:pt x="14596" y="7912"/>
                  <a:pt x="14569" y="8036"/>
                  <a:pt x="14542" y="8064"/>
                </a:cubicBezTo>
                <a:cubicBezTo>
                  <a:pt x="14542" y="8054"/>
                  <a:pt x="14542" y="8043"/>
                  <a:pt x="14542" y="8033"/>
                </a:cubicBezTo>
                <a:cubicBezTo>
                  <a:pt x="14492" y="7933"/>
                  <a:pt x="14510" y="7804"/>
                  <a:pt x="14510" y="7684"/>
                </a:cubicBezTo>
                <a:cubicBezTo>
                  <a:pt x="14510" y="7469"/>
                  <a:pt x="14496" y="7258"/>
                  <a:pt x="14542" y="7048"/>
                </a:cubicBezTo>
                <a:cubicBezTo>
                  <a:pt x="14581" y="6869"/>
                  <a:pt x="14597" y="6739"/>
                  <a:pt x="14668" y="6572"/>
                </a:cubicBezTo>
                <a:cubicBezTo>
                  <a:pt x="14723" y="6445"/>
                  <a:pt x="14730" y="6407"/>
                  <a:pt x="14827" y="6318"/>
                </a:cubicBezTo>
                <a:cubicBezTo>
                  <a:pt x="14838" y="6307"/>
                  <a:pt x="14848" y="6297"/>
                  <a:pt x="14859" y="6286"/>
                </a:cubicBezTo>
                <a:cubicBezTo>
                  <a:pt x="14956" y="6342"/>
                  <a:pt x="14924" y="6321"/>
                  <a:pt x="14954" y="6445"/>
                </a:cubicBezTo>
                <a:cubicBezTo>
                  <a:pt x="14991" y="6596"/>
                  <a:pt x="15007" y="6766"/>
                  <a:pt x="15018" y="6922"/>
                </a:cubicBezTo>
                <a:cubicBezTo>
                  <a:pt x="15031" y="7113"/>
                  <a:pt x="15035" y="7305"/>
                  <a:pt x="15050" y="7493"/>
                </a:cubicBezTo>
                <a:cubicBezTo>
                  <a:pt x="15061" y="7629"/>
                  <a:pt x="15045" y="7774"/>
                  <a:pt x="15081" y="7906"/>
                </a:cubicBezTo>
                <a:cubicBezTo>
                  <a:pt x="15096" y="7961"/>
                  <a:pt x="15117" y="7991"/>
                  <a:pt x="15145" y="8033"/>
                </a:cubicBezTo>
              </a:path>
              <a:path w="11812" h="3303">
                <a:moveTo>
                  <a:pt x="15399" y="6636"/>
                </a:moveTo>
                <a:cubicBezTo>
                  <a:pt x="15399" y="6726"/>
                  <a:pt x="15422" y="6800"/>
                  <a:pt x="15430" y="6890"/>
                </a:cubicBezTo>
                <a:cubicBezTo>
                  <a:pt x="15449" y="7111"/>
                  <a:pt x="15444" y="7337"/>
                  <a:pt x="15462" y="7556"/>
                </a:cubicBezTo>
                <a:cubicBezTo>
                  <a:pt x="15473" y="7692"/>
                  <a:pt x="15462" y="7832"/>
                  <a:pt x="15462" y="7969"/>
                </a:cubicBezTo>
              </a:path>
              <a:path w="11812" h="3303">
                <a:moveTo>
                  <a:pt x="15176" y="7493"/>
                </a:moveTo>
                <a:cubicBezTo>
                  <a:pt x="15235" y="7448"/>
                  <a:pt x="15267" y="7454"/>
                  <a:pt x="15335" y="7430"/>
                </a:cubicBezTo>
                <a:cubicBezTo>
                  <a:pt x="15422" y="7399"/>
                  <a:pt x="15507" y="7344"/>
                  <a:pt x="15589" y="7302"/>
                </a:cubicBezTo>
              </a:path>
              <a:path w="11812" h="3303">
                <a:moveTo>
                  <a:pt x="15812" y="6477"/>
                </a:moveTo>
                <a:cubicBezTo>
                  <a:pt x="15773" y="6373"/>
                  <a:pt x="15797" y="6357"/>
                  <a:pt x="15812" y="6255"/>
                </a:cubicBezTo>
                <a:cubicBezTo>
                  <a:pt x="15830" y="6130"/>
                  <a:pt x="15869" y="6118"/>
                  <a:pt x="15938" y="6032"/>
                </a:cubicBezTo>
                <a:cubicBezTo>
                  <a:pt x="15992" y="5965"/>
                  <a:pt x="16048" y="5931"/>
                  <a:pt x="16129" y="6001"/>
                </a:cubicBezTo>
                <a:cubicBezTo>
                  <a:pt x="16212" y="6073"/>
                  <a:pt x="16221" y="6184"/>
                  <a:pt x="16224" y="6286"/>
                </a:cubicBezTo>
                <a:cubicBezTo>
                  <a:pt x="16230" y="6491"/>
                  <a:pt x="16169" y="6689"/>
                  <a:pt x="16129" y="6890"/>
                </a:cubicBezTo>
                <a:cubicBezTo>
                  <a:pt x="16076" y="7153"/>
                  <a:pt x="16019" y="7401"/>
                  <a:pt x="15938" y="7652"/>
                </a:cubicBezTo>
                <a:cubicBezTo>
                  <a:pt x="15903" y="7761"/>
                  <a:pt x="15901" y="7905"/>
                  <a:pt x="15843" y="8001"/>
                </a:cubicBezTo>
                <a:cubicBezTo>
                  <a:pt x="15812" y="8001"/>
                  <a:pt x="15801" y="8001"/>
                  <a:pt x="15812" y="8033"/>
                </a:cubicBezTo>
                <a:cubicBezTo>
                  <a:pt x="15828" y="7970"/>
                  <a:pt x="15816" y="7955"/>
                  <a:pt x="15875" y="7906"/>
                </a:cubicBezTo>
                <a:cubicBezTo>
                  <a:pt x="15916" y="7872"/>
                  <a:pt x="15976" y="7854"/>
                  <a:pt x="16034" y="7874"/>
                </a:cubicBezTo>
                <a:cubicBezTo>
                  <a:pt x="16089" y="7893"/>
                  <a:pt x="16191" y="7992"/>
                  <a:pt x="16224" y="8033"/>
                </a:cubicBezTo>
                <a:cubicBezTo>
                  <a:pt x="16282" y="8105"/>
                  <a:pt x="16289" y="8123"/>
                  <a:pt x="16383" y="8128"/>
                </a:cubicBezTo>
                <a:cubicBezTo>
                  <a:pt x="16487" y="8134"/>
                  <a:pt x="16490" y="8121"/>
                  <a:pt x="16542" y="8033"/>
                </a:cubicBezTo>
                <a:cubicBezTo>
                  <a:pt x="16590" y="7951"/>
                  <a:pt x="16599" y="7895"/>
                  <a:pt x="16637" y="7810"/>
                </a:cubicBezTo>
                <a:cubicBezTo>
                  <a:pt x="16669" y="7738"/>
                  <a:pt x="16715" y="7634"/>
                  <a:pt x="16732" y="7556"/>
                </a:cubicBezTo>
                <a:cubicBezTo>
                  <a:pt x="16746" y="7491"/>
                  <a:pt x="16757" y="7464"/>
                  <a:pt x="16764" y="7398"/>
                </a:cubicBezTo>
              </a:path>
              <a:path w="11812" h="3303">
                <a:moveTo>
                  <a:pt x="16859" y="6985"/>
                </a:moveTo>
                <a:cubicBezTo>
                  <a:pt x="16849" y="6985"/>
                  <a:pt x="16838" y="6985"/>
                  <a:pt x="16828" y="6985"/>
                </a:cubicBezTo>
              </a:path>
              <a:path w="11812" h="3303">
                <a:moveTo>
                  <a:pt x="16859" y="6985"/>
                </a:moveTo>
                <a:lnTo>
                  <a:pt x="16859" y="6985"/>
                </a:lnTo>
              </a:path>
              <a:path w="11812" h="3303">
                <a:moveTo>
                  <a:pt x="16859" y="6985"/>
                </a:moveTo>
                <a:cubicBezTo>
                  <a:pt x="16940" y="6985"/>
                  <a:pt x="16977" y="6966"/>
                  <a:pt x="17050" y="6953"/>
                </a:cubicBezTo>
                <a:cubicBezTo>
                  <a:pt x="17147" y="6936"/>
                  <a:pt x="17269" y="6933"/>
                  <a:pt x="17367" y="6922"/>
                </a:cubicBezTo>
                <a:cubicBezTo>
                  <a:pt x="17509" y="6906"/>
                  <a:pt x="17838" y="6992"/>
                  <a:pt x="17939" y="6953"/>
                </a:cubicBezTo>
                <a:cubicBezTo>
                  <a:pt x="17939" y="6943"/>
                  <a:pt x="17939" y="6932"/>
                  <a:pt x="17939" y="6922"/>
                </a:cubicBezTo>
              </a:path>
              <a:path w="11812" h="3303">
                <a:moveTo>
                  <a:pt x="16986" y="7398"/>
                </a:moveTo>
                <a:cubicBezTo>
                  <a:pt x="17068" y="7378"/>
                  <a:pt x="17040" y="7382"/>
                  <a:pt x="17113" y="7398"/>
                </a:cubicBezTo>
                <a:cubicBezTo>
                  <a:pt x="17200" y="7417"/>
                  <a:pt x="17282" y="7370"/>
                  <a:pt x="17367" y="7366"/>
                </a:cubicBezTo>
                <a:cubicBezTo>
                  <a:pt x="17480" y="7361"/>
                  <a:pt x="17577" y="7316"/>
                  <a:pt x="17685" y="7302"/>
                </a:cubicBezTo>
                <a:cubicBezTo>
                  <a:pt x="17784" y="7289"/>
                  <a:pt x="17868" y="7271"/>
                  <a:pt x="17970" y="7271"/>
                </a:cubicBezTo>
                <a:cubicBezTo>
                  <a:pt x="18034" y="7271"/>
                  <a:pt x="18097" y="7271"/>
                  <a:pt x="18161" y="7271"/>
                </a:cubicBezTo>
              </a:path>
              <a:path w="11812" h="3303">
                <a:moveTo>
                  <a:pt x="18828" y="5906"/>
                </a:moveTo>
                <a:cubicBezTo>
                  <a:pt x="18844" y="6028"/>
                  <a:pt x="18887" y="6124"/>
                  <a:pt x="18891" y="6255"/>
                </a:cubicBezTo>
                <a:cubicBezTo>
                  <a:pt x="18907" y="6826"/>
                  <a:pt x="18891" y="8478"/>
                  <a:pt x="18891" y="7906"/>
                </a:cubicBezTo>
                <a:cubicBezTo>
                  <a:pt x="18891" y="7874"/>
                  <a:pt x="18891" y="7842"/>
                  <a:pt x="18891" y="7810"/>
                </a:cubicBezTo>
              </a:path>
              <a:path w="11812" h="3303">
                <a:moveTo>
                  <a:pt x="19114" y="6286"/>
                </a:moveTo>
                <a:cubicBezTo>
                  <a:pt x="19148" y="6238"/>
                  <a:pt x="19177" y="6198"/>
                  <a:pt x="19240" y="6160"/>
                </a:cubicBezTo>
                <a:cubicBezTo>
                  <a:pt x="19305" y="6121"/>
                  <a:pt x="19358" y="6079"/>
                  <a:pt x="19431" y="6064"/>
                </a:cubicBezTo>
                <a:cubicBezTo>
                  <a:pt x="19514" y="6047"/>
                  <a:pt x="19596" y="6073"/>
                  <a:pt x="19622" y="6160"/>
                </a:cubicBezTo>
                <a:cubicBezTo>
                  <a:pt x="19651" y="6259"/>
                  <a:pt x="19626" y="6418"/>
                  <a:pt x="19590" y="6509"/>
                </a:cubicBezTo>
                <a:cubicBezTo>
                  <a:pt x="19526" y="6671"/>
                  <a:pt x="19456" y="6803"/>
                  <a:pt x="19368" y="6953"/>
                </a:cubicBezTo>
                <a:cubicBezTo>
                  <a:pt x="19335" y="7009"/>
                  <a:pt x="19317" y="7035"/>
                  <a:pt x="19272" y="7080"/>
                </a:cubicBezTo>
                <a:cubicBezTo>
                  <a:pt x="19284" y="6997"/>
                  <a:pt x="19321" y="6942"/>
                  <a:pt x="19399" y="6890"/>
                </a:cubicBezTo>
                <a:cubicBezTo>
                  <a:pt x="19447" y="6858"/>
                  <a:pt x="19565" y="6785"/>
                  <a:pt x="19622" y="6794"/>
                </a:cubicBezTo>
                <a:cubicBezTo>
                  <a:pt x="19698" y="6806"/>
                  <a:pt x="19765" y="6883"/>
                  <a:pt x="19812" y="6953"/>
                </a:cubicBezTo>
                <a:cubicBezTo>
                  <a:pt x="19866" y="7033"/>
                  <a:pt x="19861" y="7209"/>
                  <a:pt x="19844" y="7302"/>
                </a:cubicBezTo>
                <a:cubicBezTo>
                  <a:pt x="19818" y="7443"/>
                  <a:pt x="19754" y="7591"/>
                  <a:pt x="19685" y="7715"/>
                </a:cubicBezTo>
                <a:cubicBezTo>
                  <a:pt x="19637" y="7801"/>
                  <a:pt x="19547" y="7913"/>
                  <a:pt x="19463" y="7969"/>
                </a:cubicBezTo>
                <a:cubicBezTo>
                  <a:pt x="19369" y="8031"/>
                  <a:pt x="19324" y="8045"/>
                  <a:pt x="19240" y="7969"/>
                </a:cubicBezTo>
                <a:cubicBezTo>
                  <a:pt x="19230" y="7959"/>
                  <a:pt x="19219" y="7948"/>
                  <a:pt x="19209" y="7938"/>
                </a:cubicBezTo>
              </a:path>
              <a:path w="11812" h="3303">
                <a:moveTo>
                  <a:pt x="19971" y="6382"/>
                </a:moveTo>
                <a:cubicBezTo>
                  <a:pt x="19985" y="6325"/>
                  <a:pt x="20022" y="6269"/>
                  <a:pt x="20066" y="6223"/>
                </a:cubicBezTo>
                <a:cubicBezTo>
                  <a:pt x="20149" y="6135"/>
                  <a:pt x="20189" y="6100"/>
                  <a:pt x="20288" y="6032"/>
                </a:cubicBezTo>
                <a:cubicBezTo>
                  <a:pt x="20320" y="6010"/>
                  <a:pt x="20429" y="5983"/>
                  <a:pt x="20447" y="6032"/>
                </a:cubicBezTo>
                <a:cubicBezTo>
                  <a:pt x="20490" y="6150"/>
                  <a:pt x="20476" y="6258"/>
                  <a:pt x="20447" y="6382"/>
                </a:cubicBezTo>
                <a:cubicBezTo>
                  <a:pt x="20405" y="6566"/>
                  <a:pt x="20382" y="6777"/>
                  <a:pt x="20320" y="6953"/>
                </a:cubicBezTo>
                <a:cubicBezTo>
                  <a:pt x="20253" y="7086"/>
                  <a:pt x="20230" y="7135"/>
                  <a:pt x="20225" y="7239"/>
                </a:cubicBezTo>
              </a:path>
              <a:path w="11812" h="3303">
                <a:moveTo>
                  <a:pt x="20130" y="7493"/>
                </a:moveTo>
                <a:cubicBezTo>
                  <a:pt x="20097" y="7583"/>
                  <a:pt x="20035" y="7664"/>
                  <a:pt x="20002" y="7747"/>
                </a:cubicBezTo>
                <a:cubicBezTo>
                  <a:pt x="20002" y="7779"/>
                  <a:pt x="20002" y="7789"/>
                  <a:pt x="19971" y="7779"/>
                </a:cubicBezTo>
                <a:cubicBezTo>
                  <a:pt x="19979" y="7755"/>
                  <a:pt x="20026" y="7701"/>
                  <a:pt x="20066" y="7684"/>
                </a:cubicBezTo>
                <a:cubicBezTo>
                  <a:pt x="20103" y="7668"/>
                  <a:pt x="20185" y="7655"/>
                  <a:pt x="20225" y="7652"/>
                </a:cubicBezTo>
                <a:cubicBezTo>
                  <a:pt x="20318" y="7646"/>
                  <a:pt x="20364" y="7677"/>
                  <a:pt x="20447" y="7684"/>
                </a:cubicBezTo>
                <a:cubicBezTo>
                  <a:pt x="20514" y="7690"/>
                  <a:pt x="20553" y="7729"/>
                  <a:pt x="20606" y="7747"/>
                </a:cubicBezTo>
                <a:cubicBezTo>
                  <a:pt x="20654" y="7763"/>
                  <a:pt x="20700" y="7744"/>
                  <a:pt x="20733" y="7715"/>
                </a:cubicBezTo>
                <a:cubicBezTo>
                  <a:pt x="20780" y="7673"/>
                  <a:pt x="20817" y="7620"/>
                  <a:pt x="20828" y="7556"/>
                </a:cubicBezTo>
                <a:cubicBezTo>
                  <a:pt x="20854" y="7410"/>
                  <a:pt x="20834" y="7220"/>
                  <a:pt x="20796" y="7080"/>
                </a:cubicBezTo>
                <a:cubicBezTo>
                  <a:pt x="20785" y="7048"/>
                  <a:pt x="20775" y="7017"/>
                  <a:pt x="20764" y="6985"/>
                </a:cubicBezTo>
              </a:path>
              <a:path w="11812" h="3303">
                <a:moveTo>
                  <a:pt x="20193" y="7271"/>
                </a:moveTo>
                <a:cubicBezTo>
                  <a:pt x="20188" y="7289"/>
                  <a:pt x="20168" y="7419"/>
                  <a:pt x="20161" y="7430"/>
                </a:cubicBezTo>
                <a:cubicBezTo>
                  <a:pt x="20131" y="7474"/>
                  <a:pt x="20130" y="7420"/>
                  <a:pt x="20130" y="7525"/>
                </a:cubicBezTo>
                <a:cubicBezTo>
                  <a:pt x="20138" y="7483"/>
                  <a:pt x="20149" y="7388"/>
                  <a:pt x="20193" y="7366"/>
                </a:cubicBezTo>
                <a:cubicBezTo>
                  <a:pt x="20204" y="7366"/>
                  <a:pt x="20214" y="7366"/>
                  <a:pt x="20225" y="7366"/>
                </a:cubicBezTo>
              </a:path>
              <a:path w="11812" h="3303">
                <a:moveTo>
                  <a:pt x="9049" y="8731"/>
                </a:moveTo>
                <a:cubicBezTo>
                  <a:pt x="8985" y="8731"/>
                  <a:pt x="9090" y="8736"/>
                  <a:pt x="9112" y="8731"/>
                </a:cubicBezTo>
                <a:cubicBezTo>
                  <a:pt x="9192" y="8713"/>
                  <a:pt x="9254" y="8728"/>
                  <a:pt x="9334" y="8700"/>
                </a:cubicBezTo>
                <a:cubicBezTo>
                  <a:pt x="9469" y="8653"/>
                  <a:pt x="9606" y="8668"/>
                  <a:pt x="9747" y="8668"/>
                </a:cubicBezTo>
                <a:cubicBezTo>
                  <a:pt x="9906" y="8668"/>
                  <a:pt x="10107" y="8711"/>
                  <a:pt x="10255" y="8700"/>
                </a:cubicBezTo>
                <a:cubicBezTo>
                  <a:pt x="10361" y="8692"/>
                  <a:pt x="10462" y="8668"/>
                  <a:pt x="10573" y="8668"/>
                </a:cubicBezTo>
                <a:cubicBezTo>
                  <a:pt x="10645" y="8668"/>
                  <a:pt x="10692" y="8636"/>
                  <a:pt x="10763" y="8636"/>
                </a:cubicBezTo>
              </a:path>
              <a:path w="11812" h="3303">
                <a:moveTo>
                  <a:pt x="11589" y="8572"/>
                </a:moveTo>
                <a:cubicBezTo>
                  <a:pt x="11598" y="8600"/>
                  <a:pt x="11638" y="8629"/>
                  <a:pt x="11684" y="8604"/>
                </a:cubicBezTo>
                <a:cubicBezTo>
                  <a:pt x="11742" y="8572"/>
                  <a:pt x="11835" y="8553"/>
                  <a:pt x="11906" y="8541"/>
                </a:cubicBezTo>
                <a:cubicBezTo>
                  <a:pt x="12022" y="8522"/>
                  <a:pt x="12144" y="8528"/>
                  <a:pt x="12256" y="8509"/>
                </a:cubicBezTo>
                <a:cubicBezTo>
                  <a:pt x="12371" y="8490"/>
                  <a:pt x="12425" y="8509"/>
                  <a:pt x="12541" y="8509"/>
                </a:cubicBezTo>
                <a:cubicBezTo>
                  <a:pt x="12552" y="8509"/>
                  <a:pt x="12562" y="8509"/>
                  <a:pt x="12573" y="8509"/>
                </a:cubicBezTo>
              </a:path>
              <a:path w="11812" h="3303">
                <a:moveTo>
                  <a:pt x="14351" y="8350"/>
                </a:moveTo>
                <a:cubicBezTo>
                  <a:pt x="14416" y="8366"/>
                  <a:pt x="14432" y="8382"/>
                  <a:pt x="14510" y="8382"/>
                </a:cubicBezTo>
                <a:cubicBezTo>
                  <a:pt x="14616" y="8382"/>
                  <a:pt x="14692" y="8354"/>
                  <a:pt x="14796" y="8350"/>
                </a:cubicBezTo>
                <a:cubicBezTo>
                  <a:pt x="14986" y="8343"/>
                  <a:pt x="15252" y="8147"/>
                  <a:pt x="15335" y="8318"/>
                </a:cubicBezTo>
                <a:cubicBezTo>
                  <a:pt x="15335" y="8329"/>
                  <a:pt x="15335" y="8339"/>
                  <a:pt x="15335" y="8350"/>
                </a:cubicBezTo>
              </a:path>
              <a:path w="11812" h="3303">
                <a:moveTo>
                  <a:pt x="13748" y="5906"/>
                </a:moveTo>
                <a:cubicBezTo>
                  <a:pt x="13767" y="5840"/>
                  <a:pt x="13777" y="5858"/>
                  <a:pt x="13748" y="5810"/>
                </a:cubicBezTo>
                <a:cubicBezTo>
                  <a:pt x="13707" y="5742"/>
                  <a:pt x="13693" y="5723"/>
                  <a:pt x="13621" y="5715"/>
                </a:cubicBezTo>
                <a:cubicBezTo>
                  <a:pt x="13562" y="5708"/>
                  <a:pt x="13539" y="5715"/>
                  <a:pt x="13494" y="5747"/>
                </a:cubicBezTo>
                <a:cubicBezTo>
                  <a:pt x="13437" y="5788"/>
                  <a:pt x="13369" y="5881"/>
                  <a:pt x="13335" y="5937"/>
                </a:cubicBezTo>
                <a:cubicBezTo>
                  <a:pt x="13282" y="6025"/>
                  <a:pt x="13243" y="6122"/>
                  <a:pt x="13208" y="6223"/>
                </a:cubicBezTo>
                <a:cubicBezTo>
                  <a:pt x="13160" y="6359"/>
                  <a:pt x="13122" y="6467"/>
                  <a:pt x="13081" y="6604"/>
                </a:cubicBezTo>
                <a:cubicBezTo>
                  <a:pt x="13040" y="6741"/>
                  <a:pt x="12999" y="6877"/>
                  <a:pt x="12986" y="7017"/>
                </a:cubicBezTo>
                <a:cubicBezTo>
                  <a:pt x="12961" y="7291"/>
                  <a:pt x="12992" y="7573"/>
                  <a:pt x="13018" y="7842"/>
                </a:cubicBezTo>
                <a:cubicBezTo>
                  <a:pt x="13032" y="7982"/>
                  <a:pt x="13042" y="8120"/>
                  <a:pt x="13081" y="8255"/>
                </a:cubicBezTo>
                <a:cubicBezTo>
                  <a:pt x="13110" y="8357"/>
                  <a:pt x="13161" y="8498"/>
                  <a:pt x="13240" y="8572"/>
                </a:cubicBezTo>
                <a:cubicBezTo>
                  <a:pt x="13304" y="8632"/>
                  <a:pt x="13386" y="8640"/>
                  <a:pt x="13462" y="8604"/>
                </a:cubicBezTo>
                <a:cubicBezTo>
                  <a:pt x="13530" y="8572"/>
                  <a:pt x="13617" y="8480"/>
                  <a:pt x="13652" y="8414"/>
                </a:cubicBezTo>
                <a:cubicBezTo>
                  <a:pt x="13716" y="8291"/>
                  <a:pt x="13767" y="8166"/>
                  <a:pt x="13811" y="8033"/>
                </a:cubicBezTo>
                <a:cubicBezTo>
                  <a:pt x="13881" y="7824"/>
                  <a:pt x="13932" y="7617"/>
                  <a:pt x="13938" y="7398"/>
                </a:cubicBezTo>
                <a:cubicBezTo>
                  <a:pt x="13943" y="7222"/>
                  <a:pt x="13920" y="7061"/>
                  <a:pt x="13906" y="6890"/>
                </a:cubicBezTo>
                <a:cubicBezTo>
                  <a:pt x="13890" y="6695"/>
                  <a:pt x="13852" y="6503"/>
                  <a:pt x="13780" y="6318"/>
                </a:cubicBezTo>
                <a:cubicBezTo>
                  <a:pt x="13751" y="6243"/>
                  <a:pt x="13717" y="6169"/>
                  <a:pt x="13684" y="6096"/>
                </a:cubicBezTo>
              </a:path>
              <a:path w="11812" h="3303">
                <a:moveTo>
                  <a:pt x="16415" y="5683"/>
                </a:moveTo>
                <a:cubicBezTo>
                  <a:pt x="16382" y="5592"/>
                  <a:pt x="16386" y="5551"/>
                  <a:pt x="16288" y="5493"/>
                </a:cubicBezTo>
                <a:cubicBezTo>
                  <a:pt x="16217" y="5452"/>
                  <a:pt x="16115" y="5448"/>
                  <a:pt x="16034" y="5461"/>
                </a:cubicBezTo>
                <a:cubicBezTo>
                  <a:pt x="15936" y="5476"/>
                  <a:pt x="15860" y="5614"/>
                  <a:pt x="15812" y="5683"/>
                </a:cubicBezTo>
                <a:cubicBezTo>
                  <a:pt x="15708" y="5833"/>
                  <a:pt x="15666" y="5951"/>
                  <a:pt x="15621" y="6128"/>
                </a:cubicBezTo>
                <a:cubicBezTo>
                  <a:pt x="15560" y="6371"/>
                  <a:pt x="15482" y="6640"/>
                  <a:pt x="15462" y="6890"/>
                </a:cubicBezTo>
                <a:cubicBezTo>
                  <a:pt x="15444" y="7116"/>
                  <a:pt x="15477" y="7334"/>
                  <a:pt x="15494" y="7556"/>
                </a:cubicBezTo>
                <a:cubicBezTo>
                  <a:pt x="15509" y="7755"/>
                  <a:pt x="15556" y="7885"/>
                  <a:pt x="15621" y="8064"/>
                </a:cubicBezTo>
                <a:cubicBezTo>
                  <a:pt x="15672" y="8206"/>
                  <a:pt x="15713" y="8320"/>
                  <a:pt x="15843" y="8414"/>
                </a:cubicBezTo>
                <a:cubicBezTo>
                  <a:pt x="15944" y="8487"/>
                  <a:pt x="16024" y="8486"/>
                  <a:pt x="16129" y="8477"/>
                </a:cubicBezTo>
                <a:cubicBezTo>
                  <a:pt x="16292" y="8463"/>
                  <a:pt x="16382" y="8386"/>
                  <a:pt x="16478" y="8255"/>
                </a:cubicBezTo>
                <a:cubicBezTo>
                  <a:pt x="16585" y="8110"/>
                  <a:pt x="16687" y="7941"/>
                  <a:pt x="16764" y="7779"/>
                </a:cubicBezTo>
                <a:cubicBezTo>
                  <a:pt x="16863" y="7572"/>
                  <a:pt x="16881" y="7336"/>
                  <a:pt x="16923" y="7112"/>
                </a:cubicBezTo>
                <a:cubicBezTo>
                  <a:pt x="16966" y="6883"/>
                  <a:pt x="16942" y="6703"/>
                  <a:pt x="16891" y="6477"/>
                </a:cubicBezTo>
                <a:cubicBezTo>
                  <a:pt x="16857" y="6325"/>
                  <a:pt x="16790" y="6137"/>
                  <a:pt x="16669" y="6032"/>
                </a:cubicBezTo>
                <a:cubicBezTo>
                  <a:pt x="16562" y="5938"/>
                  <a:pt x="16485" y="5899"/>
                  <a:pt x="16351" y="5874"/>
                </a:cubicBezTo>
                <a:cubicBezTo>
                  <a:pt x="16330" y="5874"/>
                  <a:pt x="16309" y="5874"/>
                  <a:pt x="16288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6"/>
          <p:cNvSpPr/>
          <p:nvPr/>
        </p:nvSpPr>
        <p:spPr>
          <a:xfrm>
            <a:off x="3943440" y="3497400"/>
            <a:ext cx="652320" cy="480960"/>
          </a:xfrm>
          <a:custGeom>
            <a:avLst/>
            <a:gdLst/>
            <a:ahLst/>
            <a:rect l="l" t="t" r="r" b="b"/>
            <a:pathLst>
              <a:path w="1811" h="1334">
                <a:moveTo>
                  <a:pt x="10954" y="9716"/>
                </a:moveTo>
                <a:cubicBezTo>
                  <a:pt x="11008" y="9756"/>
                  <a:pt x="11041" y="9747"/>
                  <a:pt x="11112" y="9747"/>
                </a:cubicBezTo>
                <a:cubicBezTo>
                  <a:pt x="11247" y="9747"/>
                  <a:pt x="11446" y="9712"/>
                  <a:pt x="11557" y="9779"/>
                </a:cubicBezTo>
                <a:cubicBezTo>
                  <a:pt x="11557" y="9846"/>
                  <a:pt x="11542" y="9858"/>
                  <a:pt x="11494" y="9906"/>
                </a:cubicBezTo>
                <a:cubicBezTo>
                  <a:pt x="11442" y="9958"/>
                  <a:pt x="11349" y="9979"/>
                  <a:pt x="11303" y="10033"/>
                </a:cubicBezTo>
                <a:cubicBezTo>
                  <a:pt x="11241" y="10105"/>
                  <a:pt x="11200" y="10133"/>
                  <a:pt x="11112" y="10160"/>
                </a:cubicBezTo>
                <a:cubicBezTo>
                  <a:pt x="11057" y="10177"/>
                  <a:pt x="11069" y="10200"/>
                  <a:pt x="11049" y="10160"/>
                </a:cubicBezTo>
                <a:cubicBezTo>
                  <a:pt x="11168" y="10160"/>
                  <a:pt x="11290" y="10141"/>
                  <a:pt x="11398" y="10192"/>
                </a:cubicBezTo>
                <a:cubicBezTo>
                  <a:pt x="11508" y="10244"/>
                  <a:pt x="11535" y="10274"/>
                  <a:pt x="11589" y="10382"/>
                </a:cubicBezTo>
                <a:cubicBezTo>
                  <a:pt x="11628" y="10461"/>
                  <a:pt x="11678" y="10543"/>
                  <a:pt x="11652" y="10636"/>
                </a:cubicBezTo>
                <a:cubicBezTo>
                  <a:pt x="11626" y="10731"/>
                  <a:pt x="11558" y="10820"/>
                  <a:pt x="11494" y="10890"/>
                </a:cubicBezTo>
                <a:cubicBezTo>
                  <a:pt x="11422" y="10969"/>
                  <a:pt x="11378" y="11011"/>
                  <a:pt x="11271" y="11017"/>
                </a:cubicBezTo>
                <a:cubicBezTo>
                  <a:pt x="11175" y="11022"/>
                  <a:pt x="11160" y="10986"/>
                  <a:pt x="11081" y="10954"/>
                </a:cubicBezTo>
                <a:cubicBezTo>
                  <a:pt x="11019" y="10929"/>
                  <a:pt x="10994" y="10906"/>
                  <a:pt x="10986" y="10827"/>
                </a:cubicBezTo>
                <a:cubicBezTo>
                  <a:pt x="10986" y="10785"/>
                  <a:pt x="10986" y="10764"/>
                  <a:pt x="10986" y="10732"/>
                </a:cubicBezTo>
              </a:path>
              <a:path w="1811" h="1334">
                <a:moveTo>
                  <a:pt x="11874" y="10096"/>
                </a:moveTo>
                <a:cubicBezTo>
                  <a:pt x="11910" y="10156"/>
                  <a:pt x="11935" y="10214"/>
                  <a:pt x="11938" y="10287"/>
                </a:cubicBezTo>
                <a:cubicBezTo>
                  <a:pt x="11947" y="10472"/>
                  <a:pt x="11940" y="10651"/>
                  <a:pt x="11970" y="10827"/>
                </a:cubicBezTo>
                <a:cubicBezTo>
                  <a:pt x="11970" y="10880"/>
                  <a:pt x="11970" y="10890"/>
                  <a:pt x="11970" y="10922"/>
                </a:cubicBezTo>
                <a:cubicBezTo>
                  <a:pt x="11970" y="10798"/>
                  <a:pt x="11985" y="10692"/>
                  <a:pt x="12002" y="10573"/>
                </a:cubicBezTo>
                <a:cubicBezTo>
                  <a:pt x="12017" y="10468"/>
                  <a:pt x="12001" y="10356"/>
                  <a:pt x="12033" y="10255"/>
                </a:cubicBezTo>
                <a:cubicBezTo>
                  <a:pt x="12058" y="10178"/>
                  <a:pt x="12110" y="10057"/>
                  <a:pt x="12192" y="10033"/>
                </a:cubicBezTo>
                <a:cubicBezTo>
                  <a:pt x="12271" y="10010"/>
                  <a:pt x="12376" y="10035"/>
                  <a:pt x="12446" y="10065"/>
                </a:cubicBezTo>
                <a:cubicBezTo>
                  <a:pt x="12559" y="10114"/>
                  <a:pt x="12609" y="10216"/>
                  <a:pt x="12668" y="10319"/>
                </a:cubicBezTo>
                <a:cubicBezTo>
                  <a:pt x="12729" y="10425"/>
                  <a:pt x="12732" y="10517"/>
                  <a:pt x="12732" y="10636"/>
                </a:cubicBezTo>
                <a:cubicBezTo>
                  <a:pt x="12732" y="10740"/>
                  <a:pt x="12700" y="10817"/>
                  <a:pt x="12700" y="10922"/>
                </a:cubicBezTo>
                <a:cubicBezTo>
                  <a:pt x="12700" y="10990"/>
                  <a:pt x="12715" y="11000"/>
                  <a:pt x="1276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7"/>
          <p:cNvSpPr/>
          <p:nvPr/>
        </p:nvSpPr>
        <p:spPr>
          <a:xfrm>
            <a:off x="4811760" y="3314880"/>
            <a:ext cx="2000160" cy="606240"/>
          </a:xfrm>
          <a:custGeom>
            <a:avLst/>
            <a:gdLst/>
            <a:ahLst/>
            <a:rect l="l" t="t" r="r" b="b"/>
            <a:pathLst>
              <a:path w="5557" h="1683">
                <a:moveTo>
                  <a:pt x="13621" y="10001"/>
                </a:moveTo>
                <a:cubicBezTo>
                  <a:pt x="13621" y="10125"/>
                  <a:pt x="13606" y="10230"/>
                  <a:pt x="13589" y="10350"/>
                </a:cubicBezTo>
                <a:cubicBezTo>
                  <a:pt x="13569" y="10491"/>
                  <a:pt x="13589" y="10652"/>
                  <a:pt x="13589" y="10795"/>
                </a:cubicBezTo>
              </a:path>
              <a:path w="5557" h="1683">
                <a:moveTo>
                  <a:pt x="13367" y="10382"/>
                </a:moveTo>
                <a:cubicBezTo>
                  <a:pt x="13568" y="10382"/>
                  <a:pt x="13769" y="10382"/>
                  <a:pt x="13970" y="10382"/>
                </a:cubicBezTo>
              </a:path>
              <a:path w="5557" h="1683">
                <a:moveTo>
                  <a:pt x="14351" y="9557"/>
                </a:moveTo>
                <a:cubicBezTo>
                  <a:pt x="14359" y="9505"/>
                  <a:pt x="14361" y="9443"/>
                  <a:pt x="14383" y="9398"/>
                </a:cubicBezTo>
                <a:cubicBezTo>
                  <a:pt x="14387" y="9390"/>
                  <a:pt x="14453" y="9328"/>
                  <a:pt x="14478" y="9303"/>
                </a:cubicBezTo>
                <a:cubicBezTo>
                  <a:pt x="14535" y="9247"/>
                  <a:pt x="14592" y="9212"/>
                  <a:pt x="14668" y="9208"/>
                </a:cubicBezTo>
                <a:cubicBezTo>
                  <a:pt x="14720" y="9205"/>
                  <a:pt x="14831" y="9214"/>
                  <a:pt x="14859" y="9271"/>
                </a:cubicBezTo>
                <a:cubicBezTo>
                  <a:pt x="14905" y="9362"/>
                  <a:pt x="14869" y="9393"/>
                  <a:pt x="14859" y="9493"/>
                </a:cubicBezTo>
                <a:cubicBezTo>
                  <a:pt x="14848" y="9603"/>
                  <a:pt x="14799" y="9637"/>
                  <a:pt x="14732" y="9716"/>
                </a:cubicBezTo>
                <a:cubicBezTo>
                  <a:pt x="14689" y="9767"/>
                  <a:pt x="14617" y="9781"/>
                  <a:pt x="14573" y="9811"/>
                </a:cubicBezTo>
                <a:cubicBezTo>
                  <a:pt x="14573" y="9842"/>
                  <a:pt x="14573" y="9852"/>
                  <a:pt x="14542" y="9842"/>
                </a:cubicBezTo>
                <a:cubicBezTo>
                  <a:pt x="14556" y="9831"/>
                  <a:pt x="14606" y="9785"/>
                  <a:pt x="14637" y="9779"/>
                </a:cubicBezTo>
                <a:cubicBezTo>
                  <a:pt x="14688" y="9768"/>
                  <a:pt x="14786" y="9791"/>
                  <a:pt x="14827" y="9811"/>
                </a:cubicBezTo>
                <a:cubicBezTo>
                  <a:pt x="14913" y="9853"/>
                  <a:pt x="14944" y="9917"/>
                  <a:pt x="14986" y="10001"/>
                </a:cubicBezTo>
                <a:cubicBezTo>
                  <a:pt x="15034" y="10096"/>
                  <a:pt x="15046" y="10212"/>
                  <a:pt x="15050" y="10319"/>
                </a:cubicBezTo>
                <a:cubicBezTo>
                  <a:pt x="15054" y="10434"/>
                  <a:pt x="15003" y="10533"/>
                  <a:pt x="14954" y="10636"/>
                </a:cubicBezTo>
                <a:cubicBezTo>
                  <a:pt x="14902" y="10746"/>
                  <a:pt x="14873" y="10773"/>
                  <a:pt x="14764" y="10827"/>
                </a:cubicBezTo>
                <a:cubicBezTo>
                  <a:pt x="14679" y="10869"/>
                  <a:pt x="14626" y="10859"/>
                  <a:pt x="14542" y="10827"/>
                </a:cubicBezTo>
                <a:cubicBezTo>
                  <a:pt x="14437" y="10787"/>
                  <a:pt x="14412" y="10750"/>
                  <a:pt x="14351" y="10668"/>
                </a:cubicBezTo>
                <a:cubicBezTo>
                  <a:pt x="14305" y="10607"/>
                  <a:pt x="14329" y="10623"/>
                  <a:pt x="14319" y="10541"/>
                </a:cubicBezTo>
              </a:path>
              <a:path w="5557" h="1683">
                <a:moveTo>
                  <a:pt x="15526" y="10001"/>
                </a:moveTo>
                <a:cubicBezTo>
                  <a:pt x="15590" y="9985"/>
                  <a:pt x="15608" y="9970"/>
                  <a:pt x="15684" y="9970"/>
                </a:cubicBezTo>
                <a:cubicBezTo>
                  <a:pt x="15773" y="9970"/>
                  <a:pt x="15844" y="9938"/>
                  <a:pt x="15938" y="9938"/>
                </a:cubicBezTo>
                <a:cubicBezTo>
                  <a:pt x="16002" y="9938"/>
                  <a:pt x="16023" y="9938"/>
                  <a:pt x="16066" y="9938"/>
                </a:cubicBezTo>
              </a:path>
              <a:path w="5557" h="1683">
                <a:moveTo>
                  <a:pt x="15558" y="10350"/>
                </a:moveTo>
                <a:cubicBezTo>
                  <a:pt x="15574" y="10398"/>
                  <a:pt x="15596" y="10382"/>
                  <a:pt x="15653" y="10382"/>
                </a:cubicBezTo>
                <a:cubicBezTo>
                  <a:pt x="15742" y="10382"/>
                  <a:pt x="15813" y="10350"/>
                  <a:pt x="15907" y="10350"/>
                </a:cubicBezTo>
                <a:cubicBezTo>
                  <a:pt x="15999" y="10350"/>
                  <a:pt x="16086" y="10363"/>
                  <a:pt x="16161" y="10319"/>
                </a:cubicBezTo>
              </a:path>
              <a:path w="5557" h="1683">
                <a:moveTo>
                  <a:pt x="16669" y="9334"/>
                </a:moveTo>
                <a:cubicBezTo>
                  <a:pt x="16693" y="9407"/>
                  <a:pt x="16697" y="9443"/>
                  <a:pt x="16669" y="9557"/>
                </a:cubicBezTo>
                <a:cubicBezTo>
                  <a:pt x="16627" y="9726"/>
                  <a:pt x="16629" y="9895"/>
                  <a:pt x="16605" y="10065"/>
                </a:cubicBezTo>
                <a:cubicBezTo>
                  <a:pt x="16580" y="10239"/>
                  <a:pt x="16574" y="10396"/>
                  <a:pt x="16574" y="10573"/>
                </a:cubicBezTo>
                <a:cubicBezTo>
                  <a:pt x="16574" y="10627"/>
                  <a:pt x="16574" y="10912"/>
                  <a:pt x="16574" y="10858"/>
                </a:cubicBezTo>
              </a:path>
              <a:path w="5557" h="1683">
                <a:moveTo>
                  <a:pt x="17082" y="9716"/>
                </a:moveTo>
                <a:cubicBezTo>
                  <a:pt x="17093" y="9595"/>
                  <a:pt x="17124" y="9596"/>
                  <a:pt x="17177" y="9493"/>
                </a:cubicBezTo>
                <a:cubicBezTo>
                  <a:pt x="17217" y="9416"/>
                  <a:pt x="17226" y="9353"/>
                  <a:pt x="17304" y="9303"/>
                </a:cubicBezTo>
                <a:cubicBezTo>
                  <a:pt x="17330" y="9286"/>
                  <a:pt x="17392" y="9258"/>
                  <a:pt x="17431" y="9271"/>
                </a:cubicBezTo>
                <a:cubicBezTo>
                  <a:pt x="17473" y="9285"/>
                  <a:pt x="17520" y="9361"/>
                  <a:pt x="17526" y="9398"/>
                </a:cubicBezTo>
                <a:cubicBezTo>
                  <a:pt x="17541" y="9502"/>
                  <a:pt x="17499" y="9649"/>
                  <a:pt x="17462" y="9747"/>
                </a:cubicBezTo>
                <a:cubicBezTo>
                  <a:pt x="17436" y="9817"/>
                  <a:pt x="17366" y="9897"/>
                  <a:pt x="17304" y="9938"/>
                </a:cubicBezTo>
                <a:cubicBezTo>
                  <a:pt x="17282" y="9953"/>
                  <a:pt x="17233" y="9958"/>
                  <a:pt x="17208" y="9970"/>
                </a:cubicBezTo>
                <a:cubicBezTo>
                  <a:pt x="17219" y="9959"/>
                  <a:pt x="17266" y="9882"/>
                  <a:pt x="17304" y="9874"/>
                </a:cubicBezTo>
                <a:cubicBezTo>
                  <a:pt x="17370" y="9860"/>
                  <a:pt x="17437" y="9873"/>
                  <a:pt x="17494" y="9906"/>
                </a:cubicBezTo>
                <a:cubicBezTo>
                  <a:pt x="17563" y="9946"/>
                  <a:pt x="17621" y="9988"/>
                  <a:pt x="17653" y="10065"/>
                </a:cubicBezTo>
                <a:cubicBezTo>
                  <a:pt x="17692" y="10159"/>
                  <a:pt x="17712" y="10282"/>
                  <a:pt x="17716" y="10382"/>
                </a:cubicBezTo>
                <a:cubicBezTo>
                  <a:pt x="17721" y="10507"/>
                  <a:pt x="17675" y="10592"/>
                  <a:pt x="17621" y="10700"/>
                </a:cubicBezTo>
                <a:cubicBezTo>
                  <a:pt x="17590" y="10763"/>
                  <a:pt x="17514" y="10861"/>
                  <a:pt x="17431" y="10858"/>
                </a:cubicBezTo>
                <a:cubicBezTo>
                  <a:pt x="17363" y="10855"/>
                  <a:pt x="17265" y="10802"/>
                  <a:pt x="17208" y="10763"/>
                </a:cubicBezTo>
                <a:cubicBezTo>
                  <a:pt x="17138" y="10715"/>
                  <a:pt x="17119" y="10653"/>
                  <a:pt x="17113" y="10573"/>
                </a:cubicBezTo>
                <a:cubicBezTo>
                  <a:pt x="17113" y="10562"/>
                  <a:pt x="17113" y="10552"/>
                  <a:pt x="17113" y="10541"/>
                </a:cubicBezTo>
              </a:path>
              <a:path w="5557" h="1683">
                <a:moveTo>
                  <a:pt x="18034" y="9588"/>
                </a:moveTo>
                <a:cubicBezTo>
                  <a:pt x="18057" y="9531"/>
                  <a:pt x="18073" y="9449"/>
                  <a:pt x="18098" y="9398"/>
                </a:cubicBezTo>
                <a:cubicBezTo>
                  <a:pt x="18131" y="9330"/>
                  <a:pt x="18233" y="9268"/>
                  <a:pt x="18288" y="9239"/>
                </a:cubicBezTo>
                <a:cubicBezTo>
                  <a:pt x="18384" y="9189"/>
                  <a:pt x="18392" y="9237"/>
                  <a:pt x="18447" y="9303"/>
                </a:cubicBezTo>
                <a:cubicBezTo>
                  <a:pt x="18503" y="9371"/>
                  <a:pt x="18493" y="9500"/>
                  <a:pt x="18478" y="9588"/>
                </a:cubicBezTo>
                <a:cubicBezTo>
                  <a:pt x="18455" y="9722"/>
                  <a:pt x="18391" y="9870"/>
                  <a:pt x="18352" y="10001"/>
                </a:cubicBezTo>
                <a:cubicBezTo>
                  <a:pt x="18312" y="10135"/>
                  <a:pt x="18251" y="10235"/>
                  <a:pt x="18193" y="10350"/>
                </a:cubicBezTo>
                <a:cubicBezTo>
                  <a:pt x="18148" y="10440"/>
                  <a:pt x="18123" y="10512"/>
                  <a:pt x="18066" y="10573"/>
                </a:cubicBezTo>
                <a:cubicBezTo>
                  <a:pt x="18034" y="10604"/>
                  <a:pt x="18023" y="10615"/>
                  <a:pt x="18002" y="10636"/>
                </a:cubicBezTo>
                <a:cubicBezTo>
                  <a:pt x="18116" y="10636"/>
                  <a:pt x="18222" y="10653"/>
                  <a:pt x="18320" y="10668"/>
                </a:cubicBezTo>
                <a:cubicBezTo>
                  <a:pt x="18391" y="10679"/>
                  <a:pt x="18441" y="10697"/>
                  <a:pt x="18510" y="10700"/>
                </a:cubicBezTo>
                <a:cubicBezTo>
                  <a:pt x="18586" y="10703"/>
                  <a:pt x="18611" y="10698"/>
                  <a:pt x="18669" y="10668"/>
                </a:cubicBezTo>
                <a:cubicBezTo>
                  <a:pt x="18751" y="10627"/>
                  <a:pt x="18793" y="10564"/>
                  <a:pt x="18860" y="10509"/>
                </a:cubicBezTo>
                <a:cubicBezTo>
                  <a:pt x="18891" y="10478"/>
                  <a:pt x="18902" y="10467"/>
                  <a:pt x="18923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8"/>
          <p:cNvSpPr/>
          <p:nvPr/>
        </p:nvSpPr>
        <p:spPr>
          <a:xfrm>
            <a:off x="7532640" y="3224160"/>
            <a:ext cx="1428840" cy="833400"/>
          </a:xfrm>
          <a:custGeom>
            <a:avLst/>
            <a:gdLst/>
            <a:ahLst/>
            <a:rect l="l" t="t" r="r" b="b"/>
            <a:pathLst>
              <a:path w="3970" h="2318">
                <a:moveTo>
                  <a:pt x="21050" y="9366"/>
                </a:moveTo>
                <a:cubicBezTo>
                  <a:pt x="21050" y="9511"/>
                  <a:pt x="21038" y="9639"/>
                  <a:pt x="21018" y="9779"/>
                </a:cubicBezTo>
                <a:cubicBezTo>
                  <a:pt x="21004" y="9876"/>
                  <a:pt x="20970" y="9970"/>
                  <a:pt x="20955" y="10065"/>
                </a:cubicBezTo>
                <a:cubicBezTo>
                  <a:pt x="20942" y="10148"/>
                  <a:pt x="20970" y="10130"/>
                  <a:pt x="20923" y="10192"/>
                </a:cubicBezTo>
                <a:cubicBezTo>
                  <a:pt x="20962" y="10179"/>
                  <a:pt x="20976" y="10138"/>
                  <a:pt x="21018" y="10096"/>
                </a:cubicBezTo>
                <a:cubicBezTo>
                  <a:pt x="21060" y="10054"/>
                  <a:pt x="21152" y="10038"/>
                  <a:pt x="21209" y="10033"/>
                </a:cubicBezTo>
                <a:cubicBezTo>
                  <a:pt x="21280" y="10027"/>
                  <a:pt x="21411" y="10062"/>
                  <a:pt x="21431" y="10001"/>
                </a:cubicBezTo>
              </a:path>
              <a:path w="3970" h="2318">
                <a:moveTo>
                  <a:pt x="21463" y="9303"/>
                </a:moveTo>
                <a:cubicBezTo>
                  <a:pt x="21463" y="9624"/>
                  <a:pt x="21468" y="9939"/>
                  <a:pt x="21495" y="10255"/>
                </a:cubicBezTo>
                <a:cubicBezTo>
                  <a:pt x="21513" y="10464"/>
                  <a:pt x="21495" y="10680"/>
                  <a:pt x="21495" y="10890"/>
                </a:cubicBezTo>
              </a:path>
              <a:path w="3970" h="2318">
                <a:moveTo>
                  <a:pt x="21685" y="9747"/>
                </a:moveTo>
                <a:cubicBezTo>
                  <a:pt x="21685" y="9652"/>
                  <a:pt x="21686" y="9582"/>
                  <a:pt x="21717" y="9493"/>
                </a:cubicBezTo>
                <a:cubicBezTo>
                  <a:pt x="21758" y="9377"/>
                  <a:pt x="21769" y="9361"/>
                  <a:pt x="21844" y="9271"/>
                </a:cubicBezTo>
                <a:cubicBezTo>
                  <a:pt x="21881" y="9227"/>
                  <a:pt x="21919" y="9218"/>
                  <a:pt x="21971" y="9208"/>
                </a:cubicBezTo>
                <a:cubicBezTo>
                  <a:pt x="21986" y="9265"/>
                  <a:pt x="22019" y="9294"/>
                  <a:pt x="22003" y="9366"/>
                </a:cubicBezTo>
                <a:cubicBezTo>
                  <a:pt x="21975" y="9488"/>
                  <a:pt x="21963" y="9600"/>
                  <a:pt x="21908" y="9716"/>
                </a:cubicBezTo>
                <a:cubicBezTo>
                  <a:pt x="21872" y="9792"/>
                  <a:pt x="21839" y="9847"/>
                  <a:pt x="21780" y="9906"/>
                </a:cubicBezTo>
                <a:cubicBezTo>
                  <a:pt x="21780" y="9838"/>
                  <a:pt x="21795" y="9828"/>
                  <a:pt x="21844" y="9779"/>
                </a:cubicBezTo>
                <a:cubicBezTo>
                  <a:pt x="21892" y="9731"/>
                  <a:pt x="21904" y="9716"/>
                  <a:pt x="21971" y="9716"/>
                </a:cubicBezTo>
                <a:cubicBezTo>
                  <a:pt x="22013" y="9716"/>
                  <a:pt x="22042" y="9798"/>
                  <a:pt x="22066" y="9842"/>
                </a:cubicBezTo>
                <a:cubicBezTo>
                  <a:pt x="22109" y="9924"/>
                  <a:pt x="22126" y="10036"/>
                  <a:pt x="22130" y="10128"/>
                </a:cubicBezTo>
                <a:cubicBezTo>
                  <a:pt x="22135" y="10238"/>
                  <a:pt x="22106" y="10375"/>
                  <a:pt x="22066" y="10478"/>
                </a:cubicBezTo>
                <a:cubicBezTo>
                  <a:pt x="22029" y="10574"/>
                  <a:pt x="21973" y="10723"/>
                  <a:pt x="21876" y="10763"/>
                </a:cubicBezTo>
                <a:cubicBezTo>
                  <a:pt x="21822" y="10785"/>
                  <a:pt x="21725" y="10767"/>
                  <a:pt x="21685" y="10732"/>
                </a:cubicBezTo>
                <a:cubicBezTo>
                  <a:pt x="21657" y="10703"/>
                  <a:pt x="21647" y="10697"/>
                  <a:pt x="21654" y="10668"/>
                </a:cubicBezTo>
              </a:path>
              <a:path w="3970" h="2318">
                <a:moveTo>
                  <a:pt x="22384" y="10446"/>
                </a:moveTo>
                <a:cubicBezTo>
                  <a:pt x="22384" y="10551"/>
                  <a:pt x="22404" y="10632"/>
                  <a:pt x="22416" y="10732"/>
                </a:cubicBezTo>
                <a:cubicBezTo>
                  <a:pt x="22432" y="10871"/>
                  <a:pt x="22425" y="11010"/>
                  <a:pt x="22447" y="11144"/>
                </a:cubicBezTo>
                <a:cubicBezTo>
                  <a:pt x="22458" y="11211"/>
                  <a:pt x="22450" y="11225"/>
                  <a:pt x="22416" y="11271"/>
                </a:cubicBezTo>
              </a:path>
              <a:path w="3970" h="2318">
                <a:moveTo>
                  <a:pt x="22511" y="9176"/>
                </a:moveTo>
                <a:cubicBezTo>
                  <a:pt x="22511" y="9381"/>
                  <a:pt x="22512" y="9584"/>
                  <a:pt x="22479" y="9779"/>
                </a:cubicBezTo>
                <a:cubicBezTo>
                  <a:pt x="22464" y="9868"/>
                  <a:pt x="22479" y="9974"/>
                  <a:pt x="22479" y="10065"/>
                </a:cubicBezTo>
                <a:cubicBezTo>
                  <a:pt x="22493" y="10007"/>
                  <a:pt x="22510" y="9994"/>
                  <a:pt x="22542" y="9970"/>
                </a:cubicBezTo>
                <a:cubicBezTo>
                  <a:pt x="22580" y="9941"/>
                  <a:pt x="22646" y="9915"/>
                  <a:pt x="22701" y="9938"/>
                </a:cubicBezTo>
                <a:cubicBezTo>
                  <a:pt x="22747" y="9957"/>
                  <a:pt x="22818" y="9980"/>
                  <a:pt x="22860" y="10001"/>
                </a:cubicBezTo>
                <a:cubicBezTo>
                  <a:pt x="22920" y="10031"/>
                  <a:pt x="22926" y="10054"/>
                  <a:pt x="22987" y="10001"/>
                </a:cubicBezTo>
                <a:cubicBezTo>
                  <a:pt x="23024" y="9965"/>
                  <a:pt x="23034" y="9949"/>
                  <a:pt x="23019" y="9906"/>
                </a:cubicBezTo>
              </a:path>
              <a:path w="3970" h="2318">
                <a:moveTo>
                  <a:pt x="22892" y="9144"/>
                </a:moveTo>
                <a:cubicBezTo>
                  <a:pt x="22892" y="9268"/>
                  <a:pt x="22914" y="9373"/>
                  <a:pt x="22924" y="9493"/>
                </a:cubicBezTo>
                <a:cubicBezTo>
                  <a:pt x="22942" y="9707"/>
                  <a:pt x="23001" y="9915"/>
                  <a:pt x="23019" y="10128"/>
                </a:cubicBezTo>
                <a:cubicBezTo>
                  <a:pt x="23031" y="10266"/>
                  <a:pt x="23045" y="10405"/>
                  <a:pt x="23050" y="10541"/>
                </a:cubicBezTo>
                <a:cubicBezTo>
                  <a:pt x="23052" y="10594"/>
                  <a:pt x="23050" y="10647"/>
                  <a:pt x="23050" y="10700"/>
                </a:cubicBezTo>
              </a:path>
              <a:path w="3970" h="2318">
                <a:moveTo>
                  <a:pt x="23178" y="9176"/>
                </a:moveTo>
                <a:cubicBezTo>
                  <a:pt x="23178" y="9404"/>
                  <a:pt x="23208" y="9669"/>
                  <a:pt x="23146" y="9874"/>
                </a:cubicBezTo>
                <a:cubicBezTo>
                  <a:pt x="23146" y="9906"/>
                  <a:pt x="23146" y="9917"/>
                  <a:pt x="23146" y="9938"/>
                </a:cubicBezTo>
                <a:cubicBezTo>
                  <a:pt x="23185" y="9925"/>
                  <a:pt x="23199" y="9884"/>
                  <a:pt x="23241" y="9842"/>
                </a:cubicBezTo>
                <a:cubicBezTo>
                  <a:pt x="23271" y="9813"/>
                  <a:pt x="23357" y="9788"/>
                  <a:pt x="23400" y="9811"/>
                </a:cubicBezTo>
                <a:cubicBezTo>
                  <a:pt x="23448" y="9837"/>
                  <a:pt x="23483" y="9841"/>
                  <a:pt x="23527" y="9874"/>
                </a:cubicBezTo>
                <a:cubicBezTo>
                  <a:pt x="23566" y="9861"/>
                  <a:pt x="23577" y="9850"/>
                  <a:pt x="23590" y="9811"/>
                </a:cubicBezTo>
              </a:path>
              <a:path w="3970" h="2318">
                <a:moveTo>
                  <a:pt x="23432" y="8954"/>
                </a:moveTo>
                <a:cubicBezTo>
                  <a:pt x="23432" y="9075"/>
                  <a:pt x="23451" y="9187"/>
                  <a:pt x="23463" y="9303"/>
                </a:cubicBezTo>
                <a:cubicBezTo>
                  <a:pt x="23480" y="9469"/>
                  <a:pt x="23496" y="9648"/>
                  <a:pt x="23527" y="9811"/>
                </a:cubicBezTo>
                <a:cubicBezTo>
                  <a:pt x="23553" y="9948"/>
                  <a:pt x="23565" y="10089"/>
                  <a:pt x="23590" y="10224"/>
                </a:cubicBezTo>
                <a:cubicBezTo>
                  <a:pt x="23611" y="10335"/>
                  <a:pt x="23622" y="10427"/>
                  <a:pt x="23622" y="10541"/>
                </a:cubicBezTo>
                <a:cubicBezTo>
                  <a:pt x="23622" y="10552"/>
                  <a:pt x="23622" y="10562"/>
                  <a:pt x="23622" y="10573"/>
                </a:cubicBezTo>
              </a:path>
              <a:path w="3970" h="2318">
                <a:moveTo>
                  <a:pt x="23781" y="10319"/>
                </a:moveTo>
                <a:cubicBezTo>
                  <a:pt x="23781" y="10423"/>
                  <a:pt x="23808" y="10506"/>
                  <a:pt x="23812" y="10604"/>
                </a:cubicBezTo>
                <a:cubicBezTo>
                  <a:pt x="23816" y="10710"/>
                  <a:pt x="23831" y="10789"/>
                  <a:pt x="23844" y="10890"/>
                </a:cubicBezTo>
              </a:path>
              <a:path w="3970" h="2318">
                <a:moveTo>
                  <a:pt x="23908" y="9080"/>
                </a:moveTo>
                <a:cubicBezTo>
                  <a:pt x="23908" y="9225"/>
                  <a:pt x="23922" y="9351"/>
                  <a:pt x="23940" y="9493"/>
                </a:cubicBezTo>
                <a:cubicBezTo>
                  <a:pt x="23955" y="9616"/>
                  <a:pt x="23944" y="9724"/>
                  <a:pt x="23971" y="9842"/>
                </a:cubicBezTo>
                <a:cubicBezTo>
                  <a:pt x="23971" y="9874"/>
                  <a:pt x="23971" y="9885"/>
                  <a:pt x="23971" y="9906"/>
                </a:cubicBezTo>
                <a:cubicBezTo>
                  <a:pt x="24044" y="9906"/>
                  <a:pt x="24071" y="9918"/>
                  <a:pt x="24130" y="9938"/>
                </a:cubicBezTo>
                <a:cubicBezTo>
                  <a:pt x="24175" y="9953"/>
                  <a:pt x="24245" y="9965"/>
                  <a:pt x="24289" y="9970"/>
                </a:cubicBezTo>
                <a:cubicBezTo>
                  <a:pt x="24355" y="9977"/>
                  <a:pt x="24359" y="9950"/>
                  <a:pt x="24384" y="9938"/>
                </a:cubicBezTo>
                <a:cubicBezTo>
                  <a:pt x="24426" y="9917"/>
                  <a:pt x="24416" y="9933"/>
                  <a:pt x="24416" y="9874"/>
                </a:cubicBezTo>
              </a:path>
              <a:path w="3970" h="2318">
                <a:moveTo>
                  <a:pt x="24257" y="8985"/>
                </a:moveTo>
                <a:cubicBezTo>
                  <a:pt x="24257" y="9149"/>
                  <a:pt x="24275" y="9302"/>
                  <a:pt x="24289" y="9462"/>
                </a:cubicBezTo>
                <a:cubicBezTo>
                  <a:pt x="24303" y="9622"/>
                  <a:pt x="24338" y="9779"/>
                  <a:pt x="24352" y="9938"/>
                </a:cubicBezTo>
                <a:cubicBezTo>
                  <a:pt x="24374" y="10189"/>
                  <a:pt x="24358" y="10461"/>
                  <a:pt x="24320" y="10700"/>
                </a:cubicBezTo>
                <a:cubicBezTo>
                  <a:pt x="24320" y="10721"/>
                  <a:pt x="24320" y="10742"/>
                  <a:pt x="24320" y="10763"/>
                </a:cubicBezTo>
              </a:path>
              <a:path w="3970" h="2318">
                <a:moveTo>
                  <a:pt x="24828" y="8985"/>
                </a:moveTo>
                <a:cubicBezTo>
                  <a:pt x="24798" y="8993"/>
                  <a:pt x="24729" y="9002"/>
                  <a:pt x="24702" y="9017"/>
                </a:cubicBezTo>
                <a:cubicBezTo>
                  <a:pt x="24661" y="9040"/>
                  <a:pt x="24604" y="9013"/>
                  <a:pt x="24574" y="9049"/>
                </a:cubicBezTo>
                <a:cubicBezTo>
                  <a:pt x="24545" y="9084"/>
                  <a:pt x="24546" y="9080"/>
                  <a:pt x="24479" y="9080"/>
                </a:cubicBezTo>
                <a:cubicBezTo>
                  <a:pt x="24479" y="9176"/>
                  <a:pt x="24496" y="9245"/>
                  <a:pt x="24511" y="9334"/>
                </a:cubicBezTo>
                <a:cubicBezTo>
                  <a:pt x="24530" y="9447"/>
                  <a:pt x="24495" y="9550"/>
                  <a:pt x="24479" y="9652"/>
                </a:cubicBezTo>
                <a:cubicBezTo>
                  <a:pt x="24471" y="9702"/>
                  <a:pt x="24479" y="9760"/>
                  <a:pt x="24479" y="9811"/>
                </a:cubicBezTo>
                <a:cubicBezTo>
                  <a:pt x="24531" y="9759"/>
                  <a:pt x="24598" y="9660"/>
                  <a:pt x="24670" y="9652"/>
                </a:cubicBezTo>
                <a:cubicBezTo>
                  <a:pt x="24732" y="9645"/>
                  <a:pt x="24784" y="9644"/>
                  <a:pt x="24828" y="9684"/>
                </a:cubicBezTo>
                <a:cubicBezTo>
                  <a:pt x="24882" y="9732"/>
                  <a:pt x="24889" y="9837"/>
                  <a:pt x="24892" y="9906"/>
                </a:cubicBezTo>
                <a:cubicBezTo>
                  <a:pt x="24897" y="10013"/>
                  <a:pt x="24885" y="10123"/>
                  <a:pt x="24860" y="10224"/>
                </a:cubicBezTo>
                <a:cubicBezTo>
                  <a:pt x="24828" y="10352"/>
                  <a:pt x="24796" y="10375"/>
                  <a:pt x="24702" y="10446"/>
                </a:cubicBezTo>
                <a:cubicBezTo>
                  <a:pt x="24621" y="10507"/>
                  <a:pt x="24659" y="10506"/>
                  <a:pt x="24574" y="10478"/>
                </a:cubicBezTo>
                <a:cubicBezTo>
                  <a:pt x="24531" y="10464"/>
                  <a:pt x="24539" y="10429"/>
                  <a:pt x="24511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9"/>
          <p:cNvSpPr/>
          <p:nvPr/>
        </p:nvSpPr>
        <p:spPr>
          <a:xfrm>
            <a:off x="4686480" y="3943440"/>
            <a:ext cx="1896840" cy="1828800"/>
          </a:xfrm>
          <a:custGeom>
            <a:avLst/>
            <a:gdLst/>
            <a:ahLst/>
            <a:rect l="l" t="t" r="r" b="b"/>
            <a:pathLst>
              <a:path w="5271" h="5081">
                <a:moveTo>
                  <a:pt x="13652" y="11462"/>
                </a:moveTo>
                <a:cubicBezTo>
                  <a:pt x="13642" y="11473"/>
                  <a:pt x="13631" y="11483"/>
                  <a:pt x="13621" y="11494"/>
                </a:cubicBezTo>
                <a:cubicBezTo>
                  <a:pt x="13637" y="11446"/>
                  <a:pt x="13659" y="11462"/>
                  <a:pt x="13716" y="11462"/>
                </a:cubicBezTo>
                <a:cubicBezTo>
                  <a:pt x="13777" y="11462"/>
                  <a:pt x="13851" y="11449"/>
                  <a:pt x="13906" y="11430"/>
                </a:cubicBezTo>
                <a:cubicBezTo>
                  <a:pt x="13927" y="11419"/>
                  <a:pt x="13949" y="11409"/>
                  <a:pt x="13970" y="11398"/>
                </a:cubicBezTo>
              </a:path>
              <a:path w="5271" h="5081">
                <a:moveTo>
                  <a:pt x="14414" y="11398"/>
                </a:moveTo>
                <a:cubicBezTo>
                  <a:pt x="14461" y="11386"/>
                  <a:pt x="14504" y="11369"/>
                  <a:pt x="14542" y="11335"/>
                </a:cubicBezTo>
                <a:cubicBezTo>
                  <a:pt x="14604" y="11280"/>
                  <a:pt x="14650" y="11236"/>
                  <a:pt x="14700" y="11176"/>
                </a:cubicBezTo>
                <a:cubicBezTo>
                  <a:pt x="14729" y="11141"/>
                  <a:pt x="14809" y="11084"/>
                  <a:pt x="14859" y="11112"/>
                </a:cubicBezTo>
                <a:cubicBezTo>
                  <a:pt x="14920" y="11146"/>
                  <a:pt x="14888" y="11228"/>
                  <a:pt x="14859" y="11271"/>
                </a:cubicBezTo>
                <a:cubicBezTo>
                  <a:pt x="14817" y="11333"/>
                  <a:pt x="14814" y="11394"/>
                  <a:pt x="14764" y="11462"/>
                </a:cubicBezTo>
                <a:cubicBezTo>
                  <a:pt x="14753" y="11473"/>
                  <a:pt x="14743" y="11483"/>
                  <a:pt x="14732" y="11494"/>
                </a:cubicBezTo>
                <a:cubicBezTo>
                  <a:pt x="14782" y="11482"/>
                  <a:pt x="14802" y="11462"/>
                  <a:pt x="14859" y="11462"/>
                </a:cubicBezTo>
                <a:cubicBezTo>
                  <a:pt x="14888" y="11462"/>
                  <a:pt x="14971" y="11495"/>
                  <a:pt x="14986" y="11525"/>
                </a:cubicBezTo>
                <a:cubicBezTo>
                  <a:pt x="15029" y="11611"/>
                  <a:pt x="15007" y="11633"/>
                  <a:pt x="14986" y="11716"/>
                </a:cubicBezTo>
                <a:cubicBezTo>
                  <a:pt x="14964" y="11802"/>
                  <a:pt x="14923" y="11842"/>
                  <a:pt x="14859" y="11906"/>
                </a:cubicBezTo>
                <a:cubicBezTo>
                  <a:pt x="14833" y="11932"/>
                  <a:pt x="14738" y="12019"/>
                  <a:pt x="14700" y="12002"/>
                </a:cubicBezTo>
                <a:cubicBezTo>
                  <a:pt x="14643" y="11977"/>
                  <a:pt x="14637" y="11965"/>
                  <a:pt x="14637" y="11906"/>
                </a:cubicBezTo>
              </a:path>
              <a:path w="5271" h="5081">
                <a:moveTo>
                  <a:pt x="16891" y="11430"/>
                </a:moveTo>
                <a:cubicBezTo>
                  <a:pt x="16891" y="11419"/>
                  <a:pt x="16891" y="11409"/>
                  <a:pt x="16891" y="11398"/>
                </a:cubicBezTo>
                <a:cubicBezTo>
                  <a:pt x="16949" y="11398"/>
                  <a:pt x="16966" y="11372"/>
                  <a:pt x="17018" y="11366"/>
                </a:cubicBezTo>
                <a:cubicBezTo>
                  <a:pt x="17093" y="11358"/>
                  <a:pt x="17137" y="11345"/>
                  <a:pt x="17208" y="11335"/>
                </a:cubicBezTo>
              </a:path>
              <a:path w="5271" h="5081">
                <a:moveTo>
                  <a:pt x="17716" y="11112"/>
                </a:moveTo>
                <a:cubicBezTo>
                  <a:pt x="17736" y="11033"/>
                  <a:pt x="17784" y="11053"/>
                  <a:pt x="17844" y="11017"/>
                </a:cubicBezTo>
                <a:cubicBezTo>
                  <a:pt x="17914" y="10975"/>
                  <a:pt x="17886" y="10962"/>
                  <a:pt x="17970" y="10954"/>
                </a:cubicBezTo>
                <a:cubicBezTo>
                  <a:pt x="18031" y="10948"/>
                  <a:pt x="18094" y="10966"/>
                  <a:pt x="18066" y="11049"/>
                </a:cubicBezTo>
                <a:cubicBezTo>
                  <a:pt x="18046" y="11108"/>
                  <a:pt x="17963" y="11153"/>
                  <a:pt x="17939" y="11208"/>
                </a:cubicBezTo>
                <a:cubicBezTo>
                  <a:pt x="17916" y="11260"/>
                  <a:pt x="17892" y="11246"/>
                  <a:pt x="17907" y="11240"/>
                </a:cubicBezTo>
                <a:cubicBezTo>
                  <a:pt x="17957" y="11220"/>
                  <a:pt x="18016" y="11191"/>
                  <a:pt x="18066" y="11176"/>
                </a:cubicBezTo>
                <a:cubicBezTo>
                  <a:pt x="18143" y="11153"/>
                  <a:pt x="18176" y="11192"/>
                  <a:pt x="18224" y="11240"/>
                </a:cubicBezTo>
                <a:cubicBezTo>
                  <a:pt x="18309" y="11324"/>
                  <a:pt x="18274" y="11323"/>
                  <a:pt x="18256" y="11430"/>
                </a:cubicBezTo>
                <a:cubicBezTo>
                  <a:pt x="18235" y="11557"/>
                  <a:pt x="18220" y="11592"/>
                  <a:pt x="18129" y="11684"/>
                </a:cubicBezTo>
                <a:cubicBezTo>
                  <a:pt x="18088" y="11725"/>
                  <a:pt x="18059" y="11773"/>
                  <a:pt x="18002" y="11779"/>
                </a:cubicBezTo>
                <a:cubicBezTo>
                  <a:pt x="17916" y="11788"/>
                  <a:pt x="17918" y="11760"/>
                  <a:pt x="17907" y="11684"/>
                </a:cubicBezTo>
              </a:path>
              <a:path w="5271" h="5081">
                <a:moveTo>
                  <a:pt x="13018" y="12922"/>
                </a:moveTo>
                <a:cubicBezTo>
                  <a:pt x="13080" y="12947"/>
                  <a:pt x="13036" y="12961"/>
                  <a:pt x="13113" y="12922"/>
                </a:cubicBezTo>
                <a:cubicBezTo>
                  <a:pt x="13164" y="12896"/>
                  <a:pt x="13228" y="12868"/>
                  <a:pt x="13272" y="12827"/>
                </a:cubicBezTo>
                <a:cubicBezTo>
                  <a:pt x="13293" y="12808"/>
                  <a:pt x="13372" y="12739"/>
                  <a:pt x="13398" y="12732"/>
                </a:cubicBezTo>
                <a:cubicBezTo>
                  <a:pt x="13477" y="12709"/>
                  <a:pt x="13504" y="12737"/>
                  <a:pt x="13526" y="12795"/>
                </a:cubicBezTo>
                <a:cubicBezTo>
                  <a:pt x="13569" y="12910"/>
                  <a:pt x="13478" y="13008"/>
                  <a:pt x="13462" y="13113"/>
                </a:cubicBezTo>
                <a:cubicBezTo>
                  <a:pt x="13444" y="13230"/>
                  <a:pt x="13416" y="13361"/>
                  <a:pt x="13367" y="13462"/>
                </a:cubicBezTo>
                <a:cubicBezTo>
                  <a:pt x="13395" y="13405"/>
                  <a:pt x="13393" y="13358"/>
                  <a:pt x="13462" y="13335"/>
                </a:cubicBezTo>
                <a:cubicBezTo>
                  <a:pt x="13505" y="13321"/>
                  <a:pt x="13562" y="13333"/>
                  <a:pt x="13589" y="13367"/>
                </a:cubicBezTo>
                <a:cubicBezTo>
                  <a:pt x="13647" y="13441"/>
                  <a:pt x="13656" y="13507"/>
                  <a:pt x="13684" y="13589"/>
                </a:cubicBezTo>
                <a:cubicBezTo>
                  <a:pt x="13718" y="13690"/>
                  <a:pt x="13716" y="13765"/>
                  <a:pt x="13716" y="13875"/>
                </a:cubicBezTo>
                <a:cubicBezTo>
                  <a:pt x="13716" y="13978"/>
                  <a:pt x="13704" y="14067"/>
                  <a:pt x="13652" y="14160"/>
                </a:cubicBezTo>
                <a:cubicBezTo>
                  <a:pt x="13610" y="14235"/>
                  <a:pt x="13555" y="14264"/>
                  <a:pt x="13494" y="14319"/>
                </a:cubicBezTo>
                <a:cubicBezTo>
                  <a:pt x="13455" y="14354"/>
                  <a:pt x="13390" y="14366"/>
                  <a:pt x="13335" y="14351"/>
                </a:cubicBezTo>
                <a:cubicBezTo>
                  <a:pt x="13270" y="14333"/>
                  <a:pt x="13269" y="14307"/>
                  <a:pt x="13240" y="14256"/>
                </a:cubicBezTo>
              </a:path>
              <a:path w="5271" h="5081">
                <a:moveTo>
                  <a:pt x="13843" y="13335"/>
                </a:moveTo>
                <a:cubicBezTo>
                  <a:pt x="13892" y="13396"/>
                  <a:pt x="13928" y="13480"/>
                  <a:pt x="13938" y="13557"/>
                </a:cubicBezTo>
                <a:cubicBezTo>
                  <a:pt x="13958" y="13705"/>
                  <a:pt x="13949" y="13855"/>
                  <a:pt x="13970" y="14002"/>
                </a:cubicBezTo>
                <a:cubicBezTo>
                  <a:pt x="13982" y="14082"/>
                  <a:pt x="13954" y="14127"/>
                  <a:pt x="13938" y="14192"/>
                </a:cubicBezTo>
                <a:cubicBezTo>
                  <a:pt x="13938" y="14007"/>
                  <a:pt x="13948" y="13834"/>
                  <a:pt x="13970" y="13652"/>
                </a:cubicBezTo>
                <a:cubicBezTo>
                  <a:pt x="13984" y="13538"/>
                  <a:pt x="14004" y="13404"/>
                  <a:pt x="14065" y="13303"/>
                </a:cubicBezTo>
                <a:cubicBezTo>
                  <a:pt x="14090" y="13261"/>
                  <a:pt x="14147" y="13213"/>
                  <a:pt x="14192" y="13208"/>
                </a:cubicBezTo>
                <a:cubicBezTo>
                  <a:pt x="14282" y="13198"/>
                  <a:pt x="14269" y="13242"/>
                  <a:pt x="14319" y="13303"/>
                </a:cubicBezTo>
                <a:cubicBezTo>
                  <a:pt x="14407" y="13410"/>
                  <a:pt x="14406" y="13492"/>
                  <a:pt x="14446" y="13621"/>
                </a:cubicBezTo>
                <a:cubicBezTo>
                  <a:pt x="14483" y="13739"/>
                  <a:pt x="14521" y="13858"/>
                  <a:pt x="14573" y="13970"/>
                </a:cubicBezTo>
                <a:cubicBezTo>
                  <a:pt x="14599" y="14026"/>
                  <a:pt x="14635" y="14132"/>
                  <a:pt x="14700" y="14160"/>
                </a:cubicBezTo>
                <a:cubicBezTo>
                  <a:pt x="14736" y="14160"/>
                  <a:pt x="14750" y="14157"/>
                  <a:pt x="14764" y="14129"/>
                </a:cubicBezTo>
              </a:path>
              <a:path w="5271" h="5081">
                <a:moveTo>
                  <a:pt x="14954" y="13208"/>
                </a:moveTo>
                <a:cubicBezTo>
                  <a:pt x="14977" y="13117"/>
                  <a:pt x="14990" y="13156"/>
                  <a:pt x="15050" y="13176"/>
                </a:cubicBezTo>
                <a:cubicBezTo>
                  <a:pt x="15133" y="13204"/>
                  <a:pt x="15288" y="13192"/>
                  <a:pt x="15367" y="13208"/>
                </a:cubicBezTo>
                <a:cubicBezTo>
                  <a:pt x="15420" y="13208"/>
                  <a:pt x="15441" y="13198"/>
                  <a:pt x="15430" y="13240"/>
                </a:cubicBezTo>
              </a:path>
              <a:path w="5271" h="5081">
                <a:moveTo>
                  <a:pt x="15081" y="13780"/>
                </a:moveTo>
                <a:cubicBezTo>
                  <a:pt x="15081" y="13769"/>
                  <a:pt x="15081" y="13759"/>
                  <a:pt x="15081" y="13748"/>
                </a:cubicBezTo>
                <a:cubicBezTo>
                  <a:pt x="15197" y="13748"/>
                  <a:pt x="15290" y="13752"/>
                  <a:pt x="15399" y="13780"/>
                </a:cubicBezTo>
                <a:cubicBezTo>
                  <a:pt x="15441" y="13791"/>
                  <a:pt x="15483" y="13803"/>
                  <a:pt x="15526" y="13811"/>
                </a:cubicBezTo>
              </a:path>
              <a:path w="5271" h="5081">
                <a:moveTo>
                  <a:pt x="15970" y="12510"/>
                </a:moveTo>
                <a:cubicBezTo>
                  <a:pt x="15987" y="12577"/>
                  <a:pt x="16002" y="12619"/>
                  <a:pt x="16002" y="12700"/>
                </a:cubicBezTo>
                <a:cubicBezTo>
                  <a:pt x="16002" y="13082"/>
                  <a:pt x="15992" y="13468"/>
                  <a:pt x="16034" y="13843"/>
                </a:cubicBezTo>
                <a:cubicBezTo>
                  <a:pt x="16046" y="13949"/>
                  <a:pt x="16042" y="14028"/>
                  <a:pt x="16066" y="14129"/>
                </a:cubicBezTo>
                <a:cubicBezTo>
                  <a:pt x="16070" y="14148"/>
                  <a:pt x="16066" y="14307"/>
                  <a:pt x="16066" y="14224"/>
                </a:cubicBezTo>
              </a:path>
              <a:path w="5271" h="5081">
                <a:moveTo>
                  <a:pt x="16320" y="12732"/>
                </a:moveTo>
                <a:cubicBezTo>
                  <a:pt x="16329" y="12663"/>
                  <a:pt x="16337" y="12624"/>
                  <a:pt x="16383" y="12573"/>
                </a:cubicBezTo>
                <a:cubicBezTo>
                  <a:pt x="16436" y="12514"/>
                  <a:pt x="16463" y="12444"/>
                  <a:pt x="16510" y="12382"/>
                </a:cubicBezTo>
                <a:cubicBezTo>
                  <a:pt x="16532" y="12354"/>
                  <a:pt x="16635" y="12325"/>
                  <a:pt x="16669" y="12351"/>
                </a:cubicBezTo>
                <a:cubicBezTo>
                  <a:pt x="16717" y="12388"/>
                  <a:pt x="16700" y="12514"/>
                  <a:pt x="16700" y="12573"/>
                </a:cubicBezTo>
                <a:cubicBezTo>
                  <a:pt x="16700" y="12723"/>
                  <a:pt x="16654" y="12842"/>
                  <a:pt x="16637" y="12986"/>
                </a:cubicBezTo>
                <a:cubicBezTo>
                  <a:pt x="16613" y="13185"/>
                  <a:pt x="16583" y="13393"/>
                  <a:pt x="16542" y="13589"/>
                </a:cubicBezTo>
                <a:cubicBezTo>
                  <a:pt x="16520" y="13696"/>
                  <a:pt x="16463" y="13802"/>
                  <a:pt x="16446" y="13906"/>
                </a:cubicBezTo>
                <a:cubicBezTo>
                  <a:pt x="16438" y="13953"/>
                  <a:pt x="16424" y="14033"/>
                  <a:pt x="16446" y="14002"/>
                </a:cubicBezTo>
                <a:cubicBezTo>
                  <a:pt x="16473" y="13965"/>
                  <a:pt x="16486" y="13930"/>
                  <a:pt x="16510" y="13906"/>
                </a:cubicBezTo>
                <a:cubicBezTo>
                  <a:pt x="16565" y="13852"/>
                  <a:pt x="16582" y="13877"/>
                  <a:pt x="16637" y="13906"/>
                </a:cubicBezTo>
                <a:cubicBezTo>
                  <a:pt x="16685" y="13931"/>
                  <a:pt x="16719" y="13957"/>
                  <a:pt x="16764" y="14002"/>
                </a:cubicBezTo>
                <a:cubicBezTo>
                  <a:pt x="16788" y="14026"/>
                  <a:pt x="16856" y="14074"/>
                  <a:pt x="16891" y="14065"/>
                </a:cubicBezTo>
                <a:cubicBezTo>
                  <a:pt x="16942" y="14065"/>
                  <a:pt x="16966" y="14052"/>
                  <a:pt x="16986" y="14002"/>
                </a:cubicBezTo>
              </a:path>
              <a:path w="5271" h="5081">
                <a:moveTo>
                  <a:pt x="17367" y="12732"/>
                </a:moveTo>
                <a:cubicBezTo>
                  <a:pt x="17358" y="12663"/>
                  <a:pt x="17350" y="12624"/>
                  <a:pt x="17304" y="12573"/>
                </a:cubicBezTo>
                <a:cubicBezTo>
                  <a:pt x="17264" y="12529"/>
                  <a:pt x="17214" y="12506"/>
                  <a:pt x="17177" y="12478"/>
                </a:cubicBezTo>
                <a:cubicBezTo>
                  <a:pt x="17129" y="12442"/>
                  <a:pt x="17075" y="12422"/>
                  <a:pt x="17018" y="12478"/>
                </a:cubicBezTo>
                <a:cubicBezTo>
                  <a:pt x="16994" y="12501"/>
                  <a:pt x="16930" y="12629"/>
                  <a:pt x="16923" y="12668"/>
                </a:cubicBezTo>
                <a:cubicBezTo>
                  <a:pt x="16900" y="12805"/>
                  <a:pt x="16904" y="12886"/>
                  <a:pt x="16923" y="13018"/>
                </a:cubicBezTo>
                <a:cubicBezTo>
                  <a:pt x="16934" y="13096"/>
                  <a:pt x="16944" y="13161"/>
                  <a:pt x="17018" y="13208"/>
                </a:cubicBezTo>
                <a:cubicBezTo>
                  <a:pt x="17039" y="13219"/>
                  <a:pt x="17061" y="13229"/>
                  <a:pt x="17082" y="13240"/>
                </a:cubicBezTo>
                <a:cubicBezTo>
                  <a:pt x="17139" y="13182"/>
                  <a:pt x="17164" y="13168"/>
                  <a:pt x="17208" y="13081"/>
                </a:cubicBezTo>
                <a:cubicBezTo>
                  <a:pt x="17252" y="12994"/>
                  <a:pt x="17299" y="12924"/>
                  <a:pt x="17304" y="12827"/>
                </a:cubicBezTo>
                <a:cubicBezTo>
                  <a:pt x="17307" y="12774"/>
                  <a:pt x="17304" y="12721"/>
                  <a:pt x="17304" y="12668"/>
                </a:cubicBezTo>
                <a:cubicBezTo>
                  <a:pt x="17289" y="12707"/>
                  <a:pt x="17300" y="12739"/>
                  <a:pt x="17304" y="12827"/>
                </a:cubicBezTo>
                <a:cubicBezTo>
                  <a:pt x="17311" y="12978"/>
                  <a:pt x="17332" y="13121"/>
                  <a:pt x="17336" y="13272"/>
                </a:cubicBezTo>
                <a:cubicBezTo>
                  <a:pt x="17341" y="13458"/>
                  <a:pt x="17345" y="13658"/>
                  <a:pt x="17367" y="13843"/>
                </a:cubicBezTo>
                <a:cubicBezTo>
                  <a:pt x="17397" y="13991"/>
                  <a:pt x="17407" y="14032"/>
                  <a:pt x="17399" y="14129"/>
                </a:cubicBezTo>
              </a:path>
              <a:path w="5271" h="5081">
                <a:moveTo>
                  <a:pt x="13049" y="14796"/>
                </a:moveTo>
                <a:cubicBezTo>
                  <a:pt x="13089" y="14756"/>
                  <a:pt x="13110" y="14765"/>
                  <a:pt x="13176" y="14732"/>
                </a:cubicBezTo>
                <a:cubicBezTo>
                  <a:pt x="13232" y="14704"/>
                  <a:pt x="13329" y="14649"/>
                  <a:pt x="13398" y="14637"/>
                </a:cubicBezTo>
                <a:cubicBezTo>
                  <a:pt x="13514" y="14617"/>
                  <a:pt x="13632" y="14598"/>
                  <a:pt x="13748" y="14573"/>
                </a:cubicBezTo>
                <a:cubicBezTo>
                  <a:pt x="13874" y="14546"/>
                  <a:pt x="14005" y="14538"/>
                  <a:pt x="14129" y="14510"/>
                </a:cubicBezTo>
                <a:cubicBezTo>
                  <a:pt x="14283" y="14475"/>
                  <a:pt x="14447" y="14453"/>
                  <a:pt x="14605" y="14446"/>
                </a:cubicBezTo>
                <a:cubicBezTo>
                  <a:pt x="14695" y="14442"/>
                  <a:pt x="14765" y="14414"/>
                  <a:pt x="14859" y="14414"/>
                </a:cubicBezTo>
                <a:cubicBezTo>
                  <a:pt x="14891" y="14414"/>
                  <a:pt x="14922" y="14414"/>
                  <a:pt x="14954" y="14414"/>
                </a:cubicBezTo>
              </a:path>
              <a:path w="5271" h="5081">
                <a:moveTo>
                  <a:pt x="13843" y="15240"/>
                </a:moveTo>
                <a:cubicBezTo>
                  <a:pt x="13777" y="15218"/>
                  <a:pt x="13838" y="15135"/>
                  <a:pt x="13875" y="15081"/>
                </a:cubicBezTo>
                <a:cubicBezTo>
                  <a:pt x="13914" y="15024"/>
                  <a:pt x="13952" y="14971"/>
                  <a:pt x="14002" y="14922"/>
                </a:cubicBezTo>
                <a:cubicBezTo>
                  <a:pt x="14055" y="14870"/>
                  <a:pt x="14071" y="14887"/>
                  <a:pt x="14097" y="14922"/>
                </a:cubicBezTo>
                <a:cubicBezTo>
                  <a:pt x="14136" y="14974"/>
                  <a:pt x="14144" y="15043"/>
                  <a:pt x="14129" y="15113"/>
                </a:cubicBezTo>
                <a:cubicBezTo>
                  <a:pt x="14105" y="15221"/>
                  <a:pt x="14089" y="15326"/>
                  <a:pt x="14065" y="15430"/>
                </a:cubicBezTo>
                <a:cubicBezTo>
                  <a:pt x="14065" y="15466"/>
                  <a:pt x="14062" y="15480"/>
                  <a:pt x="14034" y="15494"/>
                </a:cubicBezTo>
                <a:cubicBezTo>
                  <a:pt x="14040" y="15477"/>
                  <a:pt x="14070" y="15390"/>
                  <a:pt x="14097" y="15367"/>
                </a:cubicBezTo>
                <a:cubicBezTo>
                  <a:pt x="14125" y="15343"/>
                  <a:pt x="14182" y="15335"/>
                  <a:pt x="14224" y="15335"/>
                </a:cubicBezTo>
                <a:cubicBezTo>
                  <a:pt x="14281" y="15335"/>
                  <a:pt x="14332" y="15378"/>
                  <a:pt x="14351" y="15430"/>
                </a:cubicBezTo>
                <a:cubicBezTo>
                  <a:pt x="14373" y="15492"/>
                  <a:pt x="14403" y="15583"/>
                  <a:pt x="14383" y="15653"/>
                </a:cubicBezTo>
                <a:cubicBezTo>
                  <a:pt x="14358" y="15740"/>
                  <a:pt x="14331" y="15795"/>
                  <a:pt x="14288" y="15875"/>
                </a:cubicBezTo>
                <a:cubicBezTo>
                  <a:pt x="14250" y="15946"/>
                  <a:pt x="14210" y="16007"/>
                  <a:pt x="14129" y="16034"/>
                </a:cubicBezTo>
                <a:cubicBezTo>
                  <a:pt x="14097" y="16034"/>
                  <a:pt x="14086" y="16034"/>
                  <a:pt x="14065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10"/>
          <p:cNvSpPr/>
          <p:nvPr/>
        </p:nvSpPr>
        <p:spPr>
          <a:xfrm>
            <a:off x="5315040" y="5154480"/>
            <a:ext cx="971640" cy="1200240"/>
          </a:xfrm>
          <a:custGeom>
            <a:avLst/>
            <a:gdLst/>
            <a:ahLst/>
            <a:rect l="l" t="t" r="r" b="b"/>
            <a:pathLst>
              <a:path w="2699" h="3335">
                <a:moveTo>
                  <a:pt x="16224" y="14605"/>
                </a:moveTo>
                <a:cubicBezTo>
                  <a:pt x="16358" y="14583"/>
                  <a:pt x="16424" y="14503"/>
                  <a:pt x="16542" y="14446"/>
                </a:cubicBezTo>
                <a:cubicBezTo>
                  <a:pt x="16659" y="14390"/>
                  <a:pt x="16796" y="14357"/>
                  <a:pt x="16923" y="14351"/>
                </a:cubicBezTo>
                <a:cubicBezTo>
                  <a:pt x="17036" y="14346"/>
                  <a:pt x="17130" y="14324"/>
                  <a:pt x="17240" y="14319"/>
                </a:cubicBezTo>
                <a:cubicBezTo>
                  <a:pt x="17321" y="14315"/>
                  <a:pt x="17365" y="14331"/>
                  <a:pt x="17431" y="14351"/>
                </a:cubicBezTo>
                <a:cubicBezTo>
                  <a:pt x="17441" y="14351"/>
                  <a:pt x="17452" y="14351"/>
                  <a:pt x="17462" y="14351"/>
                </a:cubicBezTo>
              </a:path>
              <a:path w="2699" h="3335">
                <a:moveTo>
                  <a:pt x="16669" y="14796"/>
                </a:moveTo>
                <a:cubicBezTo>
                  <a:pt x="16613" y="14796"/>
                  <a:pt x="16675" y="14775"/>
                  <a:pt x="16700" y="14764"/>
                </a:cubicBezTo>
                <a:cubicBezTo>
                  <a:pt x="16770" y="14732"/>
                  <a:pt x="16813" y="14676"/>
                  <a:pt x="16891" y="14668"/>
                </a:cubicBezTo>
                <a:cubicBezTo>
                  <a:pt x="16933" y="14664"/>
                  <a:pt x="16995" y="14655"/>
                  <a:pt x="17018" y="14700"/>
                </a:cubicBezTo>
                <a:cubicBezTo>
                  <a:pt x="17039" y="14741"/>
                  <a:pt x="16999" y="14826"/>
                  <a:pt x="16986" y="14859"/>
                </a:cubicBezTo>
                <a:cubicBezTo>
                  <a:pt x="16956" y="14934"/>
                  <a:pt x="16886" y="14977"/>
                  <a:pt x="16859" y="15018"/>
                </a:cubicBezTo>
                <a:cubicBezTo>
                  <a:pt x="16859" y="15050"/>
                  <a:pt x="16859" y="15060"/>
                  <a:pt x="16828" y="15050"/>
                </a:cubicBezTo>
                <a:cubicBezTo>
                  <a:pt x="16839" y="15015"/>
                  <a:pt x="16850" y="14991"/>
                  <a:pt x="16891" y="14986"/>
                </a:cubicBezTo>
                <a:cubicBezTo>
                  <a:pt x="16952" y="14978"/>
                  <a:pt x="17006" y="14979"/>
                  <a:pt x="17050" y="15018"/>
                </a:cubicBezTo>
                <a:cubicBezTo>
                  <a:pt x="17104" y="15066"/>
                  <a:pt x="17110" y="15172"/>
                  <a:pt x="17113" y="15240"/>
                </a:cubicBezTo>
                <a:cubicBezTo>
                  <a:pt x="17118" y="15348"/>
                  <a:pt x="17129" y="15469"/>
                  <a:pt x="17082" y="15558"/>
                </a:cubicBezTo>
                <a:cubicBezTo>
                  <a:pt x="17050" y="15618"/>
                  <a:pt x="16991" y="15698"/>
                  <a:pt x="16923" y="15716"/>
                </a:cubicBezTo>
                <a:cubicBezTo>
                  <a:pt x="16859" y="15716"/>
                  <a:pt x="16838" y="15716"/>
                  <a:pt x="16796" y="15716"/>
                </a:cubicBezTo>
              </a:path>
              <a:path w="2699" h="3335">
                <a:moveTo>
                  <a:pt x="14764" y="16574"/>
                </a:moveTo>
                <a:cubicBezTo>
                  <a:pt x="14772" y="16637"/>
                  <a:pt x="14777" y="16705"/>
                  <a:pt x="14796" y="16764"/>
                </a:cubicBezTo>
                <a:cubicBezTo>
                  <a:pt x="14828" y="16863"/>
                  <a:pt x="14847" y="16978"/>
                  <a:pt x="14859" y="17082"/>
                </a:cubicBezTo>
                <a:cubicBezTo>
                  <a:pt x="14874" y="17220"/>
                  <a:pt x="14873" y="17358"/>
                  <a:pt x="14891" y="17494"/>
                </a:cubicBezTo>
                <a:cubicBezTo>
                  <a:pt x="14898" y="17545"/>
                  <a:pt x="14891" y="17601"/>
                  <a:pt x="14891" y="17653"/>
                </a:cubicBezTo>
                <a:cubicBezTo>
                  <a:pt x="14853" y="17640"/>
                  <a:pt x="14834" y="17553"/>
                  <a:pt x="14827" y="17494"/>
                </a:cubicBezTo>
                <a:cubicBezTo>
                  <a:pt x="14800" y="17263"/>
                  <a:pt x="14788" y="16920"/>
                  <a:pt x="14859" y="16700"/>
                </a:cubicBezTo>
                <a:cubicBezTo>
                  <a:pt x="14883" y="16625"/>
                  <a:pt x="14934" y="16536"/>
                  <a:pt x="14986" y="16478"/>
                </a:cubicBezTo>
                <a:cubicBezTo>
                  <a:pt x="15047" y="16410"/>
                  <a:pt x="15044" y="16414"/>
                  <a:pt x="15113" y="16446"/>
                </a:cubicBezTo>
                <a:cubicBezTo>
                  <a:pt x="15169" y="16472"/>
                  <a:pt x="15259" y="16541"/>
                  <a:pt x="15272" y="16605"/>
                </a:cubicBezTo>
                <a:cubicBezTo>
                  <a:pt x="15301" y="16750"/>
                  <a:pt x="15309" y="16914"/>
                  <a:pt x="15367" y="17050"/>
                </a:cubicBezTo>
                <a:cubicBezTo>
                  <a:pt x="15402" y="17133"/>
                  <a:pt x="15399" y="17202"/>
                  <a:pt x="15462" y="17272"/>
                </a:cubicBezTo>
                <a:cubicBezTo>
                  <a:pt x="15513" y="17329"/>
                  <a:pt x="15542" y="17314"/>
                  <a:pt x="15589" y="17304"/>
                </a:cubicBezTo>
                <a:cubicBezTo>
                  <a:pt x="15632" y="17304"/>
                  <a:pt x="15642" y="17293"/>
                  <a:pt x="15621" y="17240"/>
                </a:cubicBezTo>
              </a:path>
              <a:path w="2699" h="3335">
                <a:moveTo>
                  <a:pt x="15748" y="16478"/>
                </a:moveTo>
                <a:cubicBezTo>
                  <a:pt x="15798" y="16466"/>
                  <a:pt x="15818" y="16446"/>
                  <a:pt x="15875" y="16446"/>
                </a:cubicBezTo>
                <a:cubicBezTo>
                  <a:pt x="15938" y="16446"/>
                  <a:pt x="15950" y="16432"/>
                  <a:pt x="16002" y="16415"/>
                </a:cubicBezTo>
                <a:cubicBezTo>
                  <a:pt x="16013" y="16415"/>
                  <a:pt x="16023" y="16415"/>
                  <a:pt x="16034" y="16415"/>
                </a:cubicBezTo>
              </a:path>
              <a:path w="2699" h="3335">
                <a:moveTo>
                  <a:pt x="15843" y="16954"/>
                </a:moveTo>
                <a:cubicBezTo>
                  <a:pt x="15892" y="16919"/>
                  <a:pt x="15909" y="16923"/>
                  <a:pt x="15970" y="16923"/>
                </a:cubicBezTo>
                <a:cubicBezTo>
                  <a:pt x="16008" y="16923"/>
                  <a:pt x="16096" y="16964"/>
                  <a:pt x="16129" y="16986"/>
                </a:cubicBezTo>
                <a:cubicBezTo>
                  <a:pt x="16140" y="16997"/>
                  <a:pt x="16150" y="17007"/>
                  <a:pt x="16161" y="17018"/>
                </a:cubicBezTo>
              </a:path>
              <a:path w="2699" h="3335">
                <a:moveTo>
                  <a:pt x="16320" y="16288"/>
                </a:moveTo>
                <a:cubicBezTo>
                  <a:pt x="16320" y="16485"/>
                  <a:pt x="16294" y="16715"/>
                  <a:pt x="16351" y="16891"/>
                </a:cubicBezTo>
                <a:cubicBezTo>
                  <a:pt x="16370" y="16949"/>
                  <a:pt x="16352" y="16875"/>
                  <a:pt x="16383" y="16859"/>
                </a:cubicBezTo>
                <a:cubicBezTo>
                  <a:pt x="16424" y="16839"/>
                  <a:pt x="16416" y="16828"/>
                  <a:pt x="16478" y="16828"/>
                </a:cubicBezTo>
                <a:cubicBezTo>
                  <a:pt x="16546" y="16828"/>
                  <a:pt x="16584" y="16836"/>
                  <a:pt x="16637" y="16796"/>
                </a:cubicBezTo>
              </a:path>
              <a:path w="2699" h="3335">
                <a:moveTo>
                  <a:pt x="16637" y="15970"/>
                </a:moveTo>
                <a:cubicBezTo>
                  <a:pt x="16610" y="15983"/>
                  <a:pt x="16637" y="16024"/>
                  <a:pt x="16637" y="16097"/>
                </a:cubicBezTo>
                <a:cubicBezTo>
                  <a:pt x="16637" y="16260"/>
                  <a:pt x="16650" y="16442"/>
                  <a:pt x="16669" y="16605"/>
                </a:cubicBezTo>
                <a:cubicBezTo>
                  <a:pt x="16688" y="16772"/>
                  <a:pt x="16702" y="16949"/>
                  <a:pt x="16732" y="17113"/>
                </a:cubicBezTo>
                <a:cubicBezTo>
                  <a:pt x="16754" y="17232"/>
                  <a:pt x="16754" y="17352"/>
                  <a:pt x="16796" y="17462"/>
                </a:cubicBezTo>
              </a:path>
              <a:path w="2699" h="3335">
                <a:moveTo>
                  <a:pt x="16828" y="16415"/>
                </a:moveTo>
                <a:cubicBezTo>
                  <a:pt x="16856" y="16347"/>
                  <a:pt x="16863" y="16253"/>
                  <a:pt x="16891" y="16192"/>
                </a:cubicBezTo>
                <a:cubicBezTo>
                  <a:pt x="16921" y="16127"/>
                  <a:pt x="16981" y="16025"/>
                  <a:pt x="17018" y="15970"/>
                </a:cubicBezTo>
                <a:cubicBezTo>
                  <a:pt x="17047" y="15941"/>
                  <a:pt x="17053" y="15930"/>
                  <a:pt x="17082" y="15938"/>
                </a:cubicBezTo>
                <a:cubicBezTo>
                  <a:pt x="17129" y="16018"/>
                  <a:pt x="17101" y="16098"/>
                  <a:pt x="17082" y="16192"/>
                </a:cubicBezTo>
                <a:cubicBezTo>
                  <a:pt x="17067" y="16264"/>
                  <a:pt x="17057" y="16484"/>
                  <a:pt x="17018" y="16542"/>
                </a:cubicBezTo>
                <a:cubicBezTo>
                  <a:pt x="16991" y="16582"/>
                  <a:pt x="17024" y="16508"/>
                  <a:pt x="17050" y="16478"/>
                </a:cubicBezTo>
                <a:cubicBezTo>
                  <a:pt x="17087" y="16436"/>
                  <a:pt x="17123" y="16389"/>
                  <a:pt x="17177" y="16383"/>
                </a:cubicBezTo>
                <a:cubicBezTo>
                  <a:pt x="17216" y="16379"/>
                  <a:pt x="17287" y="16442"/>
                  <a:pt x="17304" y="16478"/>
                </a:cubicBezTo>
                <a:cubicBezTo>
                  <a:pt x="17348" y="16570"/>
                  <a:pt x="17387" y="16696"/>
                  <a:pt x="17399" y="16796"/>
                </a:cubicBezTo>
                <a:cubicBezTo>
                  <a:pt x="17414" y="16921"/>
                  <a:pt x="17386" y="17030"/>
                  <a:pt x="17367" y="17145"/>
                </a:cubicBezTo>
                <a:cubicBezTo>
                  <a:pt x="17347" y="17261"/>
                  <a:pt x="17325" y="17261"/>
                  <a:pt x="17240" y="17336"/>
                </a:cubicBezTo>
                <a:cubicBezTo>
                  <a:pt x="17187" y="17383"/>
                  <a:pt x="17151" y="17399"/>
                  <a:pt x="17082" y="17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11"/>
          <p:cNvSpPr/>
          <p:nvPr/>
        </p:nvSpPr>
        <p:spPr>
          <a:xfrm>
            <a:off x="1406520" y="3863880"/>
            <a:ext cx="925560" cy="536760"/>
          </a:xfrm>
          <a:custGeom>
            <a:avLst/>
            <a:gdLst/>
            <a:ahLst/>
            <a:rect l="l" t="t" r="r" b="b"/>
            <a:pathLst>
              <a:path w="2573" h="1493">
                <a:moveTo>
                  <a:pt x="3969" y="10732"/>
                </a:moveTo>
                <a:cubicBezTo>
                  <a:pt x="3969" y="10895"/>
                  <a:pt x="3952" y="11050"/>
                  <a:pt x="3937" y="11208"/>
                </a:cubicBezTo>
                <a:cubicBezTo>
                  <a:pt x="3922" y="11366"/>
                  <a:pt x="3910" y="11527"/>
                  <a:pt x="3905" y="11684"/>
                </a:cubicBezTo>
                <a:cubicBezTo>
                  <a:pt x="3901" y="11790"/>
                  <a:pt x="3905" y="11896"/>
                  <a:pt x="3905" y="12002"/>
                </a:cubicBezTo>
                <a:cubicBezTo>
                  <a:pt x="3947" y="12002"/>
                  <a:pt x="3886" y="11962"/>
                  <a:pt x="3905" y="11874"/>
                </a:cubicBezTo>
                <a:cubicBezTo>
                  <a:pt x="3935" y="11737"/>
                  <a:pt x="3944" y="11599"/>
                  <a:pt x="3969" y="11462"/>
                </a:cubicBezTo>
                <a:cubicBezTo>
                  <a:pt x="3999" y="11294"/>
                  <a:pt x="4069" y="11129"/>
                  <a:pt x="4159" y="10986"/>
                </a:cubicBezTo>
                <a:cubicBezTo>
                  <a:pt x="4232" y="10870"/>
                  <a:pt x="4294" y="10822"/>
                  <a:pt x="4413" y="10763"/>
                </a:cubicBezTo>
                <a:cubicBezTo>
                  <a:pt x="4488" y="10726"/>
                  <a:pt x="4576" y="10763"/>
                  <a:pt x="4604" y="10858"/>
                </a:cubicBezTo>
                <a:cubicBezTo>
                  <a:pt x="4675" y="11097"/>
                  <a:pt x="4603" y="11435"/>
                  <a:pt x="4636" y="11684"/>
                </a:cubicBezTo>
                <a:cubicBezTo>
                  <a:pt x="4646" y="11762"/>
                  <a:pt x="4604" y="11864"/>
                  <a:pt x="4699" y="11906"/>
                </a:cubicBezTo>
                <a:cubicBezTo>
                  <a:pt x="4731" y="11906"/>
                  <a:pt x="4741" y="11906"/>
                  <a:pt x="4762" y="11906"/>
                </a:cubicBezTo>
              </a:path>
              <a:path w="2573" h="1493">
                <a:moveTo>
                  <a:pt x="5144" y="10986"/>
                </a:moveTo>
                <a:cubicBezTo>
                  <a:pt x="5183" y="11052"/>
                  <a:pt x="5220" y="11154"/>
                  <a:pt x="5207" y="11240"/>
                </a:cubicBezTo>
                <a:cubicBezTo>
                  <a:pt x="5186" y="11375"/>
                  <a:pt x="5159" y="11516"/>
                  <a:pt x="5144" y="11652"/>
                </a:cubicBezTo>
                <a:cubicBezTo>
                  <a:pt x="5136" y="11724"/>
                  <a:pt x="5113" y="11949"/>
                  <a:pt x="5175" y="11970"/>
                </a:cubicBezTo>
              </a:path>
              <a:path w="2573" h="1493">
                <a:moveTo>
                  <a:pt x="4953" y="11366"/>
                </a:moveTo>
                <a:cubicBezTo>
                  <a:pt x="5133" y="11366"/>
                  <a:pt x="5313" y="11366"/>
                  <a:pt x="5493" y="11366"/>
                </a:cubicBezTo>
              </a:path>
              <a:path w="2573" h="1493">
                <a:moveTo>
                  <a:pt x="5778" y="10890"/>
                </a:moveTo>
                <a:cubicBezTo>
                  <a:pt x="5789" y="10811"/>
                  <a:pt x="5794" y="10838"/>
                  <a:pt x="5842" y="10795"/>
                </a:cubicBezTo>
                <a:cubicBezTo>
                  <a:pt x="5899" y="10743"/>
                  <a:pt x="5915" y="10717"/>
                  <a:pt x="6001" y="10732"/>
                </a:cubicBezTo>
                <a:cubicBezTo>
                  <a:pt x="6064" y="10743"/>
                  <a:pt x="6108" y="10766"/>
                  <a:pt x="6128" y="10827"/>
                </a:cubicBezTo>
                <a:cubicBezTo>
                  <a:pt x="6161" y="10925"/>
                  <a:pt x="6096" y="11027"/>
                  <a:pt x="6064" y="11112"/>
                </a:cubicBezTo>
                <a:cubicBezTo>
                  <a:pt x="6016" y="11240"/>
                  <a:pt x="5963" y="11347"/>
                  <a:pt x="5906" y="11462"/>
                </a:cubicBezTo>
                <a:cubicBezTo>
                  <a:pt x="5856" y="11563"/>
                  <a:pt x="5826" y="11676"/>
                  <a:pt x="5778" y="11779"/>
                </a:cubicBezTo>
                <a:cubicBezTo>
                  <a:pt x="5746" y="11847"/>
                  <a:pt x="5679" y="11907"/>
                  <a:pt x="5652" y="11970"/>
                </a:cubicBezTo>
                <a:cubicBezTo>
                  <a:pt x="5652" y="11981"/>
                  <a:pt x="5652" y="11991"/>
                  <a:pt x="5652" y="12002"/>
                </a:cubicBezTo>
                <a:cubicBezTo>
                  <a:pt x="5692" y="11969"/>
                  <a:pt x="5729" y="11949"/>
                  <a:pt x="5778" y="11938"/>
                </a:cubicBezTo>
                <a:cubicBezTo>
                  <a:pt x="5829" y="11927"/>
                  <a:pt x="5966" y="11995"/>
                  <a:pt x="6001" y="12033"/>
                </a:cubicBezTo>
                <a:cubicBezTo>
                  <a:pt x="6074" y="12112"/>
                  <a:pt x="6151" y="12139"/>
                  <a:pt x="6255" y="12192"/>
                </a:cubicBezTo>
                <a:cubicBezTo>
                  <a:pt x="6348" y="12239"/>
                  <a:pt x="6385" y="12223"/>
                  <a:pt x="6477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ree consecutive odd integers is -249.  Find the inte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3"/>
          <p:cNvSpPr/>
          <p:nvPr/>
        </p:nvSpPr>
        <p:spPr>
          <a:xfrm>
            <a:off x="3886200" y="1542960"/>
            <a:ext cx="4435560" cy="1668600"/>
          </a:xfrm>
          <a:custGeom>
            <a:avLst/>
            <a:gdLst/>
            <a:ahLst/>
            <a:rect l="l" t="t" r="r" b="b"/>
            <a:pathLst>
              <a:path w="12320" h="4637">
                <a:moveTo>
                  <a:pt x="18288" y="4382"/>
                </a:moveTo>
                <a:cubicBezTo>
                  <a:pt x="18216" y="4382"/>
                  <a:pt x="18328" y="4410"/>
                  <a:pt x="18352" y="4413"/>
                </a:cubicBezTo>
                <a:cubicBezTo>
                  <a:pt x="18476" y="4427"/>
                  <a:pt x="18584" y="4393"/>
                  <a:pt x="18701" y="4382"/>
                </a:cubicBezTo>
                <a:cubicBezTo>
                  <a:pt x="18974" y="4356"/>
                  <a:pt x="19257" y="4375"/>
                  <a:pt x="19526" y="4350"/>
                </a:cubicBezTo>
                <a:cubicBezTo>
                  <a:pt x="19662" y="4338"/>
                  <a:pt x="19805" y="4323"/>
                  <a:pt x="19939" y="4318"/>
                </a:cubicBezTo>
                <a:cubicBezTo>
                  <a:pt x="20023" y="4315"/>
                  <a:pt x="20080" y="4286"/>
                  <a:pt x="20161" y="4286"/>
                </a:cubicBezTo>
                <a:cubicBezTo>
                  <a:pt x="20172" y="4286"/>
                  <a:pt x="20182" y="4286"/>
                  <a:pt x="20193" y="4286"/>
                </a:cubicBezTo>
              </a:path>
              <a:path w="12320" h="4637">
                <a:moveTo>
                  <a:pt x="10858" y="6953"/>
                </a:moveTo>
                <a:cubicBezTo>
                  <a:pt x="10858" y="7055"/>
                  <a:pt x="10880" y="7142"/>
                  <a:pt x="10890" y="7239"/>
                </a:cubicBezTo>
                <a:cubicBezTo>
                  <a:pt x="10907" y="7413"/>
                  <a:pt x="10871" y="7577"/>
                  <a:pt x="10858" y="7747"/>
                </a:cubicBezTo>
                <a:cubicBezTo>
                  <a:pt x="10845" y="7916"/>
                  <a:pt x="10841" y="8088"/>
                  <a:pt x="10827" y="8255"/>
                </a:cubicBezTo>
                <a:cubicBezTo>
                  <a:pt x="10817" y="8380"/>
                  <a:pt x="10819" y="8483"/>
                  <a:pt x="10795" y="8604"/>
                </a:cubicBezTo>
                <a:cubicBezTo>
                  <a:pt x="10795" y="8702"/>
                  <a:pt x="10795" y="8643"/>
                  <a:pt x="10795" y="8572"/>
                </a:cubicBezTo>
                <a:cubicBezTo>
                  <a:pt x="10795" y="8397"/>
                  <a:pt x="10810" y="8236"/>
                  <a:pt x="10827" y="8064"/>
                </a:cubicBezTo>
                <a:cubicBezTo>
                  <a:pt x="10842" y="7918"/>
                  <a:pt x="10846" y="7765"/>
                  <a:pt x="10858" y="7620"/>
                </a:cubicBezTo>
                <a:cubicBezTo>
                  <a:pt x="10875" y="7408"/>
                  <a:pt x="10919" y="7236"/>
                  <a:pt x="11017" y="7048"/>
                </a:cubicBezTo>
                <a:cubicBezTo>
                  <a:pt x="11057" y="6971"/>
                  <a:pt x="11095" y="6871"/>
                  <a:pt x="11176" y="6826"/>
                </a:cubicBezTo>
                <a:cubicBezTo>
                  <a:pt x="11193" y="6816"/>
                  <a:pt x="11276" y="6826"/>
                  <a:pt x="11303" y="6826"/>
                </a:cubicBezTo>
                <a:cubicBezTo>
                  <a:pt x="11359" y="6938"/>
                  <a:pt x="11387" y="7050"/>
                  <a:pt x="11398" y="7176"/>
                </a:cubicBezTo>
                <a:cubicBezTo>
                  <a:pt x="11414" y="7364"/>
                  <a:pt x="11347" y="7560"/>
                  <a:pt x="11335" y="7747"/>
                </a:cubicBezTo>
                <a:cubicBezTo>
                  <a:pt x="11321" y="7958"/>
                  <a:pt x="11283" y="8206"/>
                  <a:pt x="11303" y="8414"/>
                </a:cubicBezTo>
                <a:cubicBezTo>
                  <a:pt x="11313" y="8518"/>
                  <a:pt x="11360" y="8773"/>
                  <a:pt x="11430" y="8858"/>
                </a:cubicBezTo>
                <a:cubicBezTo>
                  <a:pt x="11500" y="8943"/>
                  <a:pt x="11602" y="8919"/>
                  <a:pt x="11684" y="8890"/>
                </a:cubicBezTo>
                <a:cubicBezTo>
                  <a:pt x="11716" y="8879"/>
                  <a:pt x="11747" y="8869"/>
                  <a:pt x="11779" y="8858"/>
                </a:cubicBezTo>
              </a:path>
              <a:path w="12320" h="4637">
                <a:moveTo>
                  <a:pt x="12382" y="7176"/>
                </a:moveTo>
                <a:cubicBezTo>
                  <a:pt x="12382" y="7319"/>
                  <a:pt x="12364" y="7450"/>
                  <a:pt x="12351" y="7588"/>
                </a:cubicBezTo>
                <a:cubicBezTo>
                  <a:pt x="12335" y="7757"/>
                  <a:pt x="12345" y="7928"/>
                  <a:pt x="12319" y="8096"/>
                </a:cubicBezTo>
                <a:cubicBezTo>
                  <a:pt x="12294" y="8258"/>
                  <a:pt x="12287" y="8406"/>
                  <a:pt x="12287" y="8572"/>
                </a:cubicBezTo>
                <a:cubicBezTo>
                  <a:pt x="12287" y="8634"/>
                  <a:pt x="12274" y="8666"/>
                  <a:pt x="12256" y="8572"/>
                </a:cubicBezTo>
              </a:path>
              <a:path w="12320" h="4637">
                <a:moveTo>
                  <a:pt x="12002" y="8128"/>
                </a:moveTo>
                <a:cubicBezTo>
                  <a:pt x="12105" y="8167"/>
                  <a:pt x="12206" y="8188"/>
                  <a:pt x="12319" y="8192"/>
                </a:cubicBezTo>
                <a:cubicBezTo>
                  <a:pt x="12514" y="8198"/>
                  <a:pt x="12701" y="8180"/>
                  <a:pt x="12890" y="8223"/>
                </a:cubicBezTo>
              </a:path>
              <a:path w="12320" h="4637">
                <a:moveTo>
                  <a:pt x="13367" y="7112"/>
                </a:moveTo>
                <a:cubicBezTo>
                  <a:pt x="13391" y="7201"/>
                  <a:pt x="13398" y="7269"/>
                  <a:pt x="13398" y="7366"/>
                </a:cubicBezTo>
                <a:cubicBezTo>
                  <a:pt x="13398" y="7541"/>
                  <a:pt x="13417" y="7702"/>
                  <a:pt x="13430" y="7874"/>
                </a:cubicBezTo>
                <a:cubicBezTo>
                  <a:pt x="13443" y="8042"/>
                  <a:pt x="13398" y="8211"/>
                  <a:pt x="13398" y="8382"/>
                </a:cubicBezTo>
                <a:cubicBezTo>
                  <a:pt x="13398" y="8501"/>
                  <a:pt x="13386" y="8590"/>
                  <a:pt x="13367" y="8700"/>
                </a:cubicBezTo>
                <a:cubicBezTo>
                  <a:pt x="13367" y="8710"/>
                  <a:pt x="13367" y="8721"/>
                  <a:pt x="13367" y="8731"/>
                </a:cubicBezTo>
                <a:cubicBezTo>
                  <a:pt x="13337" y="8702"/>
                  <a:pt x="13342" y="8742"/>
                  <a:pt x="13335" y="8700"/>
                </a:cubicBezTo>
                <a:cubicBezTo>
                  <a:pt x="13300" y="8493"/>
                  <a:pt x="13350" y="8266"/>
                  <a:pt x="13367" y="8064"/>
                </a:cubicBezTo>
                <a:cubicBezTo>
                  <a:pt x="13382" y="7884"/>
                  <a:pt x="13384" y="7701"/>
                  <a:pt x="13430" y="7525"/>
                </a:cubicBezTo>
                <a:cubicBezTo>
                  <a:pt x="13462" y="7402"/>
                  <a:pt x="13513" y="7304"/>
                  <a:pt x="13589" y="7207"/>
                </a:cubicBezTo>
                <a:cubicBezTo>
                  <a:pt x="13618" y="7170"/>
                  <a:pt x="13697" y="7119"/>
                  <a:pt x="13748" y="7144"/>
                </a:cubicBezTo>
                <a:cubicBezTo>
                  <a:pt x="13798" y="7169"/>
                  <a:pt x="13859" y="7264"/>
                  <a:pt x="13875" y="7334"/>
                </a:cubicBezTo>
                <a:cubicBezTo>
                  <a:pt x="13905" y="7470"/>
                  <a:pt x="13927" y="7640"/>
                  <a:pt x="13938" y="7779"/>
                </a:cubicBezTo>
                <a:cubicBezTo>
                  <a:pt x="13961" y="8066"/>
                  <a:pt x="13931" y="8353"/>
                  <a:pt x="13970" y="8636"/>
                </a:cubicBezTo>
                <a:cubicBezTo>
                  <a:pt x="13977" y="8689"/>
                  <a:pt x="13974" y="8795"/>
                  <a:pt x="14034" y="8795"/>
                </a:cubicBezTo>
                <a:cubicBezTo>
                  <a:pt x="14044" y="8784"/>
                  <a:pt x="14055" y="8774"/>
                  <a:pt x="14065" y="8763"/>
                </a:cubicBezTo>
              </a:path>
              <a:path w="12320" h="4637">
                <a:moveTo>
                  <a:pt x="14478" y="7556"/>
                </a:moveTo>
                <a:cubicBezTo>
                  <a:pt x="14572" y="7580"/>
                  <a:pt x="14542" y="7657"/>
                  <a:pt x="14542" y="7747"/>
                </a:cubicBezTo>
                <a:cubicBezTo>
                  <a:pt x="14542" y="7911"/>
                  <a:pt x="14560" y="8063"/>
                  <a:pt x="14573" y="8223"/>
                </a:cubicBezTo>
                <a:cubicBezTo>
                  <a:pt x="14584" y="8354"/>
                  <a:pt x="14587" y="8484"/>
                  <a:pt x="14637" y="8604"/>
                </a:cubicBezTo>
                <a:cubicBezTo>
                  <a:pt x="14662" y="8656"/>
                  <a:pt x="14660" y="8678"/>
                  <a:pt x="14700" y="8668"/>
                </a:cubicBezTo>
              </a:path>
              <a:path w="12320" h="4637">
                <a:moveTo>
                  <a:pt x="14351" y="8192"/>
                </a:moveTo>
                <a:cubicBezTo>
                  <a:pt x="14298" y="8192"/>
                  <a:pt x="14393" y="8192"/>
                  <a:pt x="14446" y="8192"/>
                </a:cubicBezTo>
                <a:cubicBezTo>
                  <a:pt x="14569" y="8192"/>
                  <a:pt x="14675" y="8165"/>
                  <a:pt x="14796" y="8160"/>
                </a:cubicBezTo>
                <a:cubicBezTo>
                  <a:pt x="14870" y="8157"/>
                  <a:pt x="14944" y="8160"/>
                  <a:pt x="15018" y="8160"/>
                </a:cubicBezTo>
              </a:path>
              <a:path w="12320" h="4637">
                <a:moveTo>
                  <a:pt x="15176" y="7271"/>
                </a:moveTo>
                <a:cubicBezTo>
                  <a:pt x="15196" y="7210"/>
                  <a:pt x="15203" y="7137"/>
                  <a:pt x="15240" y="7080"/>
                </a:cubicBezTo>
                <a:cubicBezTo>
                  <a:pt x="15288" y="7006"/>
                  <a:pt x="15321" y="6963"/>
                  <a:pt x="15399" y="6922"/>
                </a:cubicBezTo>
                <a:cubicBezTo>
                  <a:pt x="15498" y="6869"/>
                  <a:pt x="15546" y="6879"/>
                  <a:pt x="15589" y="6985"/>
                </a:cubicBezTo>
                <a:cubicBezTo>
                  <a:pt x="15655" y="7147"/>
                  <a:pt x="15636" y="7235"/>
                  <a:pt x="15621" y="7398"/>
                </a:cubicBezTo>
                <a:cubicBezTo>
                  <a:pt x="15605" y="7574"/>
                  <a:pt x="15569" y="7733"/>
                  <a:pt x="15526" y="7906"/>
                </a:cubicBezTo>
                <a:cubicBezTo>
                  <a:pt x="15491" y="8047"/>
                  <a:pt x="15423" y="8182"/>
                  <a:pt x="15367" y="8318"/>
                </a:cubicBezTo>
                <a:cubicBezTo>
                  <a:pt x="15347" y="8368"/>
                  <a:pt x="15295" y="8521"/>
                  <a:pt x="15240" y="8541"/>
                </a:cubicBezTo>
                <a:cubicBezTo>
                  <a:pt x="15208" y="8541"/>
                  <a:pt x="15197" y="8541"/>
                  <a:pt x="15176" y="8541"/>
                </a:cubicBezTo>
                <a:cubicBezTo>
                  <a:pt x="15195" y="8490"/>
                  <a:pt x="15194" y="8418"/>
                  <a:pt x="15240" y="8382"/>
                </a:cubicBezTo>
                <a:cubicBezTo>
                  <a:pt x="15302" y="8333"/>
                  <a:pt x="15332" y="8318"/>
                  <a:pt x="15399" y="8350"/>
                </a:cubicBezTo>
                <a:cubicBezTo>
                  <a:pt x="15476" y="8386"/>
                  <a:pt x="15474" y="8435"/>
                  <a:pt x="15526" y="8509"/>
                </a:cubicBezTo>
                <a:cubicBezTo>
                  <a:pt x="15561" y="8559"/>
                  <a:pt x="15591" y="8608"/>
                  <a:pt x="15653" y="8636"/>
                </a:cubicBezTo>
                <a:cubicBezTo>
                  <a:pt x="15705" y="8660"/>
                  <a:pt x="15781" y="8680"/>
                  <a:pt x="15843" y="8668"/>
                </a:cubicBezTo>
                <a:cubicBezTo>
                  <a:pt x="15895" y="8658"/>
                  <a:pt x="16031" y="8610"/>
                  <a:pt x="16066" y="8572"/>
                </a:cubicBezTo>
                <a:cubicBezTo>
                  <a:pt x="16076" y="8551"/>
                  <a:pt x="16087" y="8530"/>
                  <a:pt x="16097" y="8509"/>
                </a:cubicBezTo>
              </a:path>
              <a:path w="12320" h="4637">
                <a:moveTo>
                  <a:pt x="16478" y="7334"/>
                </a:moveTo>
                <a:cubicBezTo>
                  <a:pt x="16478" y="7428"/>
                  <a:pt x="16507" y="7494"/>
                  <a:pt x="16510" y="7588"/>
                </a:cubicBezTo>
                <a:cubicBezTo>
                  <a:pt x="16518" y="7836"/>
                  <a:pt x="16507" y="8076"/>
                  <a:pt x="16542" y="8318"/>
                </a:cubicBezTo>
                <a:cubicBezTo>
                  <a:pt x="16549" y="8365"/>
                  <a:pt x="16542" y="8430"/>
                  <a:pt x="16542" y="8477"/>
                </a:cubicBezTo>
              </a:path>
              <a:path w="12320" h="4637">
                <a:moveTo>
                  <a:pt x="16161" y="7938"/>
                </a:moveTo>
                <a:cubicBezTo>
                  <a:pt x="16080" y="7938"/>
                  <a:pt x="16230" y="7938"/>
                  <a:pt x="16256" y="7938"/>
                </a:cubicBezTo>
                <a:cubicBezTo>
                  <a:pt x="16457" y="7938"/>
                  <a:pt x="16658" y="7938"/>
                  <a:pt x="16859" y="7938"/>
                </a:cubicBezTo>
              </a:path>
              <a:path w="12320" h="4637">
                <a:moveTo>
                  <a:pt x="17113" y="7239"/>
                </a:moveTo>
                <a:cubicBezTo>
                  <a:pt x="17089" y="7328"/>
                  <a:pt x="17082" y="7396"/>
                  <a:pt x="17082" y="7493"/>
                </a:cubicBezTo>
                <a:cubicBezTo>
                  <a:pt x="17082" y="7782"/>
                  <a:pt x="17077" y="8068"/>
                  <a:pt x="17113" y="8350"/>
                </a:cubicBezTo>
                <a:cubicBezTo>
                  <a:pt x="17122" y="8422"/>
                  <a:pt x="17113" y="8500"/>
                  <a:pt x="17113" y="8572"/>
                </a:cubicBezTo>
                <a:cubicBezTo>
                  <a:pt x="17113" y="8498"/>
                  <a:pt x="17113" y="8488"/>
                  <a:pt x="17113" y="8414"/>
                </a:cubicBezTo>
                <a:cubicBezTo>
                  <a:pt x="17113" y="8269"/>
                  <a:pt x="17131" y="8142"/>
                  <a:pt x="17145" y="8001"/>
                </a:cubicBezTo>
                <a:cubicBezTo>
                  <a:pt x="17161" y="7841"/>
                  <a:pt x="17158" y="7713"/>
                  <a:pt x="17208" y="7556"/>
                </a:cubicBezTo>
                <a:cubicBezTo>
                  <a:pt x="17242" y="7449"/>
                  <a:pt x="17307" y="7310"/>
                  <a:pt x="17399" y="7239"/>
                </a:cubicBezTo>
                <a:cubicBezTo>
                  <a:pt x="17453" y="7197"/>
                  <a:pt x="17519" y="7158"/>
                  <a:pt x="17590" y="7176"/>
                </a:cubicBezTo>
                <a:cubicBezTo>
                  <a:pt x="17632" y="7187"/>
                  <a:pt x="17711" y="7359"/>
                  <a:pt x="17716" y="7398"/>
                </a:cubicBezTo>
                <a:cubicBezTo>
                  <a:pt x="17767" y="7763"/>
                  <a:pt x="17691" y="8150"/>
                  <a:pt x="17748" y="8509"/>
                </a:cubicBezTo>
                <a:cubicBezTo>
                  <a:pt x="17764" y="8608"/>
                  <a:pt x="17771" y="8553"/>
                  <a:pt x="17812" y="8604"/>
                </a:cubicBezTo>
              </a:path>
              <a:path w="12320" h="4637">
                <a:moveTo>
                  <a:pt x="18193" y="7334"/>
                </a:moveTo>
                <a:cubicBezTo>
                  <a:pt x="18193" y="7662"/>
                  <a:pt x="18175" y="8002"/>
                  <a:pt x="18224" y="8318"/>
                </a:cubicBezTo>
                <a:cubicBezTo>
                  <a:pt x="18224" y="8371"/>
                  <a:pt x="18224" y="8382"/>
                  <a:pt x="18224" y="8414"/>
                </a:cubicBezTo>
              </a:path>
              <a:path w="12320" h="4637">
                <a:moveTo>
                  <a:pt x="18002" y="7906"/>
                </a:moveTo>
                <a:cubicBezTo>
                  <a:pt x="18088" y="7906"/>
                  <a:pt x="18146" y="7925"/>
                  <a:pt x="18224" y="7938"/>
                </a:cubicBezTo>
                <a:cubicBezTo>
                  <a:pt x="18320" y="7954"/>
                  <a:pt x="18453" y="7934"/>
                  <a:pt x="18542" y="7906"/>
                </a:cubicBezTo>
                <a:cubicBezTo>
                  <a:pt x="18563" y="7895"/>
                  <a:pt x="18585" y="7885"/>
                  <a:pt x="18606" y="7874"/>
                </a:cubicBezTo>
              </a:path>
              <a:path w="12320" h="4637">
                <a:moveTo>
                  <a:pt x="18828" y="7048"/>
                </a:moveTo>
                <a:cubicBezTo>
                  <a:pt x="18869" y="7075"/>
                  <a:pt x="18877" y="7199"/>
                  <a:pt x="18860" y="7271"/>
                </a:cubicBezTo>
                <a:cubicBezTo>
                  <a:pt x="18834" y="7379"/>
                  <a:pt x="18800" y="7474"/>
                  <a:pt x="18796" y="7588"/>
                </a:cubicBezTo>
                <a:cubicBezTo>
                  <a:pt x="18792" y="7699"/>
                  <a:pt x="18764" y="7794"/>
                  <a:pt x="18764" y="7906"/>
                </a:cubicBezTo>
                <a:cubicBezTo>
                  <a:pt x="18764" y="7972"/>
                  <a:pt x="18786" y="8018"/>
                  <a:pt x="18828" y="8064"/>
                </a:cubicBezTo>
                <a:cubicBezTo>
                  <a:pt x="18867" y="8108"/>
                  <a:pt x="18900" y="8096"/>
                  <a:pt x="18955" y="8096"/>
                </a:cubicBezTo>
                <a:cubicBezTo>
                  <a:pt x="19061" y="8096"/>
                  <a:pt x="19141" y="8087"/>
                  <a:pt x="19240" y="8064"/>
                </a:cubicBezTo>
                <a:cubicBezTo>
                  <a:pt x="19314" y="8047"/>
                  <a:pt x="19345" y="8022"/>
                  <a:pt x="19399" y="7969"/>
                </a:cubicBezTo>
                <a:cubicBezTo>
                  <a:pt x="19445" y="7925"/>
                  <a:pt x="19461" y="7897"/>
                  <a:pt x="19463" y="7842"/>
                </a:cubicBezTo>
              </a:path>
              <a:path w="12320" h="4637">
                <a:moveTo>
                  <a:pt x="19463" y="6922"/>
                </a:moveTo>
                <a:cubicBezTo>
                  <a:pt x="19463" y="7035"/>
                  <a:pt x="19459" y="7129"/>
                  <a:pt x="19431" y="7239"/>
                </a:cubicBezTo>
                <a:cubicBezTo>
                  <a:pt x="19391" y="7399"/>
                  <a:pt x="19395" y="7556"/>
                  <a:pt x="19368" y="7715"/>
                </a:cubicBezTo>
                <a:cubicBezTo>
                  <a:pt x="19332" y="7922"/>
                  <a:pt x="19310" y="8140"/>
                  <a:pt x="19304" y="8350"/>
                </a:cubicBezTo>
                <a:cubicBezTo>
                  <a:pt x="19301" y="8474"/>
                  <a:pt x="19336" y="8577"/>
                  <a:pt x="19336" y="8700"/>
                </a:cubicBezTo>
                <a:cubicBezTo>
                  <a:pt x="19336" y="8736"/>
                  <a:pt x="19339" y="8749"/>
                  <a:pt x="19368" y="8763"/>
                </a:cubicBezTo>
              </a:path>
              <a:path w="12320" h="4637">
                <a:moveTo>
                  <a:pt x="19907" y="7684"/>
                </a:moveTo>
                <a:cubicBezTo>
                  <a:pt x="19927" y="7713"/>
                  <a:pt x="20038" y="7737"/>
                  <a:pt x="20098" y="7747"/>
                </a:cubicBezTo>
                <a:cubicBezTo>
                  <a:pt x="20195" y="7763"/>
                  <a:pt x="20289" y="7758"/>
                  <a:pt x="20384" y="7779"/>
                </a:cubicBezTo>
                <a:cubicBezTo>
                  <a:pt x="20394" y="7779"/>
                  <a:pt x="20405" y="7779"/>
                  <a:pt x="20415" y="7779"/>
                </a:cubicBezTo>
              </a:path>
              <a:path w="12320" h="4637">
                <a:moveTo>
                  <a:pt x="19844" y="8192"/>
                </a:moveTo>
                <a:cubicBezTo>
                  <a:pt x="19977" y="8192"/>
                  <a:pt x="20095" y="8210"/>
                  <a:pt x="20225" y="8223"/>
                </a:cubicBezTo>
                <a:cubicBezTo>
                  <a:pt x="20320" y="8223"/>
                  <a:pt x="20352" y="8223"/>
                  <a:pt x="20415" y="8223"/>
                </a:cubicBezTo>
              </a:path>
              <a:path w="12320" h="4637">
                <a:moveTo>
                  <a:pt x="20510" y="7144"/>
                </a:moveTo>
                <a:cubicBezTo>
                  <a:pt x="20438" y="7144"/>
                  <a:pt x="20574" y="7115"/>
                  <a:pt x="20606" y="7112"/>
                </a:cubicBezTo>
                <a:cubicBezTo>
                  <a:pt x="20678" y="7105"/>
                  <a:pt x="20755" y="7112"/>
                  <a:pt x="20828" y="7112"/>
                </a:cubicBezTo>
              </a:path>
              <a:path w="12320" h="4637">
                <a:moveTo>
                  <a:pt x="21114" y="6826"/>
                </a:moveTo>
                <a:cubicBezTo>
                  <a:pt x="21121" y="6819"/>
                  <a:pt x="21182" y="6739"/>
                  <a:pt x="21209" y="6731"/>
                </a:cubicBezTo>
                <a:cubicBezTo>
                  <a:pt x="21273" y="6713"/>
                  <a:pt x="21339" y="6694"/>
                  <a:pt x="21400" y="6731"/>
                </a:cubicBezTo>
                <a:cubicBezTo>
                  <a:pt x="21492" y="6786"/>
                  <a:pt x="21506" y="6985"/>
                  <a:pt x="21495" y="7080"/>
                </a:cubicBezTo>
                <a:cubicBezTo>
                  <a:pt x="21476" y="7246"/>
                  <a:pt x="21408" y="7425"/>
                  <a:pt x="21368" y="7588"/>
                </a:cubicBezTo>
                <a:cubicBezTo>
                  <a:pt x="21327" y="7758"/>
                  <a:pt x="21235" y="7900"/>
                  <a:pt x="21177" y="8064"/>
                </a:cubicBezTo>
                <a:cubicBezTo>
                  <a:pt x="21146" y="8152"/>
                  <a:pt x="21105" y="8221"/>
                  <a:pt x="21050" y="8287"/>
                </a:cubicBezTo>
                <a:cubicBezTo>
                  <a:pt x="21057" y="8239"/>
                  <a:pt x="21058" y="8199"/>
                  <a:pt x="21082" y="8160"/>
                </a:cubicBezTo>
                <a:cubicBezTo>
                  <a:pt x="21126" y="8090"/>
                  <a:pt x="21165" y="8142"/>
                  <a:pt x="21209" y="8160"/>
                </a:cubicBezTo>
                <a:cubicBezTo>
                  <a:pt x="21268" y="8184"/>
                  <a:pt x="21328" y="8193"/>
                  <a:pt x="21368" y="8255"/>
                </a:cubicBezTo>
                <a:cubicBezTo>
                  <a:pt x="21419" y="8334"/>
                  <a:pt x="21436" y="8328"/>
                  <a:pt x="21495" y="8382"/>
                </a:cubicBezTo>
                <a:cubicBezTo>
                  <a:pt x="21505" y="8393"/>
                  <a:pt x="21516" y="8403"/>
                  <a:pt x="21526" y="8414"/>
                </a:cubicBezTo>
                <a:cubicBezTo>
                  <a:pt x="21594" y="8346"/>
                  <a:pt x="21590" y="8320"/>
                  <a:pt x="21590" y="8223"/>
                </a:cubicBezTo>
              </a:path>
              <a:path w="12320" h="4637">
                <a:moveTo>
                  <a:pt x="21685" y="6731"/>
                </a:moveTo>
                <a:cubicBezTo>
                  <a:pt x="21656" y="6731"/>
                  <a:pt x="21685" y="6774"/>
                  <a:pt x="21685" y="6858"/>
                </a:cubicBezTo>
                <a:cubicBezTo>
                  <a:pt x="21685" y="6993"/>
                  <a:pt x="21703" y="7110"/>
                  <a:pt x="21717" y="7239"/>
                </a:cubicBezTo>
                <a:cubicBezTo>
                  <a:pt x="21734" y="7393"/>
                  <a:pt x="21717" y="7559"/>
                  <a:pt x="21717" y="7715"/>
                </a:cubicBezTo>
                <a:cubicBezTo>
                  <a:pt x="21756" y="7702"/>
                  <a:pt x="21760" y="7663"/>
                  <a:pt x="21812" y="7652"/>
                </a:cubicBezTo>
                <a:cubicBezTo>
                  <a:pt x="21888" y="7636"/>
                  <a:pt x="21945" y="7672"/>
                  <a:pt x="22003" y="7684"/>
                </a:cubicBezTo>
                <a:cubicBezTo>
                  <a:pt x="22077" y="7699"/>
                  <a:pt x="22161" y="7734"/>
                  <a:pt x="22225" y="7747"/>
                </a:cubicBezTo>
                <a:cubicBezTo>
                  <a:pt x="22299" y="7762"/>
                  <a:pt x="22326" y="7749"/>
                  <a:pt x="22352" y="7715"/>
                </a:cubicBezTo>
                <a:cubicBezTo>
                  <a:pt x="22363" y="7705"/>
                  <a:pt x="22373" y="7694"/>
                  <a:pt x="22384" y="7684"/>
                </a:cubicBezTo>
              </a:path>
              <a:path w="12320" h="4637">
                <a:moveTo>
                  <a:pt x="22225" y="6509"/>
                </a:moveTo>
                <a:cubicBezTo>
                  <a:pt x="22225" y="6766"/>
                  <a:pt x="22238" y="7018"/>
                  <a:pt x="22257" y="7271"/>
                </a:cubicBezTo>
                <a:cubicBezTo>
                  <a:pt x="22273" y="7483"/>
                  <a:pt x="22306" y="7695"/>
                  <a:pt x="22320" y="7906"/>
                </a:cubicBezTo>
                <a:cubicBezTo>
                  <a:pt x="22328" y="8022"/>
                  <a:pt x="22269" y="8390"/>
                  <a:pt x="22352" y="8446"/>
                </a:cubicBezTo>
                <a:cubicBezTo>
                  <a:pt x="22352" y="8477"/>
                  <a:pt x="22352" y="8487"/>
                  <a:pt x="22352" y="8446"/>
                </a:cubicBezTo>
              </a:path>
              <a:path w="12320" h="4637">
                <a:moveTo>
                  <a:pt x="22955" y="6922"/>
                </a:moveTo>
                <a:cubicBezTo>
                  <a:pt x="22955" y="6846"/>
                  <a:pt x="22936" y="6792"/>
                  <a:pt x="22924" y="6731"/>
                </a:cubicBezTo>
                <a:cubicBezTo>
                  <a:pt x="22904" y="6627"/>
                  <a:pt x="22875" y="6644"/>
                  <a:pt x="22796" y="6572"/>
                </a:cubicBezTo>
                <a:cubicBezTo>
                  <a:pt x="22736" y="6517"/>
                  <a:pt x="22681" y="6536"/>
                  <a:pt x="22638" y="6604"/>
                </a:cubicBezTo>
                <a:cubicBezTo>
                  <a:pt x="22583" y="6690"/>
                  <a:pt x="22523" y="6821"/>
                  <a:pt x="22511" y="6922"/>
                </a:cubicBezTo>
                <a:cubicBezTo>
                  <a:pt x="22495" y="7050"/>
                  <a:pt x="22498" y="7213"/>
                  <a:pt x="22542" y="7334"/>
                </a:cubicBezTo>
                <a:cubicBezTo>
                  <a:pt x="22558" y="7379"/>
                  <a:pt x="22673" y="7497"/>
                  <a:pt x="22733" y="7493"/>
                </a:cubicBezTo>
                <a:cubicBezTo>
                  <a:pt x="22822" y="7488"/>
                  <a:pt x="22875" y="7423"/>
                  <a:pt x="22924" y="7366"/>
                </a:cubicBezTo>
                <a:cubicBezTo>
                  <a:pt x="23005" y="7274"/>
                  <a:pt x="23014" y="7175"/>
                  <a:pt x="23019" y="7048"/>
                </a:cubicBezTo>
                <a:cubicBezTo>
                  <a:pt x="23023" y="6943"/>
                  <a:pt x="23019" y="6836"/>
                  <a:pt x="23019" y="6731"/>
                </a:cubicBezTo>
                <a:cubicBezTo>
                  <a:pt x="23019" y="6801"/>
                  <a:pt x="23043" y="6859"/>
                  <a:pt x="23050" y="6922"/>
                </a:cubicBezTo>
                <a:cubicBezTo>
                  <a:pt x="23068" y="7091"/>
                  <a:pt x="23054" y="7262"/>
                  <a:pt x="23082" y="7430"/>
                </a:cubicBezTo>
                <a:cubicBezTo>
                  <a:pt x="23114" y="7622"/>
                  <a:pt x="23114" y="7804"/>
                  <a:pt x="23114" y="8001"/>
                </a:cubicBezTo>
                <a:cubicBezTo>
                  <a:pt x="23114" y="8266"/>
                  <a:pt x="23114" y="8530"/>
                  <a:pt x="23114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4"/>
          <p:cNvSpPr/>
          <p:nvPr/>
        </p:nvSpPr>
        <p:spPr>
          <a:xfrm>
            <a:off x="5189400" y="3360600"/>
            <a:ext cx="2297160" cy="925560"/>
          </a:xfrm>
          <a:custGeom>
            <a:avLst/>
            <a:gdLst/>
            <a:ahLst/>
            <a:rect l="l" t="t" r="r" b="b"/>
            <a:pathLst>
              <a:path w="6383" h="2573">
                <a:moveTo>
                  <a:pt x="14446" y="9874"/>
                </a:moveTo>
                <a:cubicBezTo>
                  <a:pt x="14460" y="9805"/>
                  <a:pt x="14456" y="9783"/>
                  <a:pt x="14478" y="9716"/>
                </a:cubicBezTo>
                <a:cubicBezTo>
                  <a:pt x="14503" y="9642"/>
                  <a:pt x="14588" y="9526"/>
                  <a:pt x="14637" y="9462"/>
                </a:cubicBezTo>
                <a:cubicBezTo>
                  <a:pt x="14690" y="9393"/>
                  <a:pt x="14765" y="9330"/>
                  <a:pt x="14859" y="9366"/>
                </a:cubicBezTo>
                <a:cubicBezTo>
                  <a:pt x="14911" y="9386"/>
                  <a:pt x="14977" y="9543"/>
                  <a:pt x="14986" y="9588"/>
                </a:cubicBezTo>
                <a:cubicBezTo>
                  <a:pt x="15006" y="9688"/>
                  <a:pt x="14923" y="9814"/>
                  <a:pt x="14891" y="9906"/>
                </a:cubicBezTo>
                <a:cubicBezTo>
                  <a:pt x="14855" y="10010"/>
                  <a:pt x="14828" y="10132"/>
                  <a:pt x="14764" y="10224"/>
                </a:cubicBezTo>
                <a:cubicBezTo>
                  <a:pt x="14732" y="10255"/>
                  <a:pt x="14721" y="10266"/>
                  <a:pt x="14700" y="10287"/>
                </a:cubicBezTo>
                <a:cubicBezTo>
                  <a:pt x="14729" y="10237"/>
                  <a:pt x="14748" y="10175"/>
                  <a:pt x="14827" y="10160"/>
                </a:cubicBezTo>
                <a:cubicBezTo>
                  <a:pt x="14896" y="10147"/>
                  <a:pt x="15000" y="10149"/>
                  <a:pt x="15050" y="10192"/>
                </a:cubicBezTo>
                <a:cubicBezTo>
                  <a:pt x="15152" y="10280"/>
                  <a:pt x="15171" y="10380"/>
                  <a:pt x="15176" y="10509"/>
                </a:cubicBezTo>
                <a:cubicBezTo>
                  <a:pt x="15181" y="10653"/>
                  <a:pt x="15170" y="10787"/>
                  <a:pt x="15113" y="10922"/>
                </a:cubicBezTo>
                <a:cubicBezTo>
                  <a:pt x="15059" y="11050"/>
                  <a:pt x="14982" y="11202"/>
                  <a:pt x="14891" y="11303"/>
                </a:cubicBezTo>
                <a:cubicBezTo>
                  <a:pt x="14838" y="11362"/>
                  <a:pt x="14730" y="11416"/>
                  <a:pt x="14668" y="11366"/>
                </a:cubicBezTo>
                <a:cubicBezTo>
                  <a:pt x="14592" y="11305"/>
                  <a:pt x="14584" y="11288"/>
                  <a:pt x="14573" y="11176"/>
                </a:cubicBezTo>
              </a:path>
              <a:path w="6383" h="2573">
                <a:moveTo>
                  <a:pt x="15208" y="10033"/>
                </a:moveTo>
                <a:cubicBezTo>
                  <a:pt x="15312" y="10033"/>
                  <a:pt x="15278" y="10079"/>
                  <a:pt x="15304" y="10160"/>
                </a:cubicBezTo>
                <a:cubicBezTo>
                  <a:pt x="15340" y="10272"/>
                  <a:pt x="15362" y="10389"/>
                  <a:pt x="15367" y="10509"/>
                </a:cubicBezTo>
                <a:cubicBezTo>
                  <a:pt x="15372" y="10650"/>
                  <a:pt x="15394" y="10782"/>
                  <a:pt x="15399" y="10922"/>
                </a:cubicBezTo>
                <a:cubicBezTo>
                  <a:pt x="15402" y="11016"/>
                  <a:pt x="15412" y="11101"/>
                  <a:pt x="15367" y="11176"/>
                </a:cubicBezTo>
                <a:cubicBezTo>
                  <a:pt x="15367" y="10939"/>
                  <a:pt x="15374" y="10709"/>
                  <a:pt x="15399" y="10478"/>
                </a:cubicBezTo>
                <a:cubicBezTo>
                  <a:pt x="15411" y="10368"/>
                  <a:pt x="15411" y="10230"/>
                  <a:pt x="15462" y="10128"/>
                </a:cubicBezTo>
                <a:cubicBezTo>
                  <a:pt x="15494" y="10064"/>
                  <a:pt x="15520" y="10033"/>
                  <a:pt x="15589" y="10033"/>
                </a:cubicBezTo>
                <a:cubicBezTo>
                  <a:pt x="15600" y="10033"/>
                  <a:pt x="15610" y="10033"/>
                  <a:pt x="15621" y="10033"/>
                </a:cubicBezTo>
                <a:cubicBezTo>
                  <a:pt x="15683" y="10111"/>
                  <a:pt x="15712" y="10185"/>
                  <a:pt x="15716" y="10287"/>
                </a:cubicBezTo>
                <a:cubicBezTo>
                  <a:pt x="15721" y="10441"/>
                  <a:pt x="15743" y="10580"/>
                  <a:pt x="15748" y="10732"/>
                </a:cubicBezTo>
                <a:cubicBezTo>
                  <a:pt x="15752" y="10852"/>
                  <a:pt x="15751" y="10966"/>
                  <a:pt x="15780" y="11081"/>
                </a:cubicBezTo>
                <a:cubicBezTo>
                  <a:pt x="15800" y="11160"/>
                  <a:pt x="15812" y="11171"/>
                  <a:pt x="15812" y="11240"/>
                </a:cubicBezTo>
              </a:path>
              <a:path w="6383" h="2573">
                <a:moveTo>
                  <a:pt x="16129" y="10096"/>
                </a:moveTo>
                <a:cubicBezTo>
                  <a:pt x="16235" y="10123"/>
                  <a:pt x="16203" y="10196"/>
                  <a:pt x="16224" y="10287"/>
                </a:cubicBezTo>
                <a:cubicBezTo>
                  <a:pt x="16253" y="10411"/>
                  <a:pt x="16255" y="10548"/>
                  <a:pt x="16288" y="10668"/>
                </a:cubicBezTo>
                <a:cubicBezTo>
                  <a:pt x="16308" y="10741"/>
                  <a:pt x="16346" y="10814"/>
                  <a:pt x="16351" y="10890"/>
                </a:cubicBezTo>
                <a:cubicBezTo>
                  <a:pt x="16351" y="10943"/>
                  <a:pt x="16351" y="10954"/>
                  <a:pt x="16351" y="10986"/>
                </a:cubicBezTo>
              </a:path>
              <a:path w="6383" h="2573">
                <a:moveTo>
                  <a:pt x="16097" y="10573"/>
                </a:moveTo>
                <a:cubicBezTo>
                  <a:pt x="16149" y="10560"/>
                  <a:pt x="16207" y="10519"/>
                  <a:pt x="16256" y="10509"/>
                </a:cubicBezTo>
                <a:cubicBezTo>
                  <a:pt x="16350" y="10490"/>
                  <a:pt x="16418" y="10519"/>
                  <a:pt x="16510" y="10478"/>
                </a:cubicBezTo>
                <a:cubicBezTo>
                  <a:pt x="16574" y="10446"/>
                  <a:pt x="16595" y="10436"/>
                  <a:pt x="16637" y="10414"/>
                </a:cubicBezTo>
              </a:path>
              <a:path w="6383" h="2573">
                <a:moveTo>
                  <a:pt x="16986" y="9398"/>
                </a:moveTo>
                <a:cubicBezTo>
                  <a:pt x="16974" y="9536"/>
                  <a:pt x="16959" y="9676"/>
                  <a:pt x="16923" y="9811"/>
                </a:cubicBezTo>
                <a:cubicBezTo>
                  <a:pt x="16880" y="9973"/>
                  <a:pt x="16863" y="10150"/>
                  <a:pt x="16859" y="10319"/>
                </a:cubicBezTo>
                <a:cubicBezTo>
                  <a:pt x="16855" y="10487"/>
                  <a:pt x="16873" y="10635"/>
                  <a:pt x="16891" y="10795"/>
                </a:cubicBezTo>
                <a:cubicBezTo>
                  <a:pt x="16903" y="10902"/>
                  <a:pt x="16911" y="10966"/>
                  <a:pt x="16986" y="11049"/>
                </a:cubicBezTo>
                <a:cubicBezTo>
                  <a:pt x="17037" y="11105"/>
                  <a:pt x="17125" y="11094"/>
                  <a:pt x="17177" y="11049"/>
                </a:cubicBezTo>
                <a:cubicBezTo>
                  <a:pt x="17270" y="10968"/>
                  <a:pt x="17309" y="10864"/>
                  <a:pt x="17367" y="10763"/>
                </a:cubicBezTo>
                <a:cubicBezTo>
                  <a:pt x="17434" y="10648"/>
                  <a:pt x="17474" y="10542"/>
                  <a:pt x="17494" y="10414"/>
                </a:cubicBezTo>
                <a:cubicBezTo>
                  <a:pt x="17507" y="10333"/>
                  <a:pt x="17491" y="10344"/>
                  <a:pt x="17462" y="10287"/>
                </a:cubicBezTo>
                <a:cubicBezTo>
                  <a:pt x="17394" y="10306"/>
                  <a:pt x="17380" y="10309"/>
                  <a:pt x="17336" y="10382"/>
                </a:cubicBezTo>
                <a:cubicBezTo>
                  <a:pt x="17279" y="10479"/>
                  <a:pt x="17241" y="10534"/>
                  <a:pt x="17208" y="10636"/>
                </a:cubicBezTo>
                <a:cubicBezTo>
                  <a:pt x="17183" y="10712"/>
                  <a:pt x="17154" y="10806"/>
                  <a:pt x="17177" y="10890"/>
                </a:cubicBezTo>
                <a:cubicBezTo>
                  <a:pt x="17190" y="10937"/>
                  <a:pt x="17203" y="10948"/>
                  <a:pt x="17240" y="10986"/>
                </a:cubicBezTo>
              </a:path>
              <a:path w="6383" h="2573">
                <a:moveTo>
                  <a:pt x="17875" y="9970"/>
                </a:moveTo>
                <a:cubicBezTo>
                  <a:pt x="17945" y="9970"/>
                  <a:pt x="17981" y="9990"/>
                  <a:pt x="18034" y="10001"/>
                </a:cubicBezTo>
                <a:cubicBezTo>
                  <a:pt x="18109" y="10017"/>
                  <a:pt x="18182" y="10016"/>
                  <a:pt x="18256" y="10033"/>
                </a:cubicBezTo>
                <a:cubicBezTo>
                  <a:pt x="18304" y="10044"/>
                  <a:pt x="18365" y="10033"/>
                  <a:pt x="18415" y="10033"/>
                </a:cubicBezTo>
              </a:path>
              <a:path w="6383" h="2573">
                <a:moveTo>
                  <a:pt x="17875" y="10446"/>
                </a:moveTo>
                <a:cubicBezTo>
                  <a:pt x="18023" y="10446"/>
                  <a:pt x="18172" y="10446"/>
                  <a:pt x="18320" y="10446"/>
                </a:cubicBezTo>
              </a:path>
              <a:path w="6383" h="2573">
                <a:moveTo>
                  <a:pt x="18542" y="9747"/>
                </a:moveTo>
                <a:cubicBezTo>
                  <a:pt x="18598" y="9747"/>
                  <a:pt x="18593" y="9745"/>
                  <a:pt x="18637" y="9779"/>
                </a:cubicBezTo>
                <a:cubicBezTo>
                  <a:pt x="18697" y="9743"/>
                  <a:pt x="18757" y="9745"/>
                  <a:pt x="18828" y="9716"/>
                </a:cubicBezTo>
              </a:path>
              <a:path w="6383" h="2573">
                <a:moveTo>
                  <a:pt x="19082" y="9588"/>
                </a:moveTo>
                <a:cubicBezTo>
                  <a:pt x="19095" y="9536"/>
                  <a:pt x="19119" y="9508"/>
                  <a:pt x="19145" y="9462"/>
                </a:cubicBezTo>
                <a:cubicBezTo>
                  <a:pt x="19197" y="9371"/>
                  <a:pt x="19199" y="9366"/>
                  <a:pt x="19304" y="9366"/>
                </a:cubicBezTo>
                <a:cubicBezTo>
                  <a:pt x="19394" y="9366"/>
                  <a:pt x="19442" y="9434"/>
                  <a:pt x="19463" y="9525"/>
                </a:cubicBezTo>
                <a:cubicBezTo>
                  <a:pt x="19490" y="9646"/>
                  <a:pt x="19446" y="9796"/>
                  <a:pt x="19399" y="9906"/>
                </a:cubicBezTo>
                <a:cubicBezTo>
                  <a:pt x="19333" y="10061"/>
                  <a:pt x="19288" y="10234"/>
                  <a:pt x="19209" y="10382"/>
                </a:cubicBezTo>
                <a:cubicBezTo>
                  <a:pt x="19184" y="10429"/>
                  <a:pt x="19116" y="10640"/>
                  <a:pt x="19082" y="10668"/>
                </a:cubicBezTo>
                <a:cubicBezTo>
                  <a:pt x="19071" y="10668"/>
                  <a:pt x="19061" y="10668"/>
                  <a:pt x="19050" y="10668"/>
                </a:cubicBezTo>
                <a:cubicBezTo>
                  <a:pt x="19064" y="10612"/>
                  <a:pt x="19102" y="10584"/>
                  <a:pt x="19145" y="10541"/>
                </a:cubicBezTo>
                <a:cubicBezTo>
                  <a:pt x="19166" y="10520"/>
                  <a:pt x="19275" y="10466"/>
                  <a:pt x="19304" y="10478"/>
                </a:cubicBezTo>
                <a:cubicBezTo>
                  <a:pt x="19368" y="10506"/>
                  <a:pt x="19402" y="10534"/>
                  <a:pt x="19463" y="10573"/>
                </a:cubicBezTo>
                <a:cubicBezTo>
                  <a:pt x="19521" y="10610"/>
                  <a:pt x="19555" y="10717"/>
                  <a:pt x="19622" y="10700"/>
                </a:cubicBezTo>
                <a:cubicBezTo>
                  <a:pt x="19622" y="10655"/>
                  <a:pt x="19628" y="10633"/>
                  <a:pt x="19653" y="10604"/>
                </a:cubicBezTo>
              </a:path>
              <a:path w="6383" h="2573">
                <a:moveTo>
                  <a:pt x="19748" y="9525"/>
                </a:moveTo>
                <a:cubicBezTo>
                  <a:pt x="19748" y="9597"/>
                  <a:pt x="19741" y="9694"/>
                  <a:pt x="19748" y="9747"/>
                </a:cubicBezTo>
                <a:cubicBezTo>
                  <a:pt x="19762" y="9857"/>
                  <a:pt x="19780" y="9949"/>
                  <a:pt x="19780" y="10065"/>
                </a:cubicBezTo>
                <a:cubicBezTo>
                  <a:pt x="19780" y="10111"/>
                  <a:pt x="19760" y="10198"/>
                  <a:pt x="19812" y="10224"/>
                </a:cubicBezTo>
                <a:cubicBezTo>
                  <a:pt x="19861" y="10249"/>
                  <a:pt x="20009" y="10241"/>
                  <a:pt x="20066" y="10255"/>
                </a:cubicBezTo>
                <a:cubicBezTo>
                  <a:pt x="20117" y="10267"/>
                  <a:pt x="20157" y="10255"/>
                  <a:pt x="20193" y="10224"/>
                </a:cubicBezTo>
                <a:cubicBezTo>
                  <a:pt x="20266" y="10160"/>
                  <a:pt x="20262" y="10095"/>
                  <a:pt x="20288" y="10001"/>
                </a:cubicBezTo>
              </a:path>
              <a:path w="6383" h="2573">
                <a:moveTo>
                  <a:pt x="20130" y="9366"/>
                </a:moveTo>
                <a:cubicBezTo>
                  <a:pt x="20130" y="9676"/>
                  <a:pt x="20136" y="9981"/>
                  <a:pt x="20161" y="10287"/>
                </a:cubicBezTo>
                <a:cubicBezTo>
                  <a:pt x="20175" y="10453"/>
                  <a:pt x="20156" y="10606"/>
                  <a:pt x="20193" y="10763"/>
                </a:cubicBezTo>
                <a:cubicBezTo>
                  <a:pt x="20193" y="10795"/>
                  <a:pt x="20193" y="10806"/>
                  <a:pt x="20225" y="10795"/>
                </a:cubicBezTo>
              </a:path>
              <a:path w="6383" h="2573">
                <a:moveTo>
                  <a:pt x="20701" y="9716"/>
                </a:moveTo>
                <a:cubicBezTo>
                  <a:pt x="20729" y="9632"/>
                  <a:pt x="20762" y="9491"/>
                  <a:pt x="20733" y="9398"/>
                </a:cubicBezTo>
                <a:cubicBezTo>
                  <a:pt x="20721" y="9361"/>
                  <a:pt x="20606" y="9323"/>
                  <a:pt x="20574" y="9334"/>
                </a:cubicBezTo>
                <a:cubicBezTo>
                  <a:pt x="20513" y="9354"/>
                  <a:pt x="20467" y="9475"/>
                  <a:pt x="20447" y="9525"/>
                </a:cubicBezTo>
                <a:cubicBezTo>
                  <a:pt x="20410" y="9619"/>
                  <a:pt x="20343" y="9775"/>
                  <a:pt x="20352" y="9874"/>
                </a:cubicBezTo>
                <a:cubicBezTo>
                  <a:pt x="20354" y="9894"/>
                  <a:pt x="20408" y="10037"/>
                  <a:pt x="20447" y="10033"/>
                </a:cubicBezTo>
                <a:cubicBezTo>
                  <a:pt x="20546" y="10022"/>
                  <a:pt x="20549" y="9947"/>
                  <a:pt x="20606" y="9874"/>
                </a:cubicBezTo>
                <a:cubicBezTo>
                  <a:pt x="20679" y="9780"/>
                  <a:pt x="20701" y="9686"/>
                  <a:pt x="20764" y="9588"/>
                </a:cubicBezTo>
                <a:cubicBezTo>
                  <a:pt x="20793" y="9560"/>
                  <a:pt x="20803" y="9545"/>
                  <a:pt x="20796" y="9588"/>
                </a:cubicBezTo>
                <a:cubicBezTo>
                  <a:pt x="20784" y="9686"/>
                  <a:pt x="20744" y="9775"/>
                  <a:pt x="20733" y="9874"/>
                </a:cubicBezTo>
                <a:cubicBezTo>
                  <a:pt x="20696" y="10200"/>
                  <a:pt x="20781" y="10540"/>
                  <a:pt x="20701" y="10858"/>
                </a:cubicBezTo>
              </a:path>
              <a:path w="6383" h="2573">
                <a:moveTo>
                  <a:pt x="16542" y="11494"/>
                </a:moveTo>
                <a:cubicBezTo>
                  <a:pt x="16600" y="11494"/>
                  <a:pt x="16617" y="11468"/>
                  <a:pt x="16669" y="11462"/>
                </a:cubicBezTo>
                <a:cubicBezTo>
                  <a:pt x="16739" y="11454"/>
                  <a:pt x="16770" y="11473"/>
                  <a:pt x="16828" y="11430"/>
                </a:cubicBezTo>
              </a:path>
              <a:path w="6383" h="2573">
                <a:moveTo>
                  <a:pt x="17113" y="11271"/>
                </a:moveTo>
                <a:cubicBezTo>
                  <a:pt x="17086" y="11280"/>
                  <a:pt x="17063" y="11327"/>
                  <a:pt x="17050" y="11366"/>
                </a:cubicBezTo>
                <a:cubicBezTo>
                  <a:pt x="17021" y="11452"/>
                  <a:pt x="17039" y="11533"/>
                  <a:pt x="17018" y="11620"/>
                </a:cubicBezTo>
                <a:cubicBezTo>
                  <a:pt x="17004" y="11680"/>
                  <a:pt x="16987" y="11785"/>
                  <a:pt x="17050" y="11843"/>
                </a:cubicBezTo>
                <a:cubicBezTo>
                  <a:pt x="17108" y="11897"/>
                  <a:pt x="17166" y="11906"/>
                  <a:pt x="17240" y="11906"/>
                </a:cubicBezTo>
                <a:cubicBezTo>
                  <a:pt x="17321" y="11906"/>
                  <a:pt x="17368" y="11855"/>
                  <a:pt x="17399" y="11779"/>
                </a:cubicBezTo>
                <a:cubicBezTo>
                  <a:pt x="17415" y="11739"/>
                  <a:pt x="17411" y="11642"/>
                  <a:pt x="17367" y="11620"/>
                </a:cubicBezTo>
                <a:cubicBezTo>
                  <a:pt x="17338" y="11605"/>
                  <a:pt x="17251" y="11616"/>
                  <a:pt x="17240" y="11652"/>
                </a:cubicBezTo>
                <a:cubicBezTo>
                  <a:pt x="17228" y="11691"/>
                  <a:pt x="17186" y="11799"/>
                  <a:pt x="17208" y="11843"/>
                </a:cubicBezTo>
                <a:cubicBezTo>
                  <a:pt x="17240" y="11874"/>
                  <a:pt x="17251" y="11885"/>
                  <a:pt x="17272" y="11906"/>
                </a:cubicBezTo>
              </a:path>
              <a:path w="6383" h="2573">
                <a:moveTo>
                  <a:pt x="19368" y="11271"/>
                </a:moveTo>
                <a:cubicBezTo>
                  <a:pt x="19441" y="11271"/>
                  <a:pt x="19499" y="11291"/>
                  <a:pt x="19558" y="11303"/>
                </a:cubicBezTo>
                <a:cubicBezTo>
                  <a:pt x="19634" y="11318"/>
                  <a:pt x="19734" y="11303"/>
                  <a:pt x="19812" y="11303"/>
                </a:cubicBezTo>
              </a:path>
              <a:path w="6383" h="2573">
                <a:moveTo>
                  <a:pt x="20066" y="11081"/>
                </a:moveTo>
                <a:cubicBezTo>
                  <a:pt x="20066" y="11151"/>
                  <a:pt x="20051" y="11172"/>
                  <a:pt x="20034" y="11240"/>
                </a:cubicBezTo>
                <a:cubicBezTo>
                  <a:pt x="20014" y="11318"/>
                  <a:pt x="20002" y="11377"/>
                  <a:pt x="20002" y="11462"/>
                </a:cubicBezTo>
                <a:cubicBezTo>
                  <a:pt x="20002" y="11548"/>
                  <a:pt x="20006" y="11586"/>
                  <a:pt x="20066" y="11652"/>
                </a:cubicBezTo>
                <a:cubicBezTo>
                  <a:pt x="20124" y="11716"/>
                  <a:pt x="20139" y="11716"/>
                  <a:pt x="20225" y="11716"/>
                </a:cubicBezTo>
                <a:cubicBezTo>
                  <a:pt x="20287" y="11716"/>
                  <a:pt x="20353" y="11722"/>
                  <a:pt x="20384" y="11652"/>
                </a:cubicBezTo>
                <a:cubicBezTo>
                  <a:pt x="20411" y="11592"/>
                  <a:pt x="20432" y="11554"/>
                  <a:pt x="20384" y="11494"/>
                </a:cubicBezTo>
                <a:cubicBezTo>
                  <a:pt x="20342" y="11441"/>
                  <a:pt x="20283" y="11466"/>
                  <a:pt x="20256" y="11525"/>
                </a:cubicBezTo>
                <a:cubicBezTo>
                  <a:pt x="20235" y="11572"/>
                  <a:pt x="20207" y="11636"/>
                  <a:pt x="20193" y="11684"/>
                </a:cubicBezTo>
                <a:cubicBezTo>
                  <a:pt x="20176" y="11740"/>
                  <a:pt x="20201" y="11727"/>
                  <a:pt x="20161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5"/>
          <p:cNvSpPr/>
          <p:nvPr/>
        </p:nvSpPr>
        <p:spPr>
          <a:xfrm>
            <a:off x="5394240" y="3932280"/>
            <a:ext cx="3738600" cy="1440000"/>
          </a:xfrm>
          <a:custGeom>
            <a:avLst/>
            <a:gdLst/>
            <a:ahLst/>
            <a:rect l="l" t="t" r="r" b="b"/>
            <a:pathLst>
              <a:path w="10383" h="4001">
                <a:moveTo>
                  <a:pt x="15018" y="12541"/>
                </a:moveTo>
                <a:cubicBezTo>
                  <a:pt x="15058" y="12528"/>
                  <a:pt x="15063" y="12500"/>
                  <a:pt x="15113" y="12478"/>
                </a:cubicBezTo>
                <a:cubicBezTo>
                  <a:pt x="15180" y="12449"/>
                  <a:pt x="15240" y="12395"/>
                  <a:pt x="15304" y="12382"/>
                </a:cubicBezTo>
                <a:cubicBezTo>
                  <a:pt x="15358" y="12371"/>
                  <a:pt x="15452" y="12388"/>
                  <a:pt x="15494" y="12414"/>
                </a:cubicBezTo>
                <a:cubicBezTo>
                  <a:pt x="15549" y="12447"/>
                  <a:pt x="15579" y="12510"/>
                  <a:pt x="15558" y="12573"/>
                </a:cubicBezTo>
                <a:cubicBezTo>
                  <a:pt x="15535" y="12641"/>
                  <a:pt x="15479" y="12683"/>
                  <a:pt x="15430" y="12732"/>
                </a:cubicBezTo>
                <a:cubicBezTo>
                  <a:pt x="15382" y="12780"/>
                  <a:pt x="15371" y="12795"/>
                  <a:pt x="15304" y="12795"/>
                </a:cubicBezTo>
                <a:cubicBezTo>
                  <a:pt x="15218" y="12795"/>
                  <a:pt x="15353" y="12795"/>
                  <a:pt x="15367" y="12795"/>
                </a:cubicBezTo>
                <a:cubicBezTo>
                  <a:pt x="15412" y="12795"/>
                  <a:pt x="15498" y="12851"/>
                  <a:pt x="15526" y="12890"/>
                </a:cubicBezTo>
                <a:cubicBezTo>
                  <a:pt x="15571" y="12952"/>
                  <a:pt x="15585" y="13070"/>
                  <a:pt x="15589" y="13144"/>
                </a:cubicBezTo>
                <a:cubicBezTo>
                  <a:pt x="15595" y="13254"/>
                  <a:pt x="15547" y="13286"/>
                  <a:pt x="15494" y="13367"/>
                </a:cubicBezTo>
                <a:cubicBezTo>
                  <a:pt x="15462" y="13416"/>
                  <a:pt x="15378" y="13503"/>
                  <a:pt x="15304" y="13494"/>
                </a:cubicBezTo>
                <a:cubicBezTo>
                  <a:pt x="15195" y="13481"/>
                  <a:pt x="15172" y="13446"/>
                  <a:pt x="15113" y="13367"/>
                </a:cubicBezTo>
                <a:cubicBezTo>
                  <a:pt x="15094" y="13342"/>
                  <a:pt x="15014" y="13270"/>
                  <a:pt x="15018" y="13240"/>
                </a:cubicBezTo>
                <a:cubicBezTo>
                  <a:pt x="15029" y="13219"/>
                  <a:pt x="15039" y="13197"/>
                  <a:pt x="15050" y="13176"/>
                </a:cubicBezTo>
              </a:path>
              <a:path w="10383" h="4001">
                <a:moveTo>
                  <a:pt x="15716" y="12827"/>
                </a:moveTo>
                <a:cubicBezTo>
                  <a:pt x="15730" y="12882"/>
                  <a:pt x="15768" y="12917"/>
                  <a:pt x="15748" y="12986"/>
                </a:cubicBezTo>
                <a:cubicBezTo>
                  <a:pt x="15719" y="13084"/>
                  <a:pt x="15737" y="13173"/>
                  <a:pt x="15716" y="13272"/>
                </a:cubicBezTo>
                <a:cubicBezTo>
                  <a:pt x="15692" y="13384"/>
                  <a:pt x="15684" y="13472"/>
                  <a:pt x="15684" y="13589"/>
                </a:cubicBezTo>
                <a:cubicBezTo>
                  <a:pt x="15684" y="13610"/>
                  <a:pt x="15684" y="13631"/>
                  <a:pt x="15684" y="13652"/>
                </a:cubicBezTo>
                <a:cubicBezTo>
                  <a:pt x="15632" y="13635"/>
                  <a:pt x="15653" y="13590"/>
                  <a:pt x="15653" y="13526"/>
                </a:cubicBezTo>
                <a:cubicBezTo>
                  <a:pt x="15653" y="13411"/>
                  <a:pt x="15653" y="13284"/>
                  <a:pt x="15684" y="13176"/>
                </a:cubicBezTo>
                <a:cubicBezTo>
                  <a:pt x="15706" y="13098"/>
                  <a:pt x="15733" y="12955"/>
                  <a:pt x="15780" y="12890"/>
                </a:cubicBezTo>
                <a:cubicBezTo>
                  <a:pt x="15847" y="12796"/>
                  <a:pt x="15889" y="12804"/>
                  <a:pt x="15970" y="12764"/>
                </a:cubicBezTo>
                <a:cubicBezTo>
                  <a:pt x="16048" y="12725"/>
                  <a:pt x="16022" y="12728"/>
                  <a:pt x="16066" y="12795"/>
                </a:cubicBezTo>
                <a:cubicBezTo>
                  <a:pt x="16101" y="12849"/>
                  <a:pt x="16114" y="12948"/>
                  <a:pt x="16097" y="13018"/>
                </a:cubicBezTo>
                <a:cubicBezTo>
                  <a:pt x="16070" y="13128"/>
                  <a:pt x="16012" y="13316"/>
                  <a:pt x="16034" y="13430"/>
                </a:cubicBezTo>
                <a:cubicBezTo>
                  <a:pt x="16049" y="13508"/>
                  <a:pt x="16073" y="13565"/>
                  <a:pt x="16129" y="13621"/>
                </a:cubicBezTo>
                <a:cubicBezTo>
                  <a:pt x="16164" y="13655"/>
                  <a:pt x="16238" y="13670"/>
                  <a:pt x="16288" y="13652"/>
                </a:cubicBezTo>
                <a:cubicBezTo>
                  <a:pt x="16369" y="13624"/>
                  <a:pt x="16379" y="13565"/>
                  <a:pt x="16415" y="13494"/>
                </a:cubicBezTo>
              </a:path>
              <a:path w="10383" h="4001">
                <a:moveTo>
                  <a:pt x="16542" y="12827"/>
                </a:moveTo>
                <a:cubicBezTo>
                  <a:pt x="16592" y="12840"/>
                  <a:pt x="16612" y="12859"/>
                  <a:pt x="16669" y="12859"/>
                </a:cubicBezTo>
                <a:cubicBezTo>
                  <a:pt x="16743" y="12859"/>
                  <a:pt x="16780" y="12890"/>
                  <a:pt x="16859" y="12890"/>
                </a:cubicBezTo>
                <a:cubicBezTo>
                  <a:pt x="16891" y="12890"/>
                  <a:pt x="16902" y="12890"/>
                  <a:pt x="16923" y="12890"/>
                </a:cubicBezTo>
              </a:path>
              <a:path w="10383" h="4001">
                <a:moveTo>
                  <a:pt x="16542" y="13240"/>
                </a:moveTo>
                <a:cubicBezTo>
                  <a:pt x="16542" y="13251"/>
                  <a:pt x="16542" y="13261"/>
                  <a:pt x="16542" y="13272"/>
                </a:cubicBezTo>
                <a:cubicBezTo>
                  <a:pt x="16617" y="13272"/>
                  <a:pt x="16673" y="13291"/>
                  <a:pt x="16732" y="13303"/>
                </a:cubicBezTo>
                <a:cubicBezTo>
                  <a:pt x="16817" y="13321"/>
                  <a:pt x="16839" y="13299"/>
                  <a:pt x="16923" y="13335"/>
                </a:cubicBezTo>
              </a:path>
              <a:path w="10383" h="4001">
                <a:moveTo>
                  <a:pt x="17208" y="12573"/>
                </a:moveTo>
                <a:cubicBezTo>
                  <a:pt x="17274" y="12623"/>
                  <a:pt x="17293" y="12575"/>
                  <a:pt x="17367" y="12605"/>
                </a:cubicBezTo>
                <a:cubicBezTo>
                  <a:pt x="17435" y="12633"/>
                  <a:pt x="17477" y="12636"/>
                  <a:pt x="17558" y="12636"/>
                </a:cubicBezTo>
                <a:cubicBezTo>
                  <a:pt x="17569" y="12636"/>
                  <a:pt x="17579" y="12636"/>
                  <a:pt x="17590" y="12636"/>
                </a:cubicBezTo>
              </a:path>
              <a:path w="10383" h="4001">
                <a:moveTo>
                  <a:pt x="18256" y="12256"/>
                </a:moveTo>
                <a:cubicBezTo>
                  <a:pt x="18239" y="12305"/>
                  <a:pt x="18205" y="12290"/>
                  <a:pt x="18161" y="12319"/>
                </a:cubicBezTo>
                <a:cubicBezTo>
                  <a:pt x="18132" y="12338"/>
                  <a:pt x="18074" y="12378"/>
                  <a:pt x="18066" y="12382"/>
                </a:cubicBezTo>
                <a:cubicBezTo>
                  <a:pt x="18034" y="12382"/>
                  <a:pt x="18023" y="12382"/>
                  <a:pt x="18034" y="12414"/>
                </a:cubicBezTo>
                <a:cubicBezTo>
                  <a:pt x="18046" y="12368"/>
                  <a:pt x="18081" y="12335"/>
                  <a:pt x="18129" y="12319"/>
                </a:cubicBezTo>
                <a:cubicBezTo>
                  <a:pt x="18159" y="12309"/>
                  <a:pt x="18217" y="12265"/>
                  <a:pt x="18256" y="12287"/>
                </a:cubicBezTo>
                <a:cubicBezTo>
                  <a:pt x="18286" y="12304"/>
                  <a:pt x="18372" y="12341"/>
                  <a:pt x="18383" y="12382"/>
                </a:cubicBezTo>
                <a:cubicBezTo>
                  <a:pt x="18401" y="12446"/>
                  <a:pt x="18385" y="12552"/>
                  <a:pt x="18352" y="12605"/>
                </a:cubicBezTo>
                <a:cubicBezTo>
                  <a:pt x="18299" y="12690"/>
                  <a:pt x="18250" y="12774"/>
                  <a:pt x="18193" y="12859"/>
                </a:cubicBezTo>
                <a:cubicBezTo>
                  <a:pt x="18146" y="12930"/>
                  <a:pt x="18115" y="13011"/>
                  <a:pt x="18066" y="13081"/>
                </a:cubicBezTo>
                <a:cubicBezTo>
                  <a:pt x="18035" y="13125"/>
                  <a:pt x="18015" y="13126"/>
                  <a:pt x="18002" y="13176"/>
                </a:cubicBezTo>
                <a:cubicBezTo>
                  <a:pt x="18058" y="13218"/>
                  <a:pt x="18070" y="13187"/>
                  <a:pt x="18129" y="13208"/>
                </a:cubicBezTo>
                <a:cubicBezTo>
                  <a:pt x="18218" y="13240"/>
                  <a:pt x="18201" y="13208"/>
                  <a:pt x="18288" y="13208"/>
                </a:cubicBezTo>
                <a:cubicBezTo>
                  <a:pt x="18356" y="13208"/>
                  <a:pt x="18366" y="13193"/>
                  <a:pt x="18415" y="13144"/>
                </a:cubicBezTo>
              </a:path>
              <a:path w="10383" h="4001">
                <a:moveTo>
                  <a:pt x="19050" y="12382"/>
                </a:moveTo>
                <a:cubicBezTo>
                  <a:pt x="18991" y="12382"/>
                  <a:pt x="18975" y="12410"/>
                  <a:pt x="18923" y="12414"/>
                </a:cubicBezTo>
                <a:cubicBezTo>
                  <a:pt x="18864" y="12418"/>
                  <a:pt x="18733" y="12381"/>
                  <a:pt x="18701" y="12446"/>
                </a:cubicBezTo>
                <a:cubicBezTo>
                  <a:pt x="18683" y="12483"/>
                  <a:pt x="18693" y="12537"/>
                  <a:pt x="18669" y="12573"/>
                </a:cubicBezTo>
                <a:cubicBezTo>
                  <a:pt x="18637" y="12620"/>
                  <a:pt x="18637" y="12611"/>
                  <a:pt x="18637" y="12668"/>
                </a:cubicBezTo>
                <a:cubicBezTo>
                  <a:pt x="18687" y="12655"/>
                  <a:pt x="18717" y="12620"/>
                  <a:pt x="18764" y="12605"/>
                </a:cubicBezTo>
                <a:cubicBezTo>
                  <a:pt x="18830" y="12584"/>
                  <a:pt x="18904" y="12607"/>
                  <a:pt x="18955" y="12636"/>
                </a:cubicBezTo>
                <a:cubicBezTo>
                  <a:pt x="19043" y="12686"/>
                  <a:pt x="19056" y="12717"/>
                  <a:pt x="19114" y="12795"/>
                </a:cubicBezTo>
                <a:cubicBezTo>
                  <a:pt x="19174" y="12876"/>
                  <a:pt x="19134" y="12930"/>
                  <a:pt x="19114" y="13018"/>
                </a:cubicBezTo>
                <a:cubicBezTo>
                  <a:pt x="19102" y="13069"/>
                  <a:pt x="19040" y="13130"/>
                  <a:pt x="18986" y="13144"/>
                </a:cubicBezTo>
                <a:cubicBezTo>
                  <a:pt x="18935" y="13157"/>
                  <a:pt x="18835" y="13137"/>
                  <a:pt x="18796" y="13113"/>
                </a:cubicBezTo>
                <a:cubicBezTo>
                  <a:pt x="18753" y="13087"/>
                  <a:pt x="18706" y="13032"/>
                  <a:pt x="18701" y="12986"/>
                </a:cubicBezTo>
                <a:cubicBezTo>
                  <a:pt x="18701" y="12975"/>
                  <a:pt x="18701" y="12965"/>
                  <a:pt x="18701" y="12954"/>
                </a:cubicBezTo>
              </a:path>
              <a:path w="10383" h="4001">
                <a:moveTo>
                  <a:pt x="19717" y="12382"/>
                </a:moveTo>
                <a:cubicBezTo>
                  <a:pt x="19705" y="12347"/>
                  <a:pt x="19673" y="12325"/>
                  <a:pt x="19622" y="12319"/>
                </a:cubicBezTo>
                <a:cubicBezTo>
                  <a:pt x="19546" y="12311"/>
                  <a:pt x="19503" y="12293"/>
                  <a:pt x="19431" y="12287"/>
                </a:cubicBezTo>
                <a:cubicBezTo>
                  <a:pt x="19395" y="12287"/>
                  <a:pt x="19382" y="12284"/>
                  <a:pt x="19368" y="12256"/>
                </a:cubicBezTo>
                <a:cubicBezTo>
                  <a:pt x="19368" y="12328"/>
                  <a:pt x="19356" y="12355"/>
                  <a:pt x="19336" y="12414"/>
                </a:cubicBezTo>
                <a:cubicBezTo>
                  <a:pt x="19321" y="12459"/>
                  <a:pt x="19309" y="12530"/>
                  <a:pt x="19304" y="12573"/>
                </a:cubicBezTo>
                <a:cubicBezTo>
                  <a:pt x="19304" y="12605"/>
                  <a:pt x="19304" y="12615"/>
                  <a:pt x="19304" y="12636"/>
                </a:cubicBezTo>
                <a:cubicBezTo>
                  <a:pt x="19350" y="12625"/>
                  <a:pt x="19389" y="12582"/>
                  <a:pt x="19431" y="12573"/>
                </a:cubicBezTo>
                <a:cubicBezTo>
                  <a:pt x="19485" y="12561"/>
                  <a:pt x="19580" y="12580"/>
                  <a:pt x="19622" y="12605"/>
                </a:cubicBezTo>
                <a:cubicBezTo>
                  <a:pt x="19672" y="12635"/>
                  <a:pt x="19698" y="12688"/>
                  <a:pt x="19717" y="12732"/>
                </a:cubicBezTo>
                <a:cubicBezTo>
                  <a:pt x="19751" y="12813"/>
                  <a:pt x="19748" y="12864"/>
                  <a:pt x="19748" y="12954"/>
                </a:cubicBezTo>
                <a:cubicBezTo>
                  <a:pt x="19748" y="13019"/>
                  <a:pt x="19727" y="13067"/>
                  <a:pt x="19685" y="13113"/>
                </a:cubicBezTo>
                <a:cubicBezTo>
                  <a:pt x="19627" y="13177"/>
                  <a:pt x="19596" y="13156"/>
                  <a:pt x="19526" y="13144"/>
                </a:cubicBezTo>
                <a:cubicBezTo>
                  <a:pt x="19468" y="13134"/>
                  <a:pt x="19419" y="13119"/>
                  <a:pt x="19368" y="13113"/>
                </a:cubicBezTo>
                <a:cubicBezTo>
                  <a:pt x="19357" y="13113"/>
                  <a:pt x="19347" y="13113"/>
                  <a:pt x="19336" y="13113"/>
                </a:cubicBezTo>
              </a:path>
              <a:path w="10383" h="4001">
                <a:moveTo>
                  <a:pt x="14986" y="13843"/>
                </a:moveTo>
                <a:cubicBezTo>
                  <a:pt x="15066" y="13843"/>
                  <a:pt x="15101" y="13814"/>
                  <a:pt x="15176" y="13811"/>
                </a:cubicBezTo>
                <a:cubicBezTo>
                  <a:pt x="15296" y="13806"/>
                  <a:pt x="15409" y="13785"/>
                  <a:pt x="15526" y="13780"/>
                </a:cubicBezTo>
                <a:cubicBezTo>
                  <a:pt x="15638" y="13775"/>
                  <a:pt x="15774" y="13800"/>
                  <a:pt x="15875" y="13843"/>
                </a:cubicBezTo>
                <a:cubicBezTo>
                  <a:pt x="15904" y="13855"/>
                  <a:pt x="16053" y="13890"/>
                  <a:pt x="16066" y="13906"/>
                </a:cubicBezTo>
                <a:cubicBezTo>
                  <a:pt x="16066" y="13917"/>
                  <a:pt x="16066" y="13927"/>
                  <a:pt x="16066" y="13938"/>
                </a:cubicBezTo>
              </a:path>
              <a:path w="10383" h="4001">
                <a:moveTo>
                  <a:pt x="15494" y="14256"/>
                </a:moveTo>
                <a:cubicBezTo>
                  <a:pt x="15483" y="14256"/>
                  <a:pt x="15473" y="14256"/>
                  <a:pt x="15462" y="14256"/>
                </a:cubicBezTo>
                <a:cubicBezTo>
                  <a:pt x="15479" y="14206"/>
                  <a:pt x="15513" y="14222"/>
                  <a:pt x="15558" y="14192"/>
                </a:cubicBezTo>
                <a:cubicBezTo>
                  <a:pt x="15603" y="14161"/>
                  <a:pt x="15635" y="14114"/>
                  <a:pt x="15684" y="14097"/>
                </a:cubicBezTo>
                <a:cubicBezTo>
                  <a:pt x="15745" y="14076"/>
                  <a:pt x="15762" y="14120"/>
                  <a:pt x="15780" y="14129"/>
                </a:cubicBezTo>
                <a:cubicBezTo>
                  <a:pt x="15842" y="14160"/>
                  <a:pt x="15811" y="14224"/>
                  <a:pt x="15780" y="14288"/>
                </a:cubicBezTo>
                <a:cubicBezTo>
                  <a:pt x="15761" y="14328"/>
                  <a:pt x="15747" y="14457"/>
                  <a:pt x="15716" y="14478"/>
                </a:cubicBezTo>
                <a:cubicBezTo>
                  <a:pt x="15705" y="14478"/>
                  <a:pt x="15695" y="14478"/>
                  <a:pt x="15684" y="14478"/>
                </a:cubicBezTo>
                <a:cubicBezTo>
                  <a:pt x="15734" y="14465"/>
                  <a:pt x="15755" y="14446"/>
                  <a:pt x="15812" y="14446"/>
                </a:cubicBezTo>
                <a:cubicBezTo>
                  <a:pt x="15871" y="14446"/>
                  <a:pt x="15893" y="14438"/>
                  <a:pt x="15938" y="14478"/>
                </a:cubicBezTo>
                <a:cubicBezTo>
                  <a:pt x="15990" y="14525"/>
                  <a:pt x="15970" y="14602"/>
                  <a:pt x="15970" y="14668"/>
                </a:cubicBezTo>
                <a:cubicBezTo>
                  <a:pt x="15970" y="14738"/>
                  <a:pt x="15920" y="14809"/>
                  <a:pt x="15875" y="14859"/>
                </a:cubicBezTo>
                <a:cubicBezTo>
                  <a:pt x="15830" y="14909"/>
                  <a:pt x="15814" y="14922"/>
                  <a:pt x="15748" y="14922"/>
                </a:cubicBezTo>
                <a:cubicBezTo>
                  <a:pt x="15737" y="14922"/>
                  <a:pt x="15727" y="14922"/>
                  <a:pt x="15716" y="14922"/>
                </a:cubicBezTo>
              </a:path>
              <a:path w="10383" h="4001">
                <a:moveTo>
                  <a:pt x="18066" y="13621"/>
                </a:moveTo>
                <a:cubicBezTo>
                  <a:pt x="18171" y="13600"/>
                  <a:pt x="18243" y="13514"/>
                  <a:pt x="18352" y="13494"/>
                </a:cubicBezTo>
                <a:cubicBezTo>
                  <a:pt x="18457" y="13475"/>
                  <a:pt x="18597" y="13472"/>
                  <a:pt x="18701" y="13462"/>
                </a:cubicBezTo>
                <a:cubicBezTo>
                  <a:pt x="18859" y="13447"/>
                  <a:pt x="18972" y="13398"/>
                  <a:pt x="19114" y="13367"/>
                </a:cubicBezTo>
                <a:cubicBezTo>
                  <a:pt x="19232" y="13341"/>
                  <a:pt x="19314" y="13367"/>
                  <a:pt x="19399" y="13430"/>
                </a:cubicBezTo>
              </a:path>
              <a:path w="10383" h="4001">
                <a:moveTo>
                  <a:pt x="18606" y="13780"/>
                </a:moveTo>
                <a:cubicBezTo>
                  <a:pt x="18618" y="13743"/>
                  <a:pt x="18649" y="13722"/>
                  <a:pt x="18701" y="13716"/>
                </a:cubicBezTo>
                <a:cubicBezTo>
                  <a:pt x="18756" y="13710"/>
                  <a:pt x="18780" y="13668"/>
                  <a:pt x="18828" y="13652"/>
                </a:cubicBezTo>
                <a:cubicBezTo>
                  <a:pt x="18859" y="13642"/>
                  <a:pt x="18889" y="13692"/>
                  <a:pt x="18891" y="13716"/>
                </a:cubicBezTo>
                <a:cubicBezTo>
                  <a:pt x="18897" y="13800"/>
                  <a:pt x="18877" y="13868"/>
                  <a:pt x="18828" y="13938"/>
                </a:cubicBezTo>
                <a:cubicBezTo>
                  <a:pt x="18799" y="13980"/>
                  <a:pt x="18763" y="14024"/>
                  <a:pt x="18732" y="14034"/>
                </a:cubicBezTo>
                <a:cubicBezTo>
                  <a:pt x="18775" y="13991"/>
                  <a:pt x="18819" y="13966"/>
                  <a:pt x="18860" y="13938"/>
                </a:cubicBezTo>
                <a:cubicBezTo>
                  <a:pt x="18919" y="13898"/>
                  <a:pt x="18927" y="13932"/>
                  <a:pt x="18955" y="13970"/>
                </a:cubicBezTo>
                <a:cubicBezTo>
                  <a:pt x="19013" y="14049"/>
                  <a:pt x="18969" y="14087"/>
                  <a:pt x="18955" y="14160"/>
                </a:cubicBezTo>
                <a:cubicBezTo>
                  <a:pt x="18931" y="14283"/>
                  <a:pt x="18898" y="14295"/>
                  <a:pt x="18828" y="14383"/>
                </a:cubicBezTo>
                <a:cubicBezTo>
                  <a:pt x="18761" y="14466"/>
                  <a:pt x="18749" y="14478"/>
                  <a:pt x="18637" y="14478"/>
                </a:cubicBezTo>
              </a:path>
              <a:path w="10383" h="4001">
                <a:moveTo>
                  <a:pt x="20415" y="12764"/>
                </a:moveTo>
                <a:cubicBezTo>
                  <a:pt x="20478" y="12764"/>
                  <a:pt x="20526" y="12742"/>
                  <a:pt x="20574" y="12732"/>
                </a:cubicBezTo>
                <a:cubicBezTo>
                  <a:pt x="20653" y="12716"/>
                  <a:pt x="20718" y="12688"/>
                  <a:pt x="20796" y="12668"/>
                </a:cubicBezTo>
                <a:cubicBezTo>
                  <a:pt x="20844" y="12656"/>
                  <a:pt x="20878" y="12648"/>
                  <a:pt x="20923" y="12636"/>
                </a:cubicBezTo>
              </a:path>
              <a:path w="10383" h="4001">
                <a:moveTo>
                  <a:pt x="21622" y="12319"/>
                </a:moveTo>
                <a:cubicBezTo>
                  <a:pt x="21615" y="12299"/>
                  <a:pt x="21592" y="12241"/>
                  <a:pt x="21558" y="12224"/>
                </a:cubicBezTo>
                <a:cubicBezTo>
                  <a:pt x="21490" y="12190"/>
                  <a:pt x="21323" y="12229"/>
                  <a:pt x="21272" y="12256"/>
                </a:cubicBezTo>
                <a:cubicBezTo>
                  <a:pt x="21225" y="12281"/>
                  <a:pt x="21138" y="12328"/>
                  <a:pt x="21114" y="12382"/>
                </a:cubicBezTo>
                <a:cubicBezTo>
                  <a:pt x="21089" y="12437"/>
                  <a:pt x="21138" y="12472"/>
                  <a:pt x="21146" y="12510"/>
                </a:cubicBezTo>
                <a:cubicBezTo>
                  <a:pt x="21169" y="12618"/>
                  <a:pt x="21183" y="12601"/>
                  <a:pt x="21272" y="12668"/>
                </a:cubicBezTo>
                <a:cubicBezTo>
                  <a:pt x="21339" y="12719"/>
                  <a:pt x="21390" y="12802"/>
                  <a:pt x="21431" y="12859"/>
                </a:cubicBezTo>
                <a:cubicBezTo>
                  <a:pt x="21460" y="12900"/>
                  <a:pt x="21491" y="12994"/>
                  <a:pt x="21463" y="13049"/>
                </a:cubicBezTo>
                <a:cubicBezTo>
                  <a:pt x="21431" y="13112"/>
                  <a:pt x="21423" y="13153"/>
                  <a:pt x="21368" y="13208"/>
                </a:cubicBezTo>
                <a:cubicBezTo>
                  <a:pt x="21329" y="13247"/>
                  <a:pt x="21323" y="13240"/>
                  <a:pt x="21272" y="13240"/>
                </a:cubicBezTo>
                <a:cubicBezTo>
                  <a:pt x="21272" y="13154"/>
                  <a:pt x="21269" y="13097"/>
                  <a:pt x="21304" y="13018"/>
                </a:cubicBezTo>
                <a:cubicBezTo>
                  <a:pt x="21364" y="12883"/>
                  <a:pt x="21405" y="12741"/>
                  <a:pt x="21463" y="12605"/>
                </a:cubicBezTo>
                <a:cubicBezTo>
                  <a:pt x="21496" y="12529"/>
                  <a:pt x="21561" y="12454"/>
                  <a:pt x="21590" y="12382"/>
                </a:cubicBezTo>
                <a:cubicBezTo>
                  <a:pt x="21607" y="12340"/>
                  <a:pt x="21617" y="12324"/>
                  <a:pt x="21654" y="12287"/>
                </a:cubicBezTo>
              </a:path>
              <a:path w="10383" h="4001">
                <a:moveTo>
                  <a:pt x="22066" y="12224"/>
                </a:moveTo>
                <a:cubicBezTo>
                  <a:pt x="22001" y="12224"/>
                  <a:pt x="21991" y="12238"/>
                  <a:pt x="21939" y="12256"/>
                </a:cubicBezTo>
                <a:cubicBezTo>
                  <a:pt x="21891" y="12272"/>
                  <a:pt x="21824" y="12274"/>
                  <a:pt x="21780" y="12287"/>
                </a:cubicBezTo>
                <a:cubicBezTo>
                  <a:pt x="21712" y="12307"/>
                  <a:pt x="21779" y="12329"/>
                  <a:pt x="21749" y="12382"/>
                </a:cubicBezTo>
                <a:cubicBezTo>
                  <a:pt x="21710" y="12451"/>
                  <a:pt x="21692" y="12556"/>
                  <a:pt x="21685" y="12636"/>
                </a:cubicBezTo>
                <a:cubicBezTo>
                  <a:pt x="21682" y="12677"/>
                  <a:pt x="21663" y="12693"/>
                  <a:pt x="21654" y="12732"/>
                </a:cubicBezTo>
                <a:cubicBezTo>
                  <a:pt x="21691" y="12719"/>
                  <a:pt x="21708" y="12677"/>
                  <a:pt x="21749" y="12636"/>
                </a:cubicBezTo>
                <a:cubicBezTo>
                  <a:pt x="21799" y="12586"/>
                  <a:pt x="21834" y="12548"/>
                  <a:pt x="21908" y="12541"/>
                </a:cubicBezTo>
                <a:cubicBezTo>
                  <a:pt x="21967" y="12535"/>
                  <a:pt x="22035" y="12588"/>
                  <a:pt x="22066" y="12636"/>
                </a:cubicBezTo>
                <a:cubicBezTo>
                  <a:pt x="22107" y="12700"/>
                  <a:pt x="22114" y="12815"/>
                  <a:pt x="22098" y="12890"/>
                </a:cubicBezTo>
                <a:cubicBezTo>
                  <a:pt x="22078" y="12979"/>
                  <a:pt x="22024" y="13100"/>
                  <a:pt x="21971" y="13176"/>
                </a:cubicBezTo>
                <a:cubicBezTo>
                  <a:pt x="21945" y="13213"/>
                  <a:pt x="21861" y="13267"/>
                  <a:pt x="21812" y="13240"/>
                </a:cubicBezTo>
                <a:cubicBezTo>
                  <a:pt x="21770" y="13217"/>
                  <a:pt x="21733" y="13191"/>
                  <a:pt x="21717" y="13144"/>
                </a:cubicBezTo>
                <a:cubicBezTo>
                  <a:pt x="21717" y="13134"/>
                  <a:pt x="21717" y="13123"/>
                  <a:pt x="21717" y="13113"/>
                </a:cubicBezTo>
              </a:path>
              <a:path w="10383" h="4001">
                <a:moveTo>
                  <a:pt x="22384" y="13113"/>
                </a:moveTo>
                <a:cubicBezTo>
                  <a:pt x="22384" y="13276"/>
                  <a:pt x="22365" y="13429"/>
                  <a:pt x="22352" y="13589"/>
                </a:cubicBezTo>
                <a:cubicBezTo>
                  <a:pt x="22352" y="13717"/>
                  <a:pt x="22352" y="13761"/>
                  <a:pt x="22320" y="13843"/>
                </a:cubicBezTo>
              </a:path>
              <a:path w="10383" h="4001">
                <a:moveTo>
                  <a:pt x="22479" y="12287"/>
                </a:moveTo>
                <a:cubicBezTo>
                  <a:pt x="22542" y="12287"/>
                  <a:pt x="22554" y="12273"/>
                  <a:pt x="22606" y="12256"/>
                </a:cubicBezTo>
                <a:cubicBezTo>
                  <a:pt x="22658" y="12239"/>
                  <a:pt x="22716" y="12240"/>
                  <a:pt x="22765" y="12224"/>
                </a:cubicBezTo>
                <a:cubicBezTo>
                  <a:pt x="22775" y="12224"/>
                  <a:pt x="22786" y="12224"/>
                  <a:pt x="22796" y="12224"/>
                </a:cubicBezTo>
              </a:path>
              <a:path w="10383" h="4001">
                <a:moveTo>
                  <a:pt x="23209" y="12002"/>
                </a:moveTo>
                <a:cubicBezTo>
                  <a:pt x="23171" y="11973"/>
                  <a:pt x="23105" y="11947"/>
                  <a:pt x="23050" y="11970"/>
                </a:cubicBezTo>
                <a:cubicBezTo>
                  <a:pt x="22989" y="11996"/>
                  <a:pt x="22943" y="12046"/>
                  <a:pt x="22892" y="12097"/>
                </a:cubicBezTo>
                <a:cubicBezTo>
                  <a:pt x="22846" y="12143"/>
                  <a:pt x="22825" y="12198"/>
                  <a:pt x="22796" y="12256"/>
                </a:cubicBezTo>
              </a:path>
              <a:path w="10383" h="4001">
                <a:moveTo>
                  <a:pt x="22765" y="12414"/>
                </a:moveTo>
                <a:cubicBezTo>
                  <a:pt x="22808" y="12458"/>
                  <a:pt x="22849" y="12482"/>
                  <a:pt x="22892" y="12510"/>
                </a:cubicBezTo>
                <a:cubicBezTo>
                  <a:pt x="22955" y="12551"/>
                  <a:pt x="23021" y="12565"/>
                  <a:pt x="23082" y="12605"/>
                </a:cubicBezTo>
                <a:cubicBezTo>
                  <a:pt x="23116" y="12627"/>
                  <a:pt x="23170" y="12697"/>
                  <a:pt x="23178" y="12732"/>
                </a:cubicBezTo>
                <a:cubicBezTo>
                  <a:pt x="23191" y="12794"/>
                  <a:pt x="23171" y="12904"/>
                  <a:pt x="23146" y="12954"/>
                </a:cubicBezTo>
                <a:cubicBezTo>
                  <a:pt x="23123" y="13000"/>
                  <a:pt x="23062" y="13038"/>
                  <a:pt x="23019" y="13049"/>
                </a:cubicBezTo>
                <a:cubicBezTo>
                  <a:pt x="22951" y="12966"/>
                  <a:pt x="22955" y="12935"/>
                  <a:pt x="22955" y="12827"/>
                </a:cubicBezTo>
                <a:cubicBezTo>
                  <a:pt x="22955" y="12700"/>
                  <a:pt x="22978" y="12629"/>
                  <a:pt x="23019" y="12510"/>
                </a:cubicBezTo>
                <a:cubicBezTo>
                  <a:pt x="23054" y="12409"/>
                  <a:pt x="23051" y="12315"/>
                  <a:pt x="23114" y="12224"/>
                </a:cubicBezTo>
                <a:cubicBezTo>
                  <a:pt x="23146" y="12192"/>
                  <a:pt x="23157" y="12181"/>
                  <a:pt x="23178" y="12160"/>
                </a:cubicBezTo>
              </a:path>
              <a:path w="10383" h="4001">
                <a:moveTo>
                  <a:pt x="23368" y="11970"/>
                </a:moveTo>
                <a:cubicBezTo>
                  <a:pt x="23410" y="11938"/>
                  <a:pt x="23422" y="11895"/>
                  <a:pt x="23463" y="11874"/>
                </a:cubicBezTo>
                <a:cubicBezTo>
                  <a:pt x="23503" y="11854"/>
                  <a:pt x="23540" y="11843"/>
                  <a:pt x="23590" y="11843"/>
                </a:cubicBezTo>
                <a:cubicBezTo>
                  <a:pt x="23645" y="11843"/>
                  <a:pt x="23667" y="11849"/>
                  <a:pt x="23686" y="11906"/>
                </a:cubicBezTo>
                <a:cubicBezTo>
                  <a:pt x="23701" y="11951"/>
                  <a:pt x="23641" y="12085"/>
                  <a:pt x="23622" y="12128"/>
                </a:cubicBezTo>
                <a:cubicBezTo>
                  <a:pt x="23587" y="12207"/>
                  <a:pt x="23521" y="12266"/>
                  <a:pt x="23495" y="12351"/>
                </a:cubicBezTo>
                <a:cubicBezTo>
                  <a:pt x="23483" y="12390"/>
                  <a:pt x="23470" y="12401"/>
                  <a:pt x="23432" y="12414"/>
                </a:cubicBezTo>
                <a:cubicBezTo>
                  <a:pt x="23467" y="12367"/>
                  <a:pt x="23471" y="12351"/>
                  <a:pt x="23495" y="12319"/>
                </a:cubicBezTo>
                <a:cubicBezTo>
                  <a:pt x="23535" y="12266"/>
                  <a:pt x="23560" y="12256"/>
                  <a:pt x="23622" y="12256"/>
                </a:cubicBezTo>
                <a:cubicBezTo>
                  <a:pt x="23667" y="12256"/>
                  <a:pt x="23714" y="12283"/>
                  <a:pt x="23717" y="12319"/>
                </a:cubicBezTo>
                <a:cubicBezTo>
                  <a:pt x="23725" y="12421"/>
                  <a:pt x="23735" y="12435"/>
                  <a:pt x="23717" y="12541"/>
                </a:cubicBezTo>
                <a:cubicBezTo>
                  <a:pt x="23706" y="12604"/>
                  <a:pt x="23720" y="12675"/>
                  <a:pt x="23686" y="12732"/>
                </a:cubicBezTo>
                <a:cubicBezTo>
                  <a:pt x="23654" y="12785"/>
                  <a:pt x="23552" y="12884"/>
                  <a:pt x="23495" y="12890"/>
                </a:cubicBezTo>
                <a:cubicBezTo>
                  <a:pt x="23466" y="12893"/>
                  <a:pt x="23382" y="12855"/>
                  <a:pt x="23368" y="12827"/>
                </a:cubicBezTo>
                <a:cubicBezTo>
                  <a:pt x="23368" y="12816"/>
                  <a:pt x="23368" y="12806"/>
                  <a:pt x="23368" y="12795"/>
                </a:cubicBezTo>
              </a:path>
              <a:path w="10383" h="4001">
                <a:moveTo>
                  <a:pt x="24003" y="12605"/>
                </a:moveTo>
                <a:cubicBezTo>
                  <a:pt x="24003" y="12712"/>
                  <a:pt x="23997" y="12786"/>
                  <a:pt x="23971" y="12890"/>
                </a:cubicBezTo>
                <a:cubicBezTo>
                  <a:pt x="23935" y="13031"/>
                  <a:pt x="23916" y="13162"/>
                  <a:pt x="23876" y="13303"/>
                </a:cubicBezTo>
                <a:cubicBezTo>
                  <a:pt x="23849" y="13408"/>
                  <a:pt x="23839" y="13428"/>
                  <a:pt x="23844" y="13494"/>
                </a:cubicBezTo>
              </a:path>
              <a:path w="10383" h="4001">
                <a:moveTo>
                  <a:pt x="24130" y="12097"/>
                </a:moveTo>
                <a:cubicBezTo>
                  <a:pt x="24130" y="12086"/>
                  <a:pt x="24130" y="12076"/>
                  <a:pt x="24130" y="12065"/>
                </a:cubicBezTo>
                <a:cubicBezTo>
                  <a:pt x="24189" y="12065"/>
                  <a:pt x="24205" y="12039"/>
                  <a:pt x="24257" y="12033"/>
                </a:cubicBezTo>
                <a:cubicBezTo>
                  <a:pt x="24309" y="12027"/>
                  <a:pt x="24326" y="12002"/>
                  <a:pt x="24384" y="12002"/>
                </a:cubicBezTo>
              </a:path>
              <a:path w="10383" h="4001">
                <a:moveTo>
                  <a:pt x="24797" y="11748"/>
                </a:moveTo>
                <a:cubicBezTo>
                  <a:pt x="24761" y="11700"/>
                  <a:pt x="24779" y="11667"/>
                  <a:pt x="24733" y="11652"/>
                </a:cubicBezTo>
                <a:cubicBezTo>
                  <a:pt x="24694" y="11662"/>
                  <a:pt x="24632" y="11679"/>
                  <a:pt x="24606" y="11716"/>
                </a:cubicBezTo>
                <a:cubicBezTo>
                  <a:pt x="24570" y="11768"/>
                  <a:pt x="24529" y="11878"/>
                  <a:pt x="24511" y="11938"/>
                </a:cubicBezTo>
                <a:cubicBezTo>
                  <a:pt x="24492" y="12000"/>
                  <a:pt x="24515" y="12044"/>
                  <a:pt x="24543" y="12065"/>
                </a:cubicBezTo>
                <a:cubicBezTo>
                  <a:pt x="24584" y="12097"/>
                  <a:pt x="24653" y="12112"/>
                  <a:pt x="24702" y="12128"/>
                </a:cubicBezTo>
                <a:cubicBezTo>
                  <a:pt x="24769" y="12150"/>
                  <a:pt x="24767" y="12119"/>
                  <a:pt x="24797" y="12192"/>
                </a:cubicBezTo>
                <a:cubicBezTo>
                  <a:pt x="24831" y="12274"/>
                  <a:pt x="24825" y="12329"/>
                  <a:pt x="24797" y="12414"/>
                </a:cubicBezTo>
                <a:cubicBezTo>
                  <a:pt x="24786" y="12446"/>
                  <a:pt x="24723" y="12591"/>
                  <a:pt x="24702" y="12605"/>
                </a:cubicBezTo>
                <a:cubicBezTo>
                  <a:pt x="24670" y="12605"/>
                  <a:pt x="24659" y="12605"/>
                  <a:pt x="24638" y="12605"/>
                </a:cubicBezTo>
                <a:cubicBezTo>
                  <a:pt x="24586" y="12588"/>
                  <a:pt x="24606" y="12543"/>
                  <a:pt x="24606" y="12478"/>
                </a:cubicBezTo>
                <a:cubicBezTo>
                  <a:pt x="24606" y="12355"/>
                  <a:pt x="24621" y="12274"/>
                  <a:pt x="24670" y="12160"/>
                </a:cubicBezTo>
                <a:cubicBezTo>
                  <a:pt x="24702" y="12086"/>
                  <a:pt x="24737" y="12009"/>
                  <a:pt x="24765" y="11938"/>
                </a:cubicBezTo>
                <a:cubicBezTo>
                  <a:pt x="24793" y="11882"/>
                  <a:pt x="24797" y="11867"/>
                  <a:pt x="24828" y="11843"/>
                </a:cubicBezTo>
              </a:path>
              <a:path w="10383" h="4001">
                <a:moveTo>
                  <a:pt x="25051" y="11716"/>
                </a:moveTo>
                <a:cubicBezTo>
                  <a:pt x="25051" y="11839"/>
                  <a:pt x="25030" y="11948"/>
                  <a:pt x="25019" y="12065"/>
                </a:cubicBezTo>
                <a:cubicBezTo>
                  <a:pt x="24999" y="12272"/>
                  <a:pt x="25019" y="12492"/>
                  <a:pt x="25019" y="12700"/>
                </a:cubicBezTo>
              </a:path>
              <a:path w="10383" h="4001">
                <a:moveTo>
                  <a:pt x="21908" y="11271"/>
                </a:moveTo>
                <a:cubicBezTo>
                  <a:pt x="21840" y="11296"/>
                  <a:pt x="21763" y="11339"/>
                  <a:pt x="21685" y="11366"/>
                </a:cubicBezTo>
                <a:cubicBezTo>
                  <a:pt x="21601" y="11395"/>
                  <a:pt x="21518" y="11426"/>
                  <a:pt x="21431" y="11462"/>
                </a:cubicBezTo>
                <a:cubicBezTo>
                  <a:pt x="21328" y="11505"/>
                  <a:pt x="21236" y="11550"/>
                  <a:pt x="21146" y="11589"/>
                </a:cubicBezTo>
                <a:cubicBezTo>
                  <a:pt x="20972" y="11663"/>
                  <a:pt x="20821" y="11734"/>
                  <a:pt x="20669" y="11843"/>
                </a:cubicBezTo>
                <a:cubicBezTo>
                  <a:pt x="20572" y="11913"/>
                  <a:pt x="20489" y="11977"/>
                  <a:pt x="20415" y="12065"/>
                </a:cubicBezTo>
                <a:cubicBezTo>
                  <a:pt x="20358" y="12133"/>
                  <a:pt x="20353" y="12191"/>
                  <a:pt x="20320" y="12256"/>
                </a:cubicBezTo>
                <a:cubicBezTo>
                  <a:pt x="20269" y="12354"/>
                  <a:pt x="20252" y="12435"/>
                  <a:pt x="20225" y="12541"/>
                </a:cubicBezTo>
                <a:cubicBezTo>
                  <a:pt x="20202" y="12629"/>
                  <a:pt x="20208" y="12704"/>
                  <a:pt x="20193" y="12795"/>
                </a:cubicBezTo>
                <a:cubicBezTo>
                  <a:pt x="20176" y="12894"/>
                  <a:pt x="20150" y="12971"/>
                  <a:pt x="20161" y="13081"/>
                </a:cubicBezTo>
                <a:cubicBezTo>
                  <a:pt x="20170" y="13169"/>
                  <a:pt x="20192" y="13350"/>
                  <a:pt x="20225" y="13430"/>
                </a:cubicBezTo>
                <a:cubicBezTo>
                  <a:pt x="20255" y="13503"/>
                  <a:pt x="20313" y="13555"/>
                  <a:pt x="20352" y="13621"/>
                </a:cubicBezTo>
                <a:cubicBezTo>
                  <a:pt x="20402" y="13705"/>
                  <a:pt x="20447" y="13746"/>
                  <a:pt x="20510" y="13811"/>
                </a:cubicBezTo>
                <a:cubicBezTo>
                  <a:pt x="20578" y="13881"/>
                  <a:pt x="20629" y="13896"/>
                  <a:pt x="20701" y="13938"/>
                </a:cubicBezTo>
                <a:cubicBezTo>
                  <a:pt x="20796" y="13994"/>
                  <a:pt x="20893" y="14034"/>
                  <a:pt x="20987" y="14065"/>
                </a:cubicBezTo>
                <a:cubicBezTo>
                  <a:pt x="21079" y="14096"/>
                  <a:pt x="21145" y="14083"/>
                  <a:pt x="21241" y="14097"/>
                </a:cubicBezTo>
                <a:cubicBezTo>
                  <a:pt x="21340" y="14112"/>
                  <a:pt x="21425" y="14123"/>
                  <a:pt x="21526" y="14129"/>
                </a:cubicBezTo>
                <a:cubicBezTo>
                  <a:pt x="21630" y="14136"/>
                  <a:pt x="21720" y="14104"/>
                  <a:pt x="21812" y="14097"/>
                </a:cubicBezTo>
                <a:cubicBezTo>
                  <a:pt x="21928" y="14089"/>
                  <a:pt x="22054" y="14073"/>
                  <a:pt x="22162" y="14065"/>
                </a:cubicBezTo>
                <a:cubicBezTo>
                  <a:pt x="22263" y="14058"/>
                  <a:pt x="22350" y="14052"/>
                  <a:pt x="22447" y="14034"/>
                </a:cubicBezTo>
                <a:cubicBezTo>
                  <a:pt x="22546" y="14015"/>
                  <a:pt x="22638" y="14002"/>
                  <a:pt x="22733" y="13970"/>
                </a:cubicBezTo>
                <a:cubicBezTo>
                  <a:pt x="22830" y="13937"/>
                  <a:pt x="22925" y="13909"/>
                  <a:pt x="23019" y="13875"/>
                </a:cubicBezTo>
                <a:cubicBezTo>
                  <a:pt x="23116" y="13840"/>
                  <a:pt x="23207" y="13803"/>
                  <a:pt x="23304" y="13780"/>
                </a:cubicBezTo>
                <a:cubicBezTo>
                  <a:pt x="23408" y="13755"/>
                  <a:pt x="23490" y="13713"/>
                  <a:pt x="23590" y="13684"/>
                </a:cubicBezTo>
                <a:cubicBezTo>
                  <a:pt x="23687" y="13656"/>
                  <a:pt x="23776" y="13621"/>
                  <a:pt x="23876" y="13589"/>
                </a:cubicBezTo>
                <a:cubicBezTo>
                  <a:pt x="23979" y="13555"/>
                  <a:pt x="24092" y="13537"/>
                  <a:pt x="24194" y="13494"/>
                </a:cubicBezTo>
                <a:cubicBezTo>
                  <a:pt x="24291" y="13453"/>
                  <a:pt x="24359" y="13387"/>
                  <a:pt x="24448" y="13335"/>
                </a:cubicBezTo>
                <a:cubicBezTo>
                  <a:pt x="24564" y="13267"/>
                  <a:pt x="24735" y="13213"/>
                  <a:pt x="24828" y="13144"/>
                </a:cubicBezTo>
                <a:cubicBezTo>
                  <a:pt x="24893" y="13096"/>
                  <a:pt x="24958" y="13037"/>
                  <a:pt x="25019" y="12986"/>
                </a:cubicBezTo>
                <a:cubicBezTo>
                  <a:pt x="25111" y="12909"/>
                  <a:pt x="25188" y="12804"/>
                  <a:pt x="25241" y="12700"/>
                </a:cubicBezTo>
                <a:cubicBezTo>
                  <a:pt x="25279" y="12625"/>
                  <a:pt x="25286" y="12557"/>
                  <a:pt x="25305" y="12478"/>
                </a:cubicBezTo>
                <a:cubicBezTo>
                  <a:pt x="25317" y="12429"/>
                  <a:pt x="25373" y="12311"/>
                  <a:pt x="25368" y="12256"/>
                </a:cubicBezTo>
                <a:cubicBezTo>
                  <a:pt x="25211" y="10565"/>
                  <a:pt x="25430" y="11599"/>
                  <a:pt x="25114" y="11144"/>
                </a:cubicBezTo>
                <a:cubicBezTo>
                  <a:pt x="25092" y="11113"/>
                  <a:pt x="24958" y="11033"/>
                  <a:pt x="24924" y="11017"/>
                </a:cubicBezTo>
                <a:cubicBezTo>
                  <a:pt x="24830" y="10971"/>
                  <a:pt x="24709" y="10972"/>
                  <a:pt x="24606" y="10954"/>
                </a:cubicBezTo>
                <a:cubicBezTo>
                  <a:pt x="24499" y="10936"/>
                  <a:pt x="24404" y="10924"/>
                  <a:pt x="24289" y="10922"/>
                </a:cubicBezTo>
                <a:cubicBezTo>
                  <a:pt x="24033" y="10917"/>
                  <a:pt x="23777" y="10912"/>
                  <a:pt x="23527" y="10954"/>
                </a:cubicBezTo>
                <a:cubicBezTo>
                  <a:pt x="23393" y="10976"/>
                  <a:pt x="23246" y="10987"/>
                  <a:pt x="23114" y="11017"/>
                </a:cubicBezTo>
                <a:cubicBezTo>
                  <a:pt x="22965" y="11051"/>
                  <a:pt x="22818" y="11106"/>
                  <a:pt x="22670" y="11144"/>
                </a:cubicBezTo>
                <a:cubicBezTo>
                  <a:pt x="22510" y="11185"/>
                  <a:pt x="22353" y="11231"/>
                  <a:pt x="22193" y="11271"/>
                </a:cubicBezTo>
                <a:cubicBezTo>
                  <a:pt x="22036" y="11310"/>
                  <a:pt x="21901" y="11379"/>
                  <a:pt x="21749" y="11430"/>
                </a:cubicBezTo>
                <a:cubicBezTo>
                  <a:pt x="21627" y="11461"/>
                  <a:pt x="21589" y="11468"/>
                  <a:pt x="21526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5886360" y="5165640"/>
            <a:ext cx="1143000" cy="731880"/>
          </a:xfrm>
          <a:custGeom>
            <a:avLst/>
            <a:gdLst/>
            <a:ahLst/>
            <a:rect l="l" t="t" r="r" b="b"/>
            <a:pathLst>
              <a:path w="3176" h="2033">
                <a:moveTo>
                  <a:pt x="16383" y="15240"/>
                </a:moveTo>
                <a:cubicBezTo>
                  <a:pt x="16359" y="15252"/>
                  <a:pt x="16383" y="15350"/>
                  <a:pt x="16383" y="15430"/>
                </a:cubicBezTo>
                <a:cubicBezTo>
                  <a:pt x="16383" y="15573"/>
                  <a:pt x="16415" y="15699"/>
                  <a:pt x="16415" y="15843"/>
                </a:cubicBezTo>
                <a:cubicBezTo>
                  <a:pt x="16415" y="15973"/>
                  <a:pt x="16446" y="16091"/>
                  <a:pt x="16446" y="16224"/>
                </a:cubicBezTo>
                <a:cubicBezTo>
                  <a:pt x="16446" y="16286"/>
                  <a:pt x="16426" y="16325"/>
                  <a:pt x="16415" y="16383"/>
                </a:cubicBezTo>
                <a:cubicBezTo>
                  <a:pt x="16415" y="16302"/>
                  <a:pt x="16386" y="16245"/>
                  <a:pt x="16383" y="16161"/>
                </a:cubicBezTo>
                <a:cubicBezTo>
                  <a:pt x="16378" y="16026"/>
                  <a:pt x="16403" y="15908"/>
                  <a:pt x="16415" y="15780"/>
                </a:cubicBezTo>
                <a:cubicBezTo>
                  <a:pt x="16427" y="15650"/>
                  <a:pt x="16431" y="15523"/>
                  <a:pt x="16478" y="15399"/>
                </a:cubicBezTo>
                <a:cubicBezTo>
                  <a:pt x="16495" y="15354"/>
                  <a:pt x="16556" y="15262"/>
                  <a:pt x="16605" y="15240"/>
                </a:cubicBezTo>
                <a:cubicBezTo>
                  <a:pt x="16660" y="15215"/>
                  <a:pt x="16747" y="15293"/>
                  <a:pt x="16764" y="15335"/>
                </a:cubicBezTo>
                <a:cubicBezTo>
                  <a:pt x="16806" y="15436"/>
                  <a:pt x="16805" y="15578"/>
                  <a:pt x="16828" y="15684"/>
                </a:cubicBezTo>
                <a:cubicBezTo>
                  <a:pt x="16853" y="15799"/>
                  <a:pt x="16874" y="15918"/>
                  <a:pt x="16891" y="16034"/>
                </a:cubicBezTo>
                <a:cubicBezTo>
                  <a:pt x="16901" y="16101"/>
                  <a:pt x="16919" y="16172"/>
                  <a:pt x="16954" y="16224"/>
                </a:cubicBezTo>
                <a:cubicBezTo>
                  <a:pt x="16984" y="16270"/>
                  <a:pt x="17056" y="16256"/>
                  <a:pt x="17082" y="16224"/>
                </a:cubicBezTo>
                <a:cubicBezTo>
                  <a:pt x="17107" y="16172"/>
                  <a:pt x="17118" y="16164"/>
                  <a:pt x="17113" y="16129"/>
                </a:cubicBezTo>
              </a:path>
              <a:path w="3176" h="2033">
                <a:moveTo>
                  <a:pt x="17177" y="15494"/>
                </a:moveTo>
                <a:cubicBezTo>
                  <a:pt x="17177" y="15483"/>
                  <a:pt x="17177" y="15473"/>
                  <a:pt x="17177" y="15462"/>
                </a:cubicBezTo>
                <a:cubicBezTo>
                  <a:pt x="17272" y="15462"/>
                  <a:pt x="17367" y="15462"/>
                  <a:pt x="17462" y="15462"/>
                </a:cubicBezTo>
              </a:path>
              <a:path w="3176" h="2033">
                <a:moveTo>
                  <a:pt x="17336" y="15843"/>
                </a:moveTo>
                <a:cubicBezTo>
                  <a:pt x="17325" y="15843"/>
                  <a:pt x="17315" y="15843"/>
                  <a:pt x="17304" y="15843"/>
                </a:cubicBezTo>
                <a:cubicBezTo>
                  <a:pt x="17369" y="15843"/>
                  <a:pt x="17379" y="15857"/>
                  <a:pt x="17431" y="15875"/>
                </a:cubicBezTo>
                <a:cubicBezTo>
                  <a:pt x="17441" y="15875"/>
                  <a:pt x="17452" y="15875"/>
                  <a:pt x="17462" y="15875"/>
                </a:cubicBezTo>
              </a:path>
              <a:path w="3176" h="2033">
                <a:moveTo>
                  <a:pt x="17875" y="15208"/>
                </a:moveTo>
                <a:cubicBezTo>
                  <a:pt x="17865" y="15219"/>
                  <a:pt x="17854" y="15229"/>
                  <a:pt x="17844" y="15240"/>
                </a:cubicBezTo>
                <a:cubicBezTo>
                  <a:pt x="17853" y="15221"/>
                  <a:pt x="17880" y="15215"/>
                  <a:pt x="17939" y="15208"/>
                </a:cubicBezTo>
                <a:cubicBezTo>
                  <a:pt x="18037" y="15197"/>
                  <a:pt x="17989" y="15178"/>
                  <a:pt x="18066" y="15145"/>
                </a:cubicBezTo>
                <a:cubicBezTo>
                  <a:pt x="18087" y="15145"/>
                  <a:pt x="18108" y="15145"/>
                  <a:pt x="18129" y="15145"/>
                </a:cubicBezTo>
              </a:path>
              <a:path w="3176" h="2033">
                <a:moveTo>
                  <a:pt x="18891" y="14796"/>
                </a:moveTo>
                <a:cubicBezTo>
                  <a:pt x="18891" y="14785"/>
                  <a:pt x="18891" y="14775"/>
                  <a:pt x="18891" y="14764"/>
                </a:cubicBezTo>
              </a:path>
              <a:path w="3176" h="2033">
                <a:moveTo>
                  <a:pt x="18891" y="14796"/>
                </a:moveTo>
                <a:cubicBezTo>
                  <a:pt x="18870" y="14785"/>
                  <a:pt x="18849" y="14775"/>
                  <a:pt x="18828" y="14764"/>
                </a:cubicBezTo>
              </a:path>
              <a:path w="3176" h="2033">
                <a:moveTo>
                  <a:pt x="18828" y="14764"/>
                </a:moveTo>
                <a:cubicBezTo>
                  <a:pt x="18787" y="14774"/>
                  <a:pt x="18743" y="14782"/>
                  <a:pt x="18701" y="14796"/>
                </a:cubicBezTo>
                <a:cubicBezTo>
                  <a:pt x="18636" y="14819"/>
                  <a:pt x="18596" y="14861"/>
                  <a:pt x="18542" y="14891"/>
                </a:cubicBezTo>
                <a:cubicBezTo>
                  <a:pt x="18499" y="14915"/>
                  <a:pt x="18399" y="14995"/>
                  <a:pt x="18383" y="15050"/>
                </a:cubicBezTo>
                <a:cubicBezTo>
                  <a:pt x="18363" y="15119"/>
                  <a:pt x="18370" y="15254"/>
                  <a:pt x="18415" y="15304"/>
                </a:cubicBezTo>
                <a:cubicBezTo>
                  <a:pt x="18478" y="15374"/>
                  <a:pt x="18581" y="15428"/>
                  <a:pt x="18637" y="15494"/>
                </a:cubicBezTo>
                <a:cubicBezTo>
                  <a:pt x="18666" y="15528"/>
                  <a:pt x="18754" y="15645"/>
                  <a:pt x="18764" y="15684"/>
                </a:cubicBezTo>
                <a:cubicBezTo>
                  <a:pt x="18781" y="15749"/>
                  <a:pt x="18792" y="16028"/>
                  <a:pt x="18732" y="16066"/>
                </a:cubicBezTo>
                <a:cubicBezTo>
                  <a:pt x="18714" y="16077"/>
                  <a:pt x="18677" y="16119"/>
                  <a:pt x="18637" y="16097"/>
                </a:cubicBezTo>
                <a:cubicBezTo>
                  <a:pt x="18563" y="16056"/>
                  <a:pt x="18564" y="16001"/>
                  <a:pt x="18542" y="15938"/>
                </a:cubicBezTo>
                <a:cubicBezTo>
                  <a:pt x="18509" y="15844"/>
                  <a:pt x="18486" y="15724"/>
                  <a:pt x="18510" y="15621"/>
                </a:cubicBezTo>
                <a:cubicBezTo>
                  <a:pt x="18533" y="15522"/>
                  <a:pt x="18543" y="15401"/>
                  <a:pt x="18574" y="15304"/>
                </a:cubicBezTo>
                <a:cubicBezTo>
                  <a:pt x="18609" y="15193"/>
                  <a:pt x="18654" y="15102"/>
                  <a:pt x="18732" y="15018"/>
                </a:cubicBezTo>
                <a:cubicBezTo>
                  <a:pt x="18743" y="15007"/>
                  <a:pt x="18753" y="14997"/>
                  <a:pt x="18764" y="14986"/>
                </a:cubicBezTo>
              </a:path>
              <a:path w="3176" h="2033">
                <a:moveTo>
                  <a:pt x="19526" y="14351"/>
                </a:moveTo>
                <a:cubicBezTo>
                  <a:pt x="19500" y="14396"/>
                  <a:pt x="19475" y="14434"/>
                  <a:pt x="19431" y="14478"/>
                </a:cubicBezTo>
                <a:cubicBezTo>
                  <a:pt x="19378" y="14532"/>
                  <a:pt x="19339" y="14569"/>
                  <a:pt x="19272" y="14605"/>
                </a:cubicBezTo>
                <a:cubicBezTo>
                  <a:pt x="19217" y="14634"/>
                  <a:pt x="19180" y="14659"/>
                  <a:pt x="19114" y="14668"/>
                </a:cubicBezTo>
                <a:cubicBezTo>
                  <a:pt x="19123" y="14731"/>
                  <a:pt x="19143" y="14762"/>
                  <a:pt x="19145" y="14827"/>
                </a:cubicBezTo>
                <a:cubicBezTo>
                  <a:pt x="19149" y="14934"/>
                  <a:pt x="19124" y="15012"/>
                  <a:pt x="19114" y="15113"/>
                </a:cubicBezTo>
                <a:cubicBezTo>
                  <a:pt x="19105" y="15208"/>
                  <a:pt x="19093" y="15277"/>
                  <a:pt x="19082" y="15367"/>
                </a:cubicBezTo>
                <a:cubicBezTo>
                  <a:pt x="19074" y="15430"/>
                  <a:pt x="19104" y="15352"/>
                  <a:pt x="19114" y="15335"/>
                </a:cubicBezTo>
                <a:cubicBezTo>
                  <a:pt x="19159" y="15261"/>
                  <a:pt x="19187" y="15179"/>
                  <a:pt x="19240" y="15113"/>
                </a:cubicBezTo>
                <a:cubicBezTo>
                  <a:pt x="19252" y="15098"/>
                  <a:pt x="19296" y="15068"/>
                  <a:pt x="19336" y="15081"/>
                </a:cubicBezTo>
                <a:cubicBezTo>
                  <a:pt x="19405" y="15104"/>
                  <a:pt x="19429" y="15178"/>
                  <a:pt x="19463" y="15240"/>
                </a:cubicBezTo>
                <a:cubicBezTo>
                  <a:pt x="19509" y="15324"/>
                  <a:pt x="19521" y="15432"/>
                  <a:pt x="19526" y="15526"/>
                </a:cubicBezTo>
                <a:cubicBezTo>
                  <a:pt x="19530" y="15614"/>
                  <a:pt x="19497" y="15731"/>
                  <a:pt x="19463" y="15812"/>
                </a:cubicBezTo>
                <a:cubicBezTo>
                  <a:pt x="19434" y="15882"/>
                  <a:pt x="19367" y="15960"/>
                  <a:pt x="19304" y="16002"/>
                </a:cubicBezTo>
                <a:cubicBezTo>
                  <a:pt x="19239" y="16045"/>
                  <a:pt x="19162" y="16081"/>
                  <a:pt x="19082" y="16066"/>
                </a:cubicBezTo>
                <a:cubicBezTo>
                  <a:pt x="19061" y="16055"/>
                  <a:pt x="19039" y="16045"/>
                  <a:pt x="19018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1474920" y="2217600"/>
            <a:ext cx="571320" cy="800280"/>
          </a:xfrm>
          <a:custGeom>
            <a:avLst/>
            <a:gdLst/>
            <a:ahLst/>
            <a:rect l="l" t="t" r="r" b="b"/>
            <a:pathLst>
              <a:path w="1588" h="2223">
                <a:moveTo>
                  <a:pt x="4254" y="6922"/>
                </a:moveTo>
                <a:cubicBezTo>
                  <a:pt x="4239" y="6992"/>
                  <a:pt x="4267" y="7001"/>
                  <a:pt x="4254" y="7080"/>
                </a:cubicBezTo>
                <a:cubicBezTo>
                  <a:pt x="4232" y="7211"/>
                  <a:pt x="4223" y="7325"/>
                  <a:pt x="4223" y="7461"/>
                </a:cubicBezTo>
                <a:cubicBezTo>
                  <a:pt x="4223" y="7608"/>
                  <a:pt x="4220" y="7763"/>
                  <a:pt x="4191" y="7906"/>
                </a:cubicBezTo>
                <a:cubicBezTo>
                  <a:pt x="4169" y="8017"/>
                  <a:pt x="4162" y="8149"/>
                  <a:pt x="4128" y="8255"/>
                </a:cubicBezTo>
                <a:cubicBezTo>
                  <a:pt x="4117" y="8276"/>
                  <a:pt x="4107" y="8297"/>
                  <a:pt x="4096" y="8318"/>
                </a:cubicBezTo>
                <a:cubicBezTo>
                  <a:pt x="4096" y="8196"/>
                  <a:pt x="4117" y="8086"/>
                  <a:pt x="4128" y="7969"/>
                </a:cubicBezTo>
                <a:cubicBezTo>
                  <a:pt x="4147" y="7770"/>
                  <a:pt x="4145" y="7596"/>
                  <a:pt x="4191" y="7398"/>
                </a:cubicBezTo>
                <a:cubicBezTo>
                  <a:pt x="4246" y="7159"/>
                  <a:pt x="4277" y="6921"/>
                  <a:pt x="4382" y="6699"/>
                </a:cubicBezTo>
                <a:cubicBezTo>
                  <a:pt x="4461" y="6532"/>
                  <a:pt x="4485" y="6378"/>
                  <a:pt x="4636" y="6255"/>
                </a:cubicBezTo>
                <a:cubicBezTo>
                  <a:pt x="4690" y="6211"/>
                  <a:pt x="4777" y="6126"/>
                  <a:pt x="4858" y="6160"/>
                </a:cubicBezTo>
                <a:cubicBezTo>
                  <a:pt x="4991" y="6216"/>
                  <a:pt x="4967" y="6370"/>
                  <a:pt x="4985" y="6477"/>
                </a:cubicBezTo>
                <a:cubicBezTo>
                  <a:pt x="5024" y="6708"/>
                  <a:pt x="5018" y="6910"/>
                  <a:pt x="4985" y="7144"/>
                </a:cubicBezTo>
                <a:cubicBezTo>
                  <a:pt x="4948" y="7406"/>
                  <a:pt x="4941" y="7646"/>
                  <a:pt x="4953" y="7906"/>
                </a:cubicBezTo>
                <a:cubicBezTo>
                  <a:pt x="4961" y="8071"/>
                  <a:pt x="4970" y="8208"/>
                  <a:pt x="5112" y="8318"/>
                </a:cubicBezTo>
                <a:cubicBezTo>
                  <a:pt x="5217" y="8400"/>
                  <a:pt x="5320" y="8376"/>
                  <a:pt x="5429" y="8318"/>
                </a:cubicBezTo>
                <a:cubicBezTo>
                  <a:pt x="5546" y="8255"/>
                  <a:pt x="5607" y="8167"/>
                  <a:pt x="5683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1450800" y="3211560"/>
            <a:ext cx="1098720" cy="720720"/>
          </a:xfrm>
          <a:custGeom>
            <a:avLst/>
            <a:gdLst/>
            <a:ahLst/>
            <a:rect l="l" t="t" r="r" b="b"/>
            <a:pathLst>
              <a:path w="3049" h="2001">
                <a:moveTo>
                  <a:pt x="4159" y="9334"/>
                </a:moveTo>
                <a:cubicBezTo>
                  <a:pt x="4159" y="9424"/>
                  <a:pt x="4137" y="9502"/>
                  <a:pt x="4128" y="9588"/>
                </a:cubicBezTo>
                <a:cubicBezTo>
                  <a:pt x="4113" y="9724"/>
                  <a:pt x="4100" y="9866"/>
                  <a:pt x="4096" y="10001"/>
                </a:cubicBezTo>
                <a:cubicBezTo>
                  <a:pt x="4091" y="10156"/>
                  <a:pt x="4070" y="10294"/>
                  <a:pt x="4064" y="10446"/>
                </a:cubicBezTo>
                <a:cubicBezTo>
                  <a:pt x="4061" y="10517"/>
                  <a:pt x="4024" y="10615"/>
                  <a:pt x="4032" y="10668"/>
                </a:cubicBezTo>
                <a:cubicBezTo>
                  <a:pt x="4032" y="10700"/>
                  <a:pt x="4032" y="10711"/>
                  <a:pt x="4064" y="10700"/>
                </a:cubicBezTo>
                <a:cubicBezTo>
                  <a:pt x="4064" y="10585"/>
                  <a:pt x="4068" y="10493"/>
                  <a:pt x="4096" y="10382"/>
                </a:cubicBezTo>
                <a:cubicBezTo>
                  <a:pt x="4141" y="10205"/>
                  <a:pt x="4128" y="10017"/>
                  <a:pt x="4191" y="9842"/>
                </a:cubicBezTo>
                <a:cubicBezTo>
                  <a:pt x="4244" y="9695"/>
                  <a:pt x="4292" y="9498"/>
                  <a:pt x="4382" y="9366"/>
                </a:cubicBezTo>
                <a:cubicBezTo>
                  <a:pt x="4433" y="9291"/>
                  <a:pt x="4511" y="9170"/>
                  <a:pt x="4604" y="9144"/>
                </a:cubicBezTo>
                <a:cubicBezTo>
                  <a:pt x="4698" y="9118"/>
                  <a:pt x="4724" y="9167"/>
                  <a:pt x="4762" y="9239"/>
                </a:cubicBezTo>
                <a:cubicBezTo>
                  <a:pt x="4831" y="9370"/>
                  <a:pt x="4826" y="9472"/>
                  <a:pt x="4826" y="9620"/>
                </a:cubicBezTo>
                <a:cubicBezTo>
                  <a:pt x="4826" y="9816"/>
                  <a:pt x="4843" y="9999"/>
                  <a:pt x="4858" y="10192"/>
                </a:cubicBezTo>
                <a:cubicBezTo>
                  <a:pt x="4871" y="10357"/>
                  <a:pt x="4845" y="10507"/>
                  <a:pt x="4890" y="10668"/>
                </a:cubicBezTo>
                <a:cubicBezTo>
                  <a:pt x="4899" y="10701"/>
                  <a:pt x="4922" y="10922"/>
                  <a:pt x="4985" y="10922"/>
                </a:cubicBezTo>
                <a:cubicBezTo>
                  <a:pt x="5021" y="10922"/>
                  <a:pt x="5034" y="10919"/>
                  <a:pt x="5048" y="10890"/>
                </a:cubicBezTo>
              </a:path>
              <a:path w="3049" h="2001">
                <a:moveTo>
                  <a:pt x="5493" y="9462"/>
                </a:moveTo>
                <a:cubicBezTo>
                  <a:pt x="5544" y="9530"/>
                  <a:pt x="5553" y="9593"/>
                  <a:pt x="5556" y="9684"/>
                </a:cubicBezTo>
                <a:cubicBezTo>
                  <a:pt x="5562" y="9854"/>
                  <a:pt x="5524" y="10019"/>
                  <a:pt x="5524" y="10192"/>
                </a:cubicBezTo>
                <a:cubicBezTo>
                  <a:pt x="5524" y="10290"/>
                  <a:pt x="5481" y="10459"/>
                  <a:pt x="5493" y="10541"/>
                </a:cubicBezTo>
                <a:cubicBezTo>
                  <a:pt x="5521" y="10570"/>
                  <a:pt x="5531" y="10576"/>
                  <a:pt x="5524" y="10604"/>
                </a:cubicBezTo>
              </a:path>
              <a:path w="3049" h="2001">
                <a:moveTo>
                  <a:pt x="5207" y="9938"/>
                </a:moveTo>
                <a:cubicBezTo>
                  <a:pt x="5296" y="9849"/>
                  <a:pt x="5354" y="9836"/>
                  <a:pt x="5461" y="9779"/>
                </a:cubicBezTo>
                <a:cubicBezTo>
                  <a:pt x="5591" y="9709"/>
                  <a:pt x="5709" y="9698"/>
                  <a:pt x="5842" y="9620"/>
                </a:cubicBezTo>
              </a:path>
              <a:path w="3049" h="2001">
                <a:moveTo>
                  <a:pt x="6160" y="9144"/>
                </a:moveTo>
                <a:cubicBezTo>
                  <a:pt x="6184" y="9110"/>
                  <a:pt x="6213" y="9094"/>
                  <a:pt x="6255" y="9049"/>
                </a:cubicBezTo>
                <a:cubicBezTo>
                  <a:pt x="6342" y="8955"/>
                  <a:pt x="6450" y="8928"/>
                  <a:pt x="6572" y="8922"/>
                </a:cubicBezTo>
                <a:cubicBezTo>
                  <a:pt x="6669" y="8917"/>
                  <a:pt x="6754" y="8962"/>
                  <a:pt x="6794" y="9049"/>
                </a:cubicBezTo>
                <a:cubicBezTo>
                  <a:pt x="6842" y="9154"/>
                  <a:pt x="6803" y="9354"/>
                  <a:pt x="6763" y="9462"/>
                </a:cubicBezTo>
                <a:cubicBezTo>
                  <a:pt x="6700" y="9631"/>
                  <a:pt x="6600" y="9847"/>
                  <a:pt x="6509" y="10001"/>
                </a:cubicBezTo>
                <a:cubicBezTo>
                  <a:pt x="6413" y="10165"/>
                  <a:pt x="6298" y="10320"/>
                  <a:pt x="6191" y="10478"/>
                </a:cubicBezTo>
                <a:cubicBezTo>
                  <a:pt x="6137" y="10558"/>
                  <a:pt x="6100" y="10632"/>
                  <a:pt x="6032" y="10700"/>
                </a:cubicBezTo>
                <a:cubicBezTo>
                  <a:pt x="6085" y="10692"/>
                  <a:pt x="6111" y="10676"/>
                  <a:pt x="6160" y="10668"/>
                </a:cubicBezTo>
                <a:cubicBezTo>
                  <a:pt x="6394" y="10629"/>
                  <a:pt x="6657" y="10662"/>
                  <a:pt x="6890" y="10636"/>
                </a:cubicBezTo>
                <a:cubicBezTo>
                  <a:pt x="7002" y="10623"/>
                  <a:pt x="7001" y="10620"/>
                  <a:pt x="7080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1496880" y="4046400"/>
            <a:ext cx="1063800" cy="765360"/>
          </a:xfrm>
          <a:custGeom>
            <a:avLst/>
            <a:gdLst/>
            <a:ahLst/>
            <a:rect l="l" t="t" r="r" b="b"/>
            <a:pathLst>
              <a:path w="2954" h="2128">
                <a:moveTo>
                  <a:pt x="4318" y="11494"/>
                </a:moveTo>
                <a:cubicBezTo>
                  <a:pt x="4318" y="11565"/>
                  <a:pt x="4295" y="11619"/>
                  <a:pt x="4286" y="11684"/>
                </a:cubicBezTo>
                <a:cubicBezTo>
                  <a:pt x="4268" y="11821"/>
                  <a:pt x="4237" y="11959"/>
                  <a:pt x="4223" y="12097"/>
                </a:cubicBezTo>
                <a:cubicBezTo>
                  <a:pt x="4208" y="12246"/>
                  <a:pt x="4175" y="12395"/>
                  <a:pt x="4159" y="12541"/>
                </a:cubicBezTo>
                <a:cubicBezTo>
                  <a:pt x="4148" y="12641"/>
                  <a:pt x="4173" y="12713"/>
                  <a:pt x="4191" y="12795"/>
                </a:cubicBezTo>
                <a:cubicBezTo>
                  <a:pt x="4191" y="12806"/>
                  <a:pt x="4191" y="12816"/>
                  <a:pt x="4191" y="12827"/>
                </a:cubicBezTo>
                <a:cubicBezTo>
                  <a:pt x="4211" y="12788"/>
                  <a:pt x="4223" y="12788"/>
                  <a:pt x="4223" y="12700"/>
                </a:cubicBezTo>
                <a:cubicBezTo>
                  <a:pt x="4223" y="12485"/>
                  <a:pt x="4273" y="12242"/>
                  <a:pt x="4318" y="12033"/>
                </a:cubicBezTo>
                <a:cubicBezTo>
                  <a:pt x="4344" y="11914"/>
                  <a:pt x="4379" y="11724"/>
                  <a:pt x="4445" y="11620"/>
                </a:cubicBezTo>
                <a:cubicBezTo>
                  <a:pt x="4498" y="11536"/>
                  <a:pt x="4575" y="11499"/>
                  <a:pt x="4667" y="11494"/>
                </a:cubicBezTo>
                <a:cubicBezTo>
                  <a:pt x="4739" y="11490"/>
                  <a:pt x="4811" y="11492"/>
                  <a:pt x="4858" y="11557"/>
                </a:cubicBezTo>
                <a:cubicBezTo>
                  <a:pt x="4934" y="11662"/>
                  <a:pt x="4921" y="11785"/>
                  <a:pt x="4921" y="11906"/>
                </a:cubicBezTo>
                <a:cubicBezTo>
                  <a:pt x="4921" y="12080"/>
                  <a:pt x="4895" y="12242"/>
                  <a:pt x="4890" y="12414"/>
                </a:cubicBezTo>
                <a:cubicBezTo>
                  <a:pt x="4886" y="12546"/>
                  <a:pt x="4866" y="12716"/>
                  <a:pt x="4921" y="12827"/>
                </a:cubicBezTo>
                <a:cubicBezTo>
                  <a:pt x="4946" y="12876"/>
                  <a:pt x="4983" y="12919"/>
                  <a:pt x="5048" y="12890"/>
                </a:cubicBezTo>
                <a:cubicBezTo>
                  <a:pt x="5101" y="12837"/>
                  <a:pt x="5112" y="12827"/>
                  <a:pt x="5144" y="12795"/>
                </a:cubicBezTo>
              </a:path>
              <a:path w="2954" h="2128">
                <a:moveTo>
                  <a:pt x="5652" y="11557"/>
                </a:moveTo>
                <a:cubicBezTo>
                  <a:pt x="5652" y="11711"/>
                  <a:pt x="5635" y="11851"/>
                  <a:pt x="5620" y="12002"/>
                </a:cubicBezTo>
                <a:cubicBezTo>
                  <a:pt x="5606" y="12141"/>
                  <a:pt x="5588" y="12272"/>
                  <a:pt x="5588" y="12414"/>
                </a:cubicBezTo>
                <a:cubicBezTo>
                  <a:pt x="5588" y="12490"/>
                  <a:pt x="5547" y="12717"/>
                  <a:pt x="5620" y="12668"/>
                </a:cubicBezTo>
              </a:path>
              <a:path w="2954" h="2128">
                <a:moveTo>
                  <a:pt x="5302" y="12002"/>
                </a:moveTo>
                <a:cubicBezTo>
                  <a:pt x="5402" y="12002"/>
                  <a:pt x="5488" y="12029"/>
                  <a:pt x="5588" y="12033"/>
                </a:cubicBezTo>
                <a:cubicBezTo>
                  <a:pt x="5729" y="12038"/>
                  <a:pt x="5858" y="12065"/>
                  <a:pt x="6001" y="12065"/>
                </a:cubicBezTo>
              </a:path>
              <a:path w="2954" h="2128">
                <a:moveTo>
                  <a:pt x="6382" y="11303"/>
                </a:moveTo>
                <a:cubicBezTo>
                  <a:pt x="6382" y="11372"/>
                  <a:pt x="6410" y="11392"/>
                  <a:pt x="6414" y="11462"/>
                </a:cubicBezTo>
                <a:cubicBezTo>
                  <a:pt x="6420" y="11555"/>
                  <a:pt x="6361" y="11629"/>
                  <a:pt x="6350" y="11716"/>
                </a:cubicBezTo>
                <a:cubicBezTo>
                  <a:pt x="6335" y="11832"/>
                  <a:pt x="6278" y="11920"/>
                  <a:pt x="6255" y="12033"/>
                </a:cubicBezTo>
                <a:cubicBezTo>
                  <a:pt x="6242" y="12094"/>
                  <a:pt x="6186" y="12212"/>
                  <a:pt x="6255" y="12256"/>
                </a:cubicBezTo>
                <a:cubicBezTo>
                  <a:pt x="6295" y="12281"/>
                  <a:pt x="6385" y="12238"/>
                  <a:pt x="6414" y="12224"/>
                </a:cubicBezTo>
                <a:cubicBezTo>
                  <a:pt x="6500" y="12183"/>
                  <a:pt x="6573" y="12192"/>
                  <a:pt x="6668" y="12192"/>
                </a:cubicBezTo>
                <a:cubicBezTo>
                  <a:pt x="6764" y="12192"/>
                  <a:pt x="6810" y="12245"/>
                  <a:pt x="6890" y="12287"/>
                </a:cubicBezTo>
                <a:cubicBezTo>
                  <a:pt x="6974" y="12331"/>
                  <a:pt x="7037" y="12332"/>
                  <a:pt x="7112" y="12287"/>
                </a:cubicBezTo>
              </a:path>
              <a:path w="2954" h="2128">
                <a:moveTo>
                  <a:pt x="7048" y="11240"/>
                </a:moveTo>
                <a:cubicBezTo>
                  <a:pt x="7031" y="11308"/>
                  <a:pt x="7017" y="11475"/>
                  <a:pt x="7017" y="11589"/>
                </a:cubicBezTo>
                <a:cubicBezTo>
                  <a:pt x="7017" y="11846"/>
                  <a:pt x="7037" y="12096"/>
                  <a:pt x="7048" y="12351"/>
                </a:cubicBezTo>
                <a:cubicBezTo>
                  <a:pt x="7063" y="12695"/>
                  <a:pt x="7028" y="13026"/>
                  <a:pt x="6985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46:58Z</dcterms:created>
  <dc:creator>Sharon Fieldman</dc:creator>
  <dc:description/>
  <dc:language>en-US</dc:language>
  <cp:lastModifiedBy>njamison</cp:lastModifiedBy>
  <dcterms:modified xsi:type="dcterms:W3CDTF">2011-05-04T16:17:23Z</dcterms:modified>
  <cp:revision>17</cp:revision>
  <dc:subject/>
  <dc:title>1.01b Review</dc:title>
</cp:coreProperties>
</file>